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59DF-7642-48A3-A744-F423589CA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FCFD-1F90-447C-A724-C125D143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C8C4-0B27-41B0-B988-80BC8037B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CF3E-E9DD-4826-8C4F-2A2952FD1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6A65-7E79-415D-83BC-B555DDF0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77BB-02F6-45CA-8FC2-A4395901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CBFA-4787-4912-8A27-5470A3FB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1020-3A53-4C18-9D42-C7B78C1F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4851-E620-476A-B3AF-90A59D6D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877A-8A13-40D1-B59E-B03A84B3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3CF8-64F5-422D-B824-6B9D6FE5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7230-B2A3-4D1A-B460-91CFB9AE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95B3-763E-4B70-9B07-8769CAEFC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image" Target="../media/image7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Немного</a:t>
            </a:r>
            <a:r>
              <a:rPr b="0" lang="en-US" sz="4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о себ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ривет! Мы ученицы 4 класса – Оля Киселева и Маша Курочк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ы очень любим животных, особенно собак. О них вам и расскажем. Может кому-то тоже станет интересно, и вы поймете, что рядом с вами преданные друзь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00720" y="1989000"/>
            <a:ext cx="431928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614920" y="0"/>
            <a:ext cx="3529080" cy="32241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61196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«Правила вежливост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льзя пристально смотреть собаке в глаза и улыбаться. На собачьем языке – это скалиться и показывать свое превосход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льзя показывать свой страх перед собакой. Она может это почувство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льзя убегать от соба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льзя трогать чужих соб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 подходи к собаке, сидящей на привяз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 трогай щенков и не отбирай предметы, с которыми собака игр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932280" y="0"/>
            <a:ext cx="521172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Литературное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твор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540072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днажды щенок поссорился с кошк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торая старше, хитрее немнож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н дернул её за пушистое ух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на же дала ему вслед оплеух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Щенок зарычал, разозлился, завы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 кошка мяукнула что было си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том изогнулась дугой, зафырча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Щенку она в мордочку лапою д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Щенок заскулил и прочь убежа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 гордая кошка осталась т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ша Курочкина, 4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Жили-были Звон-гончар да лайка Вью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похожи друг на друг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вон постарше ,Вьюга младш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олько хитрые ужас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к-то раз после обед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  Закону Архимед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бралися погуля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ыжих кошек погоня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олько вышло по другому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общем,  всё  наоборот 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м досталось от ко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вон за Вьюгу заступался, защищал, оборонялс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ьюга первой убежал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вону больше всех досталось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 извлёк наш пёс урок и не трогает котов!!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рочкина 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364000" y="-9360"/>
            <a:ext cx="3240360" cy="30049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Литературное твор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411280" y="1341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 меня есть друг –щен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Я зову его Друж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н лохматый, милый, вер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ы не вешаем замо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 цепи сидит щен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могал  однажды м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ерный пес уроки дел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ы чертили с ним квадр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 писали рефера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чень я люблю 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обачонка мо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иселева Оля, 4 клас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0" y="1125360"/>
            <a:ext cx="4105440" cy="32086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Литературное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твор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Лит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Аккимушкин И.И. Мир животных. М.:Мысль.199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Большая книга животных. М.:Белый город,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Основы безопасности жизнедеятельности. Сост.Г.Н.Шевченко, Волгоград: Учитель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dddd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51280" y="3092400"/>
            <a:ext cx="5292720" cy="3765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Четвероногие друзь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9280" y="1268280"/>
            <a:ext cx="723276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ружба между человеком и собакой началась примерно 12000-15000 лет назад. Прошло еще несколько тысяч лет, прежде чем собаки превратились в прирученных домашних животных. Родоначальником большинства собак был вол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4365720"/>
            <a:ext cx="1889280" cy="2492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232000" cy="2492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227640" y="0"/>
            <a:ext cx="2916360" cy="2500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Разные  пород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сего в мире известно около 400 пород собак; 250 из них считаются распространен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баки бывают большие и маленьк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ольшие собаки –это доги, овчарки, доберманы, колли и  многие другие. А маленькие – мопсы, чихуахуа, таксы, йоркширские терьеры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5977080" y="4878360"/>
            <a:ext cx="316692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2708280"/>
            <a:ext cx="914400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на из популярных пор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и превосходные няньки и преданные друз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х применяют в военной, милицейской и хозяйственной служб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Все о немецкой овчарке"/>
          <p:cNvPicPr/>
          <p:nvPr/>
        </p:nvPicPr>
        <p:blipFill>
          <a:blip r:embed="rId2"/>
          <a:stretch/>
        </p:blipFill>
        <p:spPr>
          <a:xfrm>
            <a:off x="1332000" y="260280"/>
            <a:ext cx="6667560" cy="22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5600"/>
            </a:gs>
            <a:gs pos="100000">
              <a:srgbClr val="ffa8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са - идеальный напарник для игр и развлечений. Но чаще используется на охоте. Выгоняет из нор лис, «загоняет в угол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арсука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76480" y="1600200"/>
            <a:ext cx="678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716360" y="2492280"/>
            <a:ext cx="4178520" cy="3810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5040360" cy="3513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удель – с ним не соскучишься. Он прыгает, резвится. Он постоянно нуждается в услугах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собачьего парикмахера»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Йоркширский терь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 имеет очень живой темперамент и бесстрашный характер. Йоркширский терьер нежный, веселый, хороший компаньон, который с удовольствием будет сопровождать вас на прогул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Йорк считается одной из самых молодых пород декоративных собак, он был выведен немногим более ста лет тому наз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9640" y="765000"/>
            <a:ext cx="1944720" cy="1589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804000" y="907920"/>
            <a:ext cx="167652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лли, или шотландская овчарка. Собаки этой породы красивы и умны, легко поддаются дрессировке. Используются как служебные собаки. В русско-японскую войну колли были на санитарной служб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256360" y="2565360"/>
            <a:ext cx="3887640" cy="2927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0" y="4344840"/>
            <a:ext cx="2932200" cy="2513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916360" y="3691080"/>
            <a:ext cx="2363760" cy="31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42160" y="965520"/>
            <a:ext cx="8058240" cy="4768560"/>
            <a:chOff x="542160" y="965520"/>
            <a:chExt cx="8058240" cy="4768560"/>
          </a:xfrm>
        </p:grpSpPr>
        <p:sp>
          <p:nvSpPr>
            <p:cNvPr id="69" name="_s18452"/>
            <p:cNvSpPr/>
            <p:nvPr/>
          </p:nvSpPr>
          <p:spPr>
            <a:xfrm flipH="1" flipV="1">
              <a:off x="2963160" y="2666520"/>
              <a:ext cx="810720" cy="389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8451"/>
            <p:cNvSpPr/>
            <p:nvPr/>
          </p:nvSpPr>
          <p:spPr>
            <a:xfrm>
              <a:off x="1138320" y="1662480"/>
              <a:ext cx="2048760" cy="1235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Охраняет дом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границ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8450"/>
            <p:cNvSpPr/>
            <p:nvPr/>
          </p:nvSpPr>
          <p:spPr>
            <a:xfrm flipH="1">
              <a:off x="2566440" y="3576960"/>
              <a:ext cx="1010520" cy="1389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8449"/>
            <p:cNvSpPr/>
            <p:nvPr/>
          </p:nvSpPr>
          <p:spPr>
            <a:xfrm>
              <a:off x="542160" y="3235680"/>
              <a:ext cx="2049480" cy="1236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Помогает на охот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8448"/>
            <p:cNvSpPr/>
            <p:nvPr/>
          </p:nvSpPr>
          <p:spPr>
            <a:xfrm flipH="1">
              <a:off x="3679200" y="3993840"/>
              <a:ext cx="447840" cy="563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8447"/>
            <p:cNvSpPr/>
            <p:nvPr/>
          </p:nvSpPr>
          <p:spPr>
            <a:xfrm>
              <a:off x="2210760" y="4498200"/>
              <a:ext cx="2048760" cy="12358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Работает в цирке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поводырем дл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слепых и др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8454"/>
            <p:cNvSpPr/>
            <p:nvPr/>
          </p:nvSpPr>
          <p:spPr>
            <a:xfrm>
              <a:off x="5011920" y="3993840"/>
              <a:ext cx="448560" cy="563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8453"/>
            <p:cNvSpPr/>
            <p:nvPr/>
          </p:nvSpPr>
          <p:spPr>
            <a:xfrm>
              <a:off x="4886640" y="4498200"/>
              <a:ext cx="2048760" cy="12358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Служит средством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передвиж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8446"/>
            <p:cNvSpPr/>
            <p:nvPr/>
          </p:nvSpPr>
          <p:spPr>
            <a:xfrm>
              <a:off x="5565240" y="3576960"/>
              <a:ext cx="1008000" cy="1389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8445"/>
            <p:cNvSpPr/>
            <p:nvPr/>
          </p:nvSpPr>
          <p:spPr>
            <a:xfrm>
              <a:off x="6551640" y="3235680"/>
              <a:ext cx="2048760" cy="12362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Помогает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спасателя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18444"/>
            <p:cNvSpPr/>
            <p:nvPr/>
          </p:nvSpPr>
          <p:spPr>
            <a:xfrm flipV="1">
              <a:off x="5368680" y="2666520"/>
              <a:ext cx="807840" cy="389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8443"/>
            <p:cNvSpPr/>
            <p:nvPr/>
          </p:nvSpPr>
          <p:spPr>
            <a:xfrm>
              <a:off x="5955120" y="1663920"/>
              <a:ext cx="2048760" cy="12358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Помогает</a:t>
              </a:r>
              <a:r>
                <a:rPr b="1" lang="en-US" sz="1600" spc="-1" strike="noStrike">
                  <a:solidFill>
                    <a:srgbClr val="ff0066"/>
                  </a:solidFill>
                  <a:latin typeface="Arial"/>
                </a:rPr>
                <a:t> пастуха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18442"/>
            <p:cNvSpPr/>
            <p:nvPr/>
          </p:nvSpPr>
          <p:spPr>
            <a:xfrm flipV="1">
              <a:off x="4569480" y="2199600"/>
              <a:ext cx="0" cy="6249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8441"/>
            <p:cNvSpPr/>
            <p:nvPr/>
          </p:nvSpPr>
          <p:spPr>
            <a:xfrm>
              <a:off x="3546720" y="965520"/>
              <a:ext cx="2048760" cy="123588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Отыскивает след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ff0066"/>
                  </a:solidFill>
                  <a:latin typeface="Arial"/>
                </a:rPr>
                <a:t>преступник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18440"/>
            <p:cNvSpPr/>
            <p:nvPr/>
          </p:nvSpPr>
          <p:spPr>
            <a:xfrm>
              <a:off x="3546720" y="2824560"/>
              <a:ext cx="2048760" cy="123588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«собачь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профессии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19:27:17Z</dcterms:created>
  <dc:creator>www.PHILka.RU</dc:creator>
  <dc:description/>
  <dc:language>en-US</dc:language>
  <cp:lastModifiedBy>www.PHILka.RU</cp:lastModifiedBy>
  <dcterms:modified xsi:type="dcterms:W3CDTF">2009-01-17T17:07:24Z</dcterms:modified>
  <cp:revision>9</cp:revision>
  <dc:subject/>
  <dc:title>Четвероногие друзья</dc:title>
</cp:coreProperties>
</file>