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9.wmf" ContentType="image/x-wmf"/>
  <Override PartName="/ppt/media/image8.wmf" ContentType="image/x-wmf"/>
  <Override PartName="/ppt/media/%D0%97%D0%B2%D1%83%D0%BA%20Microsoft.wav" ContentType="audio/x-wav"/>
  <Override PartName="/ppt/media/image20.png" ContentType="image/png"/>
  <Override PartName="/ppt/media/image7.wmf" ContentType="image/x-wmf"/>
  <Override PartName="/ppt/media/image12.png" ContentType="image/png"/>
  <Override PartName="/ppt/media/image22.png" ContentType="image/png"/>
  <Override PartName="/ppt/media/image6.wmf" ContentType="image/x-wmf"/>
  <Override PartName="/ppt/media/image11.png" ContentType="image/png"/>
  <Override PartName="/ppt/media/image19.jpeg" ContentType="image/jpeg"/>
  <Override PartName="/ppt/media/image21.png" ContentType="image/png"/>
  <Override PartName="/ppt/media/image13.jpeg" ContentType="image/jpeg"/>
  <Override PartName="/ppt/media/image1.gif" ContentType="image/gif"/>
  <Override PartName="/ppt/media/image4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D76-BAE7-43E2-A816-7BBA60F6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AEA-69AD-4075-9752-0FB32751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DE1-A80E-4CD3-AB2E-584AB8F9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377-AC55-4229-AC33-077423ED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E8E-E434-4C3D-A44A-9228A561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B67-16F0-4A3E-B696-DB7B4885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1C8-C921-4562-96A7-0C1D2A46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508-A68E-48E6-BF94-E3DF8C50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484-6E01-4A2D-8AFE-B93FA832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8B7-757F-46A1-A602-BD19587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7E7-237B-4C6F-80D8-200A8B1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92E-E259-4A41-8552-B4A0855D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0881-DF27-4223-8306-2E4CFAF41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smiles.33b.ru/smile.106351.html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1.xm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" Target="slide11.xml"/><Relationship Id="rId6" Type="http://schemas.openxmlformats.org/officeDocument/2006/relationships/slide" Target="slide9.xml"/><Relationship Id="rId7" Type="http://schemas.openxmlformats.org/officeDocument/2006/relationships/image" Target="../media/image17.jpeg"/><Relationship Id="rId8" Type="http://schemas.openxmlformats.org/officeDocument/2006/relationships/slide" Target="slide7.xml"/><Relationship Id="rId9" Type="http://schemas.openxmlformats.org/officeDocument/2006/relationships/image" Target="../media/image10.jpeg"/><Relationship Id="rId10" Type="http://schemas.openxmlformats.org/officeDocument/2006/relationships/oleObject" Target="../embeddings/oleObject1.bin"/><Relationship Id="rId11" Type="http://schemas.openxmlformats.org/officeDocument/2006/relationships/slide" Target="slide8.xml"/><Relationship Id="rId12" Type="http://schemas.openxmlformats.org/officeDocument/2006/relationships/image" Target="../media/image20.png"/><Relationship Id="rId13" Type="http://schemas.openxmlformats.org/officeDocument/2006/relationships/slide" Target="slide12.xml"/><Relationship Id="rId14" Type="http://schemas.openxmlformats.org/officeDocument/2006/relationships/image" Target="../media/image18.jpeg"/><Relationship Id="rId15" Type="http://schemas.openxmlformats.org/officeDocument/2006/relationships/slide" Target="slide13.xml"/><Relationship Id="rId16" Type="http://schemas.openxmlformats.org/officeDocument/2006/relationships/image" Target="../media/image19.jpeg"/><Relationship Id="rId17" Type="http://schemas.openxmlformats.org/officeDocument/2006/relationships/slide" Target="slide14.xml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1.png"/><Relationship Id="rId3" Type="http://schemas.openxmlformats.org/officeDocument/2006/relationships/image" Target="../media/image15.jpeg"/><Relationship Id="rId4" Type="http://schemas.openxmlformats.org/officeDocument/2006/relationships/slide" Target="slide9.xml"/><Relationship Id="rId5" Type="http://schemas.openxmlformats.org/officeDocument/2006/relationships/image" Target="../media/image17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oleObject" Target="../embeddings/oleObject1.bin"/><Relationship Id="rId9" Type="http://schemas.openxmlformats.org/officeDocument/2006/relationships/slide" Target="slide8.xml"/><Relationship Id="rId10" Type="http://schemas.openxmlformats.org/officeDocument/2006/relationships/image" Target="../media/image20.png"/><Relationship Id="rId11" Type="http://schemas.openxmlformats.org/officeDocument/2006/relationships/slide" Target="slide10.xml"/><Relationship Id="rId12" Type="http://schemas.openxmlformats.org/officeDocument/2006/relationships/image" Target="../media/image16.jpeg"/><Relationship Id="rId13" Type="http://schemas.openxmlformats.org/officeDocument/2006/relationships/slide" Target="slide12.xml"/><Relationship Id="rId14" Type="http://schemas.openxmlformats.org/officeDocument/2006/relationships/image" Target="../media/image18.jpeg"/><Relationship Id="rId15" Type="http://schemas.openxmlformats.org/officeDocument/2006/relationships/slide" Target="slide13.xml"/><Relationship Id="rId16" Type="http://schemas.openxmlformats.org/officeDocument/2006/relationships/image" Target="../media/image19.jpeg"/><Relationship Id="rId17" Type="http://schemas.openxmlformats.org/officeDocument/2006/relationships/slide" Target="slide14.xml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image" Target="../media/image15.jpeg"/><Relationship Id="rId5" Type="http://schemas.openxmlformats.org/officeDocument/2006/relationships/image" Target="../media/image18.jpeg"/><Relationship Id="rId6" Type="http://schemas.openxmlformats.org/officeDocument/2006/relationships/slide" Target="slide9.xml"/><Relationship Id="rId7" Type="http://schemas.openxmlformats.org/officeDocument/2006/relationships/image" Target="../media/image17.jpeg"/><Relationship Id="rId8" Type="http://schemas.openxmlformats.org/officeDocument/2006/relationships/slide" Target="slide7.xml"/><Relationship Id="rId9" Type="http://schemas.openxmlformats.org/officeDocument/2006/relationships/image" Target="../media/image10.jpeg"/><Relationship Id="rId10" Type="http://schemas.openxmlformats.org/officeDocument/2006/relationships/oleObject" Target="../embeddings/oleObject1.bin"/><Relationship Id="rId11" Type="http://schemas.openxmlformats.org/officeDocument/2006/relationships/slide" Target="slide8.xml"/><Relationship Id="rId12" Type="http://schemas.openxmlformats.org/officeDocument/2006/relationships/image" Target="../media/image20.png"/><Relationship Id="rId13" Type="http://schemas.openxmlformats.org/officeDocument/2006/relationships/slide" Target="slide10.xml"/><Relationship Id="rId14" Type="http://schemas.openxmlformats.org/officeDocument/2006/relationships/image" Target="../media/image16.jpeg"/><Relationship Id="rId15" Type="http://schemas.openxmlformats.org/officeDocument/2006/relationships/slide" Target="slide13.xml"/><Relationship Id="rId16" Type="http://schemas.openxmlformats.org/officeDocument/2006/relationships/image" Target="../media/image19.jpeg"/><Relationship Id="rId17" Type="http://schemas.openxmlformats.org/officeDocument/2006/relationships/slide" Target="slide14.xml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1.xml"/><Relationship Id="rId3" Type="http://schemas.openxmlformats.org/officeDocument/2006/relationships/image" Target="../media/image15.jpeg"/><Relationship Id="rId4" Type="http://schemas.openxmlformats.org/officeDocument/2006/relationships/image" Target="../media/image19.jpeg"/><Relationship Id="rId5" Type="http://schemas.openxmlformats.org/officeDocument/2006/relationships/slide" Target="slide14.xml"/><Relationship Id="rId6" Type="http://schemas.openxmlformats.org/officeDocument/2006/relationships/slide" Target="slide9.xml"/><Relationship Id="rId7" Type="http://schemas.openxmlformats.org/officeDocument/2006/relationships/image" Target="../media/image17.jpeg"/><Relationship Id="rId8" Type="http://schemas.openxmlformats.org/officeDocument/2006/relationships/slide" Target="slide7.xml"/><Relationship Id="rId9" Type="http://schemas.openxmlformats.org/officeDocument/2006/relationships/image" Target="../media/image10.jpeg"/><Relationship Id="rId10" Type="http://schemas.openxmlformats.org/officeDocument/2006/relationships/oleObject" Target="../embeddings/oleObject1.bin"/><Relationship Id="rId11" Type="http://schemas.openxmlformats.org/officeDocument/2006/relationships/slide" Target="slide8.xml"/><Relationship Id="rId12" Type="http://schemas.openxmlformats.org/officeDocument/2006/relationships/image" Target="../media/image20.png"/><Relationship Id="rId13" Type="http://schemas.openxmlformats.org/officeDocument/2006/relationships/slide" Target="slide10.xml"/><Relationship Id="rId14" Type="http://schemas.openxmlformats.org/officeDocument/2006/relationships/image" Target="../media/image16.jpeg"/><Relationship Id="rId15" Type="http://schemas.openxmlformats.org/officeDocument/2006/relationships/slide" Target="slide12.xml"/><Relationship Id="rId16" Type="http://schemas.openxmlformats.org/officeDocument/2006/relationships/image" Target="../media/image18.jpeg"/><Relationship Id="rId17" Type="http://schemas.openxmlformats.org/officeDocument/2006/relationships/slide" Target="slide14.xml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jpeg"/><Relationship Id="rId3" Type="http://schemas.openxmlformats.org/officeDocument/2006/relationships/slide" Target="slide11.xml"/><Relationship Id="rId4" Type="http://schemas.openxmlformats.org/officeDocument/2006/relationships/image" Target="../media/image15.jpeg"/><Relationship Id="rId5" Type="http://schemas.openxmlformats.org/officeDocument/2006/relationships/slide" Target="slide15.xml"/><Relationship Id="rId6" Type="http://schemas.openxmlformats.org/officeDocument/2006/relationships/slide" Target="slide9.xml"/><Relationship Id="rId7" Type="http://schemas.openxmlformats.org/officeDocument/2006/relationships/image" Target="../media/image17.jpeg"/><Relationship Id="rId8" Type="http://schemas.openxmlformats.org/officeDocument/2006/relationships/slide" Target="slide7.xml"/><Relationship Id="rId9" Type="http://schemas.openxmlformats.org/officeDocument/2006/relationships/image" Target="../media/image10.jpeg"/><Relationship Id="rId10" Type="http://schemas.openxmlformats.org/officeDocument/2006/relationships/oleObject" Target="../embeddings/oleObject1.bin"/><Relationship Id="rId11" Type="http://schemas.openxmlformats.org/officeDocument/2006/relationships/slide" Target="slide8.xml"/><Relationship Id="rId12" Type="http://schemas.openxmlformats.org/officeDocument/2006/relationships/image" Target="../media/image20.png"/><Relationship Id="rId13" Type="http://schemas.openxmlformats.org/officeDocument/2006/relationships/slide" Target="slide10.xml"/><Relationship Id="rId14" Type="http://schemas.openxmlformats.org/officeDocument/2006/relationships/image" Target="../media/image16.jpeg"/><Relationship Id="rId15" Type="http://schemas.openxmlformats.org/officeDocument/2006/relationships/slide" Target="slide12.xml"/><Relationship Id="rId16" Type="http://schemas.openxmlformats.org/officeDocument/2006/relationships/image" Target="../media/image18.jpeg"/><Relationship Id="rId17" Type="http://schemas.openxmlformats.org/officeDocument/2006/relationships/slide" Target="slide13.xml"/><Relationship Id="rId18" Type="http://schemas.openxmlformats.org/officeDocument/2006/relationships/image" Target="../media/image19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jpeg"/><Relationship Id="rId3" Type="http://schemas.openxmlformats.org/officeDocument/2006/relationships/slide" Target="slide11.xml"/><Relationship Id="rId4" Type="http://schemas.openxmlformats.org/officeDocument/2006/relationships/image" Target="../media/image15.jpeg"/><Relationship Id="rId5" Type="http://schemas.openxmlformats.org/officeDocument/2006/relationships/slide" Target="slide9.xml"/><Relationship Id="rId6" Type="http://schemas.openxmlformats.org/officeDocument/2006/relationships/image" Target="../media/image17.jpeg"/><Relationship Id="rId7" Type="http://schemas.openxmlformats.org/officeDocument/2006/relationships/slide" Target="slide7.xml"/><Relationship Id="rId8" Type="http://schemas.openxmlformats.org/officeDocument/2006/relationships/image" Target="../media/image10.jpeg"/><Relationship Id="rId9" Type="http://schemas.openxmlformats.org/officeDocument/2006/relationships/oleObject" Target="../embeddings/oleObject1.bin"/><Relationship Id="rId10" Type="http://schemas.openxmlformats.org/officeDocument/2006/relationships/slide" Target="slide8.xml"/><Relationship Id="rId11" Type="http://schemas.openxmlformats.org/officeDocument/2006/relationships/image" Target="../media/image20.png"/><Relationship Id="rId12" Type="http://schemas.openxmlformats.org/officeDocument/2006/relationships/slide" Target="slide10.xml"/><Relationship Id="rId13" Type="http://schemas.openxmlformats.org/officeDocument/2006/relationships/image" Target="../media/image16.jpeg"/><Relationship Id="rId14" Type="http://schemas.openxmlformats.org/officeDocument/2006/relationships/slide" Target="slide12.xml"/><Relationship Id="rId15" Type="http://schemas.openxmlformats.org/officeDocument/2006/relationships/image" Target="../media/image18.jpeg"/><Relationship Id="rId16" Type="http://schemas.openxmlformats.org/officeDocument/2006/relationships/slide" Target="slide13.xml"/><Relationship Id="rId17" Type="http://schemas.openxmlformats.org/officeDocument/2006/relationships/image" Target="../media/image19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hyperlink" Target="C:\WINDOWS\NOTEPAD.EXE C:\&#1052;&#1086;&#1080; &#1076;&#1086;&#1082;&#1091;&#1084;&#1077;&#1085;&#1090;&#1099;\&#1040;&#1088;&#1090;&#1077;&#1084;\CD-ROM.txt" TargetMode="External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audio" Target="../media/&#1047;&#1074;&#1091;&#1082;%20Microsoft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jpeg"/><Relationship Id="rId3" Type="http://schemas.openxmlformats.org/officeDocument/2006/relationships/slide" Target="slide7.xml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slide" Target="slide8.xml"/><Relationship Id="rId7" Type="http://schemas.openxmlformats.org/officeDocument/2006/relationships/image" Target="../media/image12.png"/><Relationship Id="rId8" Type="http://schemas.openxmlformats.org/officeDocument/2006/relationships/slide" Target="slide14.xm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" Target="slide11.xml"/><Relationship Id="rId12" Type="http://schemas.openxmlformats.org/officeDocument/2006/relationships/image" Target="../media/image15.jpeg"/><Relationship Id="rId13" Type="http://schemas.openxmlformats.org/officeDocument/2006/relationships/slide" Target="slide10.xml"/><Relationship Id="rId14" Type="http://schemas.openxmlformats.org/officeDocument/2006/relationships/image" Target="../media/image16.jpeg"/><Relationship Id="rId15" Type="http://schemas.openxmlformats.org/officeDocument/2006/relationships/slide" Target="slide9.xml"/><Relationship Id="rId16" Type="http://schemas.openxmlformats.org/officeDocument/2006/relationships/image" Target="../media/image17.jpeg"/><Relationship Id="rId17" Type="http://schemas.openxmlformats.org/officeDocument/2006/relationships/slide" Target="slide12.xml"/><Relationship Id="rId18" Type="http://schemas.openxmlformats.org/officeDocument/2006/relationships/image" Target="../media/image18.jpeg"/><Relationship Id="rId19" Type="http://schemas.openxmlformats.org/officeDocument/2006/relationships/slide" Target="slide13.xml"/><Relationship Id="rId20" Type="http://schemas.openxmlformats.org/officeDocument/2006/relationships/image" Target="../media/image19.jpeg"/><Relationship Id="rId21" Type="http://schemas.openxmlformats.org/officeDocument/2006/relationships/slide" Target="slide7.xml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.xml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slide" Target="slide8.xml"/><Relationship Id="rId6" Type="http://schemas.openxmlformats.org/officeDocument/2006/relationships/image" Target="../media/image20.png"/><Relationship Id="rId7" Type="http://schemas.openxmlformats.org/officeDocument/2006/relationships/slide" Target="slide14.xml"/><Relationship Id="rId8" Type="http://schemas.openxmlformats.org/officeDocument/2006/relationships/image" Target="../media/image13.jpeg"/><Relationship Id="rId9" Type="http://schemas.openxmlformats.org/officeDocument/2006/relationships/slide" Target="slide15.xml"/><Relationship Id="rId10" Type="http://schemas.openxmlformats.org/officeDocument/2006/relationships/image" Target="../media/image14.jpeg"/><Relationship Id="rId11" Type="http://schemas.openxmlformats.org/officeDocument/2006/relationships/slide" Target="slide11.xml"/><Relationship Id="rId12" Type="http://schemas.openxmlformats.org/officeDocument/2006/relationships/image" Target="../media/image15.jpeg"/><Relationship Id="rId13" Type="http://schemas.openxmlformats.org/officeDocument/2006/relationships/slide" Target="slide10.xml"/><Relationship Id="rId14" Type="http://schemas.openxmlformats.org/officeDocument/2006/relationships/image" Target="../media/image16.jpeg"/><Relationship Id="rId15" Type="http://schemas.openxmlformats.org/officeDocument/2006/relationships/slide" Target="slide9.xml"/><Relationship Id="rId16" Type="http://schemas.openxmlformats.org/officeDocument/2006/relationships/image" Target="../media/image17.jpeg"/><Relationship Id="rId17" Type="http://schemas.openxmlformats.org/officeDocument/2006/relationships/slide" Target="slide12.xml"/><Relationship Id="rId18" Type="http://schemas.openxmlformats.org/officeDocument/2006/relationships/image" Target="../media/image18.jpeg"/><Relationship Id="rId19" Type="http://schemas.openxmlformats.org/officeDocument/2006/relationships/slide" Target="slide13.xml"/><Relationship Id="rId20" Type="http://schemas.openxmlformats.org/officeDocument/2006/relationships/image" Target="../media/image19.jpeg"/><Relationship Id="rId21" Type="http://schemas.openxmlformats.org/officeDocument/2006/relationships/slide" Target="slide8.xml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image" Target="../media/image15.jpeg"/><Relationship Id="rId5" Type="http://schemas.openxmlformats.org/officeDocument/2006/relationships/slide" Target="slide7.xml"/><Relationship Id="rId6" Type="http://schemas.openxmlformats.org/officeDocument/2006/relationships/image" Target="../media/image10.jpeg"/><Relationship Id="rId7" Type="http://schemas.openxmlformats.org/officeDocument/2006/relationships/slide" Target="slide9.xml"/><Relationship Id="rId8" Type="http://schemas.openxmlformats.org/officeDocument/2006/relationships/image" Target="../media/image17.jpeg"/><Relationship Id="rId9" Type="http://schemas.openxmlformats.org/officeDocument/2006/relationships/oleObject" Target="../embeddings/oleObject1.bin"/><Relationship Id="rId10" Type="http://schemas.openxmlformats.org/officeDocument/2006/relationships/slide" Target="slide5.xml"/><Relationship Id="rId11" Type="http://schemas.openxmlformats.org/officeDocument/2006/relationships/image" Target="../media/image22.png"/><Relationship Id="rId12" Type="http://schemas.openxmlformats.org/officeDocument/2006/relationships/slide" Target="slide10.xml"/><Relationship Id="rId13" Type="http://schemas.openxmlformats.org/officeDocument/2006/relationships/image" Target="../media/image16.jpeg"/><Relationship Id="rId14" Type="http://schemas.openxmlformats.org/officeDocument/2006/relationships/slide" Target="slide12.xml"/><Relationship Id="rId15" Type="http://schemas.openxmlformats.org/officeDocument/2006/relationships/image" Target="../media/image18.jpeg"/><Relationship Id="rId16" Type="http://schemas.openxmlformats.org/officeDocument/2006/relationships/slide" Target="slide13.xml"/><Relationship Id="rId17" Type="http://schemas.openxmlformats.org/officeDocument/2006/relationships/image" Target="../media/image19.jpeg"/><Relationship Id="rId18" Type="http://schemas.openxmlformats.org/officeDocument/2006/relationships/slide" Target="slide14.xml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oleObject" Target="../embeddings/oleObject1.bin"/><Relationship Id="rId9" Type="http://schemas.openxmlformats.org/officeDocument/2006/relationships/slide" Target="slide8.xml"/><Relationship Id="rId10" Type="http://schemas.openxmlformats.org/officeDocument/2006/relationships/image" Target="../media/image20.png"/><Relationship Id="rId11" Type="http://schemas.openxmlformats.org/officeDocument/2006/relationships/slide" Target="slide10.xml"/><Relationship Id="rId12" Type="http://schemas.openxmlformats.org/officeDocument/2006/relationships/image" Target="../media/image16.jpeg"/><Relationship Id="rId13" Type="http://schemas.openxmlformats.org/officeDocument/2006/relationships/slide" Target="slide12.xml"/><Relationship Id="rId14" Type="http://schemas.openxmlformats.org/officeDocument/2006/relationships/image" Target="../media/image18.jpeg"/><Relationship Id="rId15" Type="http://schemas.openxmlformats.org/officeDocument/2006/relationships/slide" Target="slide13.xml"/><Relationship Id="rId16" Type="http://schemas.openxmlformats.org/officeDocument/2006/relationships/image" Target="../media/image19.jpeg"/><Relationship Id="rId17" Type="http://schemas.openxmlformats.org/officeDocument/2006/relationships/slide" Target="slide14.xml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3933720"/>
            <a:ext cx="5398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 проект ученик 7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 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ян Ар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981000"/>
            <a:ext cx="7993080" cy="22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стройство компьюте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232884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55280" y="5349960"/>
            <a:ext cx="1297080" cy="15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36640"/>
            <a:ext cx="9144000" cy="489744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2" action="ppaction://hlinksldjump"/>
          </p:cNvPr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0920" y="5883120"/>
            <a:ext cx="75610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Манипулятор мыш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 для ввода управляющей информации (может также дублировать клавиши клавиатуры). Различаются по количеству клавиш, наличию скроллинга, форме, способу передачи движения (механические, оптическ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5" action="ppaction://hlinksldjump"/>
          </p:cNvPr>
          <p:cNvSpPr/>
          <p:nvPr/>
        </p:nvSpPr>
        <p:spPr>
          <a:xfrm flipV="1">
            <a:off x="8532720" y="5734080"/>
            <a:ext cx="611280" cy="1123920"/>
          </a:xfrm>
          <a:custGeom>
            <a:avLst/>
            <a:gdLst>
              <a:gd name="textAreaLeft" fmla="*/ 152640 w 611280"/>
              <a:gd name="textAreaRight" fmla="*/ 458640 w 611280"/>
              <a:gd name="textAreaTop" fmla="*/ 152640 h 1123920"/>
              <a:gd name="textAreaBottom" fmla="*/ 971280 h 1123920"/>
            </a:gdLst>
            <a:ahLst/>
            <a:rect l="textAreaLeft" t="textAreaTop" r="textAreaRight" b="textAreaBottom"/>
            <a:pathLst>
              <a:path w="21600" h="39704">
                <a:moveTo>
                  <a:pt x="0" y="0"/>
                </a:moveTo>
                <a:lnTo>
                  <a:pt x="21600" y="0"/>
                </a:lnTo>
                <a:lnTo>
                  <a:pt x="21600" y="39704"/>
                </a:lnTo>
                <a:lnTo>
                  <a:pt x="0" y="39704"/>
                </a:lnTo>
                <a:close/>
              </a:path>
              <a:path fill="lightenLess" w="21600" h="3970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39704">
                <a:moveTo>
                  <a:pt x="21600" y="0"/>
                </a:moveTo>
                <a:lnTo>
                  <a:pt x="21600" y="39704"/>
                </a:lnTo>
                <a:lnTo>
                  <a:pt x="16200" y="34304"/>
                </a:lnTo>
                <a:lnTo>
                  <a:pt x="16200" y="5400"/>
                </a:lnTo>
                <a:close/>
              </a:path>
              <a:path fill="darkenLess" w="21600" h="39704">
                <a:moveTo>
                  <a:pt x="21600" y="39704"/>
                </a:moveTo>
                <a:lnTo>
                  <a:pt x="0" y="39704"/>
                </a:lnTo>
                <a:lnTo>
                  <a:pt x="5400" y="34304"/>
                </a:lnTo>
                <a:lnTo>
                  <a:pt x="16200" y="34304"/>
                </a:lnTo>
                <a:close/>
              </a:path>
              <a:path fill="lighten" w="21600" h="39704">
                <a:moveTo>
                  <a:pt x="0" y="39704"/>
                </a:moveTo>
                <a:lnTo>
                  <a:pt x="0" y="0"/>
                </a:lnTo>
                <a:lnTo>
                  <a:pt x="5400" y="5400"/>
                </a:lnTo>
                <a:lnTo>
                  <a:pt x="5400" y="34304"/>
                </a:lnTo>
                <a:close/>
              </a:path>
              <a:path fill="darken" w="21600" h="39704">
                <a:moveTo>
                  <a:pt x="6775" y="15827"/>
                </a:moveTo>
                <a:lnTo>
                  <a:pt x="14825" y="19852"/>
                </a:lnTo>
                <a:lnTo>
                  <a:pt x="6775" y="23877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>
            <a:hlinkClick r:id="rId6" action="ppaction://hlinksldjump"/>
          </p:cNvPr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79280" y="4653000"/>
            <a:ext cx="863640" cy="750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>
            <a:hlinkClick r:id="rId8" action="ppaction://hlinksldjump"/>
          </p:cNvPr>
          <p:cNvPicPr/>
          <p:nvPr/>
        </p:nvPicPr>
        <p:blipFill>
          <a:blip r:embed="rId9">
            <a:lum bright="70000" contrast="-70000"/>
          </a:blip>
          <a:srcRect l="40702" t="0" r="-5302" b="0"/>
          <a:stretch/>
        </p:blipFill>
        <p:spPr>
          <a:xfrm>
            <a:off x="4427640" y="1341360"/>
            <a:ext cx="180000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3708360" y="2276640"/>
          <a:ext cx="1654200" cy="1617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1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08360" y="2276640"/>
                    <a:ext cx="165420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>
            <a:hlinkClick r:id="rId13" action="ppaction://hlinksldjump"/>
          </p:cNvPr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15" action="ppaction://hlinksldjump"/>
          </p:cNvPr>
          <p:cNvPicPr/>
          <p:nvPr/>
        </p:nvPicPr>
        <p:blipFill>
          <a:blip r:embed="rId16">
            <a:lum bright="70000" contrast="-70000"/>
          </a:blip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rId17" action="ppaction://hlinksldjump"/>
          </p:cNvPr>
          <p:cNvPicPr/>
          <p:nvPr/>
        </p:nvPicPr>
        <p:blipFill>
          <a:blip r:embed="rId18">
            <a:lum bright="70000" contrast="-70000"/>
          </a:blip>
          <a:stretch/>
        </p:blipFill>
        <p:spPr>
          <a:xfrm>
            <a:off x="6877080" y="4724280"/>
            <a:ext cx="865080" cy="7956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9">
            <a:lum bright="70000" contrast="-70000"/>
          </a:blip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836640"/>
            <a:ext cx="9144000" cy="489744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 flipV="1">
            <a:off x="8604360" y="5734080"/>
            <a:ext cx="539640" cy="1123920"/>
          </a:xfrm>
          <a:custGeom>
            <a:avLst/>
            <a:gdLst>
              <a:gd name="textAreaLeft" fmla="*/ 135000 w 539640"/>
              <a:gd name="textAreaRight" fmla="*/ 405000 w 539640"/>
              <a:gd name="textAreaTop" fmla="*/ 135360 h 1123920"/>
              <a:gd name="textAreaBottom" fmla="*/ 989640 h 1123920"/>
            </a:gdLst>
            <a:ahLst/>
            <a:rect l="textAreaLeft" t="textAreaTop" r="textAreaRight" b="textAreaBottom"/>
            <a:pathLst>
              <a:path w="21600" h="44971">
                <a:moveTo>
                  <a:pt x="0" y="0"/>
                </a:moveTo>
                <a:lnTo>
                  <a:pt x="21600" y="0"/>
                </a:lnTo>
                <a:lnTo>
                  <a:pt x="21600" y="44971"/>
                </a:lnTo>
                <a:lnTo>
                  <a:pt x="0" y="44971"/>
                </a:lnTo>
                <a:close/>
              </a:path>
              <a:path fill="lightenLess" w="21600" h="44971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44971">
                <a:moveTo>
                  <a:pt x="21600" y="0"/>
                </a:moveTo>
                <a:lnTo>
                  <a:pt x="21600" y="44971"/>
                </a:lnTo>
                <a:lnTo>
                  <a:pt x="16200" y="39571"/>
                </a:lnTo>
                <a:lnTo>
                  <a:pt x="16200" y="5400"/>
                </a:lnTo>
                <a:close/>
              </a:path>
              <a:path fill="darkenLess" w="21600" h="44971">
                <a:moveTo>
                  <a:pt x="21600" y="44971"/>
                </a:moveTo>
                <a:lnTo>
                  <a:pt x="0" y="44971"/>
                </a:lnTo>
                <a:lnTo>
                  <a:pt x="5400" y="39571"/>
                </a:lnTo>
                <a:lnTo>
                  <a:pt x="16200" y="39571"/>
                </a:lnTo>
                <a:close/>
              </a:path>
              <a:path fill="lighten" w="21600" h="44971">
                <a:moveTo>
                  <a:pt x="0" y="44971"/>
                </a:moveTo>
                <a:lnTo>
                  <a:pt x="0" y="0"/>
                </a:lnTo>
                <a:lnTo>
                  <a:pt x="5400" y="5400"/>
                </a:lnTo>
                <a:lnTo>
                  <a:pt x="5400" y="39571"/>
                </a:lnTo>
                <a:close/>
              </a:path>
              <a:path fill="darken" w="21600" h="44971">
                <a:moveTo>
                  <a:pt x="6775" y="18461"/>
                </a:moveTo>
                <a:lnTo>
                  <a:pt x="14825" y="22486"/>
                </a:lnTo>
                <a:lnTo>
                  <a:pt x="6775" y="26511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79280" y="5883120"/>
            <a:ext cx="78836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Клави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 для ввода информации и управления работой программ. Различаются количеством и расположением клавиш, формой (обычные, эргономические, складные), типом контактной группы и т. п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rId4" action="ppaction://hlinksldjump"/>
          </p:cNvPr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250920" y="4653000"/>
            <a:ext cx="863640" cy="7509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6" action="ppaction://hlinksldjump"/>
          </p:cNvPr>
          <p:cNvPicPr/>
          <p:nvPr/>
        </p:nvPicPr>
        <p:blipFill>
          <a:blip r:embed="rId7">
            <a:lum bright="70000" contrast="-70000"/>
          </a:blip>
          <a:srcRect l="40702" t="0" r="-5302" b="0"/>
          <a:stretch/>
        </p:blipFill>
        <p:spPr>
          <a:xfrm>
            <a:off x="4427640" y="1341360"/>
            <a:ext cx="180000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3708360" y="2276640"/>
          <a:ext cx="1654200" cy="16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76640"/>
                    <a:ext cx="165420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3" name="" descr="">
            <a:hlinkClick r:id="rId11" action="ppaction://hlinksldjump"/>
          </p:cNvPr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>
            <a:hlinkClick r:id="rId13" action="ppaction://hlinksldjump"/>
          </p:cNvPr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15" action="ppaction://hlinksldjump"/>
          </p:cNvPr>
          <p:cNvPicPr/>
          <p:nvPr/>
        </p:nvPicPr>
        <p:blipFill>
          <a:blip r:embed="rId16">
            <a:lum bright="70000" contrast="-70000"/>
          </a:blip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17" action="ppaction://hlinksldjump"/>
          </p:cNvPr>
          <p:cNvPicPr/>
          <p:nvPr/>
        </p:nvPicPr>
        <p:blipFill>
          <a:blip r:embed="rId18">
            <a:lum bright="70000" contrast="-70000"/>
          </a:blip>
          <a:stretch/>
        </p:blipFill>
        <p:spPr>
          <a:xfrm>
            <a:off x="6877080" y="4724280"/>
            <a:ext cx="865080" cy="795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9">
            <a:lum bright="70000" contrast="-70000"/>
          </a:blip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36640"/>
            <a:ext cx="9144000" cy="489744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 flipV="1">
            <a:off x="8532720" y="5734080"/>
            <a:ext cx="611280" cy="1123920"/>
          </a:xfrm>
          <a:custGeom>
            <a:avLst/>
            <a:gdLst>
              <a:gd name="textAreaLeft" fmla="*/ 152640 w 611280"/>
              <a:gd name="textAreaRight" fmla="*/ 458640 w 611280"/>
              <a:gd name="textAreaTop" fmla="*/ 152640 h 1123920"/>
              <a:gd name="textAreaBottom" fmla="*/ 971280 h 1123920"/>
            </a:gdLst>
            <a:ahLst/>
            <a:rect l="textAreaLeft" t="textAreaTop" r="textAreaRight" b="textAreaBottom"/>
            <a:pathLst>
              <a:path w="21600" h="39704">
                <a:moveTo>
                  <a:pt x="0" y="0"/>
                </a:moveTo>
                <a:lnTo>
                  <a:pt x="21600" y="0"/>
                </a:lnTo>
                <a:lnTo>
                  <a:pt x="21600" y="39704"/>
                </a:lnTo>
                <a:lnTo>
                  <a:pt x="0" y="39704"/>
                </a:lnTo>
                <a:close/>
              </a:path>
              <a:path fill="lightenLess" w="21600" h="3970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39704">
                <a:moveTo>
                  <a:pt x="21600" y="0"/>
                </a:moveTo>
                <a:lnTo>
                  <a:pt x="21600" y="39704"/>
                </a:lnTo>
                <a:lnTo>
                  <a:pt x="16200" y="34304"/>
                </a:lnTo>
                <a:lnTo>
                  <a:pt x="16200" y="5400"/>
                </a:lnTo>
                <a:close/>
              </a:path>
              <a:path fill="darkenLess" w="21600" h="39704">
                <a:moveTo>
                  <a:pt x="21600" y="39704"/>
                </a:moveTo>
                <a:lnTo>
                  <a:pt x="0" y="39704"/>
                </a:lnTo>
                <a:lnTo>
                  <a:pt x="5400" y="34304"/>
                </a:lnTo>
                <a:lnTo>
                  <a:pt x="16200" y="34304"/>
                </a:lnTo>
                <a:close/>
              </a:path>
              <a:path fill="lighten" w="21600" h="39704">
                <a:moveTo>
                  <a:pt x="0" y="39704"/>
                </a:moveTo>
                <a:lnTo>
                  <a:pt x="0" y="0"/>
                </a:lnTo>
                <a:lnTo>
                  <a:pt x="5400" y="5400"/>
                </a:lnTo>
                <a:lnTo>
                  <a:pt x="5400" y="34304"/>
                </a:lnTo>
                <a:close/>
              </a:path>
              <a:path fill="darken" w="21600" h="39704">
                <a:moveTo>
                  <a:pt x="6775" y="15827"/>
                </a:moveTo>
                <a:lnTo>
                  <a:pt x="14825" y="19852"/>
                </a:lnTo>
                <a:lnTo>
                  <a:pt x="6775" y="23877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3" action="ppaction://hlinksldjump"/>
          </p:cNvPr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50920" y="5877000"/>
            <a:ext cx="8172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Акустическая система (звуковые колонки или стереонаушни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 вывода звуковой информации. Является техническим средством мультимеди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>
            <a:hlinkClick r:id="rId6" action="ppaction://hlinksldjump"/>
          </p:cNvPr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250920" y="4653000"/>
            <a:ext cx="863640" cy="750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>
            <a:hlinkClick r:id="rId8" action="ppaction://hlinksldjump"/>
          </p:cNvPr>
          <p:cNvPicPr/>
          <p:nvPr/>
        </p:nvPicPr>
        <p:blipFill>
          <a:blip r:embed="rId9">
            <a:lum bright="70000" contrast="-70000"/>
          </a:blip>
          <a:srcRect l="40702" t="0" r="-5302" b="0"/>
          <a:stretch/>
        </p:blipFill>
        <p:spPr>
          <a:xfrm>
            <a:off x="4427640" y="1341360"/>
            <a:ext cx="180000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4" name=""/>
          <p:cNvGraphicFramePr/>
          <p:nvPr/>
        </p:nvGraphicFramePr>
        <p:xfrm>
          <a:off x="3708360" y="2276640"/>
          <a:ext cx="1654200" cy="1617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08360" y="2276640"/>
                    <a:ext cx="165420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6" name="" descr="">
            <a:hlinkClick r:id="rId13" action="ppaction://hlinksldjump"/>
          </p:cNvPr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>
            <a:hlinkClick r:id="rId15" action="ppaction://hlinksldjump"/>
          </p:cNvPr>
          <p:cNvPicPr/>
          <p:nvPr/>
        </p:nvPicPr>
        <p:blipFill>
          <a:blip r:embed="rId16">
            <a:lum bright="70000" contrast="-70000"/>
          </a:blip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>
            <a:hlinkClick r:id="rId17" action="ppaction://hlinksldjump"/>
          </p:cNvPr>
          <p:cNvPicPr/>
          <p:nvPr/>
        </p:nvPicPr>
        <p:blipFill>
          <a:blip r:embed="rId18">
            <a:lum bright="70000" contrast="-70000"/>
          </a:blip>
          <a:stretch/>
        </p:blipFill>
        <p:spPr>
          <a:xfrm>
            <a:off x="6877080" y="4724280"/>
            <a:ext cx="865080" cy="7956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9">
            <a:lum bright="70000" contrast="-70000"/>
          </a:blip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836640"/>
            <a:ext cx="9144000" cy="489744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>
            <a:hlinkClick r:id="rId2" action="ppaction://hlinksldjump"/>
          </p:cNvPr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0" y="5661000"/>
            <a:ext cx="835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Принтер (устройство печа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 для вывода текстовой и графической информации на бумагу или пленку. Принтеры различаются по способу получения изображения (матричные, струйные, лазерные, термопринтеры), по возможности осуществления цветной печати, по качеству печати (количеству точек на дюйм)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5" action="ppaction://hlinksldjump"/>
          </p:cNvPr>
          <p:cNvSpPr/>
          <p:nvPr/>
        </p:nvSpPr>
        <p:spPr>
          <a:xfrm flipV="1">
            <a:off x="8532720" y="5734080"/>
            <a:ext cx="611280" cy="1123920"/>
          </a:xfrm>
          <a:custGeom>
            <a:avLst/>
            <a:gdLst>
              <a:gd name="textAreaLeft" fmla="*/ 152640 w 611280"/>
              <a:gd name="textAreaRight" fmla="*/ 458640 w 611280"/>
              <a:gd name="textAreaTop" fmla="*/ 152640 h 1123920"/>
              <a:gd name="textAreaBottom" fmla="*/ 971280 h 1123920"/>
            </a:gdLst>
            <a:ahLst/>
            <a:rect l="textAreaLeft" t="textAreaTop" r="textAreaRight" b="textAreaBottom"/>
            <a:pathLst>
              <a:path w="21600" h="39704">
                <a:moveTo>
                  <a:pt x="0" y="0"/>
                </a:moveTo>
                <a:lnTo>
                  <a:pt x="21600" y="0"/>
                </a:lnTo>
                <a:lnTo>
                  <a:pt x="21600" y="39704"/>
                </a:lnTo>
                <a:lnTo>
                  <a:pt x="0" y="39704"/>
                </a:lnTo>
                <a:close/>
              </a:path>
              <a:path fill="lightenLess" w="21600" h="3970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39704">
                <a:moveTo>
                  <a:pt x="21600" y="0"/>
                </a:moveTo>
                <a:lnTo>
                  <a:pt x="21600" y="39704"/>
                </a:lnTo>
                <a:lnTo>
                  <a:pt x="16200" y="34304"/>
                </a:lnTo>
                <a:lnTo>
                  <a:pt x="16200" y="5400"/>
                </a:lnTo>
                <a:close/>
              </a:path>
              <a:path fill="darkenLess" w="21600" h="39704">
                <a:moveTo>
                  <a:pt x="21600" y="39704"/>
                </a:moveTo>
                <a:lnTo>
                  <a:pt x="0" y="39704"/>
                </a:lnTo>
                <a:lnTo>
                  <a:pt x="5400" y="34304"/>
                </a:lnTo>
                <a:lnTo>
                  <a:pt x="16200" y="34304"/>
                </a:lnTo>
                <a:close/>
              </a:path>
              <a:path fill="lighten" w="21600" h="39704">
                <a:moveTo>
                  <a:pt x="0" y="39704"/>
                </a:moveTo>
                <a:lnTo>
                  <a:pt x="0" y="0"/>
                </a:lnTo>
                <a:lnTo>
                  <a:pt x="5400" y="5400"/>
                </a:lnTo>
                <a:lnTo>
                  <a:pt x="5400" y="34304"/>
                </a:lnTo>
                <a:close/>
              </a:path>
              <a:path fill="darken" w="21600" h="39704">
                <a:moveTo>
                  <a:pt x="6775" y="15827"/>
                </a:moveTo>
                <a:lnTo>
                  <a:pt x="14825" y="19852"/>
                </a:lnTo>
                <a:lnTo>
                  <a:pt x="6775" y="23877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>
            <a:hlinkClick r:id="rId6" action="ppaction://hlinksldjump"/>
          </p:cNvPr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250920" y="4653000"/>
            <a:ext cx="863640" cy="7509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>
            <a:hlinkClick r:id="rId8" action="ppaction://hlinksldjump"/>
          </p:cNvPr>
          <p:cNvPicPr/>
          <p:nvPr/>
        </p:nvPicPr>
        <p:blipFill>
          <a:blip r:embed="rId9">
            <a:lum bright="70000" contrast="-70000"/>
          </a:blip>
          <a:srcRect l="40702" t="0" r="-5302" b="0"/>
          <a:stretch/>
        </p:blipFill>
        <p:spPr>
          <a:xfrm>
            <a:off x="4427640" y="1341360"/>
            <a:ext cx="180000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3708360" y="2276640"/>
          <a:ext cx="1654200" cy="1617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7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08360" y="2276640"/>
                    <a:ext cx="165420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8" name="" descr="">
            <a:hlinkClick r:id="rId13" action="ppaction://hlinksldjump"/>
          </p:cNvPr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15" action="ppaction://hlinksldjump"/>
          </p:cNvPr>
          <p:cNvPicPr/>
          <p:nvPr/>
        </p:nvPicPr>
        <p:blipFill>
          <a:blip r:embed="rId16">
            <a:lum bright="70000" contrast="-70000"/>
          </a:blip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rId17" action="ppaction://hlinksldjump"/>
          </p:cNvPr>
          <p:cNvPicPr/>
          <p:nvPr/>
        </p:nvPicPr>
        <p:blipFill>
          <a:blip r:embed="rId18">
            <a:lum bright="70000" contrast="-70000"/>
          </a:blip>
          <a:stretch/>
        </p:blipFill>
        <p:spPr>
          <a:xfrm>
            <a:off x="6877080" y="4724280"/>
            <a:ext cx="865080" cy="7956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9">
            <a:lum bright="70000" contrast="-70000"/>
          </a:blip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836640"/>
            <a:ext cx="9144000" cy="489744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938160" cy="720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rId3" action="ppaction://hlinksldjump"/>
          </p:cNvPr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5805360"/>
            <a:ext cx="8532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Скан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 для ввода изображений (рисунков, текстов, чертежей, фотографий) в память компью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5" action="ppaction://hlinksldjump"/>
          </p:cNvPr>
          <p:cNvSpPr/>
          <p:nvPr/>
        </p:nvSpPr>
        <p:spPr>
          <a:xfrm flipV="1">
            <a:off x="8532720" y="5734080"/>
            <a:ext cx="611280" cy="1123920"/>
          </a:xfrm>
          <a:custGeom>
            <a:avLst/>
            <a:gdLst>
              <a:gd name="textAreaLeft" fmla="*/ 152640 w 611280"/>
              <a:gd name="textAreaRight" fmla="*/ 458640 w 611280"/>
              <a:gd name="textAreaTop" fmla="*/ 152640 h 1123920"/>
              <a:gd name="textAreaBottom" fmla="*/ 971280 h 1123920"/>
            </a:gdLst>
            <a:ahLst/>
            <a:rect l="textAreaLeft" t="textAreaTop" r="textAreaRight" b="textAreaBottom"/>
            <a:pathLst>
              <a:path w="21600" h="39704">
                <a:moveTo>
                  <a:pt x="0" y="0"/>
                </a:moveTo>
                <a:lnTo>
                  <a:pt x="21600" y="0"/>
                </a:lnTo>
                <a:lnTo>
                  <a:pt x="21600" y="39704"/>
                </a:lnTo>
                <a:lnTo>
                  <a:pt x="0" y="39704"/>
                </a:lnTo>
                <a:close/>
              </a:path>
              <a:path fill="lightenLess" w="21600" h="3970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39704">
                <a:moveTo>
                  <a:pt x="21600" y="0"/>
                </a:moveTo>
                <a:lnTo>
                  <a:pt x="21600" y="39704"/>
                </a:lnTo>
                <a:lnTo>
                  <a:pt x="16200" y="34304"/>
                </a:lnTo>
                <a:lnTo>
                  <a:pt x="16200" y="5400"/>
                </a:lnTo>
                <a:close/>
              </a:path>
              <a:path fill="darkenLess" w="21600" h="39704">
                <a:moveTo>
                  <a:pt x="21600" y="39704"/>
                </a:moveTo>
                <a:lnTo>
                  <a:pt x="0" y="39704"/>
                </a:lnTo>
                <a:lnTo>
                  <a:pt x="5400" y="34304"/>
                </a:lnTo>
                <a:lnTo>
                  <a:pt x="16200" y="34304"/>
                </a:lnTo>
                <a:close/>
              </a:path>
              <a:path fill="lighten" w="21600" h="39704">
                <a:moveTo>
                  <a:pt x="0" y="39704"/>
                </a:moveTo>
                <a:lnTo>
                  <a:pt x="0" y="0"/>
                </a:lnTo>
                <a:lnTo>
                  <a:pt x="5400" y="5400"/>
                </a:lnTo>
                <a:lnTo>
                  <a:pt x="5400" y="34304"/>
                </a:lnTo>
                <a:close/>
              </a:path>
              <a:path fill="darken" w="21600" h="39704">
                <a:moveTo>
                  <a:pt x="6775" y="15827"/>
                </a:moveTo>
                <a:lnTo>
                  <a:pt x="14825" y="19852"/>
                </a:lnTo>
                <a:lnTo>
                  <a:pt x="6775" y="23877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6" action="ppaction://hlinksldjump"/>
          </p:cNvPr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250920" y="4653000"/>
            <a:ext cx="863640" cy="7509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8" action="ppaction://hlinksldjump"/>
          </p:cNvPr>
          <p:cNvPicPr/>
          <p:nvPr/>
        </p:nvPicPr>
        <p:blipFill>
          <a:blip r:embed="rId9">
            <a:lum bright="70000" contrast="-70000"/>
          </a:blip>
          <a:srcRect l="40702" t="0" r="-5302" b="0"/>
          <a:stretch/>
        </p:blipFill>
        <p:spPr>
          <a:xfrm>
            <a:off x="4427640" y="1341360"/>
            <a:ext cx="180000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3708360" y="2276640"/>
          <a:ext cx="1654200" cy="1617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9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08360" y="2276640"/>
                    <a:ext cx="165420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" descr="">
            <a:hlinkClick r:id="rId13" action="ppaction://hlinksldjump"/>
          </p:cNvPr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rId15" action="ppaction://hlinksldjump"/>
          </p:cNvPr>
          <p:cNvPicPr/>
          <p:nvPr/>
        </p:nvPicPr>
        <p:blipFill>
          <a:blip r:embed="rId16">
            <a:lum bright="70000" contrast="-70000"/>
          </a:blip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rId17" action="ppaction://hlinksldjump"/>
          </p:cNvPr>
          <p:cNvPicPr/>
          <p:nvPr/>
        </p:nvPicPr>
        <p:blipFill>
          <a:blip r:embed="rId18">
            <a:lum bright="70000" contrast="-70000"/>
          </a:blip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9">
            <a:lum bright="70000" contrast="-70000"/>
          </a:blip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36640"/>
            <a:ext cx="9144000" cy="489744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>
            <a:hlinkClick r:id="rId3" action="ppaction://hlinksldjump"/>
          </p:cNvPr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0" y="5662440"/>
            <a:ext cx="835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Монитор (дисп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для отображения текстовой и графической информации. Современные мониторы различаются по следующим параметрам: размер экрана (от 14 до 29 дюймов), разрешающая способность (от 800 х 600 до 2048 х 1536 точек), тип монитора (электронно-лучевой, жидкокристаллический, газоплазменный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8532720" y="5705640"/>
            <a:ext cx="611280" cy="115236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1152360"/>
              <a:gd name="textAreaBottom" fmla="*/ 1112760 h 1152360"/>
            </a:gdLst>
            <a:ahLst/>
            <a:rect l="textAreaLeft" t="textAreaTop" r="textAreaRight" b="textAreaBottom"/>
            <a:pathLst>
              <a:path w="21600" h="40708">
                <a:moveTo>
                  <a:pt x="0" y="0"/>
                </a:moveTo>
                <a:lnTo>
                  <a:pt x="21600" y="0"/>
                </a:lnTo>
                <a:lnTo>
                  <a:pt x="21600" y="40708"/>
                </a:lnTo>
                <a:lnTo>
                  <a:pt x="0" y="40708"/>
                </a:lnTo>
                <a:close/>
              </a:path>
              <a:path fill="lightenLess" w="21600" h="40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0708">
                <a:moveTo>
                  <a:pt x="21600" y="0"/>
                </a:moveTo>
                <a:lnTo>
                  <a:pt x="21600" y="40708"/>
                </a:lnTo>
                <a:lnTo>
                  <a:pt x="20200" y="39308"/>
                </a:lnTo>
                <a:lnTo>
                  <a:pt x="20200" y="1400"/>
                </a:lnTo>
                <a:close/>
              </a:path>
              <a:path fill="darkenLess" w="21600" h="40708">
                <a:moveTo>
                  <a:pt x="21600" y="40708"/>
                </a:moveTo>
                <a:lnTo>
                  <a:pt x="0" y="40708"/>
                </a:lnTo>
                <a:lnTo>
                  <a:pt x="1400" y="39308"/>
                </a:lnTo>
                <a:lnTo>
                  <a:pt x="20200" y="39308"/>
                </a:lnTo>
                <a:close/>
              </a:path>
              <a:path fill="lighten" w="21600" h="40708">
                <a:moveTo>
                  <a:pt x="0" y="40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39308"/>
                </a:lnTo>
                <a:close/>
              </a:path>
              <a:path fill="darken" w="21600" h="40708">
                <a:moveTo>
                  <a:pt x="10800" y="13391"/>
                </a:moveTo>
                <a:lnTo>
                  <a:pt x="13376" y="16002"/>
                </a:lnTo>
                <a:lnTo>
                  <a:pt x="13376" y="14261"/>
                </a:lnTo>
                <a:lnTo>
                  <a:pt x="15152" y="14261"/>
                </a:lnTo>
                <a:lnTo>
                  <a:pt x="15152" y="17778"/>
                </a:lnTo>
                <a:lnTo>
                  <a:pt x="17763" y="20354"/>
                </a:lnTo>
                <a:lnTo>
                  <a:pt x="16109" y="20354"/>
                </a:lnTo>
                <a:lnTo>
                  <a:pt x="16109" y="27543"/>
                </a:lnTo>
                <a:lnTo>
                  <a:pt x="5491" y="27543"/>
                </a:lnTo>
                <a:lnTo>
                  <a:pt x="5491" y="20354"/>
                </a:lnTo>
                <a:lnTo>
                  <a:pt x="3837" y="20354"/>
                </a:lnTo>
                <a:close/>
              </a:path>
              <a:path fill="darkenLess" w="21600" h="40708">
                <a:moveTo>
                  <a:pt x="13376" y="16002"/>
                </a:moveTo>
                <a:lnTo>
                  <a:pt x="13376" y="14261"/>
                </a:lnTo>
                <a:lnTo>
                  <a:pt x="15152" y="14261"/>
                </a:lnTo>
                <a:lnTo>
                  <a:pt x="15152" y="17778"/>
                </a:lnTo>
                <a:close/>
              </a:path>
              <a:path fill="darkenLess" w="21600" h="40708">
                <a:moveTo>
                  <a:pt x="9877" y="23853"/>
                </a:moveTo>
                <a:lnTo>
                  <a:pt x="11723" y="23853"/>
                </a:lnTo>
                <a:lnTo>
                  <a:pt x="11723" y="27543"/>
                </a:lnTo>
                <a:lnTo>
                  <a:pt x="16109" y="27543"/>
                </a:lnTo>
                <a:lnTo>
                  <a:pt x="16109" y="20354"/>
                </a:lnTo>
                <a:lnTo>
                  <a:pt x="5491" y="20354"/>
                </a:lnTo>
                <a:lnTo>
                  <a:pt x="5491" y="27543"/>
                </a:lnTo>
                <a:lnTo>
                  <a:pt x="9877" y="27543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>
            <a:hlinkClick r:id="rId5" action="ppaction://hlinksldjump"/>
          </p:cNvPr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250920" y="4653000"/>
            <a:ext cx="863640" cy="7509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>
            <a:hlinkClick r:id="rId7" action="ppaction://hlinksldjump"/>
          </p:cNvPr>
          <p:cNvPicPr/>
          <p:nvPr/>
        </p:nvPicPr>
        <p:blipFill>
          <a:blip r:embed="rId8">
            <a:lum bright="70000" contrast="-70000"/>
          </a:blip>
          <a:srcRect l="40702" t="0" r="-5302" b="0"/>
          <a:stretch/>
        </p:blipFill>
        <p:spPr>
          <a:xfrm>
            <a:off x="4427640" y="1341360"/>
            <a:ext cx="180000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3708360" y="2276640"/>
          <a:ext cx="1654200" cy="161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08360" y="2276640"/>
                    <a:ext cx="165420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2" name="" descr="">
            <a:hlinkClick r:id="rId12" action="ppaction://hlinksldjump"/>
          </p:cNvPr>
          <p:cNvPicPr/>
          <p:nvPr/>
        </p:nvPicPr>
        <p:blipFill>
          <a:blip r:embed="rId13">
            <a:lum bright="70000" contrast="-70000"/>
          </a:blip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>
            <a:hlinkClick r:id="rId14" action="ppaction://hlinksldjump"/>
          </p:cNvPr>
          <p:cNvPicPr/>
          <p:nvPr/>
        </p:nvPicPr>
        <p:blipFill>
          <a:blip r:embed="rId15">
            <a:lum bright="70000" contrast="-70000"/>
          </a:blip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16" action="ppaction://hlinksldjump"/>
          </p:cNvPr>
          <p:cNvPicPr/>
          <p:nvPr/>
        </p:nvPicPr>
        <p:blipFill>
          <a:blip r:embed="rId17">
            <a:lum bright="70000" contrast="-70000"/>
          </a:blip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8">
            <a:lum bright="70000" contrast="-70000"/>
          </a:blip>
          <a:stretch/>
        </p:blipFill>
        <p:spPr>
          <a:xfrm>
            <a:off x="6877080" y="4724280"/>
            <a:ext cx="865080" cy="7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47640" y="981000"/>
            <a:ext cx="633744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– самое сложное, что изобрёл человек. А появился он потому, что стал необходим людям. Никто не знает предела его совершенства. Ответ дал фантаст Айзек Азимов: «Пока последний ПК не превратится в Бога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одня нет такого современного человека, который не обращался бы за помощью к компьют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ет рутинную работу, помогает в учёбе, управляет машинами, спутниками, космическими кораблями, развлекает, позволяет покупать вещи за электронные день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их времён люди наделяли сверхспособностями явления, которые не могли объяс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го не случится, если ты будешь знать, из чего состоит компьютер и как он рабо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Дверь в сказочный мир!!!"/>
          <p:cNvPicPr/>
          <p:nvPr/>
        </p:nvPicPr>
        <p:blipFill>
          <a:blip r:embed="rId1"/>
          <a:stretch/>
        </p:blipFill>
        <p:spPr>
          <a:xfrm>
            <a:off x="2411280" y="1125360"/>
            <a:ext cx="4032360" cy="482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627280" y="115920"/>
            <a:ext cx="417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ведение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омпьютер для офиса, цвет чёрный"/>
          <p:cNvPicPr/>
          <p:nvPr/>
        </p:nvPicPr>
        <p:blipFill>
          <a:blip r:embed="rId1"/>
          <a:stretch/>
        </p:blipFill>
        <p:spPr>
          <a:xfrm>
            <a:off x="2556000" y="2060640"/>
            <a:ext cx="3095640" cy="296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4360" y="333360"/>
            <a:ext cx="7429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о самый обычный компьют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59280" y="5950080"/>
            <a:ext cx="208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Let's Go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43280" y="3429000"/>
            <a:ext cx="441936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71880" y="5105520"/>
            <a:ext cx="1150920" cy="103968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586480" y="5105520"/>
            <a:ext cx="1218960" cy="989280"/>
            <a:chOff x="5586480" y="5105520"/>
            <a:chExt cx="1218960" cy="989280"/>
          </a:xfrm>
        </p:grpSpPr>
        <p:grpSp>
          <p:nvGrpSpPr>
            <p:cNvPr id="54" name=""/>
            <p:cNvGrpSpPr/>
            <p:nvPr/>
          </p:nvGrpSpPr>
          <p:grpSpPr>
            <a:xfrm>
              <a:off x="5657760" y="5189400"/>
              <a:ext cx="664560" cy="753480"/>
              <a:chOff x="5657760" y="5189400"/>
              <a:chExt cx="664560" cy="75348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5657760" y="5198760"/>
                <a:ext cx="658080" cy="744120"/>
                <a:chOff x="5657760" y="5198760"/>
                <a:chExt cx="658080" cy="7441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5901840" y="5390640"/>
                  <a:ext cx="80640" cy="401040"/>
                </a:xfrm>
                <a:custGeom>
                  <a:avLst/>
                  <a:gdLst/>
                  <a:ahLst/>
                  <a:rect l="l" t="t" r="r" b="b"/>
                  <a:pathLst>
                    <a:path w="179" h="769">
                      <a:moveTo>
                        <a:pt x="0" y="52"/>
                      </a:moveTo>
                      <a:lnTo>
                        <a:pt x="87" y="2"/>
                      </a:lnTo>
                      <a:lnTo>
                        <a:pt x="117" y="0"/>
                      </a:lnTo>
                      <a:lnTo>
                        <a:pt x="139" y="8"/>
                      </a:lnTo>
                      <a:lnTo>
                        <a:pt x="154" y="17"/>
                      </a:lnTo>
                      <a:lnTo>
                        <a:pt x="166" y="28"/>
                      </a:lnTo>
                      <a:lnTo>
                        <a:pt x="174" y="45"/>
                      </a:lnTo>
                      <a:lnTo>
                        <a:pt x="176" y="62"/>
                      </a:lnTo>
                      <a:lnTo>
                        <a:pt x="179" y="85"/>
                      </a:lnTo>
                      <a:lnTo>
                        <a:pt x="179" y="363"/>
                      </a:lnTo>
                      <a:lnTo>
                        <a:pt x="174" y="378"/>
                      </a:lnTo>
                      <a:lnTo>
                        <a:pt x="161" y="389"/>
                      </a:lnTo>
                      <a:lnTo>
                        <a:pt x="152" y="397"/>
                      </a:lnTo>
                      <a:lnTo>
                        <a:pt x="152" y="751"/>
                      </a:lnTo>
                      <a:lnTo>
                        <a:pt x="133" y="769"/>
                      </a:lnTo>
                      <a:lnTo>
                        <a:pt x="115" y="754"/>
                      </a:lnTo>
                      <a:lnTo>
                        <a:pt x="115" y="395"/>
                      </a:lnTo>
                      <a:lnTo>
                        <a:pt x="96" y="387"/>
                      </a:lnTo>
                      <a:lnTo>
                        <a:pt x="83" y="378"/>
                      </a:lnTo>
                      <a:lnTo>
                        <a:pt x="81" y="372"/>
                      </a:lnTo>
                      <a:lnTo>
                        <a:pt x="81" y="358"/>
                      </a:lnTo>
                      <a:lnTo>
                        <a:pt x="81" y="126"/>
                      </a:lnTo>
                      <a:lnTo>
                        <a:pt x="81" y="105"/>
                      </a:lnTo>
                      <a:lnTo>
                        <a:pt x="74" y="85"/>
                      </a:lnTo>
                      <a:lnTo>
                        <a:pt x="65" y="70"/>
                      </a:lnTo>
                      <a:lnTo>
                        <a:pt x="51" y="61"/>
                      </a:lnTo>
                      <a:lnTo>
                        <a:pt x="34" y="55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781960" y="5452920"/>
                  <a:ext cx="86040" cy="412560"/>
                </a:xfrm>
                <a:custGeom>
                  <a:avLst/>
                  <a:gdLst/>
                  <a:ahLst/>
                  <a:rect l="l" t="t" r="r" b="b"/>
                  <a:pathLst>
                    <a:path w="190" h="792">
                      <a:moveTo>
                        <a:pt x="0" y="53"/>
                      </a:moveTo>
                      <a:lnTo>
                        <a:pt x="92" y="2"/>
                      </a:lnTo>
                      <a:lnTo>
                        <a:pt x="123" y="0"/>
                      </a:lnTo>
                      <a:lnTo>
                        <a:pt x="147" y="9"/>
                      </a:lnTo>
                      <a:lnTo>
                        <a:pt x="164" y="18"/>
                      </a:lnTo>
                      <a:lnTo>
                        <a:pt x="175" y="30"/>
                      </a:lnTo>
                      <a:lnTo>
                        <a:pt x="185" y="45"/>
                      </a:lnTo>
                      <a:lnTo>
                        <a:pt x="187" y="62"/>
                      </a:lnTo>
                      <a:lnTo>
                        <a:pt x="190" y="86"/>
                      </a:lnTo>
                      <a:lnTo>
                        <a:pt x="190" y="373"/>
                      </a:lnTo>
                      <a:lnTo>
                        <a:pt x="185" y="388"/>
                      </a:lnTo>
                      <a:lnTo>
                        <a:pt x="171" y="400"/>
                      </a:lnTo>
                      <a:lnTo>
                        <a:pt x="162" y="407"/>
                      </a:lnTo>
                      <a:lnTo>
                        <a:pt x="162" y="773"/>
                      </a:lnTo>
                      <a:lnTo>
                        <a:pt x="140" y="792"/>
                      </a:lnTo>
                      <a:lnTo>
                        <a:pt x="121" y="775"/>
                      </a:lnTo>
                      <a:lnTo>
                        <a:pt x="121" y="404"/>
                      </a:lnTo>
                      <a:lnTo>
                        <a:pt x="103" y="398"/>
                      </a:lnTo>
                      <a:lnTo>
                        <a:pt x="88" y="388"/>
                      </a:lnTo>
                      <a:lnTo>
                        <a:pt x="86" y="382"/>
                      </a:lnTo>
                      <a:lnTo>
                        <a:pt x="86" y="368"/>
                      </a:lnTo>
                      <a:lnTo>
                        <a:pt x="86" y="129"/>
                      </a:lnTo>
                      <a:lnTo>
                        <a:pt x="86" y="107"/>
                      </a:lnTo>
                      <a:lnTo>
                        <a:pt x="78" y="86"/>
                      </a:lnTo>
                      <a:lnTo>
                        <a:pt x="68" y="70"/>
                      </a:lnTo>
                      <a:lnTo>
                        <a:pt x="53" y="62"/>
                      </a:lnTo>
                      <a:lnTo>
                        <a:pt x="36" y="56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657760" y="5524920"/>
                  <a:ext cx="96840" cy="417960"/>
                </a:xfrm>
                <a:custGeom>
                  <a:avLst/>
                  <a:gdLst/>
                  <a:ahLst/>
                  <a:rect l="l" t="t" r="r" b="b"/>
                  <a:pathLst>
                    <a:path w="213" h="803">
                      <a:moveTo>
                        <a:pt x="0" y="53"/>
                      </a:moveTo>
                      <a:lnTo>
                        <a:pt x="104" y="2"/>
                      </a:lnTo>
                      <a:lnTo>
                        <a:pt x="138" y="0"/>
                      </a:lnTo>
                      <a:lnTo>
                        <a:pt x="165" y="9"/>
                      </a:lnTo>
                      <a:lnTo>
                        <a:pt x="184" y="19"/>
                      </a:lnTo>
                      <a:lnTo>
                        <a:pt x="197" y="30"/>
                      </a:lnTo>
                      <a:lnTo>
                        <a:pt x="208" y="46"/>
                      </a:lnTo>
                      <a:lnTo>
                        <a:pt x="211" y="62"/>
                      </a:lnTo>
                      <a:lnTo>
                        <a:pt x="213" y="88"/>
                      </a:lnTo>
                      <a:lnTo>
                        <a:pt x="213" y="378"/>
                      </a:lnTo>
                      <a:lnTo>
                        <a:pt x="208" y="394"/>
                      </a:lnTo>
                      <a:lnTo>
                        <a:pt x="192" y="407"/>
                      </a:lnTo>
                      <a:lnTo>
                        <a:pt x="181" y="413"/>
                      </a:lnTo>
                      <a:lnTo>
                        <a:pt x="181" y="784"/>
                      </a:lnTo>
                      <a:lnTo>
                        <a:pt x="157" y="803"/>
                      </a:lnTo>
                      <a:lnTo>
                        <a:pt x="135" y="787"/>
                      </a:lnTo>
                      <a:lnTo>
                        <a:pt x="135" y="411"/>
                      </a:lnTo>
                      <a:lnTo>
                        <a:pt x="115" y="405"/>
                      </a:lnTo>
                      <a:lnTo>
                        <a:pt x="99" y="394"/>
                      </a:lnTo>
                      <a:lnTo>
                        <a:pt x="96" y="388"/>
                      </a:lnTo>
                      <a:lnTo>
                        <a:pt x="96" y="374"/>
                      </a:lnTo>
                      <a:lnTo>
                        <a:pt x="96" y="130"/>
                      </a:lnTo>
                      <a:lnTo>
                        <a:pt x="96" y="110"/>
                      </a:lnTo>
                      <a:lnTo>
                        <a:pt x="88" y="88"/>
                      </a:lnTo>
                      <a:lnTo>
                        <a:pt x="77" y="71"/>
                      </a:lnTo>
                      <a:lnTo>
                        <a:pt x="60" y="61"/>
                      </a:lnTo>
                      <a:lnTo>
                        <a:pt x="40" y="56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018120" y="5328000"/>
                  <a:ext cx="80640" cy="394920"/>
                </a:xfrm>
                <a:custGeom>
                  <a:avLst/>
                  <a:gdLst/>
                  <a:ahLst/>
                  <a:rect l="l" t="t" r="r" b="b"/>
                  <a:pathLst>
                    <a:path w="177" h="757">
                      <a:moveTo>
                        <a:pt x="0" y="50"/>
                      </a:moveTo>
                      <a:lnTo>
                        <a:pt x="86" y="2"/>
                      </a:lnTo>
                      <a:lnTo>
                        <a:pt x="115" y="0"/>
                      </a:lnTo>
                      <a:lnTo>
                        <a:pt x="138" y="8"/>
                      </a:lnTo>
                      <a:lnTo>
                        <a:pt x="153" y="17"/>
                      </a:lnTo>
                      <a:lnTo>
                        <a:pt x="163" y="28"/>
                      </a:lnTo>
                      <a:lnTo>
                        <a:pt x="173" y="44"/>
                      </a:lnTo>
                      <a:lnTo>
                        <a:pt x="175" y="60"/>
                      </a:lnTo>
                      <a:lnTo>
                        <a:pt x="177" y="84"/>
                      </a:lnTo>
                      <a:lnTo>
                        <a:pt x="177" y="357"/>
                      </a:lnTo>
                      <a:lnTo>
                        <a:pt x="173" y="373"/>
                      </a:lnTo>
                      <a:lnTo>
                        <a:pt x="160" y="383"/>
                      </a:lnTo>
                      <a:lnTo>
                        <a:pt x="151" y="391"/>
                      </a:lnTo>
                      <a:lnTo>
                        <a:pt x="151" y="740"/>
                      </a:lnTo>
                      <a:lnTo>
                        <a:pt x="130" y="757"/>
                      </a:lnTo>
                      <a:lnTo>
                        <a:pt x="113" y="742"/>
                      </a:lnTo>
                      <a:lnTo>
                        <a:pt x="113" y="388"/>
                      </a:lnTo>
                      <a:lnTo>
                        <a:pt x="95" y="381"/>
                      </a:lnTo>
                      <a:lnTo>
                        <a:pt x="82" y="373"/>
                      </a:lnTo>
                      <a:lnTo>
                        <a:pt x="79" y="367"/>
                      </a:lnTo>
                      <a:lnTo>
                        <a:pt x="79" y="353"/>
                      </a:lnTo>
                      <a:lnTo>
                        <a:pt x="79" y="123"/>
                      </a:lnTo>
                      <a:lnTo>
                        <a:pt x="79" y="103"/>
                      </a:lnTo>
                      <a:lnTo>
                        <a:pt x="72" y="84"/>
                      </a:lnTo>
                      <a:lnTo>
                        <a:pt x="63" y="69"/>
                      </a:lnTo>
                      <a:lnTo>
                        <a:pt x="49" y="58"/>
                      </a:lnTo>
                      <a:lnTo>
                        <a:pt x="32" y="53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136920" y="5258160"/>
                  <a:ext cx="75240" cy="381240"/>
                </a:xfrm>
                <a:custGeom>
                  <a:avLst/>
                  <a:gdLst/>
                  <a:ahLst/>
                  <a:rect l="l" t="t" r="r" b="b"/>
                  <a:pathLst>
                    <a:path w="165" h="732">
                      <a:moveTo>
                        <a:pt x="0" y="47"/>
                      </a:moveTo>
                      <a:lnTo>
                        <a:pt x="81" y="0"/>
                      </a:lnTo>
                      <a:lnTo>
                        <a:pt x="107" y="0"/>
                      </a:lnTo>
                      <a:lnTo>
                        <a:pt x="128" y="7"/>
                      </a:lnTo>
                      <a:lnTo>
                        <a:pt x="143" y="17"/>
                      </a:lnTo>
                      <a:lnTo>
                        <a:pt x="154" y="26"/>
                      </a:lnTo>
                      <a:lnTo>
                        <a:pt x="162" y="41"/>
                      </a:lnTo>
                      <a:lnTo>
                        <a:pt x="164" y="56"/>
                      </a:lnTo>
                      <a:lnTo>
                        <a:pt x="165" y="80"/>
                      </a:lnTo>
                      <a:lnTo>
                        <a:pt x="165" y="344"/>
                      </a:lnTo>
                      <a:lnTo>
                        <a:pt x="162" y="360"/>
                      </a:lnTo>
                      <a:lnTo>
                        <a:pt x="149" y="369"/>
                      </a:lnTo>
                      <a:lnTo>
                        <a:pt x="141" y="377"/>
                      </a:lnTo>
                      <a:lnTo>
                        <a:pt x="141" y="716"/>
                      </a:lnTo>
                      <a:lnTo>
                        <a:pt x="122" y="732"/>
                      </a:lnTo>
                      <a:lnTo>
                        <a:pt x="104" y="718"/>
                      </a:lnTo>
                      <a:lnTo>
                        <a:pt x="104" y="374"/>
                      </a:lnTo>
                      <a:lnTo>
                        <a:pt x="88" y="367"/>
                      </a:lnTo>
                      <a:lnTo>
                        <a:pt x="75" y="360"/>
                      </a:lnTo>
                      <a:lnTo>
                        <a:pt x="73" y="353"/>
                      </a:lnTo>
                      <a:lnTo>
                        <a:pt x="73" y="340"/>
                      </a:lnTo>
                      <a:lnTo>
                        <a:pt x="73" y="118"/>
                      </a:lnTo>
                      <a:lnTo>
                        <a:pt x="73" y="98"/>
                      </a:lnTo>
                      <a:lnTo>
                        <a:pt x="67" y="80"/>
                      </a:lnTo>
                      <a:lnTo>
                        <a:pt x="59" y="65"/>
                      </a:lnTo>
                      <a:lnTo>
                        <a:pt x="45" y="55"/>
                      </a:lnTo>
                      <a:lnTo>
                        <a:pt x="31" y="5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240600" y="5198760"/>
                  <a:ext cx="75240" cy="367920"/>
                </a:xfrm>
                <a:custGeom>
                  <a:avLst/>
                  <a:gdLst/>
                  <a:ahLst/>
                  <a:rect l="l" t="t" r="r" b="b"/>
                  <a:pathLst>
                    <a:path w="165" h="708">
                      <a:moveTo>
                        <a:pt x="0" y="46"/>
                      </a:moveTo>
                      <a:lnTo>
                        <a:pt x="80" y="0"/>
                      </a:lnTo>
                      <a:lnTo>
                        <a:pt x="106" y="0"/>
                      </a:lnTo>
                      <a:lnTo>
                        <a:pt x="127" y="7"/>
                      </a:lnTo>
                      <a:lnTo>
                        <a:pt x="142" y="16"/>
                      </a:lnTo>
                      <a:lnTo>
                        <a:pt x="153" y="26"/>
                      </a:lnTo>
                      <a:lnTo>
                        <a:pt x="161" y="41"/>
                      </a:lnTo>
                      <a:lnTo>
                        <a:pt x="163" y="54"/>
                      </a:lnTo>
                      <a:lnTo>
                        <a:pt x="165" y="78"/>
                      </a:lnTo>
                      <a:lnTo>
                        <a:pt x="165" y="332"/>
                      </a:lnTo>
                      <a:lnTo>
                        <a:pt x="161" y="348"/>
                      </a:lnTo>
                      <a:lnTo>
                        <a:pt x="149" y="356"/>
                      </a:lnTo>
                      <a:lnTo>
                        <a:pt x="140" y="363"/>
                      </a:lnTo>
                      <a:lnTo>
                        <a:pt x="140" y="692"/>
                      </a:lnTo>
                      <a:lnTo>
                        <a:pt x="122" y="708"/>
                      </a:lnTo>
                      <a:lnTo>
                        <a:pt x="104" y="694"/>
                      </a:lnTo>
                      <a:lnTo>
                        <a:pt x="104" y="361"/>
                      </a:lnTo>
                      <a:lnTo>
                        <a:pt x="89" y="354"/>
                      </a:lnTo>
                      <a:lnTo>
                        <a:pt x="76" y="348"/>
                      </a:lnTo>
                      <a:lnTo>
                        <a:pt x="73" y="342"/>
                      </a:lnTo>
                      <a:lnTo>
                        <a:pt x="73" y="330"/>
                      </a:lnTo>
                      <a:lnTo>
                        <a:pt x="73" y="114"/>
                      </a:lnTo>
                      <a:lnTo>
                        <a:pt x="73" y="95"/>
                      </a:lnTo>
                      <a:lnTo>
                        <a:pt x="68" y="78"/>
                      </a:lnTo>
                      <a:lnTo>
                        <a:pt x="60" y="63"/>
                      </a:lnTo>
                      <a:lnTo>
                        <a:pt x="46" y="54"/>
                      </a:lnTo>
                      <a:lnTo>
                        <a:pt x="3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5665680" y="5189400"/>
                <a:ext cx="656640" cy="744840"/>
                <a:chOff x="5665680" y="5189400"/>
                <a:chExt cx="656640" cy="7448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5909760" y="5381280"/>
                  <a:ext cx="80640" cy="401040"/>
                </a:xfrm>
                <a:custGeom>
                  <a:avLst/>
                  <a:gdLst/>
                  <a:ahLst/>
                  <a:rect l="l" t="t" r="r" b="b"/>
                  <a:pathLst>
                    <a:path w="178" h="770">
                      <a:moveTo>
                        <a:pt x="0" y="53"/>
                      </a:moveTo>
                      <a:lnTo>
                        <a:pt x="87" y="2"/>
                      </a:lnTo>
                      <a:lnTo>
                        <a:pt x="116" y="0"/>
                      </a:lnTo>
                      <a:lnTo>
                        <a:pt x="137" y="9"/>
                      </a:lnTo>
                      <a:lnTo>
                        <a:pt x="153" y="18"/>
                      </a:lnTo>
                      <a:lnTo>
                        <a:pt x="164" y="29"/>
                      </a:lnTo>
                      <a:lnTo>
                        <a:pt x="174" y="45"/>
                      </a:lnTo>
                      <a:lnTo>
                        <a:pt x="176" y="62"/>
                      </a:lnTo>
                      <a:lnTo>
                        <a:pt x="178" y="87"/>
                      </a:lnTo>
                      <a:lnTo>
                        <a:pt x="178" y="363"/>
                      </a:lnTo>
                      <a:lnTo>
                        <a:pt x="174" y="380"/>
                      </a:lnTo>
                      <a:lnTo>
                        <a:pt x="160" y="390"/>
                      </a:lnTo>
                      <a:lnTo>
                        <a:pt x="151" y="397"/>
                      </a:lnTo>
                      <a:lnTo>
                        <a:pt x="151" y="752"/>
                      </a:lnTo>
                      <a:lnTo>
                        <a:pt x="130" y="770"/>
                      </a:lnTo>
                      <a:lnTo>
                        <a:pt x="114" y="754"/>
                      </a:lnTo>
                      <a:lnTo>
                        <a:pt x="114" y="395"/>
                      </a:lnTo>
                      <a:lnTo>
                        <a:pt x="96" y="388"/>
                      </a:lnTo>
                      <a:lnTo>
                        <a:pt x="81" y="380"/>
                      </a:lnTo>
                      <a:lnTo>
                        <a:pt x="79" y="372"/>
                      </a:lnTo>
                      <a:lnTo>
                        <a:pt x="79" y="359"/>
                      </a:lnTo>
                      <a:lnTo>
                        <a:pt x="79" y="126"/>
                      </a:lnTo>
                      <a:lnTo>
                        <a:pt x="79" y="106"/>
                      </a:lnTo>
                      <a:lnTo>
                        <a:pt x="73" y="87"/>
                      </a:lnTo>
                      <a:lnTo>
                        <a:pt x="64" y="71"/>
                      </a:lnTo>
                      <a:lnTo>
                        <a:pt x="49" y="61"/>
                      </a:lnTo>
                      <a:lnTo>
                        <a:pt x="33" y="56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789880" y="5443560"/>
                  <a:ext cx="86040" cy="413640"/>
                </a:xfrm>
                <a:custGeom>
                  <a:avLst/>
                  <a:gdLst/>
                  <a:ahLst/>
                  <a:rect l="l" t="t" r="r" b="b"/>
                  <a:pathLst>
                    <a:path w="190" h="792">
                      <a:moveTo>
                        <a:pt x="0" y="54"/>
                      </a:moveTo>
                      <a:lnTo>
                        <a:pt x="93" y="3"/>
                      </a:lnTo>
                      <a:lnTo>
                        <a:pt x="123" y="0"/>
                      </a:lnTo>
                      <a:lnTo>
                        <a:pt x="147" y="9"/>
                      </a:lnTo>
                      <a:lnTo>
                        <a:pt x="163" y="19"/>
                      </a:lnTo>
                      <a:lnTo>
                        <a:pt x="176" y="30"/>
                      </a:lnTo>
                      <a:lnTo>
                        <a:pt x="185" y="46"/>
                      </a:lnTo>
                      <a:lnTo>
                        <a:pt x="187" y="63"/>
                      </a:lnTo>
                      <a:lnTo>
                        <a:pt x="190" y="88"/>
                      </a:lnTo>
                      <a:lnTo>
                        <a:pt x="190" y="374"/>
                      </a:lnTo>
                      <a:lnTo>
                        <a:pt x="185" y="390"/>
                      </a:lnTo>
                      <a:lnTo>
                        <a:pt x="171" y="401"/>
                      </a:lnTo>
                      <a:lnTo>
                        <a:pt x="161" y="407"/>
                      </a:lnTo>
                      <a:lnTo>
                        <a:pt x="161" y="775"/>
                      </a:lnTo>
                      <a:lnTo>
                        <a:pt x="139" y="792"/>
                      </a:lnTo>
                      <a:lnTo>
                        <a:pt x="121" y="777"/>
                      </a:lnTo>
                      <a:lnTo>
                        <a:pt x="121" y="406"/>
                      </a:lnTo>
                      <a:lnTo>
                        <a:pt x="102" y="399"/>
                      </a:lnTo>
                      <a:lnTo>
                        <a:pt x="88" y="390"/>
                      </a:lnTo>
                      <a:lnTo>
                        <a:pt x="86" y="383"/>
                      </a:lnTo>
                      <a:lnTo>
                        <a:pt x="86" y="368"/>
                      </a:lnTo>
                      <a:lnTo>
                        <a:pt x="86" y="129"/>
                      </a:lnTo>
                      <a:lnTo>
                        <a:pt x="86" y="109"/>
                      </a:lnTo>
                      <a:lnTo>
                        <a:pt x="78" y="88"/>
                      </a:lnTo>
                      <a:lnTo>
                        <a:pt x="68" y="71"/>
                      </a:lnTo>
                      <a:lnTo>
                        <a:pt x="54" y="62"/>
                      </a:lnTo>
                      <a:lnTo>
                        <a:pt x="36" y="57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665680" y="5515560"/>
                  <a:ext cx="96840" cy="418680"/>
                </a:xfrm>
                <a:custGeom>
                  <a:avLst/>
                  <a:gdLst/>
                  <a:ahLst/>
                  <a:rect l="l" t="t" r="r" b="b"/>
                  <a:pathLst>
                    <a:path w="215" h="802">
                      <a:moveTo>
                        <a:pt x="0" y="53"/>
                      </a:moveTo>
                      <a:lnTo>
                        <a:pt x="104" y="2"/>
                      </a:lnTo>
                      <a:lnTo>
                        <a:pt x="139" y="0"/>
                      </a:lnTo>
                      <a:lnTo>
                        <a:pt x="166" y="9"/>
                      </a:lnTo>
                      <a:lnTo>
                        <a:pt x="186" y="18"/>
                      </a:lnTo>
                      <a:lnTo>
                        <a:pt x="199" y="30"/>
                      </a:lnTo>
                      <a:lnTo>
                        <a:pt x="209" y="46"/>
                      </a:lnTo>
                      <a:lnTo>
                        <a:pt x="213" y="62"/>
                      </a:lnTo>
                      <a:lnTo>
                        <a:pt x="215" y="88"/>
                      </a:lnTo>
                      <a:lnTo>
                        <a:pt x="215" y="377"/>
                      </a:lnTo>
                      <a:lnTo>
                        <a:pt x="209" y="394"/>
                      </a:lnTo>
                      <a:lnTo>
                        <a:pt x="194" y="406"/>
                      </a:lnTo>
                      <a:lnTo>
                        <a:pt x="183" y="413"/>
                      </a:lnTo>
                      <a:lnTo>
                        <a:pt x="183" y="785"/>
                      </a:lnTo>
                      <a:lnTo>
                        <a:pt x="158" y="802"/>
                      </a:lnTo>
                      <a:lnTo>
                        <a:pt x="136" y="788"/>
                      </a:lnTo>
                      <a:lnTo>
                        <a:pt x="136" y="410"/>
                      </a:lnTo>
                      <a:lnTo>
                        <a:pt x="114" y="404"/>
                      </a:lnTo>
                      <a:lnTo>
                        <a:pt x="99" y="394"/>
                      </a:lnTo>
                      <a:lnTo>
                        <a:pt x="97" y="387"/>
                      </a:lnTo>
                      <a:lnTo>
                        <a:pt x="97" y="374"/>
                      </a:lnTo>
                      <a:lnTo>
                        <a:pt x="97" y="130"/>
                      </a:lnTo>
                      <a:lnTo>
                        <a:pt x="97" y="109"/>
                      </a:lnTo>
                      <a:lnTo>
                        <a:pt x="88" y="88"/>
                      </a:lnTo>
                      <a:lnTo>
                        <a:pt x="78" y="72"/>
                      </a:lnTo>
                      <a:lnTo>
                        <a:pt x="60" y="61"/>
                      </a:lnTo>
                      <a:lnTo>
                        <a:pt x="42" y="56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25680" y="5320800"/>
                  <a:ext cx="80640" cy="393840"/>
                </a:xfrm>
                <a:custGeom>
                  <a:avLst/>
                  <a:gdLst/>
                  <a:ahLst/>
                  <a:rect l="l" t="t" r="r" b="b"/>
                  <a:pathLst>
                    <a:path w="179" h="756">
                      <a:moveTo>
                        <a:pt x="0" y="49"/>
                      </a:moveTo>
                      <a:lnTo>
                        <a:pt x="86" y="1"/>
                      </a:lnTo>
                      <a:lnTo>
                        <a:pt x="116" y="0"/>
                      </a:lnTo>
                      <a:lnTo>
                        <a:pt x="138" y="7"/>
                      </a:lnTo>
                      <a:lnTo>
                        <a:pt x="154" y="16"/>
                      </a:lnTo>
                      <a:lnTo>
                        <a:pt x="165" y="27"/>
                      </a:lnTo>
                      <a:lnTo>
                        <a:pt x="173" y="43"/>
                      </a:lnTo>
                      <a:lnTo>
                        <a:pt x="175" y="58"/>
                      </a:lnTo>
                      <a:lnTo>
                        <a:pt x="179" y="83"/>
                      </a:lnTo>
                      <a:lnTo>
                        <a:pt x="179" y="356"/>
                      </a:lnTo>
                      <a:lnTo>
                        <a:pt x="173" y="371"/>
                      </a:lnTo>
                      <a:lnTo>
                        <a:pt x="160" y="383"/>
                      </a:lnTo>
                      <a:lnTo>
                        <a:pt x="151" y="389"/>
                      </a:lnTo>
                      <a:lnTo>
                        <a:pt x="151" y="740"/>
                      </a:lnTo>
                      <a:lnTo>
                        <a:pt x="132" y="756"/>
                      </a:lnTo>
                      <a:lnTo>
                        <a:pt x="113" y="742"/>
                      </a:lnTo>
                      <a:lnTo>
                        <a:pt x="113" y="387"/>
                      </a:lnTo>
                      <a:lnTo>
                        <a:pt x="96" y="380"/>
                      </a:lnTo>
                      <a:lnTo>
                        <a:pt x="82" y="371"/>
                      </a:lnTo>
                      <a:lnTo>
                        <a:pt x="80" y="365"/>
                      </a:lnTo>
                      <a:lnTo>
                        <a:pt x="80" y="352"/>
                      </a:lnTo>
                      <a:lnTo>
                        <a:pt x="80" y="122"/>
                      </a:lnTo>
                      <a:lnTo>
                        <a:pt x="80" y="102"/>
                      </a:lnTo>
                      <a:lnTo>
                        <a:pt x="73" y="83"/>
                      </a:lnTo>
                      <a:lnTo>
                        <a:pt x="65" y="67"/>
                      </a:lnTo>
                      <a:lnTo>
                        <a:pt x="50" y="57"/>
                      </a:lnTo>
                      <a:lnTo>
                        <a:pt x="34" y="52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145920" y="5248800"/>
                  <a:ext cx="74160" cy="381240"/>
                </a:xfrm>
                <a:custGeom>
                  <a:avLst/>
                  <a:gdLst/>
                  <a:ahLst/>
                  <a:rect l="l" t="t" r="r" b="b"/>
                  <a:pathLst>
                    <a:path w="165" h="733">
                      <a:moveTo>
                        <a:pt x="0" y="48"/>
                      </a:moveTo>
                      <a:lnTo>
                        <a:pt x="80" y="1"/>
                      </a:lnTo>
                      <a:lnTo>
                        <a:pt x="107" y="0"/>
                      </a:lnTo>
                      <a:lnTo>
                        <a:pt x="128" y="8"/>
                      </a:lnTo>
                      <a:lnTo>
                        <a:pt x="143" y="17"/>
                      </a:lnTo>
                      <a:lnTo>
                        <a:pt x="154" y="27"/>
                      </a:lnTo>
                      <a:lnTo>
                        <a:pt x="162" y="42"/>
                      </a:lnTo>
                      <a:lnTo>
                        <a:pt x="163" y="56"/>
                      </a:lnTo>
                      <a:lnTo>
                        <a:pt x="165" y="80"/>
                      </a:lnTo>
                      <a:lnTo>
                        <a:pt x="165" y="346"/>
                      </a:lnTo>
                      <a:lnTo>
                        <a:pt x="162" y="360"/>
                      </a:lnTo>
                      <a:lnTo>
                        <a:pt x="150" y="371"/>
                      </a:lnTo>
                      <a:lnTo>
                        <a:pt x="141" y="377"/>
                      </a:lnTo>
                      <a:lnTo>
                        <a:pt x="141" y="716"/>
                      </a:lnTo>
                      <a:lnTo>
                        <a:pt x="123" y="733"/>
                      </a:lnTo>
                      <a:lnTo>
                        <a:pt x="105" y="718"/>
                      </a:lnTo>
                      <a:lnTo>
                        <a:pt x="105" y="375"/>
                      </a:lnTo>
                      <a:lnTo>
                        <a:pt x="88" y="368"/>
                      </a:lnTo>
                      <a:lnTo>
                        <a:pt x="76" y="360"/>
                      </a:lnTo>
                      <a:lnTo>
                        <a:pt x="73" y="355"/>
                      </a:lnTo>
                      <a:lnTo>
                        <a:pt x="73" y="342"/>
                      </a:lnTo>
                      <a:lnTo>
                        <a:pt x="73" y="119"/>
                      </a:lnTo>
                      <a:lnTo>
                        <a:pt x="73" y="100"/>
                      </a:lnTo>
                      <a:lnTo>
                        <a:pt x="68" y="80"/>
                      </a:lnTo>
                      <a:lnTo>
                        <a:pt x="59" y="66"/>
                      </a:lnTo>
                      <a:lnTo>
                        <a:pt x="46" y="56"/>
                      </a:lnTo>
                      <a:lnTo>
                        <a:pt x="29" y="5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48160" y="5189400"/>
                  <a:ext cx="74160" cy="369000"/>
                </a:xfrm>
                <a:custGeom>
                  <a:avLst/>
                  <a:gdLst/>
                  <a:ahLst/>
                  <a:rect l="l" t="t" r="r" b="b"/>
                  <a:pathLst>
                    <a:path w="166" h="706">
                      <a:moveTo>
                        <a:pt x="0" y="44"/>
                      </a:moveTo>
                      <a:lnTo>
                        <a:pt x="80" y="0"/>
                      </a:lnTo>
                      <a:lnTo>
                        <a:pt x="108" y="0"/>
                      </a:lnTo>
                      <a:lnTo>
                        <a:pt x="129" y="6"/>
                      </a:lnTo>
                      <a:lnTo>
                        <a:pt x="143" y="15"/>
                      </a:lnTo>
                      <a:lnTo>
                        <a:pt x="154" y="25"/>
                      </a:lnTo>
                      <a:lnTo>
                        <a:pt x="163" y="40"/>
                      </a:lnTo>
                      <a:lnTo>
                        <a:pt x="165" y="53"/>
                      </a:lnTo>
                      <a:lnTo>
                        <a:pt x="166" y="76"/>
                      </a:lnTo>
                      <a:lnTo>
                        <a:pt x="166" y="332"/>
                      </a:lnTo>
                      <a:lnTo>
                        <a:pt x="163" y="347"/>
                      </a:lnTo>
                      <a:lnTo>
                        <a:pt x="149" y="357"/>
                      </a:lnTo>
                      <a:lnTo>
                        <a:pt x="141" y="362"/>
                      </a:lnTo>
                      <a:lnTo>
                        <a:pt x="141" y="691"/>
                      </a:lnTo>
                      <a:lnTo>
                        <a:pt x="122" y="706"/>
                      </a:lnTo>
                      <a:lnTo>
                        <a:pt x="105" y="693"/>
                      </a:lnTo>
                      <a:lnTo>
                        <a:pt x="105" y="361"/>
                      </a:lnTo>
                      <a:lnTo>
                        <a:pt x="88" y="354"/>
                      </a:lnTo>
                      <a:lnTo>
                        <a:pt x="77" y="347"/>
                      </a:lnTo>
                      <a:lnTo>
                        <a:pt x="75" y="340"/>
                      </a:lnTo>
                      <a:lnTo>
                        <a:pt x="75" y="329"/>
                      </a:lnTo>
                      <a:lnTo>
                        <a:pt x="75" y="113"/>
                      </a:lnTo>
                      <a:lnTo>
                        <a:pt x="75" y="95"/>
                      </a:lnTo>
                      <a:lnTo>
                        <a:pt x="68" y="76"/>
                      </a:lnTo>
                      <a:lnTo>
                        <a:pt x="60" y="62"/>
                      </a:lnTo>
                      <a:lnTo>
                        <a:pt x="47" y="52"/>
                      </a:lnTo>
                      <a:lnTo>
                        <a:pt x="31" y="47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" name=""/>
            <p:cNvGrpSpPr/>
            <p:nvPr/>
          </p:nvGrpSpPr>
          <p:grpSpPr>
            <a:xfrm>
              <a:off x="5586480" y="5105520"/>
              <a:ext cx="1218960" cy="707760"/>
              <a:chOff x="5586480" y="5105520"/>
              <a:chExt cx="1218960" cy="707760"/>
            </a:xfrm>
          </p:grpSpPr>
          <p:sp>
            <p:nvSpPr>
              <p:cNvPr id="70" name=""/>
              <p:cNvSpPr/>
              <p:nvPr/>
            </p:nvSpPr>
            <p:spPr>
              <a:xfrm>
                <a:off x="5586480" y="5552280"/>
                <a:ext cx="503640" cy="260640"/>
              </a:xfrm>
              <a:custGeom>
                <a:avLst/>
                <a:gdLst/>
                <a:ahLst/>
                <a:rect l="l" t="t" r="r" b="b"/>
                <a:pathLst>
                  <a:path w="1111" h="501">
                    <a:moveTo>
                      <a:pt x="72" y="214"/>
                    </a:moveTo>
                    <a:lnTo>
                      <a:pt x="1075" y="501"/>
                    </a:lnTo>
                    <a:lnTo>
                      <a:pt x="1111" y="322"/>
                    </a:lnTo>
                    <a:lnTo>
                      <a:pt x="0" y="0"/>
                    </a:lnTo>
                    <a:lnTo>
                      <a:pt x="72" y="214"/>
                    </a:lnTo>
                    <a:close/>
                  </a:path>
                </a:pathLst>
              </a:custGeom>
              <a:solidFill>
                <a:srgbClr val="001f9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586480" y="5458680"/>
                <a:ext cx="503640" cy="261360"/>
              </a:xfrm>
              <a:custGeom>
                <a:avLst/>
                <a:gdLst/>
                <a:ahLst/>
                <a:rect l="l" t="t" r="r" b="b"/>
                <a:pathLst>
                  <a:path w="1111" h="501">
                    <a:moveTo>
                      <a:pt x="0" y="179"/>
                    </a:moveTo>
                    <a:lnTo>
                      <a:pt x="108" y="0"/>
                    </a:lnTo>
                    <a:lnTo>
                      <a:pt x="1075" y="251"/>
                    </a:lnTo>
                    <a:lnTo>
                      <a:pt x="1111" y="501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5f7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73920" y="5273280"/>
                <a:ext cx="731520" cy="540000"/>
              </a:xfrm>
              <a:custGeom>
                <a:avLst/>
                <a:gdLst/>
                <a:ahLst/>
                <a:rect l="l" t="t" r="r" b="b"/>
                <a:pathLst>
                  <a:path w="1611" h="1038">
                    <a:moveTo>
                      <a:pt x="36" y="859"/>
                    </a:moveTo>
                    <a:lnTo>
                      <a:pt x="0" y="1038"/>
                    </a:lnTo>
                    <a:lnTo>
                      <a:pt x="1576" y="179"/>
                    </a:lnTo>
                    <a:lnTo>
                      <a:pt x="1611" y="0"/>
                    </a:lnTo>
                    <a:lnTo>
                      <a:pt x="36" y="859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73920" y="5198040"/>
                <a:ext cx="731520" cy="522000"/>
              </a:xfrm>
              <a:custGeom>
                <a:avLst/>
                <a:gdLst/>
                <a:ahLst/>
                <a:rect l="l" t="t" r="r" b="b"/>
                <a:pathLst>
                  <a:path w="1611" h="1002">
                    <a:moveTo>
                      <a:pt x="0" y="752"/>
                    </a:moveTo>
                    <a:lnTo>
                      <a:pt x="36" y="1002"/>
                    </a:lnTo>
                    <a:lnTo>
                      <a:pt x="1611" y="143"/>
                    </a:lnTo>
                    <a:lnTo>
                      <a:pt x="1503" y="0"/>
                    </a:lnTo>
                    <a:lnTo>
                      <a:pt x="0" y="752"/>
                    </a:lnTo>
                    <a:close/>
                  </a:path>
                </a:pathLst>
              </a:custGeom>
              <a:solidFill>
                <a:srgbClr val="3f7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634360" y="5105520"/>
                <a:ext cx="1122120" cy="484560"/>
              </a:xfrm>
              <a:custGeom>
                <a:avLst/>
                <a:gdLst/>
                <a:ahLst/>
                <a:rect l="l" t="t" r="r" b="b"/>
                <a:pathLst>
                  <a:path w="2470" h="931">
                    <a:moveTo>
                      <a:pt x="0" y="680"/>
                    </a:moveTo>
                    <a:lnTo>
                      <a:pt x="967" y="931"/>
                    </a:lnTo>
                    <a:lnTo>
                      <a:pt x="2470" y="179"/>
                    </a:lnTo>
                    <a:lnTo>
                      <a:pt x="1468" y="0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9fb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121440" y="5306760"/>
              <a:ext cx="668160" cy="788040"/>
              <a:chOff x="6121440" y="5306760"/>
              <a:chExt cx="668160" cy="7880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6121440" y="5315760"/>
                <a:ext cx="659880" cy="779040"/>
                <a:chOff x="6121440" y="5315760"/>
                <a:chExt cx="659880" cy="7790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78840" y="5515920"/>
                  <a:ext cx="81360" cy="401400"/>
                </a:xfrm>
                <a:custGeom>
                  <a:avLst/>
                  <a:gdLst/>
                  <a:ahLst/>
                  <a:rect l="l" t="t" r="r" b="b"/>
                  <a:pathLst>
                    <a:path w="178" h="768">
                      <a:moveTo>
                        <a:pt x="0" y="51"/>
                      </a:moveTo>
                      <a:lnTo>
                        <a:pt x="86" y="2"/>
                      </a:lnTo>
                      <a:lnTo>
                        <a:pt x="116" y="0"/>
                      </a:lnTo>
                      <a:lnTo>
                        <a:pt x="138" y="9"/>
                      </a:lnTo>
                      <a:lnTo>
                        <a:pt x="154" y="18"/>
                      </a:lnTo>
                      <a:lnTo>
                        <a:pt x="165" y="30"/>
                      </a:lnTo>
                      <a:lnTo>
                        <a:pt x="174" y="45"/>
                      </a:lnTo>
                      <a:lnTo>
                        <a:pt x="176" y="60"/>
                      </a:lnTo>
                      <a:lnTo>
                        <a:pt x="178" y="84"/>
                      </a:lnTo>
                      <a:lnTo>
                        <a:pt x="178" y="363"/>
                      </a:lnTo>
                      <a:lnTo>
                        <a:pt x="174" y="377"/>
                      </a:lnTo>
                      <a:lnTo>
                        <a:pt x="160" y="389"/>
                      </a:lnTo>
                      <a:lnTo>
                        <a:pt x="151" y="395"/>
                      </a:lnTo>
                      <a:lnTo>
                        <a:pt x="151" y="751"/>
                      </a:lnTo>
                      <a:lnTo>
                        <a:pt x="131" y="768"/>
                      </a:lnTo>
                      <a:lnTo>
                        <a:pt x="113" y="753"/>
                      </a:lnTo>
                      <a:lnTo>
                        <a:pt x="113" y="393"/>
                      </a:lnTo>
                      <a:lnTo>
                        <a:pt x="95" y="386"/>
                      </a:lnTo>
                      <a:lnTo>
                        <a:pt x="82" y="377"/>
                      </a:lnTo>
                      <a:lnTo>
                        <a:pt x="80" y="371"/>
                      </a:lnTo>
                      <a:lnTo>
                        <a:pt x="80" y="357"/>
                      </a:lnTo>
                      <a:lnTo>
                        <a:pt x="80" y="125"/>
                      </a:lnTo>
                      <a:lnTo>
                        <a:pt x="80" y="105"/>
                      </a:lnTo>
                      <a:lnTo>
                        <a:pt x="72" y="84"/>
                      </a:lnTo>
                      <a:lnTo>
                        <a:pt x="64" y="69"/>
                      </a:lnTo>
                      <a:lnTo>
                        <a:pt x="51" y="59"/>
                      </a:lnTo>
                      <a:lnTo>
                        <a:pt x="34" y="54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258240" y="5590080"/>
                  <a:ext cx="86040" cy="412920"/>
                </a:xfrm>
                <a:custGeom>
                  <a:avLst/>
                  <a:gdLst/>
                  <a:ahLst/>
                  <a:rect l="l" t="t" r="r" b="b"/>
                  <a:pathLst>
                    <a:path w="190" h="792">
                      <a:moveTo>
                        <a:pt x="0" y="53"/>
                      </a:moveTo>
                      <a:lnTo>
                        <a:pt x="92" y="3"/>
                      </a:lnTo>
                      <a:lnTo>
                        <a:pt x="123" y="0"/>
                      </a:lnTo>
                      <a:lnTo>
                        <a:pt x="147" y="10"/>
                      </a:lnTo>
                      <a:lnTo>
                        <a:pt x="163" y="19"/>
                      </a:lnTo>
                      <a:lnTo>
                        <a:pt x="176" y="29"/>
                      </a:lnTo>
                      <a:lnTo>
                        <a:pt x="185" y="46"/>
                      </a:lnTo>
                      <a:lnTo>
                        <a:pt x="187" y="62"/>
                      </a:lnTo>
                      <a:lnTo>
                        <a:pt x="190" y="87"/>
                      </a:lnTo>
                      <a:lnTo>
                        <a:pt x="190" y="374"/>
                      </a:lnTo>
                      <a:lnTo>
                        <a:pt x="185" y="389"/>
                      </a:lnTo>
                      <a:lnTo>
                        <a:pt x="172" y="401"/>
                      </a:lnTo>
                      <a:lnTo>
                        <a:pt x="161" y="408"/>
                      </a:lnTo>
                      <a:lnTo>
                        <a:pt x="161" y="774"/>
                      </a:lnTo>
                      <a:lnTo>
                        <a:pt x="140" y="792"/>
                      </a:lnTo>
                      <a:lnTo>
                        <a:pt x="121" y="776"/>
                      </a:lnTo>
                      <a:lnTo>
                        <a:pt x="121" y="406"/>
                      </a:lnTo>
                      <a:lnTo>
                        <a:pt x="101" y="399"/>
                      </a:lnTo>
                      <a:lnTo>
                        <a:pt x="87" y="389"/>
                      </a:lnTo>
                      <a:lnTo>
                        <a:pt x="85" y="382"/>
                      </a:lnTo>
                      <a:lnTo>
                        <a:pt x="85" y="368"/>
                      </a:lnTo>
                      <a:lnTo>
                        <a:pt x="85" y="129"/>
                      </a:lnTo>
                      <a:lnTo>
                        <a:pt x="85" y="109"/>
                      </a:lnTo>
                      <a:lnTo>
                        <a:pt x="78" y="87"/>
                      </a:lnTo>
                      <a:lnTo>
                        <a:pt x="67" y="71"/>
                      </a:lnTo>
                      <a:lnTo>
                        <a:pt x="54" y="61"/>
                      </a:lnTo>
                      <a:lnTo>
                        <a:pt x="36" y="56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121440" y="5674320"/>
                  <a:ext cx="96840" cy="420480"/>
                </a:xfrm>
                <a:custGeom>
                  <a:avLst/>
                  <a:gdLst/>
                  <a:ahLst/>
                  <a:rect l="l" t="t" r="r" b="b"/>
                  <a:pathLst>
                    <a:path w="214" h="804">
                      <a:moveTo>
                        <a:pt x="0" y="53"/>
                      </a:moveTo>
                      <a:lnTo>
                        <a:pt x="103" y="2"/>
                      </a:lnTo>
                      <a:lnTo>
                        <a:pt x="138" y="0"/>
                      </a:lnTo>
                      <a:lnTo>
                        <a:pt x="165" y="9"/>
                      </a:lnTo>
                      <a:lnTo>
                        <a:pt x="185" y="18"/>
                      </a:lnTo>
                      <a:lnTo>
                        <a:pt x="198" y="30"/>
                      </a:lnTo>
                      <a:lnTo>
                        <a:pt x="209" y="46"/>
                      </a:lnTo>
                      <a:lnTo>
                        <a:pt x="212" y="63"/>
                      </a:lnTo>
                      <a:lnTo>
                        <a:pt x="214" y="88"/>
                      </a:lnTo>
                      <a:lnTo>
                        <a:pt x="214" y="378"/>
                      </a:lnTo>
                      <a:lnTo>
                        <a:pt x="209" y="394"/>
                      </a:lnTo>
                      <a:lnTo>
                        <a:pt x="192" y="406"/>
                      </a:lnTo>
                      <a:lnTo>
                        <a:pt x="182" y="412"/>
                      </a:lnTo>
                      <a:lnTo>
                        <a:pt x="182" y="786"/>
                      </a:lnTo>
                      <a:lnTo>
                        <a:pt x="157" y="804"/>
                      </a:lnTo>
                      <a:lnTo>
                        <a:pt x="135" y="789"/>
                      </a:lnTo>
                      <a:lnTo>
                        <a:pt x="135" y="410"/>
                      </a:lnTo>
                      <a:lnTo>
                        <a:pt x="113" y="404"/>
                      </a:lnTo>
                      <a:lnTo>
                        <a:pt x="98" y="394"/>
                      </a:lnTo>
                      <a:lnTo>
                        <a:pt x="95" y="388"/>
                      </a:lnTo>
                      <a:lnTo>
                        <a:pt x="95" y="374"/>
                      </a:lnTo>
                      <a:lnTo>
                        <a:pt x="95" y="130"/>
                      </a:lnTo>
                      <a:lnTo>
                        <a:pt x="95" y="109"/>
                      </a:lnTo>
                      <a:lnTo>
                        <a:pt x="87" y="88"/>
                      </a:lnTo>
                      <a:lnTo>
                        <a:pt x="76" y="71"/>
                      </a:lnTo>
                      <a:lnTo>
                        <a:pt x="60" y="62"/>
                      </a:lnTo>
                      <a:lnTo>
                        <a:pt x="41" y="57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495840" y="5446080"/>
                  <a:ext cx="80640" cy="394200"/>
                </a:xfrm>
                <a:custGeom>
                  <a:avLst/>
                  <a:gdLst/>
                  <a:ahLst/>
                  <a:rect l="l" t="t" r="r" b="b"/>
                  <a:pathLst>
                    <a:path w="179" h="756">
                      <a:moveTo>
                        <a:pt x="0" y="51"/>
                      </a:moveTo>
                      <a:lnTo>
                        <a:pt x="87" y="1"/>
                      </a:lnTo>
                      <a:lnTo>
                        <a:pt x="116" y="0"/>
                      </a:lnTo>
                      <a:lnTo>
                        <a:pt x="138" y="8"/>
                      </a:lnTo>
                      <a:lnTo>
                        <a:pt x="154" y="18"/>
                      </a:lnTo>
                      <a:lnTo>
                        <a:pt x="165" y="29"/>
                      </a:lnTo>
                      <a:lnTo>
                        <a:pt x="175" y="45"/>
                      </a:lnTo>
                      <a:lnTo>
                        <a:pt x="177" y="59"/>
                      </a:lnTo>
                      <a:lnTo>
                        <a:pt x="179" y="84"/>
                      </a:lnTo>
                      <a:lnTo>
                        <a:pt x="179" y="356"/>
                      </a:lnTo>
                      <a:lnTo>
                        <a:pt x="175" y="372"/>
                      </a:lnTo>
                      <a:lnTo>
                        <a:pt x="161" y="383"/>
                      </a:lnTo>
                      <a:lnTo>
                        <a:pt x="152" y="389"/>
                      </a:lnTo>
                      <a:lnTo>
                        <a:pt x="152" y="739"/>
                      </a:lnTo>
                      <a:lnTo>
                        <a:pt x="131" y="756"/>
                      </a:lnTo>
                      <a:lnTo>
                        <a:pt x="114" y="741"/>
                      </a:lnTo>
                      <a:lnTo>
                        <a:pt x="114" y="387"/>
                      </a:lnTo>
                      <a:lnTo>
                        <a:pt x="94" y="381"/>
                      </a:lnTo>
                      <a:lnTo>
                        <a:pt x="82" y="372"/>
                      </a:lnTo>
                      <a:lnTo>
                        <a:pt x="79" y="365"/>
                      </a:lnTo>
                      <a:lnTo>
                        <a:pt x="79" y="352"/>
                      </a:lnTo>
                      <a:lnTo>
                        <a:pt x="79" y="123"/>
                      </a:lnTo>
                      <a:lnTo>
                        <a:pt x="79" y="102"/>
                      </a:lnTo>
                      <a:lnTo>
                        <a:pt x="73" y="84"/>
                      </a:lnTo>
                      <a:lnTo>
                        <a:pt x="64" y="68"/>
                      </a:lnTo>
                      <a:lnTo>
                        <a:pt x="49" y="59"/>
                      </a:lnTo>
                      <a:lnTo>
                        <a:pt x="33" y="54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607440" y="5377320"/>
                  <a:ext cx="75240" cy="382680"/>
                </a:xfrm>
                <a:custGeom>
                  <a:avLst/>
                  <a:gdLst/>
                  <a:ahLst/>
                  <a:rect l="l" t="t" r="r" b="b"/>
                  <a:pathLst>
                    <a:path w="166" h="732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108" y="0"/>
                      </a:lnTo>
                      <a:lnTo>
                        <a:pt x="130" y="6"/>
                      </a:lnTo>
                      <a:lnTo>
                        <a:pt x="143" y="15"/>
                      </a:lnTo>
                      <a:lnTo>
                        <a:pt x="153" y="26"/>
                      </a:lnTo>
                      <a:lnTo>
                        <a:pt x="162" y="41"/>
                      </a:lnTo>
                      <a:lnTo>
                        <a:pt x="165" y="57"/>
                      </a:lnTo>
                      <a:lnTo>
                        <a:pt x="166" y="80"/>
                      </a:lnTo>
                      <a:lnTo>
                        <a:pt x="166" y="344"/>
                      </a:lnTo>
                      <a:lnTo>
                        <a:pt x="162" y="360"/>
                      </a:lnTo>
                      <a:lnTo>
                        <a:pt x="149" y="369"/>
                      </a:lnTo>
                      <a:lnTo>
                        <a:pt x="141" y="376"/>
                      </a:lnTo>
                      <a:lnTo>
                        <a:pt x="141" y="716"/>
                      </a:lnTo>
                      <a:lnTo>
                        <a:pt x="123" y="732"/>
                      </a:lnTo>
                      <a:lnTo>
                        <a:pt x="106" y="718"/>
                      </a:lnTo>
                      <a:lnTo>
                        <a:pt x="106" y="374"/>
                      </a:lnTo>
                      <a:lnTo>
                        <a:pt x="89" y="367"/>
                      </a:lnTo>
                      <a:lnTo>
                        <a:pt x="77" y="360"/>
                      </a:lnTo>
                      <a:lnTo>
                        <a:pt x="75" y="352"/>
                      </a:lnTo>
                      <a:lnTo>
                        <a:pt x="75" y="340"/>
                      </a:lnTo>
                      <a:lnTo>
                        <a:pt x="75" y="118"/>
                      </a:lnTo>
                      <a:lnTo>
                        <a:pt x="75" y="99"/>
                      </a:lnTo>
                      <a:lnTo>
                        <a:pt x="68" y="80"/>
                      </a:lnTo>
                      <a:lnTo>
                        <a:pt x="60" y="66"/>
                      </a:lnTo>
                      <a:lnTo>
                        <a:pt x="47" y="56"/>
                      </a:lnTo>
                      <a:lnTo>
                        <a:pt x="31" y="49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706080" y="5315760"/>
                  <a:ext cx="75240" cy="369360"/>
                </a:xfrm>
                <a:custGeom>
                  <a:avLst/>
                  <a:gdLst/>
                  <a:ahLst/>
                  <a:rect l="l" t="t" r="r" b="b"/>
                  <a:pathLst>
                    <a:path w="165" h="707">
                      <a:moveTo>
                        <a:pt x="0" y="45"/>
                      </a:moveTo>
                      <a:lnTo>
                        <a:pt x="79" y="0"/>
                      </a:lnTo>
                      <a:lnTo>
                        <a:pt x="106" y="0"/>
                      </a:lnTo>
                      <a:lnTo>
                        <a:pt x="128" y="7"/>
                      </a:lnTo>
                      <a:lnTo>
                        <a:pt x="142" y="14"/>
                      </a:lnTo>
                      <a:lnTo>
                        <a:pt x="153" y="25"/>
                      </a:lnTo>
                      <a:lnTo>
                        <a:pt x="161" y="40"/>
                      </a:lnTo>
                      <a:lnTo>
                        <a:pt x="163" y="54"/>
                      </a:lnTo>
                      <a:lnTo>
                        <a:pt x="165" y="77"/>
                      </a:lnTo>
                      <a:lnTo>
                        <a:pt x="165" y="333"/>
                      </a:lnTo>
                      <a:lnTo>
                        <a:pt x="161" y="348"/>
                      </a:lnTo>
                      <a:lnTo>
                        <a:pt x="149" y="357"/>
                      </a:lnTo>
                      <a:lnTo>
                        <a:pt x="140" y="364"/>
                      </a:lnTo>
                      <a:lnTo>
                        <a:pt x="140" y="692"/>
                      </a:lnTo>
                      <a:lnTo>
                        <a:pt x="122" y="707"/>
                      </a:lnTo>
                      <a:lnTo>
                        <a:pt x="104" y="694"/>
                      </a:lnTo>
                      <a:lnTo>
                        <a:pt x="104" y="362"/>
                      </a:lnTo>
                      <a:lnTo>
                        <a:pt x="88" y="355"/>
                      </a:lnTo>
                      <a:lnTo>
                        <a:pt x="75" y="348"/>
                      </a:lnTo>
                      <a:lnTo>
                        <a:pt x="73" y="341"/>
                      </a:lnTo>
                      <a:lnTo>
                        <a:pt x="73" y="330"/>
                      </a:lnTo>
                      <a:lnTo>
                        <a:pt x="73" y="114"/>
                      </a:lnTo>
                      <a:lnTo>
                        <a:pt x="73" y="95"/>
                      </a:lnTo>
                      <a:lnTo>
                        <a:pt x="67" y="77"/>
                      </a:lnTo>
                      <a:lnTo>
                        <a:pt x="59" y="63"/>
                      </a:lnTo>
                      <a:lnTo>
                        <a:pt x="46" y="54"/>
                      </a:lnTo>
                      <a:lnTo>
                        <a:pt x="31" y="47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6130440" y="5306760"/>
                <a:ext cx="659160" cy="779040"/>
                <a:chOff x="6130440" y="5306760"/>
                <a:chExt cx="659160" cy="7790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6387840" y="5508000"/>
                  <a:ext cx="80280" cy="400320"/>
                </a:xfrm>
                <a:custGeom>
                  <a:avLst/>
                  <a:gdLst/>
                  <a:ahLst/>
                  <a:rect l="l" t="t" r="r" b="b"/>
                  <a:pathLst>
                    <a:path w="178" h="769">
                      <a:moveTo>
                        <a:pt x="0" y="52"/>
                      </a:moveTo>
                      <a:lnTo>
                        <a:pt x="86" y="2"/>
                      </a:lnTo>
                      <a:lnTo>
                        <a:pt x="115" y="0"/>
                      </a:lnTo>
                      <a:lnTo>
                        <a:pt x="137" y="8"/>
                      </a:lnTo>
                      <a:lnTo>
                        <a:pt x="153" y="18"/>
                      </a:lnTo>
                      <a:lnTo>
                        <a:pt x="164" y="29"/>
                      </a:lnTo>
                      <a:lnTo>
                        <a:pt x="174" y="45"/>
                      </a:lnTo>
                      <a:lnTo>
                        <a:pt x="176" y="60"/>
                      </a:lnTo>
                      <a:lnTo>
                        <a:pt x="178" y="84"/>
                      </a:lnTo>
                      <a:lnTo>
                        <a:pt x="178" y="362"/>
                      </a:lnTo>
                      <a:lnTo>
                        <a:pt x="174" y="378"/>
                      </a:lnTo>
                      <a:lnTo>
                        <a:pt x="159" y="389"/>
                      </a:lnTo>
                      <a:lnTo>
                        <a:pt x="151" y="395"/>
                      </a:lnTo>
                      <a:lnTo>
                        <a:pt x="151" y="750"/>
                      </a:lnTo>
                      <a:lnTo>
                        <a:pt x="130" y="769"/>
                      </a:lnTo>
                      <a:lnTo>
                        <a:pt x="112" y="752"/>
                      </a:lnTo>
                      <a:lnTo>
                        <a:pt x="112" y="392"/>
                      </a:lnTo>
                      <a:lnTo>
                        <a:pt x="94" y="387"/>
                      </a:lnTo>
                      <a:lnTo>
                        <a:pt x="80" y="378"/>
                      </a:lnTo>
                      <a:lnTo>
                        <a:pt x="78" y="371"/>
                      </a:lnTo>
                      <a:lnTo>
                        <a:pt x="78" y="357"/>
                      </a:lnTo>
                      <a:lnTo>
                        <a:pt x="78" y="125"/>
                      </a:lnTo>
                      <a:lnTo>
                        <a:pt x="78" y="104"/>
                      </a:lnTo>
                      <a:lnTo>
                        <a:pt x="72" y="84"/>
                      </a:lnTo>
                      <a:lnTo>
                        <a:pt x="63" y="69"/>
                      </a:lnTo>
                      <a:lnTo>
                        <a:pt x="49" y="60"/>
                      </a:lnTo>
                      <a:lnTo>
                        <a:pt x="33" y="55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266520" y="5582160"/>
                  <a:ext cx="84960" cy="412200"/>
                </a:xfrm>
                <a:custGeom>
                  <a:avLst/>
                  <a:gdLst/>
                  <a:ahLst/>
                  <a:rect l="l" t="t" r="r" b="b"/>
                  <a:pathLst>
                    <a:path w="189" h="790">
                      <a:moveTo>
                        <a:pt x="0" y="51"/>
                      </a:moveTo>
                      <a:lnTo>
                        <a:pt x="92" y="2"/>
                      </a:lnTo>
                      <a:lnTo>
                        <a:pt x="124" y="0"/>
                      </a:lnTo>
                      <a:lnTo>
                        <a:pt x="148" y="8"/>
                      </a:lnTo>
                      <a:lnTo>
                        <a:pt x="164" y="17"/>
                      </a:lnTo>
                      <a:lnTo>
                        <a:pt x="175" y="30"/>
                      </a:lnTo>
                      <a:lnTo>
                        <a:pt x="185" y="44"/>
                      </a:lnTo>
                      <a:lnTo>
                        <a:pt x="187" y="61"/>
                      </a:lnTo>
                      <a:lnTo>
                        <a:pt x="189" y="87"/>
                      </a:lnTo>
                      <a:lnTo>
                        <a:pt x="189" y="372"/>
                      </a:lnTo>
                      <a:lnTo>
                        <a:pt x="185" y="388"/>
                      </a:lnTo>
                      <a:lnTo>
                        <a:pt x="171" y="400"/>
                      </a:lnTo>
                      <a:lnTo>
                        <a:pt x="161" y="406"/>
                      </a:lnTo>
                      <a:lnTo>
                        <a:pt x="161" y="773"/>
                      </a:lnTo>
                      <a:lnTo>
                        <a:pt x="139" y="790"/>
                      </a:lnTo>
                      <a:lnTo>
                        <a:pt x="121" y="776"/>
                      </a:lnTo>
                      <a:lnTo>
                        <a:pt x="121" y="404"/>
                      </a:lnTo>
                      <a:lnTo>
                        <a:pt x="101" y="398"/>
                      </a:lnTo>
                      <a:lnTo>
                        <a:pt x="87" y="388"/>
                      </a:lnTo>
                      <a:lnTo>
                        <a:pt x="85" y="381"/>
                      </a:lnTo>
                      <a:lnTo>
                        <a:pt x="85" y="367"/>
                      </a:lnTo>
                      <a:lnTo>
                        <a:pt x="85" y="128"/>
                      </a:lnTo>
                      <a:lnTo>
                        <a:pt x="85" y="107"/>
                      </a:lnTo>
                      <a:lnTo>
                        <a:pt x="77" y="87"/>
                      </a:lnTo>
                      <a:lnTo>
                        <a:pt x="68" y="70"/>
                      </a:lnTo>
                      <a:lnTo>
                        <a:pt x="52" y="60"/>
                      </a:lnTo>
                      <a:lnTo>
                        <a:pt x="37" y="55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130440" y="5666400"/>
                  <a:ext cx="96120" cy="419400"/>
                </a:xfrm>
                <a:custGeom>
                  <a:avLst/>
                  <a:gdLst/>
                  <a:ahLst/>
                  <a:rect l="l" t="t" r="r" b="b"/>
                  <a:pathLst>
                    <a:path w="212" h="805">
                      <a:moveTo>
                        <a:pt x="0" y="54"/>
                      </a:moveTo>
                      <a:lnTo>
                        <a:pt x="104" y="2"/>
                      </a:lnTo>
                      <a:lnTo>
                        <a:pt x="139" y="0"/>
                      </a:lnTo>
                      <a:lnTo>
                        <a:pt x="166" y="9"/>
                      </a:lnTo>
                      <a:lnTo>
                        <a:pt x="185" y="19"/>
                      </a:lnTo>
                      <a:lnTo>
                        <a:pt x="198" y="30"/>
                      </a:lnTo>
                      <a:lnTo>
                        <a:pt x="207" y="47"/>
                      </a:lnTo>
                      <a:lnTo>
                        <a:pt x="210" y="63"/>
                      </a:lnTo>
                      <a:lnTo>
                        <a:pt x="212" y="89"/>
                      </a:lnTo>
                      <a:lnTo>
                        <a:pt x="212" y="379"/>
                      </a:lnTo>
                      <a:lnTo>
                        <a:pt x="207" y="395"/>
                      </a:lnTo>
                      <a:lnTo>
                        <a:pt x="193" y="407"/>
                      </a:lnTo>
                      <a:lnTo>
                        <a:pt x="181" y="414"/>
                      </a:lnTo>
                      <a:lnTo>
                        <a:pt x="181" y="786"/>
                      </a:lnTo>
                      <a:lnTo>
                        <a:pt x="158" y="805"/>
                      </a:lnTo>
                      <a:lnTo>
                        <a:pt x="136" y="789"/>
                      </a:lnTo>
                      <a:lnTo>
                        <a:pt x="136" y="411"/>
                      </a:lnTo>
                      <a:lnTo>
                        <a:pt x="114" y="406"/>
                      </a:lnTo>
                      <a:lnTo>
                        <a:pt x="99" y="395"/>
                      </a:lnTo>
                      <a:lnTo>
                        <a:pt x="95" y="389"/>
                      </a:lnTo>
                      <a:lnTo>
                        <a:pt x="95" y="375"/>
                      </a:lnTo>
                      <a:lnTo>
                        <a:pt x="95" y="130"/>
                      </a:lnTo>
                      <a:lnTo>
                        <a:pt x="95" y="110"/>
                      </a:lnTo>
                      <a:lnTo>
                        <a:pt x="87" y="89"/>
                      </a:lnTo>
                      <a:lnTo>
                        <a:pt x="76" y="74"/>
                      </a:lnTo>
                      <a:lnTo>
                        <a:pt x="59" y="62"/>
                      </a:lnTo>
                      <a:lnTo>
                        <a:pt x="41" y="57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03760" y="5437080"/>
                  <a:ext cx="80280" cy="394200"/>
                </a:xfrm>
                <a:custGeom>
                  <a:avLst/>
                  <a:gdLst/>
                  <a:ahLst/>
                  <a:rect l="l" t="t" r="r" b="b"/>
                  <a:pathLst>
                    <a:path w="179" h="757">
                      <a:moveTo>
                        <a:pt x="0" y="51"/>
                      </a:moveTo>
                      <a:lnTo>
                        <a:pt x="87" y="3"/>
                      </a:lnTo>
                      <a:lnTo>
                        <a:pt x="116" y="0"/>
                      </a:lnTo>
                      <a:lnTo>
                        <a:pt x="139" y="9"/>
                      </a:lnTo>
                      <a:lnTo>
                        <a:pt x="155" y="18"/>
                      </a:lnTo>
                      <a:lnTo>
                        <a:pt x="166" y="29"/>
                      </a:lnTo>
                      <a:lnTo>
                        <a:pt x="175" y="45"/>
                      </a:lnTo>
                      <a:lnTo>
                        <a:pt x="177" y="60"/>
                      </a:lnTo>
                      <a:lnTo>
                        <a:pt x="179" y="85"/>
                      </a:lnTo>
                      <a:lnTo>
                        <a:pt x="179" y="357"/>
                      </a:lnTo>
                      <a:lnTo>
                        <a:pt x="175" y="373"/>
                      </a:lnTo>
                      <a:lnTo>
                        <a:pt x="162" y="383"/>
                      </a:lnTo>
                      <a:lnTo>
                        <a:pt x="153" y="390"/>
                      </a:lnTo>
                      <a:lnTo>
                        <a:pt x="153" y="740"/>
                      </a:lnTo>
                      <a:lnTo>
                        <a:pt x="133" y="757"/>
                      </a:lnTo>
                      <a:lnTo>
                        <a:pt x="114" y="742"/>
                      </a:lnTo>
                      <a:lnTo>
                        <a:pt x="114" y="388"/>
                      </a:lnTo>
                      <a:lnTo>
                        <a:pt x="97" y="381"/>
                      </a:lnTo>
                      <a:lnTo>
                        <a:pt x="83" y="373"/>
                      </a:lnTo>
                      <a:lnTo>
                        <a:pt x="81" y="366"/>
                      </a:lnTo>
                      <a:lnTo>
                        <a:pt x="81" y="352"/>
                      </a:lnTo>
                      <a:lnTo>
                        <a:pt x="81" y="124"/>
                      </a:lnTo>
                      <a:lnTo>
                        <a:pt x="81" y="104"/>
                      </a:lnTo>
                      <a:lnTo>
                        <a:pt x="74" y="85"/>
                      </a:lnTo>
                      <a:lnTo>
                        <a:pt x="65" y="69"/>
                      </a:lnTo>
                      <a:lnTo>
                        <a:pt x="51" y="59"/>
                      </a:lnTo>
                      <a:lnTo>
                        <a:pt x="35" y="54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615360" y="5369040"/>
                  <a:ext cx="75240" cy="381600"/>
                </a:xfrm>
                <a:custGeom>
                  <a:avLst/>
                  <a:gdLst/>
                  <a:ahLst/>
                  <a:rect l="l" t="t" r="r" b="b"/>
                  <a:pathLst>
                    <a:path w="165" h="733">
                      <a:moveTo>
                        <a:pt x="0" y="48"/>
                      </a:moveTo>
                      <a:lnTo>
                        <a:pt x="82" y="1"/>
                      </a:lnTo>
                      <a:lnTo>
                        <a:pt x="108" y="0"/>
                      </a:lnTo>
                      <a:lnTo>
                        <a:pt x="128" y="7"/>
                      </a:lnTo>
                      <a:lnTo>
                        <a:pt x="144" y="17"/>
                      </a:lnTo>
                      <a:lnTo>
                        <a:pt x="154" y="26"/>
                      </a:lnTo>
                      <a:lnTo>
                        <a:pt x="162" y="42"/>
                      </a:lnTo>
                      <a:lnTo>
                        <a:pt x="164" y="56"/>
                      </a:lnTo>
                      <a:lnTo>
                        <a:pt x="165" y="82"/>
                      </a:lnTo>
                      <a:lnTo>
                        <a:pt x="165" y="345"/>
                      </a:lnTo>
                      <a:lnTo>
                        <a:pt x="162" y="360"/>
                      </a:lnTo>
                      <a:lnTo>
                        <a:pt x="149" y="370"/>
                      </a:lnTo>
                      <a:lnTo>
                        <a:pt x="142" y="377"/>
                      </a:lnTo>
                      <a:lnTo>
                        <a:pt x="142" y="716"/>
                      </a:lnTo>
                      <a:lnTo>
                        <a:pt x="122" y="733"/>
                      </a:lnTo>
                      <a:lnTo>
                        <a:pt x="106" y="718"/>
                      </a:lnTo>
                      <a:lnTo>
                        <a:pt x="106" y="375"/>
                      </a:lnTo>
                      <a:lnTo>
                        <a:pt x="90" y="367"/>
                      </a:lnTo>
                      <a:lnTo>
                        <a:pt x="76" y="360"/>
                      </a:lnTo>
                      <a:lnTo>
                        <a:pt x="74" y="354"/>
                      </a:lnTo>
                      <a:lnTo>
                        <a:pt x="74" y="340"/>
                      </a:lnTo>
                      <a:lnTo>
                        <a:pt x="74" y="120"/>
                      </a:lnTo>
                      <a:lnTo>
                        <a:pt x="74" y="100"/>
                      </a:lnTo>
                      <a:lnTo>
                        <a:pt x="68" y="82"/>
                      </a:lnTo>
                      <a:lnTo>
                        <a:pt x="60" y="65"/>
                      </a:lnTo>
                      <a:lnTo>
                        <a:pt x="46" y="56"/>
                      </a:lnTo>
                      <a:lnTo>
                        <a:pt x="31" y="5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714360" y="5306760"/>
                  <a:ext cx="75240" cy="369360"/>
                </a:xfrm>
                <a:custGeom>
                  <a:avLst/>
                  <a:gdLst/>
                  <a:ahLst/>
                  <a:rect l="l" t="t" r="r" b="b"/>
                  <a:pathLst>
                    <a:path w="166" h="708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108" y="0"/>
                      </a:lnTo>
                      <a:lnTo>
                        <a:pt x="129" y="7"/>
                      </a:lnTo>
                      <a:lnTo>
                        <a:pt x="144" y="17"/>
                      </a:lnTo>
                      <a:lnTo>
                        <a:pt x="154" y="26"/>
                      </a:lnTo>
                      <a:lnTo>
                        <a:pt x="163" y="41"/>
                      </a:lnTo>
                      <a:lnTo>
                        <a:pt x="165" y="55"/>
                      </a:lnTo>
                      <a:lnTo>
                        <a:pt x="166" y="78"/>
                      </a:lnTo>
                      <a:lnTo>
                        <a:pt x="166" y="334"/>
                      </a:lnTo>
                      <a:lnTo>
                        <a:pt x="163" y="350"/>
                      </a:lnTo>
                      <a:lnTo>
                        <a:pt x="149" y="358"/>
                      </a:lnTo>
                      <a:lnTo>
                        <a:pt x="141" y="364"/>
                      </a:lnTo>
                      <a:lnTo>
                        <a:pt x="141" y="692"/>
                      </a:lnTo>
                      <a:lnTo>
                        <a:pt x="122" y="708"/>
                      </a:lnTo>
                      <a:lnTo>
                        <a:pt x="106" y="694"/>
                      </a:lnTo>
                      <a:lnTo>
                        <a:pt x="106" y="362"/>
                      </a:lnTo>
                      <a:lnTo>
                        <a:pt x="89" y="355"/>
                      </a:lnTo>
                      <a:lnTo>
                        <a:pt x="76" y="350"/>
                      </a:lnTo>
                      <a:lnTo>
                        <a:pt x="74" y="343"/>
                      </a:lnTo>
                      <a:lnTo>
                        <a:pt x="74" y="331"/>
                      </a:lnTo>
                      <a:lnTo>
                        <a:pt x="74" y="115"/>
                      </a:lnTo>
                      <a:lnTo>
                        <a:pt x="74" y="96"/>
                      </a:lnTo>
                      <a:lnTo>
                        <a:pt x="68" y="78"/>
                      </a:lnTo>
                      <a:lnTo>
                        <a:pt x="59" y="63"/>
                      </a:lnTo>
                      <a:lnTo>
                        <a:pt x="46" y="54"/>
                      </a:lnTo>
                      <a:lnTo>
                        <a:pt x="31" y="49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" name=""/>
          <p:cNvSpPr/>
          <p:nvPr/>
        </p:nvSpPr>
        <p:spPr>
          <a:xfrm>
            <a:off x="4290840" y="4495680"/>
            <a:ext cx="1219320" cy="11430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255" y="4569"/>
                </a:lnTo>
                <a:lnTo>
                  <a:pt x="11127" y="4569"/>
                </a:lnTo>
                <a:lnTo>
                  <a:pt x="11127" y="10473"/>
                </a:lnTo>
                <a:lnTo>
                  <a:pt x="17031" y="10473"/>
                </a:lnTo>
                <a:lnTo>
                  <a:pt x="17031" y="8345"/>
                </a:lnTo>
                <a:lnTo>
                  <a:pt x="21600" y="10800"/>
                </a:lnTo>
                <a:lnTo>
                  <a:pt x="17031" y="13255"/>
                </a:lnTo>
                <a:lnTo>
                  <a:pt x="17031" y="11127"/>
                </a:lnTo>
                <a:lnTo>
                  <a:pt x="4569" y="11127"/>
                </a:lnTo>
                <a:lnTo>
                  <a:pt x="4569" y="13255"/>
                </a:lnTo>
                <a:lnTo>
                  <a:pt x="0" y="10800"/>
                </a:lnTo>
                <a:lnTo>
                  <a:pt x="4569" y="8345"/>
                </a:lnTo>
                <a:lnTo>
                  <a:pt x="4569" y="10473"/>
                </a:lnTo>
                <a:lnTo>
                  <a:pt x="10473" y="10473"/>
                </a:lnTo>
                <a:lnTo>
                  <a:pt x="10473" y="4569"/>
                </a:lnTo>
                <a:lnTo>
                  <a:pt x="8345" y="456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9240" y="3809880"/>
            <a:ext cx="403884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ин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60930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6960" y="4724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10160" y="4648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9760" y="4976640"/>
            <a:ext cx="1440" cy="180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757680" y="1676520"/>
            <a:ext cx="1143000" cy="1980720"/>
            <a:chOff x="3757680" y="1676520"/>
            <a:chExt cx="1143000" cy="1980720"/>
          </a:xfrm>
        </p:grpSpPr>
        <p:sp>
          <p:nvSpPr>
            <p:cNvPr id="97" name=""/>
            <p:cNvSpPr/>
            <p:nvPr/>
          </p:nvSpPr>
          <p:spPr>
            <a:xfrm flipV="1">
              <a:off x="4367160" y="2438280"/>
              <a:ext cx="0" cy="121896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57680" y="1676520"/>
              <a:ext cx="1143000" cy="685440"/>
            </a:xfrm>
            <a:prstGeom prst="cube">
              <a:avLst>
                <a:gd name="adj" fmla="val 65625"/>
              </a:avLst>
            </a:prstGeom>
            <a:solidFill>
              <a:srgbClr val="80808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681360" y="8380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Жесткий д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500880" y="2438280"/>
            <a:ext cx="728640" cy="1142640"/>
            <a:chOff x="6500880" y="2438280"/>
            <a:chExt cx="728640" cy="1142640"/>
          </a:xfrm>
        </p:grpSpPr>
        <p:sp>
          <p:nvSpPr>
            <p:cNvPr id="101" name=""/>
            <p:cNvSpPr/>
            <p:nvPr/>
          </p:nvSpPr>
          <p:spPr>
            <a:xfrm flipV="1">
              <a:off x="7034400" y="2895120"/>
              <a:ext cx="0" cy="68580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6500880" y="2438280"/>
              <a:ext cx="728640" cy="46368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</p:grpSp>
      <p:sp>
        <p:nvSpPr>
          <p:cNvPr id="103" name=""/>
          <p:cNvSpPr/>
          <p:nvPr/>
        </p:nvSpPr>
        <p:spPr>
          <a:xfrm>
            <a:off x="6272280" y="1981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идеок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57880" y="2362320"/>
            <a:ext cx="728640" cy="1294920"/>
            <a:chOff x="5357880" y="2362320"/>
            <a:chExt cx="728640" cy="1294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5357880" y="2362320"/>
              <a:ext cx="728640" cy="46332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 flipV="1">
              <a:off x="5662440" y="2895120"/>
              <a:ext cx="0" cy="7621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24360" y="16765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вуковая к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66960" y="1371600"/>
            <a:ext cx="1066680" cy="2361960"/>
            <a:chOff x="2766960" y="1371600"/>
            <a:chExt cx="1066680" cy="2361960"/>
          </a:xfrm>
        </p:grpSpPr>
        <p:grpSp>
          <p:nvGrpSpPr>
            <p:cNvPr id="109" name=""/>
            <p:cNvGrpSpPr/>
            <p:nvPr/>
          </p:nvGrpSpPr>
          <p:grpSpPr>
            <a:xfrm>
              <a:off x="2766960" y="1371600"/>
              <a:ext cx="1066680" cy="533160"/>
              <a:chOff x="2766960" y="1371600"/>
              <a:chExt cx="1066680" cy="533160"/>
            </a:xfrm>
          </p:grpSpPr>
          <p:sp>
            <p:nvSpPr>
              <p:cNvPr id="110" name=""/>
              <p:cNvSpPr/>
              <p:nvPr/>
            </p:nvSpPr>
            <p:spPr>
              <a:xfrm>
                <a:off x="2766960" y="1371600"/>
                <a:ext cx="1066680" cy="533160"/>
              </a:xfrm>
              <a:prstGeom prst="cube">
                <a:avLst>
                  <a:gd name="adj" fmla="val 6562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73520" y="1771560"/>
                <a:ext cx="46224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44440" y="1738080"/>
                <a:ext cx="320040" cy="13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V="1">
              <a:off x="3376440" y="1981080"/>
              <a:ext cx="0" cy="175248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309760" y="83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иско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43080" y="1219320"/>
            <a:ext cx="114300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 flipV="1">
            <a:off x="2309400" y="2057040"/>
            <a:ext cx="762120" cy="167652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928520" y="4266720"/>
            <a:ext cx="685800" cy="304920"/>
          </a:xfrm>
          <a:custGeom>
            <a:avLst/>
            <a:gdLst>
              <a:gd name="textAreaLeft" fmla="*/ 258480 w 685800"/>
              <a:gd name="textAreaRight" fmla="*/ 595440 w 685800"/>
              <a:gd name="textAreaTop" fmla="*/ 240120 h 304920"/>
              <a:gd name="textAreaBottom" fmla="*/ 264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7878"/>
                </a:moveTo>
                <a:lnTo>
                  <a:pt x="8145" y="14156"/>
                </a:lnTo>
                <a:lnTo>
                  <a:pt x="8145" y="17006"/>
                </a:lnTo>
                <a:lnTo>
                  <a:pt x="17006" y="17006"/>
                </a:lnTo>
                <a:lnTo>
                  <a:pt x="17006" y="8145"/>
                </a:lnTo>
                <a:lnTo>
                  <a:pt x="14156" y="8145"/>
                </a:lnTo>
                <a:lnTo>
                  <a:pt x="17878" y="0"/>
                </a:lnTo>
                <a:lnTo>
                  <a:pt x="21600" y="8145"/>
                </a:lnTo>
                <a:lnTo>
                  <a:pt x="18750" y="8145"/>
                </a:lnTo>
                <a:lnTo>
                  <a:pt x="18750" y="18750"/>
                </a:lnTo>
                <a:lnTo>
                  <a:pt x="8145" y="18750"/>
                </a:lnTo>
                <a:lnTo>
                  <a:pt x="8145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76240" y="5029200"/>
            <a:ext cx="703440" cy="177840"/>
          </a:xfrm>
          <a:custGeom>
            <a:avLst/>
            <a:gdLst>
              <a:gd name="textAreaLeft" fmla="*/ 92520 w 703440"/>
              <a:gd name="textAreaRight" fmla="*/ 610920 w 703440"/>
              <a:gd name="textAreaTop" fmla="*/ 23400 h 177840"/>
              <a:gd name="textAreaBottom" fmla="*/ 1544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36" y="21600"/>
                </a:lnTo>
                <a:lnTo>
                  <a:pt x="1964" y="216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724280"/>
            <a:ext cx="1182960" cy="177840"/>
          </a:xfrm>
          <a:custGeom>
            <a:avLst/>
            <a:gdLst>
              <a:gd name="textAreaLeft" fmla="*/ 155520 w 1182960"/>
              <a:gd name="textAreaRight" fmla="*/ 1027440 w 1182960"/>
              <a:gd name="textAreaTop" fmla="*/ 23400 h 177840"/>
              <a:gd name="textAreaBottom" fmla="*/ 1544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36" y="21600"/>
                </a:lnTo>
                <a:lnTo>
                  <a:pt x="1964" y="216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9536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осл. по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3440" y="3886200"/>
            <a:ext cx="533520" cy="152280"/>
          </a:xfrm>
          <a:prstGeom prst="leftRightArrow">
            <a:avLst>
              <a:gd name="adj1" fmla="val 50000"/>
              <a:gd name="adj2" fmla="val 697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95360" y="3809880"/>
            <a:ext cx="838080" cy="228600"/>
          </a:xfrm>
          <a:custGeom>
            <a:avLst/>
            <a:gdLst>
              <a:gd name="textAreaLeft" fmla="*/ 110160 w 838080"/>
              <a:gd name="textAreaRight" fmla="*/ 727920 w 838080"/>
              <a:gd name="textAreaTop" fmla="*/ 29880 h 228600"/>
              <a:gd name="textAreaBottom" fmla="*/ 198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36" y="21600"/>
                </a:lnTo>
                <a:lnTo>
                  <a:pt x="1964" y="216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66760" y="29718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аралл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орт (Принте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815080" y="838080"/>
            <a:ext cx="761760" cy="914400"/>
            <a:chOff x="5815080" y="838080"/>
            <a:chExt cx="761760" cy="914400"/>
          </a:xfrm>
        </p:grpSpPr>
        <p:sp>
          <p:nvSpPr>
            <p:cNvPr id="125" name=""/>
            <p:cNvSpPr/>
            <p:nvPr/>
          </p:nvSpPr>
          <p:spPr>
            <a:xfrm flipV="1">
              <a:off x="5967360" y="1447920"/>
              <a:ext cx="228600" cy="30456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815080" y="838080"/>
              <a:ext cx="304560" cy="609840"/>
              <a:chOff x="5815080" y="838080"/>
              <a:chExt cx="304560" cy="609840"/>
            </a:xfrm>
          </p:grpSpPr>
          <p:sp>
            <p:nvSpPr>
              <p:cNvPr id="127" name=""/>
              <p:cNvSpPr/>
              <p:nvPr/>
            </p:nvSpPr>
            <p:spPr>
              <a:xfrm>
                <a:off x="5815080" y="838080"/>
                <a:ext cx="304560" cy="609840"/>
              </a:xfrm>
              <a:custGeom>
                <a:avLst/>
                <a:gdLst>
                  <a:gd name="textAreaLeft" fmla="*/ 14760 w 304560"/>
                  <a:gd name="textAreaRight" fmla="*/ 289800 w 304560"/>
                  <a:gd name="textAreaTop" fmla="*/ 14760 h 609840"/>
                  <a:gd name="textAreaBottom" fmla="*/ 595080 h 609840"/>
                </a:gdLst>
                <a:ahLst/>
                <a:rect l="textAreaLeft" t="textAreaTop" r="textAreaRight" b="textAreaBottom"/>
                <a:pathLst>
                  <a:path w="21600" h="43226">
                    <a:moveTo>
                      <a:pt x="3600" y="0"/>
                    </a:moveTo>
                    <a:arcTo wR="3600" hR="3600" stAng="16200000" swAng="-5400000"/>
                    <a:lnTo>
                      <a:pt x="0" y="39626"/>
                    </a:lnTo>
                    <a:arcTo wR="3600" hR="3600" stAng="10800000" swAng="-5400000"/>
                    <a:lnTo>
                      <a:pt x="18000" y="4322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52880" y="959760"/>
                <a:ext cx="228600" cy="2030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52880" y="1285200"/>
                <a:ext cx="228600" cy="813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272280" y="838080"/>
              <a:ext cx="304560" cy="609840"/>
              <a:chOff x="6272280" y="838080"/>
              <a:chExt cx="30456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6272280" y="838080"/>
                <a:ext cx="304560" cy="609840"/>
              </a:xfrm>
              <a:custGeom>
                <a:avLst/>
                <a:gdLst>
                  <a:gd name="textAreaLeft" fmla="*/ 14760 w 304560"/>
                  <a:gd name="textAreaRight" fmla="*/ 289800 w 304560"/>
                  <a:gd name="textAreaTop" fmla="*/ 14760 h 609840"/>
                  <a:gd name="textAreaBottom" fmla="*/ 595080 h 609840"/>
                </a:gdLst>
                <a:ahLst/>
                <a:rect l="textAreaLeft" t="textAreaTop" r="textAreaRight" b="textAreaBottom"/>
                <a:pathLst>
                  <a:path w="21600" h="43226">
                    <a:moveTo>
                      <a:pt x="3600" y="0"/>
                    </a:moveTo>
                    <a:arcTo wR="3600" hR="3600" stAng="16200000" swAng="-5400000"/>
                    <a:lnTo>
                      <a:pt x="0" y="39626"/>
                    </a:lnTo>
                    <a:arcTo wR="3600" hR="3600" stAng="10800000" swAng="-5400000"/>
                    <a:lnTo>
                      <a:pt x="18000" y="4322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10080" y="959760"/>
                <a:ext cx="228600" cy="2030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10080" y="1285200"/>
                <a:ext cx="228600" cy="813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6948360" y="260280"/>
            <a:ext cx="1861920" cy="1720440"/>
            <a:chOff x="6948360" y="260280"/>
            <a:chExt cx="1861920" cy="1720440"/>
          </a:xfrm>
        </p:grpSpPr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7557480" y="260280"/>
              <a:ext cx="1252800" cy="160560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 flipV="1">
              <a:off x="6948360" y="1223280"/>
              <a:ext cx="570240" cy="7574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380360" y="4005360"/>
            <a:ext cx="1371600" cy="914040"/>
            <a:chOff x="7380360" y="4005360"/>
            <a:chExt cx="1371600" cy="914040"/>
          </a:xfrm>
        </p:grpSpPr>
        <p:grpSp>
          <p:nvGrpSpPr>
            <p:cNvPr id="138" name=""/>
            <p:cNvGrpSpPr/>
            <p:nvPr/>
          </p:nvGrpSpPr>
          <p:grpSpPr>
            <a:xfrm>
              <a:off x="7380360" y="4462560"/>
              <a:ext cx="1371600" cy="456840"/>
              <a:chOff x="7380360" y="4462560"/>
              <a:chExt cx="1371600" cy="456840"/>
            </a:xfrm>
          </p:grpSpPr>
          <p:sp>
            <p:nvSpPr>
              <p:cNvPr id="139" name=""/>
              <p:cNvSpPr/>
              <p:nvPr/>
            </p:nvSpPr>
            <p:spPr>
              <a:xfrm>
                <a:off x="7380360" y="4514400"/>
                <a:ext cx="1371600" cy="405000"/>
              </a:xfrm>
              <a:custGeom>
                <a:avLst/>
                <a:gdLst/>
                <a:ahLst/>
                <a:rect l="l" t="t" r="r" b="b"/>
                <a:pathLst>
                  <a:path w="2317" h="638">
                    <a:moveTo>
                      <a:pt x="2317" y="483"/>
                    </a:moveTo>
                    <a:lnTo>
                      <a:pt x="2208" y="12"/>
                    </a:lnTo>
                    <a:lnTo>
                      <a:pt x="1924" y="1"/>
                    </a:lnTo>
                    <a:lnTo>
                      <a:pt x="1812" y="0"/>
                    </a:lnTo>
                    <a:lnTo>
                      <a:pt x="1524" y="0"/>
                    </a:lnTo>
                    <a:lnTo>
                      <a:pt x="1464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888" y="12"/>
                    </a:lnTo>
                    <a:lnTo>
                      <a:pt x="876" y="0"/>
                    </a:lnTo>
                    <a:lnTo>
                      <a:pt x="804" y="12"/>
                    </a:lnTo>
                    <a:lnTo>
                      <a:pt x="744" y="0"/>
                    </a:lnTo>
                    <a:lnTo>
                      <a:pt x="444" y="12"/>
                    </a:lnTo>
                    <a:lnTo>
                      <a:pt x="340" y="1"/>
                    </a:lnTo>
                    <a:lnTo>
                      <a:pt x="113" y="1"/>
                    </a:lnTo>
                    <a:lnTo>
                      <a:pt x="0" y="483"/>
                    </a:lnTo>
                    <a:lnTo>
                      <a:pt x="67" y="638"/>
                    </a:lnTo>
                    <a:lnTo>
                      <a:pt x="2253" y="638"/>
                    </a:lnTo>
                    <a:lnTo>
                      <a:pt x="2317" y="48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98720" y="4530600"/>
                <a:ext cx="1328040" cy="350640"/>
              </a:xfrm>
              <a:custGeom>
                <a:avLst/>
                <a:gdLst/>
                <a:ahLst/>
                <a:rect l="l" t="t" r="r" b="b"/>
                <a:pathLst>
                  <a:path w="2231" h="511">
                    <a:moveTo>
                      <a:pt x="2231" y="452"/>
                    </a:moveTo>
                    <a:lnTo>
                      <a:pt x="2128" y="0"/>
                    </a:lnTo>
                    <a:lnTo>
                      <a:pt x="104" y="0"/>
                    </a:lnTo>
                    <a:lnTo>
                      <a:pt x="0" y="452"/>
                    </a:lnTo>
                    <a:lnTo>
                      <a:pt x="27" y="511"/>
                    </a:lnTo>
                    <a:lnTo>
                      <a:pt x="2204" y="511"/>
                    </a:lnTo>
                    <a:lnTo>
                      <a:pt x="2231" y="452"/>
                    </a:lnTo>
                    <a:close/>
                  </a:path>
                </a:pathLst>
              </a:custGeom>
              <a:solidFill>
                <a:srgbClr val="e8e0d3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23720" y="4462560"/>
                <a:ext cx="12960" cy="47160"/>
              </a:xfrm>
              <a:prstGeom prst="rect">
                <a:avLst/>
              </a:prstGeom>
              <a:solidFill>
                <a:srgbClr val="004cb2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67640" y="4462560"/>
                <a:ext cx="14040" cy="47160"/>
              </a:xfrm>
              <a:prstGeom prst="rect">
                <a:avLst/>
              </a:prstGeom>
              <a:solidFill>
                <a:srgbClr val="004cb2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713000" y="4462560"/>
                <a:ext cx="12960" cy="47160"/>
              </a:xfrm>
              <a:prstGeom prst="rect">
                <a:avLst/>
              </a:prstGeom>
              <a:solidFill>
                <a:srgbClr val="004cb2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56920" y="4462560"/>
                <a:ext cx="13320" cy="47160"/>
              </a:xfrm>
              <a:prstGeom prst="rect">
                <a:avLst/>
              </a:prstGeom>
              <a:solidFill>
                <a:srgbClr val="004cb2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01560" y="4462560"/>
                <a:ext cx="12960" cy="47160"/>
              </a:xfrm>
              <a:prstGeom prst="rect">
                <a:avLst/>
              </a:prstGeom>
              <a:solidFill>
                <a:srgbClr val="004cb2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45840" y="4462560"/>
                <a:ext cx="14040" cy="47160"/>
              </a:xfrm>
              <a:prstGeom prst="rect">
                <a:avLst/>
              </a:prstGeom>
              <a:solidFill>
                <a:srgbClr val="004cb2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65760" y="4640400"/>
                <a:ext cx="55080" cy="195120"/>
              </a:xfrm>
              <a:custGeom>
                <a:avLst/>
                <a:gdLst/>
                <a:ahLst/>
                <a:rect l="l" t="t" r="r" b="b"/>
                <a:pathLst>
                  <a:path w="93" h="284">
                    <a:moveTo>
                      <a:pt x="93" y="284"/>
                    </a:moveTo>
                    <a:lnTo>
                      <a:pt x="27" y="0"/>
                    </a:lnTo>
                    <a:lnTo>
                      <a:pt x="0" y="23"/>
                    </a:lnTo>
                    <a:lnTo>
                      <a:pt x="61" y="284"/>
                    </a:lnTo>
                    <a:lnTo>
                      <a:pt x="93" y="284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526960" y="4640400"/>
                <a:ext cx="54360" cy="195120"/>
              </a:xfrm>
              <a:custGeom>
                <a:avLst/>
                <a:gdLst/>
                <a:ahLst/>
                <a:rect l="l" t="t" r="r" b="b"/>
                <a:pathLst>
                  <a:path w="92" h="284">
                    <a:moveTo>
                      <a:pt x="92" y="284"/>
                    </a:moveTo>
                    <a:lnTo>
                      <a:pt x="27" y="0"/>
                    </a:lnTo>
                    <a:lnTo>
                      <a:pt x="0" y="23"/>
                    </a:lnTo>
                    <a:lnTo>
                      <a:pt x="59" y="284"/>
                    </a:lnTo>
                    <a:lnTo>
                      <a:pt x="92" y="284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587080" y="4640400"/>
                <a:ext cx="54720" cy="195120"/>
              </a:xfrm>
              <a:custGeom>
                <a:avLst/>
                <a:gdLst/>
                <a:ahLst/>
                <a:rect l="l" t="t" r="r" b="b"/>
                <a:pathLst>
                  <a:path w="92" h="284">
                    <a:moveTo>
                      <a:pt x="92" y="284"/>
                    </a:moveTo>
                    <a:lnTo>
                      <a:pt x="26" y="0"/>
                    </a:lnTo>
                    <a:lnTo>
                      <a:pt x="0" y="23"/>
                    </a:lnTo>
                    <a:lnTo>
                      <a:pt x="60" y="284"/>
                    </a:lnTo>
                    <a:lnTo>
                      <a:pt x="92" y="284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507440" y="4674600"/>
                <a:ext cx="913680" cy="19800"/>
              </a:xfrm>
              <a:custGeom>
                <a:avLst/>
                <a:gdLst/>
                <a:ahLst/>
                <a:rect l="l" t="t" r="r" b="b"/>
                <a:pathLst>
                  <a:path w="1535" h="29">
                    <a:moveTo>
                      <a:pt x="1528" y="0"/>
                    </a:moveTo>
                    <a:lnTo>
                      <a:pt x="7" y="0"/>
                    </a:lnTo>
                    <a:lnTo>
                      <a:pt x="0" y="29"/>
                    </a:lnTo>
                    <a:lnTo>
                      <a:pt x="1535" y="29"/>
                    </a:lnTo>
                    <a:lnTo>
                      <a:pt x="1528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69720" y="4674600"/>
                <a:ext cx="185040" cy="19800"/>
              </a:xfrm>
              <a:custGeom>
                <a:avLst/>
                <a:gdLst/>
                <a:ahLst/>
                <a:rect l="l" t="t" r="r" b="b"/>
                <a:pathLst>
                  <a:path w="311" h="29">
                    <a:moveTo>
                      <a:pt x="306" y="0"/>
                    </a:moveTo>
                    <a:lnTo>
                      <a:pt x="0" y="0"/>
                    </a:lnTo>
                    <a:lnTo>
                      <a:pt x="7" y="29"/>
                    </a:lnTo>
                    <a:lnTo>
                      <a:pt x="311" y="29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81600" y="4735800"/>
                <a:ext cx="185040" cy="19800"/>
              </a:xfrm>
              <a:custGeom>
                <a:avLst/>
                <a:gdLst/>
                <a:ahLst/>
                <a:rect l="l" t="t" r="r" b="b"/>
                <a:pathLst>
                  <a:path w="311" h="29">
                    <a:moveTo>
                      <a:pt x="311" y="29"/>
                    </a:moveTo>
                    <a:lnTo>
                      <a:pt x="7" y="29"/>
                    </a:lnTo>
                    <a:lnTo>
                      <a:pt x="0" y="0"/>
                    </a:lnTo>
                    <a:lnTo>
                      <a:pt x="304" y="0"/>
                    </a:lnTo>
                    <a:lnTo>
                      <a:pt x="311" y="29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94480" y="4735800"/>
                <a:ext cx="938880" cy="19800"/>
              </a:xfrm>
              <a:custGeom>
                <a:avLst/>
                <a:gdLst/>
                <a:ahLst/>
                <a:rect l="l" t="t" r="r" b="b"/>
                <a:pathLst>
                  <a:path w="1577" h="29">
                    <a:moveTo>
                      <a:pt x="1572" y="0"/>
                    </a:moveTo>
                    <a:lnTo>
                      <a:pt x="9" y="0"/>
                    </a:lnTo>
                    <a:lnTo>
                      <a:pt x="0" y="29"/>
                    </a:lnTo>
                    <a:lnTo>
                      <a:pt x="1577" y="29"/>
                    </a:lnTo>
                    <a:lnTo>
                      <a:pt x="157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79720" y="4815360"/>
                <a:ext cx="969840" cy="19800"/>
              </a:xfrm>
              <a:custGeom>
                <a:avLst/>
                <a:gdLst/>
                <a:ahLst/>
                <a:rect l="l" t="t" r="r" b="b"/>
                <a:pathLst>
                  <a:path w="1629" h="29">
                    <a:moveTo>
                      <a:pt x="1629" y="29"/>
                    </a:moveTo>
                    <a:lnTo>
                      <a:pt x="0" y="29"/>
                    </a:lnTo>
                    <a:lnTo>
                      <a:pt x="7" y="0"/>
                    </a:lnTo>
                    <a:lnTo>
                      <a:pt x="1622" y="0"/>
                    </a:lnTo>
                    <a:lnTo>
                      <a:pt x="1629" y="29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97800" y="4815360"/>
                <a:ext cx="185040" cy="19800"/>
              </a:xfrm>
              <a:custGeom>
                <a:avLst/>
                <a:gdLst/>
                <a:ahLst/>
                <a:rect l="l" t="t" r="r" b="b"/>
                <a:pathLst>
                  <a:path w="311" h="29">
                    <a:moveTo>
                      <a:pt x="7" y="29"/>
                    </a:moveTo>
                    <a:lnTo>
                      <a:pt x="311" y="29"/>
                    </a:lnTo>
                    <a:lnTo>
                      <a:pt x="304" y="0"/>
                    </a:lnTo>
                    <a:lnTo>
                      <a:pt x="0" y="0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680" y="4612320"/>
                <a:ext cx="889920" cy="19440"/>
              </a:xfrm>
              <a:custGeom>
                <a:avLst/>
                <a:gdLst/>
                <a:ahLst/>
                <a:rect l="l" t="t" r="r" b="b"/>
                <a:pathLst>
                  <a:path w="1495" h="29">
                    <a:moveTo>
                      <a:pt x="1488" y="0"/>
                    </a:moveTo>
                    <a:lnTo>
                      <a:pt x="7" y="0"/>
                    </a:lnTo>
                    <a:lnTo>
                      <a:pt x="0" y="29"/>
                    </a:lnTo>
                    <a:lnTo>
                      <a:pt x="1495" y="29"/>
                    </a:lnTo>
                    <a:lnTo>
                      <a:pt x="1488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377560" y="4569480"/>
                <a:ext cx="72000" cy="265680"/>
              </a:xfrm>
              <a:custGeom>
                <a:avLst/>
                <a:gdLst/>
                <a:ahLst/>
                <a:rect l="l" t="t" r="r" b="b"/>
                <a:pathLst>
                  <a:path w="121" h="387">
                    <a:moveTo>
                      <a:pt x="34" y="0"/>
                    </a:moveTo>
                    <a:lnTo>
                      <a:pt x="121" y="387"/>
                    </a:lnTo>
                    <a:lnTo>
                      <a:pt x="89" y="387"/>
                    </a:lnTo>
                    <a:lnTo>
                      <a:pt x="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21400" y="4569480"/>
                <a:ext cx="25920" cy="42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32" y="0"/>
                    </a:moveTo>
                    <a:lnTo>
                      <a:pt x="44" y="62"/>
                    </a:lnTo>
                    <a:lnTo>
                      <a:pt x="12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65600" y="4569480"/>
                <a:ext cx="24840" cy="4248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32" y="0"/>
                    </a:moveTo>
                    <a:lnTo>
                      <a:pt x="42" y="62"/>
                    </a:lnTo>
                    <a:lnTo>
                      <a:pt x="10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08360" y="4569480"/>
                <a:ext cx="24840" cy="4248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32" y="0"/>
                    </a:moveTo>
                    <a:lnTo>
                      <a:pt x="42" y="62"/>
                    </a:lnTo>
                    <a:lnTo>
                      <a:pt x="10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152200" y="4569480"/>
                <a:ext cx="23040" cy="424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0" y="0"/>
                    </a:moveTo>
                    <a:lnTo>
                      <a:pt x="39" y="62"/>
                    </a:lnTo>
                    <a:lnTo>
                      <a:pt x="7" y="62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96400" y="456948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0" y="0"/>
                    </a:moveTo>
                    <a:lnTo>
                      <a:pt x="35" y="62"/>
                    </a:lnTo>
                    <a:lnTo>
                      <a:pt x="3" y="62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040600" y="4569480"/>
                <a:ext cx="19440" cy="4248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1" y="0"/>
                    </a:moveTo>
                    <a:lnTo>
                      <a:pt x="33" y="62"/>
                    </a:lnTo>
                    <a:lnTo>
                      <a:pt x="1" y="62"/>
                    </a:ln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83720" y="456948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31" y="62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27920" y="4569480"/>
                <a:ext cx="17640" cy="42480"/>
              </a:xfrm>
              <a:prstGeom prst="rect">
                <a:avLst/>
              </a:prstGeom>
              <a:solidFill>
                <a:srgbClr val="004cb2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68880" y="4569480"/>
                <a:ext cx="20160" cy="4248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12000" y="456948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5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54040" y="4569480"/>
                <a:ext cx="21960" cy="4248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37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95720" y="4569480"/>
                <a:ext cx="23040" cy="424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1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38480" y="4569480"/>
                <a:ext cx="24120" cy="42480"/>
              </a:xfrm>
              <a:custGeom>
                <a:avLst/>
                <a:gdLst/>
                <a:ahLst/>
                <a:rect l="l" t="t" r="r" b="b"/>
                <a:pathLst>
                  <a:path w="41" h="62">
                    <a:moveTo>
                      <a:pt x="41" y="0"/>
                    </a:moveTo>
                    <a:lnTo>
                      <a:pt x="29" y="62"/>
                    </a:lnTo>
                    <a:lnTo>
                      <a:pt x="0" y="62"/>
                    </a:lnTo>
                    <a:lnTo>
                      <a:pt x="1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80880" y="4569480"/>
                <a:ext cx="24840" cy="4248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0"/>
                    </a:moveTo>
                    <a:lnTo>
                      <a:pt x="28" y="62"/>
                    </a:lnTo>
                    <a:lnTo>
                      <a:pt x="0" y="62"/>
                    </a:lnTo>
                    <a:lnTo>
                      <a:pt x="13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79720" y="4569480"/>
                <a:ext cx="70200" cy="265680"/>
              </a:xfrm>
              <a:custGeom>
                <a:avLst/>
                <a:gdLst/>
                <a:ahLst/>
                <a:rect l="l" t="t" r="r" b="b"/>
                <a:pathLst>
                  <a:path w="118" h="387">
                    <a:moveTo>
                      <a:pt x="0" y="387"/>
                    </a:moveTo>
                    <a:lnTo>
                      <a:pt x="87" y="0"/>
                    </a:lnTo>
                    <a:lnTo>
                      <a:pt x="118" y="0"/>
                    </a:lnTo>
                    <a:lnTo>
                      <a:pt x="28" y="387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40480" y="4632120"/>
                <a:ext cx="25920" cy="424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34" y="0"/>
                    </a:moveTo>
                    <a:lnTo>
                      <a:pt x="44" y="62"/>
                    </a:lnTo>
                    <a:lnTo>
                      <a:pt x="12" y="62"/>
                    </a:lnTo>
                    <a:lnTo>
                      <a:pt x="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84680" y="4632120"/>
                <a:ext cx="25560" cy="4248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32" y="0"/>
                    </a:moveTo>
                    <a:lnTo>
                      <a:pt x="43" y="62"/>
                    </a:lnTo>
                    <a:lnTo>
                      <a:pt x="12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27440" y="4632120"/>
                <a:ext cx="24840" cy="4248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32" y="0"/>
                    </a:moveTo>
                    <a:lnTo>
                      <a:pt x="42" y="62"/>
                    </a:lnTo>
                    <a:lnTo>
                      <a:pt x="10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171280" y="4632120"/>
                <a:ext cx="22680" cy="424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2" y="0"/>
                    </a:moveTo>
                    <a:lnTo>
                      <a:pt x="38" y="62"/>
                    </a:lnTo>
                    <a:lnTo>
                      <a:pt x="7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114400" y="4632120"/>
                <a:ext cx="21960" cy="4248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32" y="0"/>
                    </a:moveTo>
                    <a:lnTo>
                      <a:pt x="37" y="62"/>
                    </a:lnTo>
                    <a:lnTo>
                      <a:pt x="7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60040" y="463212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0" y="0"/>
                    </a:moveTo>
                    <a:lnTo>
                      <a:pt x="32" y="62"/>
                    </a:lnTo>
                    <a:lnTo>
                      <a:pt x="2" y="62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02800" y="463212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31" y="62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47000" y="463212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0" y="0"/>
                    </a:moveTo>
                    <a:lnTo>
                      <a:pt x="32" y="62"/>
                    </a:lnTo>
                    <a:lnTo>
                      <a:pt x="2" y="62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89040" y="4632120"/>
                <a:ext cx="19440" cy="4248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3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30720" y="463212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5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73120" y="4632120"/>
                <a:ext cx="21960" cy="4248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37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8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15880" y="463212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0"/>
                    </a:moveTo>
                    <a:lnTo>
                      <a:pt x="28" y="62"/>
                    </a:lnTo>
                    <a:lnTo>
                      <a:pt x="0" y="62"/>
                    </a:lnTo>
                    <a:lnTo>
                      <a:pt x="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57560" y="4632120"/>
                <a:ext cx="24120" cy="42480"/>
              </a:xfrm>
              <a:custGeom>
                <a:avLst/>
                <a:gdLst/>
                <a:ahLst/>
                <a:rect l="l" t="t" r="r" b="b"/>
                <a:pathLst>
                  <a:path w="41" h="62">
                    <a:moveTo>
                      <a:pt x="41" y="0"/>
                    </a:moveTo>
                    <a:lnTo>
                      <a:pt x="29" y="62"/>
                    </a:lnTo>
                    <a:lnTo>
                      <a:pt x="0" y="62"/>
                    </a:lnTo>
                    <a:lnTo>
                      <a:pt x="1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599960" y="4632120"/>
                <a:ext cx="25200" cy="4248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43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1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347680" y="4757040"/>
                <a:ext cx="29520" cy="58320"/>
              </a:xfrm>
              <a:custGeom>
                <a:avLst/>
                <a:gdLst/>
                <a:ahLst/>
                <a:rect l="l" t="t" r="r" b="b"/>
                <a:pathLst>
                  <a:path w="50" h="85">
                    <a:moveTo>
                      <a:pt x="33" y="0"/>
                    </a:moveTo>
                    <a:lnTo>
                      <a:pt x="50" y="85"/>
                    </a:lnTo>
                    <a:lnTo>
                      <a:pt x="18" y="85"/>
                    </a:lnTo>
                    <a:lnTo>
                      <a:pt x="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234640" y="4757040"/>
                <a:ext cx="35640" cy="58320"/>
              </a:xfrm>
              <a:custGeom>
                <a:avLst/>
                <a:gdLst/>
                <a:ahLst/>
                <a:rect l="l" t="t" r="r" b="b"/>
                <a:pathLst>
                  <a:path w="60" h="85">
                    <a:moveTo>
                      <a:pt x="45" y="0"/>
                    </a:moveTo>
                    <a:lnTo>
                      <a:pt x="60" y="85"/>
                    </a:lnTo>
                    <a:lnTo>
                      <a:pt x="15" y="85"/>
                    </a:lnTo>
                    <a:lnTo>
                      <a:pt x="0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140320" y="4757040"/>
                <a:ext cx="25560" cy="58320"/>
              </a:xfrm>
              <a:custGeom>
                <a:avLst/>
                <a:gdLst/>
                <a:ahLst/>
                <a:rect l="l" t="t" r="r" b="b"/>
                <a:pathLst>
                  <a:path w="43" h="85">
                    <a:moveTo>
                      <a:pt x="32" y="0"/>
                    </a:moveTo>
                    <a:lnTo>
                      <a:pt x="43" y="85"/>
                    </a:lnTo>
                    <a:lnTo>
                      <a:pt x="11" y="85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87800" y="4757040"/>
                <a:ext cx="24840" cy="58320"/>
              </a:xfrm>
              <a:custGeom>
                <a:avLst/>
                <a:gdLst/>
                <a:ahLst/>
                <a:rect l="l" t="t" r="r" b="b"/>
                <a:pathLst>
                  <a:path w="42" h="85">
                    <a:moveTo>
                      <a:pt x="42" y="0"/>
                    </a:moveTo>
                    <a:lnTo>
                      <a:pt x="28" y="85"/>
                    </a:lnTo>
                    <a:lnTo>
                      <a:pt x="0" y="85"/>
                    </a:lnTo>
                    <a:lnTo>
                      <a:pt x="11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71880" y="4757040"/>
                <a:ext cx="28440" cy="58320"/>
              </a:xfrm>
              <a:custGeom>
                <a:avLst/>
                <a:gdLst/>
                <a:ahLst/>
                <a:rect l="l" t="t" r="r" b="b"/>
                <a:pathLst>
                  <a:path w="48" h="85">
                    <a:moveTo>
                      <a:pt x="48" y="0"/>
                    </a:moveTo>
                    <a:lnTo>
                      <a:pt x="28" y="85"/>
                    </a:lnTo>
                    <a:lnTo>
                      <a:pt x="0" y="85"/>
                    </a:lnTo>
                    <a:lnTo>
                      <a:pt x="2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53800" y="4694760"/>
                <a:ext cx="26640" cy="42480"/>
              </a:xfrm>
              <a:custGeom>
                <a:avLst/>
                <a:gdLst/>
                <a:ahLst/>
                <a:rect l="l" t="t" r="r" b="b"/>
                <a:pathLst>
                  <a:path w="45" h="62">
                    <a:moveTo>
                      <a:pt x="33" y="0"/>
                    </a:moveTo>
                    <a:lnTo>
                      <a:pt x="45" y="62"/>
                    </a:lnTo>
                    <a:lnTo>
                      <a:pt x="12" y="62"/>
                    </a:lnTo>
                    <a:lnTo>
                      <a:pt x="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297640" y="4694760"/>
                <a:ext cx="25560" cy="4248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32" y="0"/>
                    </a:moveTo>
                    <a:lnTo>
                      <a:pt x="43" y="62"/>
                    </a:lnTo>
                    <a:lnTo>
                      <a:pt x="11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241120" y="4694760"/>
                <a:ext cx="24120" cy="42480"/>
              </a:xfrm>
              <a:custGeom>
                <a:avLst/>
                <a:gdLst/>
                <a:ahLst/>
                <a:rect l="l" t="t" r="r" b="b"/>
                <a:pathLst>
                  <a:path w="41" h="62">
                    <a:moveTo>
                      <a:pt x="31" y="0"/>
                    </a:moveTo>
                    <a:lnTo>
                      <a:pt x="41" y="62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184600" y="4694760"/>
                <a:ext cx="22680" cy="424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2" y="0"/>
                    </a:moveTo>
                    <a:lnTo>
                      <a:pt x="38" y="62"/>
                    </a:lnTo>
                    <a:lnTo>
                      <a:pt x="6" y="6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128080" y="4694760"/>
                <a:ext cx="21240" cy="4248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31" y="0"/>
                    </a:moveTo>
                    <a:lnTo>
                      <a:pt x="36" y="62"/>
                    </a:lnTo>
                    <a:lnTo>
                      <a:pt x="6" y="62"/>
                    </a:ln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073360" y="469476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0" y="0"/>
                    </a:moveTo>
                    <a:lnTo>
                      <a:pt x="32" y="62"/>
                    </a:lnTo>
                    <a:lnTo>
                      <a:pt x="2" y="62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16120" y="469476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32" y="62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59960" y="469476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0" y="0"/>
                    </a:moveTo>
                    <a:lnTo>
                      <a:pt x="32" y="62"/>
                    </a:lnTo>
                    <a:lnTo>
                      <a:pt x="2" y="62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01640" y="4694760"/>
                <a:ext cx="20160" cy="4248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0"/>
                    </a:moveTo>
                    <a:lnTo>
                      <a:pt x="31" y="62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44040" y="469476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5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86800" y="4694760"/>
                <a:ext cx="21960" cy="4248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37" y="0"/>
                    </a:moveTo>
                    <a:lnTo>
                      <a:pt x="29" y="62"/>
                    </a:lnTo>
                    <a:lnTo>
                      <a:pt x="0" y="62"/>
                    </a:lnTo>
                    <a:lnTo>
                      <a:pt x="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29200" y="469476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0"/>
                    </a:moveTo>
                    <a:lnTo>
                      <a:pt x="28" y="62"/>
                    </a:lnTo>
                    <a:lnTo>
                      <a:pt x="0" y="62"/>
                    </a:lnTo>
                    <a:lnTo>
                      <a:pt x="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70880" y="4694760"/>
                <a:ext cx="23760" cy="424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40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12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12920" y="4694760"/>
                <a:ext cx="25200" cy="4248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43" y="0"/>
                    </a:moveTo>
                    <a:lnTo>
                      <a:pt x="30" y="62"/>
                    </a:lnTo>
                    <a:lnTo>
                      <a:pt x="0" y="62"/>
                    </a:lnTo>
                    <a:lnTo>
                      <a:pt x="1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4cb2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456680" y="4005360"/>
              <a:ext cx="838080" cy="304920"/>
              <a:chOff x="7456680" y="4005360"/>
              <a:chExt cx="838080" cy="304920"/>
            </a:xfrm>
          </p:grpSpPr>
          <p:sp>
            <p:nvSpPr>
              <p:cNvPr id="207" name=""/>
              <p:cNvSpPr/>
              <p:nvPr/>
            </p:nvSpPr>
            <p:spPr>
              <a:xfrm>
                <a:off x="7456680" y="4005360"/>
                <a:ext cx="838080" cy="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294760" y="4005360"/>
                <a:ext cx="0" cy="30492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7110000" y="2971800"/>
            <a:ext cx="1143360" cy="837720"/>
            <a:chOff x="7110000" y="2971800"/>
            <a:chExt cx="1143360" cy="837720"/>
          </a:xfrm>
        </p:grpSpPr>
        <p:pic>
          <p:nvPicPr>
            <p:cNvPr id="210" name="" descr=""/>
            <p:cNvPicPr/>
            <p:nvPr/>
          </p:nvPicPr>
          <p:blipFill>
            <a:blip r:embed="rId7"/>
            <a:stretch/>
          </p:blipFill>
          <p:spPr>
            <a:xfrm>
              <a:off x="7535160" y="2971800"/>
              <a:ext cx="718200" cy="52020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  <p:sp>
          <p:nvSpPr>
            <p:cNvPr id="211" name=""/>
            <p:cNvSpPr/>
            <p:nvPr/>
          </p:nvSpPr>
          <p:spPr>
            <a:xfrm flipH="1">
              <a:off x="7110000" y="3510360"/>
              <a:ext cx="444600" cy="29916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623960" y="5638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мыш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00280" y="601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е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227664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теперь рассмотрим внутреннее устройство компьютера на схеме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7%D0%B2%D1%83%D0%BA%20Microsof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65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50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9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9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19280" y="292428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теперь рассмотрим внешние устройства компьютера на схеме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36640"/>
            <a:ext cx="9144000" cy="514836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6127920"/>
            <a:ext cx="810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ты хочешь узнать больше об этих устройствах, то можешь по любому устройству щелкнуть мышкой или последовательно нажимать кнопку, которая находится в правом нижнем уг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>
            <a:lum contrast="-6000"/>
          </a:blip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3" action="ppaction://hlinksldjump"/>
          </p:cNvPr>
          <p:cNvPicPr/>
          <p:nvPr/>
        </p:nvPicPr>
        <p:blipFill>
          <a:blip r:embed="rId4"/>
          <a:srcRect l="40702" t="0" r="-5302" b="0"/>
          <a:stretch/>
        </p:blipFill>
        <p:spPr>
          <a:xfrm>
            <a:off x="4427640" y="1341360"/>
            <a:ext cx="1800000" cy="18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3995640" y="2852640"/>
          <a:ext cx="9352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2852640"/>
                    <a:ext cx="935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77080" y="4724280"/>
            <a:ext cx="865080" cy="795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50920" y="4653000"/>
            <a:ext cx="863640" cy="750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21" action="ppaction://hlinksldjump"/>
          </p:cNvPr>
          <p:cNvSpPr/>
          <p:nvPr/>
        </p:nvSpPr>
        <p:spPr>
          <a:xfrm flipV="1" rot="5394600">
            <a:off x="8362080" y="6075720"/>
            <a:ext cx="904680" cy="652320"/>
          </a:xfrm>
          <a:custGeom>
            <a:avLst/>
            <a:gdLst>
              <a:gd name="textAreaLeft" fmla="*/ 163080 w 904680"/>
              <a:gd name="textAreaRight" fmla="*/ 741600 w 904680"/>
              <a:gd name="textAreaTop" fmla="*/ 163080 h 652320"/>
              <a:gd name="textAreaBottom" fmla="*/ 489240 h 652320"/>
            </a:gdLst>
            <a:ahLst/>
            <a:rect l="textAreaLeft" t="textAreaTop" r="textAreaRight" b="textAreaBottom"/>
            <a:pathLst>
              <a:path w="29952" h="21600">
                <a:moveTo>
                  <a:pt x="0" y="0"/>
                </a:moveTo>
                <a:lnTo>
                  <a:pt x="29952" y="0"/>
                </a:lnTo>
                <a:lnTo>
                  <a:pt x="29952" y="21600"/>
                </a:lnTo>
                <a:lnTo>
                  <a:pt x="0" y="21600"/>
                </a:lnTo>
                <a:close/>
              </a:path>
              <a:path fill="lightenLess" w="29952" h="21600">
                <a:moveTo>
                  <a:pt x="0" y="0"/>
                </a:moveTo>
                <a:lnTo>
                  <a:pt x="29952" y="0"/>
                </a:lnTo>
                <a:lnTo>
                  <a:pt x="24552" y="5400"/>
                </a:lnTo>
                <a:lnTo>
                  <a:pt x="5400" y="5400"/>
                </a:lnTo>
                <a:close/>
              </a:path>
              <a:path fill="darken" w="29952" h="21600">
                <a:moveTo>
                  <a:pt x="29952" y="0"/>
                </a:moveTo>
                <a:lnTo>
                  <a:pt x="29952" y="21600"/>
                </a:lnTo>
                <a:lnTo>
                  <a:pt x="24552" y="16200"/>
                </a:lnTo>
                <a:lnTo>
                  <a:pt x="24552" y="5400"/>
                </a:lnTo>
                <a:close/>
              </a:path>
              <a:path fill="darkenLess" w="29952" h="21600">
                <a:moveTo>
                  <a:pt x="2995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4552" y="16200"/>
                </a:lnTo>
                <a:close/>
              </a:path>
              <a:path fill="lighten" w="2995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9952" h="21600">
                <a:moveTo>
                  <a:pt x="10951" y="6775"/>
                </a:moveTo>
                <a:lnTo>
                  <a:pt x="19001" y="10800"/>
                </a:lnTo>
                <a:lnTo>
                  <a:pt x="10951" y="14825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36640"/>
            <a:ext cx="9144000" cy="489744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>
            <a:lum contrast="-6000"/>
          </a:blip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2" action="ppaction://hlinksldjump"/>
          </p:cNvPr>
          <p:cNvPicPr/>
          <p:nvPr/>
        </p:nvPicPr>
        <p:blipFill>
          <a:blip r:embed="rId3"/>
          <a:srcRect l="40702" t="0" r="-5302" b="0"/>
          <a:stretch/>
        </p:blipFill>
        <p:spPr>
          <a:xfrm>
            <a:off x="4572000" y="1268280"/>
            <a:ext cx="165564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3995640" y="2852640"/>
          <a:ext cx="93528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2852640"/>
                    <a:ext cx="935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>
            <a:hlinkClick r:id="rId7" action="ppaction://hlinksldjump"/>
          </p:cNvPr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6877080" y="4724280"/>
            <a:ext cx="865080" cy="795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9" action="ppaction://hlinksldjump"/>
          </p:cNvPr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11" action="ppaction://hlinksldjump"/>
          </p:cNvPr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13" action="ppaction://hlinksldjump"/>
          </p:cNvPr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15" action="ppaction://hlinksldjump"/>
          </p:cNvPr>
          <p:cNvPicPr/>
          <p:nvPr/>
        </p:nvPicPr>
        <p:blipFill>
          <a:blip r:embed="rId16">
            <a:lum bright="70000" contrast="-70000"/>
          </a:blip>
          <a:stretch/>
        </p:blipFill>
        <p:spPr>
          <a:xfrm>
            <a:off x="250920" y="4653000"/>
            <a:ext cx="863640" cy="750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17" action="ppaction://hlinksldjump"/>
          </p:cNvPr>
          <p:cNvPicPr/>
          <p:nvPr/>
        </p:nvPicPr>
        <p:blipFill>
          <a:blip r:embed="rId18">
            <a:lum bright="70000" contrast="-70000"/>
          </a:blip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rId19" action="ppaction://hlinksldjump"/>
          </p:cNvPr>
          <p:cNvPicPr/>
          <p:nvPr/>
        </p:nvPicPr>
        <p:blipFill>
          <a:blip r:embed="rId20">
            <a:lum bright="70000" contrast="-70000"/>
          </a:blip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9280" y="5661000"/>
            <a:ext cx="7956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Корпус системного блока с блоком 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сональный компьютер представляет собой набор взаимосвязанных устройств. Главным в этом наборе являетс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в котором находится «мозг» машины: микропроцессор и внутренняя памя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21" action="ppaction://hlinksldjump"/>
          </p:cNvPr>
          <p:cNvSpPr/>
          <p:nvPr/>
        </p:nvSpPr>
        <p:spPr>
          <a:xfrm flipV="1" rot="5394600">
            <a:off x="8255880" y="5969160"/>
            <a:ext cx="1123920" cy="652320"/>
          </a:xfrm>
          <a:custGeom>
            <a:avLst/>
            <a:gdLst>
              <a:gd name="textAreaLeft" fmla="*/ 163080 w 1123920"/>
              <a:gd name="textAreaRight" fmla="*/ 960840 w 1123920"/>
              <a:gd name="textAreaTop" fmla="*/ 163080 h 652320"/>
              <a:gd name="textAreaBottom" fmla="*/ 489240 h 652320"/>
            </a:gdLst>
            <a:ahLst/>
            <a:rect l="textAreaLeft" t="textAreaTop" r="textAreaRight" b="textAreaBottom"/>
            <a:pathLst>
              <a:path w="37207" h="21600">
                <a:moveTo>
                  <a:pt x="0" y="0"/>
                </a:moveTo>
                <a:lnTo>
                  <a:pt x="37207" y="0"/>
                </a:lnTo>
                <a:lnTo>
                  <a:pt x="37207" y="21600"/>
                </a:lnTo>
                <a:lnTo>
                  <a:pt x="0" y="21600"/>
                </a:lnTo>
                <a:close/>
              </a:path>
              <a:path fill="lightenLess" w="37207" h="21600">
                <a:moveTo>
                  <a:pt x="0" y="0"/>
                </a:moveTo>
                <a:lnTo>
                  <a:pt x="37207" y="0"/>
                </a:lnTo>
                <a:lnTo>
                  <a:pt x="31807" y="5400"/>
                </a:lnTo>
                <a:lnTo>
                  <a:pt x="5400" y="5400"/>
                </a:lnTo>
                <a:close/>
              </a:path>
              <a:path fill="darken" w="37207" h="21600">
                <a:moveTo>
                  <a:pt x="37207" y="0"/>
                </a:moveTo>
                <a:lnTo>
                  <a:pt x="37207" y="21600"/>
                </a:lnTo>
                <a:lnTo>
                  <a:pt x="31807" y="16200"/>
                </a:lnTo>
                <a:lnTo>
                  <a:pt x="31807" y="5400"/>
                </a:lnTo>
                <a:close/>
              </a:path>
              <a:path fill="darkenLess" w="37207" h="21600">
                <a:moveTo>
                  <a:pt x="3720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1807" y="16200"/>
                </a:lnTo>
                <a:close/>
              </a:path>
              <a:path fill="lighten" w="3720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7207" h="21600">
                <a:moveTo>
                  <a:pt x="14579" y="6775"/>
                </a:moveTo>
                <a:lnTo>
                  <a:pt x="22629" y="10800"/>
                </a:lnTo>
                <a:lnTo>
                  <a:pt x="14579" y="14825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836640"/>
            <a:ext cx="9144000" cy="489744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 flipV="1" rot="5400000">
            <a:off x="8312040" y="6026040"/>
            <a:ext cx="1123920" cy="539640"/>
          </a:xfrm>
          <a:custGeom>
            <a:avLst/>
            <a:gdLst>
              <a:gd name="textAreaLeft" fmla="*/ 98640 w 1123920"/>
              <a:gd name="textAreaRight" fmla="*/ 1025280 w 1123920"/>
              <a:gd name="textAreaTop" fmla="*/ 98640 h 539640"/>
              <a:gd name="textAreaBottom" fmla="*/ 441000 h 539640"/>
            </a:gdLst>
            <a:ahLst/>
            <a:rect l="textAreaLeft" t="textAreaTop" r="textAreaRight" b="textAreaBottom"/>
            <a:pathLst>
              <a:path w="44971" h="21600">
                <a:moveTo>
                  <a:pt x="0" y="0"/>
                </a:moveTo>
                <a:lnTo>
                  <a:pt x="44971" y="0"/>
                </a:lnTo>
                <a:lnTo>
                  <a:pt x="44971" y="21600"/>
                </a:lnTo>
                <a:lnTo>
                  <a:pt x="0" y="21600"/>
                </a:lnTo>
                <a:close/>
              </a:path>
              <a:path fill="lightenLess" w="44971" h="21600">
                <a:moveTo>
                  <a:pt x="0" y="0"/>
                </a:moveTo>
                <a:lnTo>
                  <a:pt x="44971" y="0"/>
                </a:lnTo>
                <a:lnTo>
                  <a:pt x="41023" y="3948"/>
                </a:lnTo>
                <a:lnTo>
                  <a:pt x="3948" y="3948"/>
                </a:lnTo>
                <a:close/>
              </a:path>
              <a:path fill="darken" w="44971" h="21600">
                <a:moveTo>
                  <a:pt x="44971" y="0"/>
                </a:moveTo>
                <a:lnTo>
                  <a:pt x="44971" y="21600"/>
                </a:lnTo>
                <a:lnTo>
                  <a:pt x="41023" y="17652"/>
                </a:lnTo>
                <a:lnTo>
                  <a:pt x="41023" y="3948"/>
                </a:lnTo>
                <a:close/>
              </a:path>
              <a:path fill="darkenLess" w="44971" h="21600">
                <a:moveTo>
                  <a:pt x="44971" y="21600"/>
                </a:moveTo>
                <a:lnTo>
                  <a:pt x="0" y="21600"/>
                </a:lnTo>
                <a:lnTo>
                  <a:pt x="3948" y="17652"/>
                </a:lnTo>
                <a:lnTo>
                  <a:pt x="41023" y="17652"/>
                </a:lnTo>
                <a:close/>
              </a:path>
              <a:path fill="lighten" w="44971" h="21600">
                <a:moveTo>
                  <a:pt x="0" y="21600"/>
                </a:moveTo>
                <a:lnTo>
                  <a:pt x="0" y="0"/>
                </a:lnTo>
                <a:lnTo>
                  <a:pt x="3948" y="3948"/>
                </a:lnTo>
                <a:lnTo>
                  <a:pt x="3948" y="17652"/>
                </a:lnTo>
                <a:close/>
              </a:path>
              <a:path fill="darken" w="44971" h="21600">
                <a:moveTo>
                  <a:pt x="17378" y="5693"/>
                </a:moveTo>
                <a:lnTo>
                  <a:pt x="27593" y="10800"/>
                </a:lnTo>
                <a:lnTo>
                  <a:pt x="17378" y="15907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3" action="ppaction://hlinksldjump"/>
          </p:cNvPr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5" action="ppaction://hlinksldjump"/>
          </p:cNvPr>
          <p:cNvPicPr/>
          <p:nvPr/>
        </p:nvPicPr>
        <p:blipFill>
          <a:blip r:embed="rId6">
            <a:lum bright="70000" contrast="-70000"/>
          </a:blip>
          <a:srcRect l="40702" t="0" r="-5302" b="0"/>
          <a:stretch/>
        </p:blipFill>
        <p:spPr>
          <a:xfrm>
            <a:off x="4427640" y="1341360"/>
            <a:ext cx="1800000" cy="2016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5661000"/>
            <a:ext cx="8532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Системная (материнская) 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лектронный модуль, в котором размещены следующие компоненты: микропроцессор (основной элемент компьютера, выполняющий операции обработки информации и управляющий работой компьютера), внутренняя память (ОЗУ и ПЗУ), информационная магистраль (общая шин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7" action="ppaction://hlinksldjump"/>
          </p:cNvPr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250920" y="4653000"/>
            <a:ext cx="8636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3708360" y="2276640"/>
          <a:ext cx="1654200" cy="161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08360" y="2276640"/>
                    <a:ext cx="165420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>
            <a:hlinkClick r:id="rId12" action="ppaction://hlinksldjump"/>
          </p:cNvPr>
          <p:cNvPicPr/>
          <p:nvPr/>
        </p:nvPicPr>
        <p:blipFill>
          <a:blip r:embed="rId13">
            <a:lum bright="70000" contrast="-70000"/>
          </a:blip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14" action="ppaction://hlinksldjump"/>
          </p:cNvPr>
          <p:cNvPicPr/>
          <p:nvPr/>
        </p:nvPicPr>
        <p:blipFill>
          <a:blip r:embed="rId15">
            <a:lum bright="70000" contrast="-70000"/>
          </a:blip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16" action="ppaction://hlinksldjump"/>
          </p:cNvPr>
          <p:cNvPicPr/>
          <p:nvPr/>
        </p:nvPicPr>
        <p:blipFill>
          <a:blip r:embed="rId17">
            <a:lum bright="70000" contrast="-70000"/>
          </a:blip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18" action="ppaction://hlinksldjump"/>
          </p:cNvPr>
          <p:cNvPicPr/>
          <p:nvPr/>
        </p:nvPicPr>
        <p:blipFill>
          <a:blip r:embed="rId19">
            <a:lum bright="70000" contrast="-70000"/>
          </a:blip>
          <a:stretch/>
        </p:blipFill>
        <p:spPr>
          <a:xfrm>
            <a:off x="6877080" y="4724280"/>
            <a:ext cx="865080" cy="795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0">
            <a:lum bright="70000" contrast="-70000"/>
          </a:blip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76360" y="26028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ВНЕШНИЕ УСТРОЙСТВА  ПЕРСОНАЛЬНОГО 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36640"/>
            <a:ext cx="9144000" cy="489744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ffffff"/>
              </a:gs>
              <a:gs pos="100000">
                <a:srgbClr val="29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76720" y="3141720"/>
            <a:ext cx="64764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11280" y="3141720"/>
            <a:ext cx="2520720" cy="143964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842920" y="3068640"/>
            <a:ext cx="1152360" cy="172872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835280" y="3213000"/>
            <a:ext cx="1512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3213000"/>
            <a:ext cx="1513080" cy="151128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836640"/>
            <a:ext cx="287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2000" y="3213000"/>
            <a:ext cx="2520720" cy="1440000"/>
          </a:xfrm>
          <a:prstGeom prst="line">
            <a:avLst/>
          </a:prstGeom>
          <a:ln w="3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 flipV="1">
            <a:off x="8532720" y="5734080"/>
            <a:ext cx="611280" cy="1123920"/>
          </a:xfrm>
          <a:custGeom>
            <a:avLst/>
            <a:gdLst>
              <a:gd name="textAreaLeft" fmla="*/ 152640 w 611280"/>
              <a:gd name="textAreaRight" fmla="*/ 458640 w 611280"/>
              <a:gd name="textAreaTop" fmla="*/ 152640 h 1123920"/>
              <a:gd name="textAreaBottom" fmla="*/ 971280 h 1123920"/>
            </a:gdLst>
            <a:ahLst/>
            <a:rect l="textAreaLeft" t="textAreaTop" r="textAreaRight" b="textAreaBottom"/>
            <a:pathLst>
              <a:path w="21600" h="39704">
                <a:moveTo>
                  <a:pt x="0" y="0"/>
                </a:moveTo>
                <a:lnTo>
                  <a:pt x="21600" y="0"/>
                </a:lnTo>
                <a:lnTo>
                  <a:pt x="21600" y="39704"/>
                </a:lnTo>
                <a:lnTo>
                  <a:pt x="0" y="39704"/>
                </a:lnTo>
                <a:close/>
              </a:path>
              <a:path fill="lightenLess" w="21600" h="3970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39704">
                <a:moveTo>
                  <a:pt x="21600" y="0"/>
                </a:moveTo>
                <a:lnTo>
                  <a:pt x="21600" y="39704"/>
                </a:lnTo>
                <a:lnTo>
                  <a:pt x="16200" y="34304"/>
                </a:lnTo>
                <a:lnTo>
                  <a:pt x="16200" y="5400"/>
                </a:lnTo>
                <a:close/>
              </a:path>
              <a:path fill="darkenLess" w="21600" h="39704">
                <a:moveTo>
                  <a:pt x="21600" y="39704"/>
                </a:moveTo>
                <a:lnTo>
                  <a:pt x="0" y="39704"/>
                </a:lnTo>
                <a:lnTo>
                  <a:pt x="5400" y="34304"/>
                </a:lnTo>
                <a:lnTo>
                  <a:pt x="16200" y="34304"/>
                </a:lnTo>
                <a:close/>
              </a:path>
              <a:path fill="lighten" w="21600" h="39704">
                <a:moveTo>
                  <a:pt x="0" y="39704"/>
                </a:moveTo>
                <a:lnTo>
                  <a:pt x="0" y="0"/>
                </a:lnTo>
                <a:lnTo>
                  <a:pt x="5400" y="5400"/>
                </a:lnTo>
                <a:lnTo>
                  <a:pt x="5400" y="34304"/>
                </a:lnTo>
                <a:close/>
              </a:path>
              <a:path fill="darken" w="21600" h="39704">
                <a:moveTo>
                  <a:pt x="6775" y="15827"/>
                </a:moveTo>
                <a:lnTo>
                  <a:pt x="14825" y="19852"/>
                </a:lnTo>
                <a:lnTo>
                  <a:pt x="6775" y="23877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rcRect l="0" t="0" r="58412" b="0"/>
          <a:stretch/>
        </p:blipFill>
        <p:spPr>
          <a:xfrm>
            <a:off x="3203640" y="1413000"/>
            <a:ext cx="1020600" cy="1800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3" action="ppaction://hlinksldjump"/>
          </p:cNvPr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340000" y="4797360"/>
            <a:ext cx="1297080" cy="6177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50920" y="4653000"/>
            <a:ext cx="863640" cy="750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79280" y="5734080"/>
            <a:ext cx="8172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Манипулятор джой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 ручного управления компьютерными иг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ще всего представляет собой рукоятку с кнопками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>
            <a:hlinkClick r:id="rId6" action="ppaction://hlinksldjump"/>
          </p:cNvPr>
          <p:cNvPicPr/>
          <p:nvPr/>
        </p:nvPicPr>
        <p:blipFill>
          <a:blip r:embed="rId7">
            <a:lum bright="70000" contrast="-70000"/>
          </a:blip>
          <a:srcRect l="40702" t="0" r="-5302" b="0"/>
          <a:stretch/>
        </p:blipFill>
        <p:spPr>
          <a:xfrm>
            <a:off x="4427640" y="1341360"/>
            <a:ext cx="180000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3708360" y="2276640"/>
          <a:ext cx="1654200" cy="16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76640"/>
                    <a:ext cx="165420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>
            <a:hlinkClick r:id="rId11" action="ppaction://hlinksldjump"/>
          </p:cNvPr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1403280" y="472428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>
            <a:hlinkClick r:id="rId13" action="ppaction://hlinksldjump"/>
          </p:cNvPr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3924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>
            <a:hlinkClick r:id="rId15" action="ppaction://hlinksldjump"/>
          </p:cNvPr>
          <p:cNvPicPr/>
          <p:nvPr/>
        </p:nvPicPr>
        <p:blipFill>
          <a:blip r:embed="rId16">
            <a:lum bright="70000" contrast="-70000"/>
          </a:blip>
          <a:stretch/>
        </p:blipFill>
        <p:spPr>
          <a:xfrm>
            <a:off x="5435640" y="4724280"/>
            <a:ext cx="1008000" cy="760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>
            <a:hlinkClick r:id="rId17" action="ppaction://hlinksldjump"/>
          </p:cNvPr>
          <p:cNvPicPr/>
          <p:nvPr/>
        </p:nvPicPr>
        <p:blipFill>
          <a:blip r:embed="rId18">
            <a:lum bright="70000" contrast="-70000"/>
          </a:blip>
          <a:stretch/>
        </p:blipFill>
        <p:spPr>
          <a:xfrm>
            <a:off x="6877080" y="4724280"/>
            <a:ext cx="865080" cy="795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9">
            <a:lum bright="70000" contrast="-70000"/>
          </a:blip>
          <a:stretch/>
        </p:blipFill>
        <p:spPr>
          <a:xfrm>
            <a:off x="8062920" y="46530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0:13:29Z</dcterms:created>
  <dc:creator>Home</dc:creator>
  <dc:description/>
  <dc:language>en-US</dc:language>
  <cp:lastModifiedBy>Home</cp:lastModifiedBy>
  <dcterms:modified xsi:type="dcterms:W3CDTF">2009-01-24T22:19:52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