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200-B430-48EC-BC1A-B428EF21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43A-62A2-42A3-9F2B-EEDD711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4A3-9561-4471-8345-C22DDD90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CBA-B880-409D-9DEA-E76882EA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8F61-6CF6-4901-ADFA-3835577F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86CA-EB59-42FC-96CF-C825F435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311-3C34-49F5-8C3A-58D13F6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FC10-548A-4CD6-AB5C-3CAC7F2B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625-DB7B-41DE-AC13-6A9FE1D2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6CE4-D0A7-4B88-AE9D-03B2658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80CA-3381-4416-B0DD-DE70CFC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2D1-B0DF-4D9F-A2DB-642C4C9B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C95-507C-4EE8-B3F1-4C58279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62A7-8A15-4BB6-A934-932B783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EE39-F16E-4CA2-91C4-9E7BE62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4538-CD4A-4D7D-AD5A-E98961D6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30B-F074-47B5-8587-2F713907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1B2-6452-4E0C-8B9E-F65A1B6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4C1-6EFD-41F1-8547-11CABA6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432-2B64-4114-906A-90AE89B3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B67-CAD7-43BC-81B2-8FC4B21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5DD-913D-4E9F-BF5A-B888805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1A4-F6D2-4F57-9388-5BA2045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381-8BF4-43EA-B3A0-523120C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0794-6FF7-46BC-947D-1841716821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B6E-C696-471E-9E3B-63A953BDC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АДОЛЬФ ГИТЛЕР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Встреча с Невиллом Чемберлено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790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ильгельм Кейтель и Альфред Йодль - союзники Гитлер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3434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0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 Геббельсом на площад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762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486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тлер с солдатам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дольф Гитл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562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дольф Гитлер и Ева Брау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4343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Будущее Третьего Рейх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 госпитал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63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510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итлер-основоположник контркультур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248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риветствие своего народа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7057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ветствие олимпийских иг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800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нависть к еврея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86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Рейхсканцл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33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ЯЧОК</cp:lastModifiedBy>
  <dcterms:modified xsi:type="dcterms:W3CDTF">2009-01-19T09:39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