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96F-FF46-4D8C-802E-8F468A4F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D95-A4FF-4878-B58B-D397CE4B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88E-2F2F-415E-8679-28E5422C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078-56DF-4319-A7B3-960FE529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E06D-410A-4365-874A-20915F78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E266-B53E-42E5-AED6-842C5CD7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2DB-908C-4083-BDB3-137C7A10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414-7F44-4BD5-94AC-90D3ED31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488F-F7CB-4C3F-953A-27E47D4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42C-FB2B-40C0-BB18-01DD604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CF7-8D77-4D52-9F76-CB6C1DF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0A2-623B-4AAA-8488-1A9E9B1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B2CD-2AF8-478A-B114-8DBD5499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9CDC-837F-4BC3-AE38-CD48DD86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37A6-0D2D-42AA-9731-34D3CB0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E43E-C8E9-4DE5-A86B-8B76600C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A8E3-61CC-4BFB-95A2-4D0148FB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AA5-AAA5-49B5-BB6C-5450009C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702-0441-45B4-9292-93430E1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496-FD24-4F14-8F43-E1A0355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E8F-940C-4A9C-B8C4-67A352F5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0CB-F0D0-4A51-9742-6641EB3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4A7-C615-4CAD-BE78-945FE18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34A-F60F-4572-95C5-14420E61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ED88-D101-4513-B59E-BE7A4C0680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D29-159D-484E-827F-86645B1AC78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1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7d47d"/>
                </a:solidFill>
                <a:latin typeface="Arial"/>
              </a:rPr>
              <a:t>Ich lerne Deutsch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5640480" cy="9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Mein erstes Bu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1356840"/>
            <a:ext cx="1527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I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4714560"/>
            <a:ext cx="6748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ch hei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ße Wowa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Ich bin 11 Jahre alt  und  lerne in d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r Schule № 27 in der Klasse 5 A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2857680" y="357120"/>
          <a:ext cx="34448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357120"/>
                    <a:ext cx="34448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24360" y="714240"/>
            <a:ext cx="3743280" cy="14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Meine </a:t>
            </a:r>
            <a:br>
              <a:rPr sz="4000"/>
            </a:b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        Famil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3840" y="620280"/>
            <a:ext cx="34290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sere Familie  /die Leshnews / ist nicht gr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ß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Das sind Vati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Mutti und ich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Wir leben in Wolgograd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Meine Mutti ist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Lehreri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Mein Vater ist Ingenieur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3851280" y="2492280"/>
          <a:ext cx="380520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92280"/>
                    <a:ext cx="38052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Meine Freun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4200" y="4786200"/>
            <a:ext cx="75009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as sind meine Freund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rtjom, Julja, Peter und Wanja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Sie lernen auch in der Klasse 5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Wir wohnen in einem Hof und spielen Fu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ßball gern zusamme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7" descr="Выпускной вечер 4А кл"/>
          <p:cNvPicPr/>
          <p:nvPr/>
        </p:nvPicPr>
        <p:blipFill>
          <a:blip r:embed="rId1"/>
          <a:stretch/>
        </p:blipFill>
        <p:spPr>
          <a:xfrm>
            <a:off x="1403280" y="1052640"/>
            <a:ext cx="488340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43040" y="22680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Meine Schu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2786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ch lerne in der Schule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№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27 in Wolgograd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Unsere Schule ist groß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Sie ist schőn und moder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Ich gehe gern in die Schul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11" descr="Выпускной вечер 4А кл"/>
          <p:cNvPicPr/>
          <p:nvPr/>
        </p:nvPicPr>
        <p:blipFill>
          <a:blip r:embed="rId1"/>
          <a:stretch/>
        </p:blipFill>
        <p:spPr>
          <a:xfrm>
            <a:off x="428760" y="121428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Выпускной вечер 4А кл"/>
          <p:cNvPicPr/>
          <p:nvPr/>
        </p:nvPicPr>
        <p:blipFill>
          <a:blip r:embed="rId2"/>
          <a:stretch/>
        </p:blipFill>
        <p:spPr>
          <a:xfrm>
            <a:off x="1143000" y="3857760"/>
            <a:ext cx="338616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320" y="226800"/>
            <a:ext cx="598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Meine Klas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135720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d hier ist unsere Klass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In unserer Klasse sind 28 Sch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üler und Schülerinne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Wir sind hilfsbereit und freundlich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Wir lernen gut und super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4214880" y="3214800"/>
          <a:ext cx="3213000" cy="28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3214800"/>
                    <a:ext cx="321300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8"/>
          <p:cNvGraphicFramePr/>
          <p:nvPr/>
        </p:nvGraphicFramePr>
        <p:xfrm>
          <a:off x="428760" y="4357800"/>
          <a:ext cx="354492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4357800"/>
                    <a:ext cx="354492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3286080"/>
            <a:ext cx="2989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Mein      </a:t>
            </a:r>
            <a:br>
              <a:rPr sz="4000"/>
            </a:b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     Zimm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as ist mein Zimmer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 ist nicht gr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ß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Rechts stehen ein Bett und ein Bücherschrank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Links  sind ein Schreibtisch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ein Stuhl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d eine Tischlamp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32000" y="2857320"/>
            <a:ext cx="3182760" cy="32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6" descr="IMG_0938"/>
          <p:cNvPicPr/>
          <p:nvPr/>
        </p:nvPicPr>
        <p:blipFill>
          <a:blip r:embed="rId2"/>
          <a:stretch/>
        </p:blipFill>
        <p:spPr>
          <a:xfrm>
            <a:off x="3714840" y="2643120"/>
            <a:ext cx="388764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348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Meine   </a:t>
            </a:r>
            <a:br>
              <a:rPr sz="4000"/>
            </a:b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       Hobby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95640" y="3212640"/>
            <a:ext cx="361944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ch habe ein Aquarium  mit  14 Fische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Sie sind gr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ß und sehr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sehr schő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Ich habe euch lieb,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meine Fisch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21" name="Object 7"/>
          <p:cNvGraphicFramePr/>
          <p:nvPr/>
        </p:nvGraphicFramePr>
        <p:xfrm>
          <a:off x="3714840" y="857160"/>
          <a:ext cx="3359160" cy="19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857160"/>
                    <a:ext cx="3359160" cy="19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428760" y="3071880"/>
          <a:ext cx="3600360" cy="30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3071880"/>
                    <a:ext cx="360036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да</dc:creator>
  <dc:description/>
  <dc:language>en-US</dc:language>
  <cp:lastModifiedBy>Лида</cp:lastModifiedBy>
  <dcterms:modified xsi:type="dcterms:W3CDTF">2009-01-29T17:21:27Z</dcterms:modified>
  <cp:revision>62</cp:revision>
  <dc:subject/>
  <dc:title>PowerPoint Presentation</dc:title>
</cp:coreProperties>
</file>