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6BEB-9004-485F-8D36-DBD11AA5C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62C2-3E02-4D8A-98A7-41AB1C109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FDE3-8F81-46F4-BFE6-15A6C20F41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533-03CD-412B-9607-8B00E9C1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202-31C4-45A3-8F0D-3C572F73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CB5-2DF2-4241-B21D-1896E34F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ADC-10EE-4872-B6C7-8BA54258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9DF-B507-480E-902A-E05BFC12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B3F-2A44-416C-A60E-42C4DE44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8A1-DD28-469E-A819-57903043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B4F-9C45-46B7-ABF6-CA3EB242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F71-5554-4337-AFE5-224E1CA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D1B-0A71-4DAE-91D3-084E3F2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873-0C03-4D39-AAB1-0DB270B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F3D-4A5F-43BD-AE7C-8C17201F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2274-CE3D-4DEE-9DEE-1062D717CC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717F-E33B-49CB-AC3A-966AC563B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857240" y="214200"/>
            <a:ext cx="6286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1857240" y="220680"/>
            <a:ext cx="55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епартамент образования города С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ОУ </a:t>
            </a:r>
            <a:r>
              <a:rPr b="1" lang="en-US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лицей №15</a:t>
            </a:r>
            <a:r>
              <a:rPr b="1" lang="en-US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34920" y="71280"/>
            <a:ext cx="1819080" cy="1844640"/>
            <a:chOff x="34920" y="71280"/>
            <a:chExt cx="1819080" cy="1844640"/>
          </a:xfrm>
        </p:grpSpPr>
        <p:sp>
          <p:nvSpPr>
            <p:cNvPr id="51" name="AutoShape 15"/>
            <p:cNvSpPr/>
            <p:nvPr/>
          </p:nvSpPr>
          <p:spPr>
            <a:xfrm>
              <a:off x="34920" y="71280"/>
              <a:ext cx="181440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7" descr=""/>
            <p:cNvPicPr/>
            <p:nvPr/>
          </p:nvPicPr>
          <p:blipFill>
            <a:blip r:embed="rId1"/>
            <a:stretch/>
          </p:blipFill>
          <p:spPr>
            <a:xfrm>
              <a:off x="34920" y="71280"/>
              <a:ext cx="1819080" cy="18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22"/>
          <p:cNvGrpSpPr/>
          <p:nvPr/>
        </p:nvGrpSpPr>
        <p:grpSpPr>
          <a:xfrm>
            <a:off x="7345440" y="71280"/>
            <a:ext cx="1798560" cy="1785960"/>
            <a:chOff x="7345440" y="71280"/>
            <a:chExt cx="1798560" cy="1785960"/>
          </a:xfrm>
        </p:grpSpPr>
        <p:sp>
          <p:nvSpPr>
            <p:cNvPr id="54" name="AutoShape 21"/>
            <p:cNvSpPr/>
            <p:nvPr/>
          </p:nvSpPr>
          <p:spPr>
            <a:xfrm>
              <a:off x="7345440" y="71280"/>
              <a:ext cx="179856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3" descr=""/>
            <p:cNvPicPr/>
            <p:nvPr/>
          </p:nvPicPr>
          <p:blipFill>
            <a:blip r:embed="rId2"/>
            <a:stretch/>
          </p:blipFill>
          <p:spPr>
            <a:xfrm>
              <a:off x="7345440" y="71280"/>
              <a:ext cx="1797120" cy="178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TextBox 17" descr=""/>
          <p:cNvPicPr/>
          <p:nvPr/>
        </p:nvPicPr>
        <p:blipFill>
          <a:blip r:embed="rId3"/>
          <a:stretch/>
        </p:blipFill>
        <p:spPr>
          <a:xfrm>
            <a:off x="1957320" y="2133720"/>
            <a:ext cx="530244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5915520" y="3714840"/>
            <a:ext cx="272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еница 4 класса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палкина 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шкин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ч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ишкин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3398400" y="623736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аров 200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2834-DC70-4F94-93BF-E49AC7726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extBox 9" descr=""/>
          <p:cNvPicPr/>
          <p:nvPr/>
        </p:nvPicPr>
        <p:blipFill>
          <a:blip r:embed="rId1"/>
          <a:stretch/>
        </p:blipFill>
        <p:spPr>
          <a:xfrm>
            <a:off x="1859040" y="-79200"/>
            <a:ext cx="5078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64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67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299240" y="64296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Холодная пещера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9"/>
          <p:cNvSpPr/>
          <p:nvPr/>
        </p:nvSpPr>
        <p:spPr>
          <a:xfrm>
            <a:off x="4929120" y="4929120"/>
            <a:ext cx="400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йдя сквозь тяж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енок из кам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дперев плечами пото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ы видим россыпь капелек-ог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изразцах, что выточил п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6" descr=""/>
          <p:cNvPicPr/>
          <p:nvPr/>
        </p:nvPicPr>
        <p:blipFill>
          <a:blip r:embed="rId4"/>
          <a:stretch/>
        </p:blipFill>
        <p:spPr>
          <a:xfrm>
            <a:off x="357120" y="1285920"/>
            <a:ext cx="4770360" cy="358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"/>
          <p:cNvPicPr/>
          <p:nvPr/>
        </p:nvPicPr>
        <p:blipFill>
          <a:blip r:embed="rId5"/>
          <a:stretch/>
        </p:blipFill>
        <p:spPr>
          <a:xfrm>
            <a:off x="5821200" y="785880"/>
            <a:ext cx="3108600" cy="41450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1"/>
          <p:cNvSpPr/>
          <p:nvPr/>
        </p:nvSpPr>
        <p:spPr>
          <a:xfrm>
            <a:off x="571680" y="5143680"/>
            <a:ext cx="40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десь не заметишь, как часы бегу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олетия - без явных пере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окатор свой здесь мыши берег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лепят капли барельефы ст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E79-EEB6-46D3-B756-75FCE02C6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extBox 7" descr=""/>
          <p:cNvPicPr/>
          <p:nvPr/>
        </p:nvPicPr>
        <p:blipFill>
          <a:blip r:embed="rId1"/>
          <a:stretch/>
        </p:blipFill>
        <p:spPr>
          <a:xfrm>
            <a:off x="1859040" y="-79200"/>
            <a:ext cx="5078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78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81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2881440" y="714240"/>
            <a:ext cx="33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ёплая пещера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8"/>
          <p:cNvSpPr/>
          <p:nvPr/>
        </p:nvSpPr>
        <p:spPr>
          <a:xfrm>
            <a:off x="285840" y="1714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плывы камня создают уз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 гребешок, то винограда гроз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равнодушный привлекают вз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красят в охру впечатлений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9"/>
          <p:cNvSpPr/>
          <p:nvPr/>
        </p:nvSpPr>
        <p:spPr>
          <a:xfrm>
            <a:off x="4714920" y="492912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мурован в стену у дракона хвос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по бокам - из камня чешу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узорах арка просится на хол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ё края - застывшая стру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6" descr=""/>
          <p:cNvPicPr/>
          <p:nvPr/>
        </p:nvPicPr>
        <p:blipFill>
          <a:blip r:embed="rId4"/>
          <a:stretch/>
        </p:blipFill>
        <p:spPr>
          <a:xfrm>
            <a:off x="4543560" y="1428840"/>
            <a:ext cx="4457520" cy="296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"/>
          <p:cNvPicPr/>
          <p:nvPr/>
        </p:nvPicPr>
        <p:blipFill>
          <a:blip r:embed="rId5"/>
          <a:stretch/>
        </p:blipFill>
        <p:spPr>
          <a:xfrm>
            <a:off x="357120" y="3571920"/>
            <a:ext cx="40086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A0EB-C971-4A5F-8FBA-9CC1796D5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TextBox 8" descr=""/>
          <p:cNvPicPr/>
          <p:nvPr/>
        </p:nvPicPr>
        <p:blipFill>
          <a:blip r:embed="rId1"/>
          <a:stretch/>
        </p:blipFill>
        <p:spPr>
          <a:xfrm>
            <a:off x="1359000" y="-79200"/>
            <a:ext cx="639432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92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95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1854360" y="136692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а П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500040" y="525924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каждого из вас, ребята, зависит красота окружающей нас природы. Будьте её друзья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"/>
          <p:cNvPicPr/>
          <p:nvPr/>
        </p:nvPicPr>
        <p:blipFill>
          <a:blip r:embed="rId4"/>
          <a:stretch/>
        </p:blipFill>
        <p:spPr>
          <a:xfrm>
            <a:off x="357120" y="1766880"/>
            <a:ext cx="4732560" cy="3162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"/>
          <p:cNvPicPr/>
          <p:nvPr/>
        </p:nvPicPr>
        <p:blipFill>
          <a:blip r:embed="rId5"/>
          <a:stretch/>
        </p:blipFill>
        <p:spPr>
          <a:xfrm>
            <a:off x="5251320" y="714240"/>
            <a:ext cx="3535560" cy="23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"/>
          <p:cNvPicPr/>
          <p:nvPr/>
        </p:nvPicPr>
        <p:blipFill>
          <a:blip r:embed="rId6"/>
          <a:srcRect l="7683" t="0" r="0" b="0"/>
          <a:stretch/>
        </p:blipFill>
        <p:spPr>
          <a:xfrm>
            <a:off x="5786280" y="3214800"/>
            <a:ext cx="278640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3"/>
          <p:cNvSpPr/>
          <p:nvPr/>
        </p:nvSpPr>
        <p:spPr>
          <a:xfrm>
            <a:off x="1511640" y="7142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1"/>
          <p:cNvSpPr/>
          <p:nvPr/>
        </p:nvSpPr>
        <p:spPr>
          <a:xfrm>
            <a:off x="1214280" y="1071720"/>
            <a:ext cx="64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2" descr=""/>
          <p:cNvPicPr/>
          <p:nvPr/>
        </p:nvPicPr>
        <p:blipFill>
          <a:blip r:embed="rId1"/>
          <a:stretch/>
        </p:blipFill>
        <p:spPr>
          <a:xfrm>
            <a:off x="2786040" y="-146160"/>
            <a:ext cx="3505320" cy="603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5572080" y="226368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узнал, что у м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ть огромна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чка, небо голуб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все мое, род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травинка, и ле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поле каждый колос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Родина мо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ех люблю на свете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285840" y="5857920"/>
            <a:ext cx="871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оряжением Совета Министров СССР от 01.07.1963 г. № 2724-р Ичалковский бор отнесен к категории особо ценных лесов. По решению Горьковского облисполкома от 20.10.1965 г. </a:t>
            </a: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915 Ичалковский бор и его пещеры взяты под охрану как достопримечательный природный о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63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66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FC5D-91DD-4183-9669-474CE400C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2191320" y="500040"/>
            <a:ext cx="48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рта Ичалковского 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"/>
          <p:cNvPicPr/>
          <p:nvPr/>
        </p:nvPicPr>
        <p:blipFill>
          <a:blip r:embed="rId4"/>
          <a:stretch/>
        </p:blipFill>
        <p:spPr>
          <a:xfrm>
            <a:off x="214200" y="1093680"/>
            <a:ext cx="53722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4789440" y="1857240"/>
            <a:ext cx="36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Шуми, шуми, зелёный ле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Знаком мне шум твой велича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 твой покой, и блеск неб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д головой твоей кудря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3000" y="4714920"/>
            <a:ext cx="335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с детства понимать прив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оё молчание н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твой таинственный яз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что-то близкое, род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extBox 9" descr=""/>
          <p:cNvPicPr/>
          <p:nvPr/>
        </p:nvPicPr>
        <p:blipFill>
          <a:blip r:embed="rId1"/>
          <a:stretch/>
        </p:blipFill>
        <p:spPr>
          <a:xfrm>
            <a:off x="2786040" y="-146160"/>
            <a:ext cx="3505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76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79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48240" y="714240"/>
            <a:ext cx="75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Лесная жемчужина в степной оправе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D4AE-10E4-4586-9EB6-A463A12F7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" descr=""/>
          <p:cNvPicPr/>
          <p:nvPr/>
        </p:nvPicPr>
        <p:blipFill>
          <a:blip r:embed="rId4"/>
          <a:stretch/>
        </p:blipFill>
        <p:spPr>
          <a:xfrm>
            <a:off x="357120" y="1428840"/>
            <a:ext cx="4030560" cy="303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"/>
          <p:cNvPicPr/>
          <p:nvPr/>
        </p:nvPicPr>
        <p:blipFill>
          <a:blip r:embed="rId5"/>
          <a:stretch/>
        </p:blipFill>
        <p:spPr>
          <a:xfrm>
            <a:off x="4699080" y="3500280"/>
            <a:ext cx="4016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500280" y="1375920"/>
            <a:ext cx="55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никальное, совершенно необычное место для нашей области стоит на грани запустения. Поэтому сохранение этого бора в первозданном виде является </a:t>
            </a:r>
            <a:r>
              <a:rPr b="1" i="1" lang="en-US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ктуальной зада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пуляризация экологического туризма – в этом заключается </a:t>
            </a:r>
            <a:r>
              <a:rPr b="1" i="1" lang="en-US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овизна моего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Целью данной работы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вляется привлечение внимания взрослых, в первую очередь областных чиновников, к проблемам, связанным с сохранением подобных заповедных мест для будущих поколений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12" descr=""/>
          <p:cNvPicPr/>
          <p:nvPr/>
        </p:nvPicPr>
        <p:blipFill>
          <a:blip r:embed="rId1"/>
          <a:stretch/>
        </p:blipFill>
        <p:spPr>
          <a:xfrm>
            <a:off x="2786040" y="-146160"/>
            <a:ext cx="3505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89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92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AAF9-B57C-4912-844B-5DCDCB668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4"/>
          <a:stretch/>
        </p:blipFill>
        <p:spPr>
          <a:xfrm>
            <a:off x="71280" y="1344600"/>
            <a:ext cx="3337200" cy="4441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3"/>
          <p:cNvSpPr/>
          <p:nvPr/>
        </p:nvSpPr>
        <p:spPr>
          <a:xfrm>
            <a:off x="3003840" y="571680"/>
            <a:ext cx="27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1859040" y="-79200"/>
            <a:ext cx="5078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00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03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3506040" y="57168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улёва яма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5025600" y="1714680"/>
            <a:ext cx="3248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знаю: трудно быть го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анить покой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знаю, тяжелы п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нега и обл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 как прекрасно быть го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 век не знать з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нимать, что над т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шь снег и небос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хорошо на мир гляд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той белой выс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которой могут долет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шь птицы и ме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E508-BDF4-41FE-ADA1-1105AAE68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4"/>
          <a:stretch/>
        </p:blipFill>
        <p:spPr>
          <a:xfrm>
            <a:off x="571680" y="1214280"/>
            <a:ext cx="41526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3"/>
          <p:cNvSpPr/>
          <p:nvPr/>
        </p:nvSpPr>
        <p:spPr>
          <a:xfrm>
            <a:off x="1870560" y="571680"/>
            <a:ext cx="60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хова яма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ёртов мост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Box 9" descr=""/>
          <p:cNvPicPr/>
          <p:nvPr/>
        </p:nvPicPr>
        <p:blipFill>
          <a:blip r:embed="rId1"/>
          <a:stretch/>
        </p:blipFill>
        <p:spPr>
          <a:xfrm>
            <a:off x="1859040" y="-79200"/>
            <a:ext cx="5078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13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16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0DB-6DDF-4C60-AA10-A6FE3ABA2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4467960" y="1585800"/>
            <a:ext cx="33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ай любимый! Сердцу сн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ирды солнца в водах лу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хотел бы затер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зеленях твоих стозв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"/>
          <p:cNvPicPr/>
          <p:nvPr/>
        </p:nvPicPr>
        <p:blipFill>
          <a:blip r:embed="rId4"/>
          <a:stretch/>
        </p:blipFill>
        <p:spPr>
          <a:xfrm>
            <a:off x="357120" y="1285920"/>
            <a:ext cx="3559320" cy="4732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"/>
          <p:cNvPicPr/>
          <p:nvPr/>
        </p:nvPicPr>
        <p:blipFill>
          <a:blip r:embed="rId5"/>
          <a:stretch/>
        </p:blipFill>
        <p:spPr>
          <a:xfrm>
            <a:off x="4121280" y="3071880"/>
            <a:ext cx="45939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AD89-2B9E-4464-82D9-7C7ADB89B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42920" y="214308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ы здесь не найдешь ни монет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отых,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и кладов, ни книг, ни большого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гатства;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ут мир неживой, неземной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асоты,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встретит тебя лишь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земное бра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3238920" y="642960"/>
            <a:ext cx="31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арцева яма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extBox 9" descr=""/>
          <p:cNvPicPr/>
          <p:nvPr/>
        </p:nvPicPr>
        <p:blipFill>
          <a:blip r:embed="rId1"/>
          <a:stretch/>
        </p:blipFill>
        <p:spPr>
          <a:xfrm>
            <a:off x="1859040" y="-79200"/>
            <a:ext cx="5078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28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31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3598920" y="1428840"/>
            <a:ext cx="54021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8"/>
          <p:cNvSpPr/>
          <p:nvPr/>
        </p:nvSpPr>
        <p:spPr>
          <a:xfrm>
            <a:off x="6553080" y="6284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C29D-7A07-490A-8FBF-224E7AFE9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TextBox 10" descr=""/>
          <p:cNvPicPr/>
          <p:nvPr/>
        </p:nvPicPr>
        <p:blipFill>
          <a:blip r:embed="rId1"/>
          <a:stretch/>
        </p:blipFill>
        <p:spPr>
          <a:xfrm>
            <a:off x="1859040" y="-79200"/>
            <a:ext cx="5078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38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41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2526120" y="7142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езымянная пещера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4"/>
          <a:stretch/>
        </p:blipFill>
        <p:spPr>
          <a:xfrm>
            <a:off x="142920" y="1571760"/>
            <a:ext cx="4314960" cy="3238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"/>
          <p:cNvPicPr/>
          <p:nvPr/>
        </p:nvPicPr>
        <p:blipFill>
          <a:blip r:embed="rId5"/>
          <a:stretch/>
        </p:blipFill>
        <p:spPr>
          <a:xfrm>
            <a:off x="4483080" y="3286080"/>
            <a:ext cx="4518000" cy="33987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7"/>
          <p:cNvSpPr/>
          <p:nvPr/>
        </p:nvSpPr>
        <p:spPr>
          <a:xfrm>
            <a:off x="4500720" y="1643040"/>
            <a:ext cx="45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редь леса в кам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дко встретишь грот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ходит в недра узкий грязный л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 нам такой не страшен поворот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лбу сияет светом третий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A4B-69F2-45CD-8EE7-388C2198E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2162160" y="785880"/>
            <a:ext cx="46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уденческая пещера</a:t>
            </a:r>
            <a:r>
              <a:rPr b="1" i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Box 5" descr=""/>
          <p:cNvPicPr/>
          <p:nvPr/>
        </p:nvPicPr>
        <p:blipFill>
          <a:blip r:embed="rId1"/>
          <a:stretch/>
        </p:blipFill>
        <p:spPr>
          <a:xfrm>
            <a:off x="1859040" y="-79200"/>
            <a:ext cx="5078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5"/>
          <p:cNvGrpSpPr/>
          <p:nvPr/>
        </p:nvGrpSpPr>
        <p:grpSpPr>
          <a:xfrm>
            <a:off x="8618400" y="0"/>
            <a:ext cx="525600" cy="522360"/>
            <a:chOff x="8618400" y="0"/>
            <a:chExt cx="525600" cy="522360"/>
          </a:xfrm>
        </p:grpSpPr>
        <p:sp>
          <p:nvSpPr>
            <p:cNvPr id="152" name="AutoShape 16"/>
            <p:cNvSpPr/>
            <p:nvPr/>
          </p:nvSpPr>
          <p:spPr>
            <a:xfrm>
              <a:off x="8618400" y="0"/>
              <a:ext cx="525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7" descr=""/>
            <p:cNvPicPr/>
            <p:nvPr/>
          </p:nvPicPr>
          <p:blipFill>
            <a:blip r:embed="rId2"/>
            <a:stretch/>
          </p:blipFill>
          <p:spPr>
            <a:xfrm>
              <a:off x="8618400" y="0"/>
              <a:ext cx="5252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8"/>
          <p:cNvGrpSpPr/>
          <p:nvPr/>
        </p:nvGrpSpPr>
        <p:grpSpPr>
          <a:xfrm>
            <a:off x="0" y="0"/>
            <a:ext cx="493560" cy="501480"/>
            <a:chOff x="0" y="0"/>
            <a:chExt cx="493560" cy="501480"/>
          </a:xfrm>
        </p:grpSpPr>
        <p:sp>
          <p:nvSpPr>
            <p:cNvPr id="155" name="AutoShape 19"/>
            <p:cNvSpPr/>
            <p:nvPr/>
          </p:nvSpPr>
          <p:spPr>
            <a:xfrm>
              <a:off x="0" y="0"/>
              <a:ext cx="49248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356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Line 5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4"/>
          <a:stretch/>
        </p:blipFill>
        <p:spPr>
          <a:xfrm>
            <a:off x="71280" y="1643040"/>
            <a:ext cx="6104160" cy="46022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3"/>
          <p:cNvSpPr/>
          <p:nvPr/>
        </p:nvSpPr>
        <p:spPr>
          <a:xfrm>
            <a:off x="3714840" y="157176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тари без ик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актитов сосуль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агмитов колон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ые в бугр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ры капель хруст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чьев сладкозвуч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ры смеха и та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частливых глаз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4143240" y="397836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нце там не вст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е плещут рассв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ылают зак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шь мрак и пок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крутых сквозня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их проносятся вет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етучих м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пошащийся 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6:56:04Z</dcterms:created>
  <dc:creator>Admin</dc:creator>
  <dc:description/>
  <dc:language>en-US</dc:language>
  <cp:lastModifiedBy>Admin</cp:lastModifiedBy>
  <dcterms:modified xsi:type="dcterms:W3CDTF">2009-01-29T17:13:42Z</dcterms:modified>
  <cp:revision>58</cp:revision>
  <dc:subject/>
  <dc:title>Слайд 1</dc:title>
</cp:coreProperties>
</file>