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590F-9E71-49EC-961E-3EB809C32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F989-D3F5-46A6-9956-DE14B0406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0B46-033B-4385-944C-4AF77B5FB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B23C-5510-4ACE-90C3-E24FD99FE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83C3-3D8D-410B-B780-88E1BAA80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A6A6-7E61-4AED-A224-7CE432ADB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E30D-B122-48BF-BBA8-55C3C0F08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3CED-EF9D-4AB3-A548-B2BECC743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75F4-0079-4F61-83EF-980D8F444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076F-C9D4-46B2-88AF-F7C4EA8DF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70D0-54D0-42A6-A165-1364029F0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89A4-833C-4FB4-A23D-DDF371E5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D185F-B4C8-4592-A23F-18B8E36006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Влияние солнечного света на процесс фотосинтеза в растения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92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ыполнил: Филин Пав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ченик 4Б класса школы №5 Промышленного рай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аучный руководитель: Фролова И.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61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84360" y="1125360"/>
            <a:ext cx="7991280" cy="52563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стьице растительной  клет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троение растительной кле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83534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отосинтез –</a:t>
            </a:r>
            <a:r>
              <a:rPr b="1" lang="en-US" sz="36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цесс преобразования воды и углекислого газа в кислород и органическое         вещество под действием солнечного св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853272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Опыт № 1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Анализ влияния солнечного света на процесс фотосинте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734544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Желтые и красные пигменты всегда есть в зелени растений, но обнаруживаются в пору листопада или при созревании пло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8064360" cy="49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Опыт № 2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Хлорофилл и каратиноиды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79200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охраним планету зеленой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8207280" cy="59500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619280" y="620640"/>
            <a:ext cx="56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Сохраним планету зелено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042920" y="981000"/>
            <a:ext cx="7489800" cy="48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Цель и задачи ис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Рассмотреть влияние солнечн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света на процесс фотосинтеза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зеленых листьях растения с цель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получения свободного кислор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4000" y="836640"/>
            <a:ext cx="7608600" cy="518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84360" y="4365720"/>
            <a:ext cx="7632720" cy="192276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Зеленые растения на всей планете Земля выделяют за год 400 млрд.т. кислорода, в свою очередь, усваивают примерно 600 млрд. т. углекислого газа и образуют около 450 млрд. т. органического вещества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050920" y="260280"/>
            <a:ext cx="56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СТЕНИЯ ЕСТЬ ПОВСЮ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стения есть повсюд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 flipV="1" rot="10800000">
            <a:off x="2842920" y="5775480"/>
            <a:ext cx="28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 В ПУСТЫН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932360" y="62064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 В ВОДЕ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Разнообразие листьев по форме и размерам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327480" y="3521160"/>
            <a:ext cx="491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42920" y="90792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3399"/>
                </a:solidFill>
                <a:latin typeface="Arial"/>
              </a:rPr>
              <a:t>Простые листья                                               Сложные лист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3200400" cy="24004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292720" y="1484280"/>
            <a:ext cx="3240000" cy="2430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684360" y="4091040"/>
            <a:ext cx="3240000" cy="2427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5292720" y="4508640"/>
            <a:ext cx="327492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мазонская Виктори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21:31:15Z</dcterms:created>
  <dc:creator>я</dc:creator>
  <dc:description/>
  <dc:language>en-US</dc:language>
  <cp:lastModifiedBy>User</cp:lastModifiedBy>
  <dcterms:modified xsi:type="dcterms:W3CDTF">2009-01-13T15:15:49Z</dcterms:modified>
  <cp:revision>17</cp:revision>
  <dc:subject/>
  <dc:title>«Почему лисит зеленый»</dc:title>
</cp:coreProperties>
</file>