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0ED-058F-4EC5-AEA2-424C4307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A19-352D-4BB5-A677-2FD2B886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F6E-FE32-4DF5-87CF-33825854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D90-A5F4-4F14-85E0-4F42B0A8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24AB-54FB-4EE8-8EC0-ABC4AE0F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5CCB-3D4A-49C6-9796-0A7C0177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CB2A-1A3B-48FA-93A1-1EC0D9E7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8ACA-132F-47F7-81AC-52554FA8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9731-E452-4A3C-B113-50CB0B3C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61EB-C42F-49E0-AF7B-9595E029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D91B-2A80-455C-9926-D21FE1C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D3A-833F-43EB-8957-C4328987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1AE8-C823-491B-9E7B-051C6E2D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C551-D5D5-4ED0-8AE8-EAD85D0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CC17-E64B-4064-A967-8B682BE1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6423-343B-465C-823F-5C0E93DC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A75E-9F0E-49A4-98AC-217E815C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4C0-2F44-44D2-9C91-E7F20791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C42-D1F5-4ABC-BAF2-B48619D0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502-68FD-4A9D-BCE2-5C76060C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92D-C485-4D7D-A0CF-5374EC54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CB4-4F17-496C-AA50-03D69F8B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343-6FAC-4882-96A6-6550360C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001-9A7B-42AE-8D00-B8FE285A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F867-39D7-4490-A46E-3AA3BBFFE81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4187-2DC2-43DE-AD27-A1CD8EEDB4F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Научно-исследовательская работа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00000" y="2852640"/>
            <a:ext cx="784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аимствования, их роль и место в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истеме современных иностранных язы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55640" y="2097000"/>
            <a:ext cx="7416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Практически невозможно точно предсказать, какую форму приобретет каждый из существующих языков в будущем. Если бы можно было прокрутить назад пленку истории и позволить древнеанглийскому языку вновь пройти все изменения, то можно с уверенностью сказать, что это был бы совершенно иной английский язык, существенно отличающийся от современн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Причины появления и широкой популярности англицизмов заложены в сфере экстралингвистических стимулов развития языка, чему способствует лингвистическая база немецкого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Англо – американизмы занимают почти третью часть немецкого словарного состава. Благодаря заимствованиям обогащается немецкий язык, расширяется кругоз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Тот или иной язык, находясь в процессе постоянного изменения и перехода в качественно новый язык, подчас развивается не в один, а в несколько язык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55640" y="47628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68b76"/>
                  </a:outerShdw>
                </a:effectLst>
                <a:latin typeface="Arial"/>
              </a:rPr>
              <a:t>Таким образом, проведенное исследован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153753" dir="2700000" blurRad="0" rotWithShape="0">
                  <a:srgbClr val="968b76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68b76"/>
                  </a:outerShdw>
                </a:effectLst>
                <a:latin typeface="Arial"/>
              </a:rPr>
              <a:t>позволяет сделать следующие выводы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153753" dir="2700000" blurRad="0" rotWithShape="0">
                  <a:srgbClr val="968b76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дачи нашего исследования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Цель работы — доказать, что, несмотря на то, что большое количество слов является словами заимствованными из других языков, английский и немецкий не потеряли своей самобытност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В данном исследовании мы хотим показать, что заимствования являются средством обогащения словарного состава языков, установить причину возникновения большого числа заимствований в английском и немецком языках.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 rot="20937600">
            <a:off x="539280" y="4724280"/>
            <a:ext cx="1944720" cy="14572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 rot="687000">
            <a:off x="5651280" y="4292280"/>
            <a:ext cx="3143160" cy="2276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 rot="20958000">
            <a:off x="501120" y="33120"/>
            <a:ext cx="2208240" cy="29239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47640" y="1052640"/>
            <a:ext cx="59738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Наиболее важными и характерными чертами любого языка, его словарного состава являются подвижность, изменчивость, стремление к совершенствованию и развитию за счет различных средств и ресурсов. Один из путей обогащения словарного состава языка – заимствование слов иноязычного происхождения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 rot="1039200">
            <a:off x="7093080" y="260280"/>
            <a:ext cx="122400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460692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Новые слова в языке появляются постоянно. Многие из них так органично вливаются в коммуникацию и полностью соответствуют стандарту языка, что их обычно не замечают, другие же, наоборот, обладают запоминающимися сочетаниями звуков или морфем и очень заметн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084720" y="1700280"/>
            <a:ext cx="25336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4009" t="5014" r="3368" b="3151"/>
          <a:stretch/>
        </p:blipFill>
        <p:spPr>
          <a:xfrm rot="899400">
            <a:off x="5076720" y="3644640"/>
            <a:ext cx="3668760" cy="27320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2123640" y="1699920"/>
            <a:ext cx="5689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В последние годы наблюдается активное внедрение слов английского происхождения практически во все языки мира. Заимствования из английского языка – наиболее многочисленный пласт лексики, появившиеся за последние годы в немецком языке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Заимствования из английского и американского языков привносятся в немецкий язык, как известно, в силу ряда причин. Такими могут быть отсутствие названия подобного предмета (явления) в немецком языке, переосмысление процесса (явления) в связи с новыми тенденциями общественного развития, тенденции моды, характерные для того или иного периода в истории страны, и ряд иных причин как лингвистического, так и экстралингвистического характера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95280" y="189000"/>
            <a:ext cx="777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аимствования в современном немецком языке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 rot="20551800">
            <a:off x="826560" y="1341360"/>
            <a:ext cx="15130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 современном немецком языке существуют некоторые имена существительные, пришедшие из английского языка уже сравнительно давно, но адаптация которых к категории рода все еще находится в стадии становл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илие англицизмов в словаре современного немецкого языка говорит не только об обогащении его языковой системы, но и о некотором засорении языка. Речь идет о совершенно неоправданном обращении, особенно в среде молодежи, в разговорном языке, в языке современных средств массовой информации – к лексическим единицам чужого языка, что дает повод лингвистам констатировать появление некоего новообразования под названием «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gleutsch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 rot="389400">
            <a:off x="5724000" y="429228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561636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ак, и в английском языке есть множество слов, пришедших из Древнего Рима, Греции, Италии, Испании и Германии. Многие из них ассимилировались и приобрели вполне британский вид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ругие, несмотря на внешнее несходство, звучат согласно английским нормам произношения, как, скажем, немецкие слова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indergarten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eppelin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chnapps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или русские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undra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eppe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 С первого взгляда трудно понять, что слово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ungle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родом из хинди, в отличие от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haki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ajan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, чье иноземное происхождение очевидно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95280" y="260280"/>
            <a:ext cx="7775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аимствования в современном английском языке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704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826920" y="131112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 силу ряда исторических причин в английском языке существует  большое количество французских заимствований, которые в свою очередь, имеют латинское происхождение, например,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eisure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досуг) претерпело большие изменения: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eisour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eisir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cere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. Большинство этих заимствований ассимилировалось, утратило свой «национальный» облик и воспринимаются англичанами как родные. Это касается и фонетического оформления, и ударения, и написа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оцесс ассимиляции, конечно, непрерывен и продолжается в настоящее время. Это можно проследить на примере таких слов, ка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ssage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ertoire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lateau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. Произошел перенос ударения с последнего слога, что характерно для французского языка, на третий от конца слог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-183960"/>
            <a:ext cx="525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Monotype Corsiva"/>
              </a:rPr>
              <a:t>Заимствования из </a:t>
            </a:r>
            <a:r>
              <a:rPr b="1" i="1" lang="en-US" sz="2800" spc="-1" strike="noStrike">
                <a:solidFill>
                  <a:srgbClr val="003366"/>
                </a:solidFill>
                <a:latin typeface="Monotype Corsiva"/>
              </a:rPr>
              <a:t>французского</a:t>
            </a:r>
            <a:r>
              <a:rPr b="1" i="1" lang="en-US" sz="2400" spc="-1" strike="noStrike">
                <a:solidFill>
                  <a:srgbClr val="003366"/>
                </a:solidFill>
                <a:latin typeface="Monotype Corsiva"/>
              </a:rPr>
              <a:t> язы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2007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Monotype Corsiva"/>
              </a:rPr>
              <a:t>Заимствования из русского язык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 английском языке, как и в других германских языках, еще в древнейшие времена встречались слова, которые имели общие корни со словами славянских языков, и, по-видимому, были заимствованы из диалектов славянских племен в XII веке. Это такие слова, как: мед, молоко, конопля, плуг и другие, древнеангл.: meodu, совр. англ. mead; древнеангл. henap, совр. англ. hemp; древнеангл. meolk, совр. англ. milk; древнеангл. ploz, совр. англ. plough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Многие заимствованные русские слова образуют производные по словообразовательным моделям английского языка — narodism, nihilistic, to knout — бить кнутом, sable (как прилагательное) и так далее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усские заимствования также сыграли большую роль в совершенствовании современно философской и политической терминологии всех языков, в том числе и английского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0:46:27Z</dcterms:created>
  <dc:creator>школа</dc:creator>
  <dc:description/>
  <dc:language>en-US</dc:language>
  <cp:lastModifiedBy>школа</cp:lastModifiedBy>
  <dcterms:modified xsi:type="dcterms:W3CDTF">2009-01-23T12:20:38Z</dcterms:modified>
  <cp:revision>15</cp:revision>
  <dc:subject/>
  <dc:title>Научно-исследовательская работа</dc:title>
</cp:coreProperties>
</file>