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19.wmf" ContentType="image/x-wmf"/>
  <Override PartName="/ppt/media/image18.gif" ContentType="image/gif"/>
  <Override PartName="/ppt/media/image21.jpeg" ContentType="image/jpeg"/>
  <Override PartName="/ppt/media/image17.gif" ContentType="image/gif"/>
  <Override PartName="/ppt/media/image27.jpeg" ContentType="image/jpeg"/>
  <Override PartName="/ppt/media/image50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3.gif" ContentType="image/gif"/>
  <Override PartName="/ppt/media/image11.wmf" ContentType="image/x-wmf"/>
  <Override PartName="/ppt/media/image5.jpeg" ContentType="image/jpeg"/>
  <Override PartName="/ppt/media/image15.gif" ContentType="image/gif"/>
  <Override PartName="/ppt/media/image33.jpeg" ContentType="image/jpeg"/>
  <Override PartName="/ppt/media/image6.jpeg" ContentType="image/jpeg"/>
  <Override PartName="/ppt/media/image34.jpeg" ContentType="image/jpeg"/>
  <Override PartName="/ppt/media/image37.jpeg" ContentType="image/jpeg"/>
  <Override PartName="/ppt/media/image13.png" ContentType="image/pn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2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12.wmf" ContentType="image/x-wmf"/>
  <Override PartName="/ppt/media/image31.jpeg" ContentType="image/jpeg"/>
  <Override PartName="/ppt/media/image48.jpeg" ContentType="image/jpeg"/>
  <Override PartName="/ppt/media/image49.jpeg" ContentType="image/jpeg"/>
  <Override PartName="/ppt/media/image30.jpeg" ContentType="image/jpeg"/>
  <Override PartName="/ppt/media/image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51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6D35-5FD3-4859-B49D-94FE996C9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B06A-84EF-4C40-B373-9CA9D7C2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3039-187D-4252-8190-7A863195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6A79-AC01-4394-B9F5-EAAC652C4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BD47-1654-454B-8DF9-D0D53DB09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E7C7-B675-4AE8-A1A8-1668016E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CA36-223E-4618-BC1C-28CE3F1D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A097-4FD3-4BF4-AFE3-487D0314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19CD-0F5D-45F9-8D81-A94F9A28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8F94-2B46-426B-8821-BE31D0EE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560E-3348-41F3-A28B-26E94E22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1EDF-3A50-4C1C-9BE4-04630484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FFEE-C6AA-438C-B97D-3855428A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5179-49B8-43BF-B856-EBA4BBA4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0037-A427-48EA-832A-6B256714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BFCB-39AE-4F9A-949D-761B8D190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CC06-6A6C-42ED-95BA-17254192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8B80CD-95EC-4048-8357-B9599BCC1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12AD91-4BEB-4E5F-8795-EDF2AE27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5F2D24-F512-41BA-85FB-4B7794A1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1F8248-FF02-4AFE-A7F4-E1378B62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C1289C-EEDB-4E57-8C16-DA6CEE72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8C28-70F1-4841-9F91-9B572016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856AD1-9279-4F48-A245-7245E2BD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4FB432-1BA5-4636-84D4-5C9900A2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56EC54-C92E-4830-964F-4B850A06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9E0950-4A7D-4B8A-A80B-A32B36DD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296B25-5561-4440-95C8-C8DBFDBE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135EB5-4228-4BB4-A7EF-1B0713BEC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CA7B58-82A7-46A7-94DC-AF31CE44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88A589-D759-41C4-9140-090FF7B8A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9A0B36-3C74-44C6-B52E-6303EA14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055DB5-F3CA-4618-8359-B7A20872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6C3E-7C23-46D6-9C9F-89BA7A35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0E30D6-85AA-45F3-BD9B-B82E3E98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76703C-3ABC-41F3-A604-5D77082D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2DF66D-0E9B-497E-904A-EE8D2109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EE3D4A-D857-4D6F-B986-819DA9AF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00A720-E71D-4E00-87FB-3F095952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099433-222E-43D6-86A4-7F49585E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D54B8E-B263-4FA6-84A3-75DA6514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5DE4B7-D453-43F8-9169-603AB163E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54CDB5-FB8C-49E6-B4AE-55DBA6F27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5204-0BE1-4248-8BBA-6CD75D0E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EB2C-2084-42A1-99CB-2A16A037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D449-B38B-422C-B3B4-71AD3C6F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A9D3-6C40-453A-BC88-51E43AD7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AB4A-F8B8-4240-9E88-D5064697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4B82-169B-4F5F-A571-8249D75B3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A6B8-52C4-448D-893F-D3B21FD9C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83" name="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7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1AA5-0EEF-4D26-B953-636EABA74E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dt" idx="9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127" name="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129" name="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ftr" idx="10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11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F16B-4802-4D52-8FAB-1A694E8BB1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dt" idx="12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image" Target="../media/image16.jpeg"/><Relationship Id="rId5" Type="http://schemas.openxmlformats.org/officeDocument/2006/relationships/image" Target="../media/image17.gif"/><Relationship Id="rId6" Type="http://schemas.openxmlformats.org/officeDocument/2006/relationships/image" Target="../media/image18.gi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7640" y="259920"/>
            <a:ext cx="715032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Самые красивые и загадочные творения природы.</a:t>
            </a:r>
            <a:endParaRPr b="0" lang="en-US" sz="36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8200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боту выполнили: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Баталова Елизавет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охмякова Марин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льченко Данил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узнецова Дарь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Медянцев Иван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Учащиеся 2 класса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уководител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читель хими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Медянцева М.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60360" y="2060640"/>
            <a:ext cx="2647800" cy="3529080"/>
          </a:xfrm>
          <a:prstGeom prst="rect">
            <a:avLst/>
          </a:prstGeom>
          <a:ln w="76320">
            <a:solidFill>
              <a:srgbClr val="99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9000"/>
                            </p:stCondLst>
                            <p:childTnLst>
                              <p:par>
                                <p:cTn id="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403280" y="3213000"/>
            <a:ext cx="6408720" cy="2226960"/>
          </a:xfrm>
          <a:prstGeom prst="rect">
            <a:avLst/>
          </a:prstGeom>
          <a:solidFill>
            <a:srgbClr val="b7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a4"/>
                </a:solidFill>
                <a:latin typeface="Arial"/>
              </a:rPr>
              <a:t>Вещества и оборудова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ль, кипяченая вода, химический стакан, карандаш, нитка, стеклянная палочка, электрическая плит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4360" y="1700280"/>
            <a:ext cx="7918200" cy="1068840"/>
          </a:xfrm>
          <a:prstGeom prst="rect">
            <a:avLst/>
          </a:prstGeom>
          <a:solidFill>
            <a:srgbClr val="b7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Методика выращивания кристалл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156360" y="4221000"/>
            <a:ext cx="1584360" cy="1305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611280" y="260280"/>
            <a:ext cx="1728720" cy="14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a4"/>
                </a:solidFill>
                <a:latin typeface="Gloucester MT Extra Condensed"/>
              </a:rPr>
              <a:t>Выращивание кристаллов. 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835280" y="2133720"/>
            <a:ext cx="5184720" cy="3887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1763640" y="2133720"/>
            <a:ext cx="5256360" cy="39402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6804000" y="333360"/>
            <a:ext cx="21607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" nodeType="afterEffect" fill="hold" presetClass="entr" presetID="6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65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a4"/>
                </a:solidFill>
                <a:latin typeface="Gloucester MT Extra Condensed"/>
              </a:rPr>
              <a:t>Выращивание кристаллов. </a:t>
            </a: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900000" y="2349360"/>
            <a:ext cx="7594560" cy="2190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654880" y="19890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ихромат кал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4160" y="227664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васц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17080" y="450864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Желтая кровяная со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85800" y="213372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едный купоро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2000" y="422100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расная кровяная со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661440" y="4581360"/>
            <a:ext cx="21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варенная со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500"/>
                            </p:stCondLst>
                            <p:childTnLst>
                              <p:par>
                                <p:cTn id="3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4500"/>
                            </p:stCondLst>
                            <p:childTnLst>
                              <p:par>
                                <p:cTn id="3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500"/>
                            </p:stCondLst>
                            <p:childTnLst>
                              <p:par>
                                <p:cTn id="3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6500"/>
                            </p:stCondLst>
                            <p:childTnLst>
                              <p:par>
                                <p:cTn id="3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a4"/>
                </a:solidFill>
                <a:latin typeface="Arial"/>
              </a:rPr>
              <a:t>Наши рисунк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568980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2589120" cy="38163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140360" y="333360"/>
            <a:ext cx="4321080" cy="30020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611280" y="3997440"/>
            <a:ext cx="3673440" cy="25844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1908000" y="1989000"/>
            <a:ext cx="4248360" cy="30448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4643280" y="3645000"/>
            <a:ext cx="41054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500"/>
                            </p:stCondLst>
                            <p:childTnLst>
                              <p:par>
                                <p:cTn id="3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000"/>
                            </p:stCondLst>
                            <p:childTnLst>
                              <p:par>
                                <p:cTn id="3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500"/>
                            </p:stCondLst>
                            <p:childTnLst>
                              <p:par>
                                <p:cTn id="3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a4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ми были выращены кристаллы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водных растворов следующих солей: дихромата калия, медного купороса, желтой и красной кровяной соли, хлорида натрия, алюмокалиевых квасцов методом охлаждения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исталлы разных солей имеют  различную форму. Одна и та же соль может образовать разные виды кристалл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3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a4"/>
                </a:solidFill>
                <a:latin typeface="Arial"/>
              </a:rPr>
              <a:t>Кристаллы, выращенные в лабораторных условиях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408560" y="1989000"/>
            <a:ext cx="3240000" cy="43196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4356000" y="1989000"/>
            <a:ext cx="3402000" cy="45356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900000" y="1989000"/>
            <a:ext cx="3184560" cy="42483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792000" y="1989000"/>
            <a:ext cx="3348360" cy="44643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6"/>
          <a:stretch/>
        </p:blipFill>
        <p:spPr>
          <a:xfrm>
            <a:off x="773280" y="1989000"/>
            <a:ext cx="34034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6000"/>
                            </p:stCondLst>
                            <p:childTnLst>
                              <p:par>
                                <p:cTn id="394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2124000" y="2205000"/>
            <a:ext cx="4680000" cy="35085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Кристаллы, выращенные в лабораторных условиях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Кристаллы, выращенные в лабораторных условиях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2556000" y="1844640"/>
            <a:ext cx="4248000" cy="31878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 rot="1017000">
            <a:off x="3708000" y="4868640"/>
            <a:ext cx="1552680" cy="1657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 rot="502200">
            <a:off x="6372360" y="4292280"/>
            <a:ext cx="2303280" cy="21445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 rot="20726400">
            <a:off x="826920" y="4005360"/>
            <a:ext cx="1994040" cy="2232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6"/>
          <a:stretch/>
        </p:blipFill>
        <p:spPr>
          <a:xfrm rot="20993400">
            <a:off x="6591240" y="1623600"/>
            <a:ext cx="2016360" cy="19810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7"/>
          <a:stretch/>
        </p:blipFill>
        <p:spPr>
          <a:xfrm rot="865800">
            <a:off x="611280" y="1628280"/>
            <a:ext cx="197460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3000"/>
                            </p:stCondLst>
                            <p:childTnLst>
                              <p:par>
                                <p:cTn id="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500"/>
                            </p:stCondLst>
                            <p:childTnLst>
                              <p:par>
                                <p:cTn id="4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Сувенир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547640" y="1413000"/>
            <a:ext cx="5904000" cy="44290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1332000" y="1268280"/>
            <a:ext cx="6192720" cy="46468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332000" y="1268280"/>
            <a:ext cx="648180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3000"/>
                            </p:stCondLst>
                            <p:childTnLst>
                              <p:par>
                                <p:cTn id="459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500"/>
                            </p:stCondLst>
                            <p:childTnLst>
                              <p:par>
                                <p:cTn id="46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07640" y="266400"/>
            <a:ext cx="70074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Цель:</a:t>
            </a:r>
            <a:endParaRPr b="0" lang="en-US" sz="4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87280" y="2133360"/>
            <a:ext cx="5783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ырастить кристаллы из водных растворов солей методом охлажден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194940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a4"/>
                </a:solidFill>
                <a:latin typeface="Arial"/>
              </a:rPr>
              <a:t>Посмотрите, как красиво!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2771640" y="1557360"/>
            <a:ext cx="3405240" cy="45370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2771640" y="1557360"/>
            <a:ext cx="3453120" cy="46083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2719440" y="1484280"/>
            <a:ext cx="3506760" cy="46814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5"/>
          <a:stretch/>
        </p:blipFill>
        <p:spPr>
          <a:xfrm>
            <a:off x="2716200" y="1484280"/>
            <a:ext cx="3513240" cy="46814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6"/>
          <a:stretch/>
        </p:blipFill>
        <p:spPr>
          <a:xfrm>
            <a:off x="2738520" y="1484280"/>
            <a:ext cx="35607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4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500"/>
                            </p:stCondLst>
                            <p:childTnLst>
                              <p:par>
                                <p:cTn id="480" nodeType="afterEffect" fill="hold" presetClass="entr" presetID="6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650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9500"/>
                            </p:stCondLst>
                            <p:childTnLst>
                              <p:par>
                                <p:cTn id="488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2500"/>
                            </p:stCondLst>
                            <p:childTnLst>
                              <p:par>
                                <p:cTn id="492" nodeType="afterEffect" fill="hold" presetClass="entr" presetID="6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Информационные ресурсы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540640" cy="3673440"/>
          </a:xfrm>
          <a:prstGeom prst="rect">
            <a:avLst/>
          </a:prstGeom>
          <a:gradFill rotWithShape="0">
            <a:gsLst>
              <a:gs pos="0">
                <a:srgbClr val="b7e7ff"/>
              </a:gs>
              <a:gs pos="100000">
                <a:srgbClr val="0099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1.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льшая книга экспериментов для школьников. Под ред. Антонеллы    Местяни; Перевод с итальянского Э.И.Мотылёвой – М.: ЗАО «РОС МЭН-ПРЕСС», 2006.-260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      Савин И.А. Я познаю мир - М.: 2004 – 546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      Стёпин Б.Д. Занимательные задания и эффективные опыты по химии - М.: 2002 – 625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      Интернет/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;//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himik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ande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      Ходаков Ю.В.Архитектура кристаллов. - М.,1980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      Шуман В., 1 том. Мир камня. Горные породы и минералы. М.: Мир, 1986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000"/>
                            </p:stCondLst>
                            <p:childTnLst>
                              <p:par>
                                <p:cTn id="5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3000"/>
                            </p:stCondLst>
                            <p:childTnLst>
                              <p:par>
                                <p:cTn id="5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1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0"/>
                            </p:stCondLst>
                            <p:childTnLst>
                              <p:par>
                                <p:cTn id="5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1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6000"/>
                            </p:stCondLst>
                            <p:childTnLst>
                              <p:par>
                                <p:cTn id="5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1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7000"/>
                            </p:stCondLst>
                            <p:childTnLst>
                              <p:par>
                                <p:cTn id="5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1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бо за внимание !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2700360" y="1628640"/>
            <a:ext cx="3295800" cy="4392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750"/>
                            </p:stCondLst>
                            <p:childTnLst>
                              <p:par>
                                <p:cTn id="5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237636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Задачи: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843680" cy="447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Изучить литературу по теме кристалл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Самостоятельно вырастить кристаллы из предложенных солей и провести наблюдение за процессом кристаллиз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Создать различные сувениры и изделия из выращенных нами кристалл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Сделать выводы о проделанной нами рабо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Разработать и оформить  информационные буклеты о кристалл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55640" y="115920"/>
            <a:ext cx="16304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6408720" cy="4805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124000" y="170028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08000" y="476280"/>
            <a:ext cx="6840720" cy="720720"/>
          </a:xfrm>
          <a:prstGeom prst="rect">
            <a:avLst/>
          </a:prstGeom>
          <a:solidFill>
            <a:srgbClr val="008080"/>
          </a:solidFill>
          <a:ln w="76320">
            <a:solidFill>
              <a:srgbClr val="0000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Garamond"/>
              </a:rPr>
              <a:t>   </a:t>
            </a:r>
            <a:r>
              <a:rPr b="1" lang="en-US" sz="3600" spc="-1" strike="noStrike">
                <a:solidFill>
                  <a:srgbClr val="ffcc66"/>
                </a:solidFill>
                <a:latin typeface="Garamond"/>
              </a:rPr>
              <a:t>Мир кристаллов</a:t>
            </a:r>
            <a:endParaRPr b="0" lang="en-US" sz="36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2050920" y="1628640"/>
            <a:ext cx="66247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835280" y="333360"/>
            <a:ext cx="6624360" cy="642600"/>
          </a:xfrm>
          <a:prstGeom prst="rect">
            <a:avLst/>
          </a:prstGeom>
          <a:solidFill>
            <a:srgbClr val="00808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Мир кристалл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340000" y="2060640"/>
            <a:ext cx="5616720" cy="38480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340000" y="1989000"/>
            <a:ext cx="5688000" cy="42706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195640" y="1989000"/>
            <a:ext cx="5905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1628640"/>
            <a:ext cx="8280360" cy="3456000"/>
          </a:xfrm>
          <a:prstGeom prst="rect">
            <a:avLst/>
          </a:prstGeom>
          <a:noFill/>
          <a:ln cap="rnd" w="57240">
            <a:solidFill>
              <a:srgbClr val="00ff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Слово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krystallos</a:t>
            </a: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в переводе с греческого означает «лед».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877080" y="3141720"/>
            <a:ext cx="174636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899640" y="1700280"/>
            <a:ext cx="7510680" cy="2233440"/>
          </a:xfrm>
          <a:prstGeom prst="rect">
            <a:avLst/>
          </a:prstGeom>
          <a:noFill/>
          <a:ln cap="rnd" w="57240">
            <a:solidFill>
              <a:srgbClr val="00ff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Кристаллизаци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процесс образования твердого вещества из паров, растворов, расплав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588000" y="2781360"/>
            <a:ext cx="217332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Различные формы кристаллов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94" name="Image16" descr=""/>
          <p:cNvPicPr/>
          <p:nvPr/>
        </p:nvPicPr>
        <p:blipFill>
          <a:blip r:embed="rId2"/>
          <a:srcRect l="1177" t="17649" r="81135" b="26480"/>
          <a:stretch/>
        </p:blipFill>
        <p:spPr>
          <a:xfrm rot="21447600">
            <a:off x="610920" y="2923920"/>
            <a:ext cx="2533680" cy="1566720"/>
          </a:xfrm>
          <a:prstGeom prst="rect">
            <a:avLst/>
          </a:prstGeom>
          <a:ln w="9360">
            <a:solidFill>
              <a:srgbClr val="0000a4"/>
            </a:solidFill>
            <a:miter/>
          </a:ln>
        </p:spPr>
      </p:pic>
      <p:pic>
        <p:nvPicPr>
          <p:cNvPr id="195" name="Image16" descr=""/>
          <p:cNvPicPr/>
          <p:nvPr/>
        </p:nvPicPr>
        <p:blipFill>
          <a:blip r:embed="rId3"/>
          <a:srcRect l="35004" t="16629" r="35004" b="12724"/>
          <a:stretch/>
        </p:blipFill>
        <p:spPr>
          <a:xfrm>
            <a:off x="3635280" y="2997360"/>
            <a:ext cx="1963800" cy="1854000"/>
          </a:xfrm>
          <a:prstGeom prst="rect">
            <a:avLst/>
          </a:prstGeom>
          <a:ln w="9360">
            <a:solidFill>
              <a:srgbClr val="0000a4"/>
            </a:solidFill>
            <a:miter/>
          </a:ln>
        </p:spPr>
      </p:pic>
      <p:pic>
        <p:nvPicPr>
          <p:cNvPr id="196" name="Image16" descr=""/>
          <p:cNvPicPr/>
          <p:nvPr/>
        </p:nvPicPr>
        <p:blipFill>
          <a:blip r:embed="rId4"/>
          <a:srcRect l="80006" t="24943" r="0" b="29352"/>
          <a:stretch/>
        </p:blipFill>
        <p:spPr>
          <a:xfrm>
            <a:off x="6300720" y="2997360"/>
            <a:ext cx="1992240" cy="1827000"/>
          </a:xfrm>
          <a:prstGeom prst="rect">
            <a:avLst/>
          </a:prstGeom>
          <a:ln w="9360">
            <a:solidFill>
              <a:srgbClr val="0000a4"/>
            </a:solidFill>
            <a:miter/>
          </a:ln>
        </p:spPr>
      </p:pic>
      <p:sp>
        <p:nvSpPr>
          <p:cNvPr id="197" name=""/>
          <p:cNvSpPr/>
          <p:nvPr/>
        </p:nvSpPr>
        <p:spPr>
          <a:xfrm flipH="1">
            <a:off x="2268000" y="1341360"/>
            <a:ext cx="1511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43280" y="141300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08720" y="1413000"/>
            <a:ext cx="136836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500"/>
                            </p:stCondLst>
                            <p:childTnLst>
                              <p:par>
                                <p:cTn id="1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500"/>
                            </p:stCondLst>
                            <p:childTnLst>
                              <p:par>
                                <p:cTn id="2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65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8500"/>
                            </p:stCondLst>
                            <p:childTnLst>
                              <p:par>
                                <p:cTn id="2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724360" y="2060640"/>
            <a:ext cx="2426040" cy="36576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7542360" y="5013360"/>
            <a:ext cx="582480" cy="6681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1547640" y="2060640"/>
            <a:ext cx="2421000" cy="36003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3059280" y="1557360"/>
            <a:ext cx="1312560" cy="1197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484360" y="40464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a4"/>
                </a:solidFill>
                <a:latin typeface="Arial"/>
              </a:rPr>
              <a:t>Графит и алмаз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6"/>
          <a:stretch/>
        </p:blipFill>
        <p:spPr>
          <a:xfrm>
            <a:off x="5724360" y="5013360"/>
            <a:ext cx="86364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0T16:24:00Z</dcterms:created>
  <dc:creator>марина</dc:creator>
  <dc:description/>
  <dc:language>en-US</dc:language>
  <cp:lastModifiedBy>марина</cp:lastModifiedBy>
  <dcterms:modified xsi:type="dcterms:W3CDTF">2009-01-26T16:19:46Z</dcterms:modified>
  <cp:revision>184</cp:revision>
  <dc:subject/>
  <dc:title>Слайд 1</dc:title>
</cp:coreProperties>
</file>