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3BC-41B4-443E-A35E-F0D99BAD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4A9-6188-4C38-913C-B585B0C4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345-A69E-44C3-B3A0-4C8C1848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2FA-6A35-4C0F-A821-584A0B40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FB89-FC90-4455-B961-442F1B13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4013-B889-453E-AE28-D2509FD2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CA90-83BF-4884-B596-31CE8DB9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AD92-14E8-45F8-A57C-3E9961FC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65D2-5854-4CF8-9394-3682DE33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BA41-3896-4220-8E37-98B9192C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D746-C34D-4D58-9CAC-F653088D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902-E400-46FC-B75C-073C0622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DE1D-A482-4B61-B5FB-89BB105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6CA0-0168-4E70-83AC-4A05E756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1FB0-AC67-4D4B-8111-BBE1479C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7669-EB1D-4B1E-9041-27808D2E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F919-2D37-4496-A82F-D2041C67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8A1-69E0-4B5E-923C-BB14CC1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93F-E15D-4196-B5E4-B2E33CA3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A62-85B5-473C-8528-EFA62255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129-9C11-47E2-A4B5-94910885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C86-9267-44C6-92F8-F9FF5B24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BBA-7465-4039-8A1C-48FD2A2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CB7-4912-435C-A723-DBA8D6E9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5d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785db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cc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cc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cc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15B1-FBAD-4905-AF81-A7FA72F8B1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9de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eae9d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6e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ad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ad8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e6ea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ad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a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e6e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ad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ad8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e6ead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ad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ad8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e6ea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ad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ad8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e6ea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ad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ad8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e6ead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ad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ad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6ead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6642-37EC-4A05-8A26-9C79CC87E869}" type="slidenum">
              <a:rPr b="0" lang="ru-RU" sz="1000" spc="-1" strike="noStrike">
                <a:solidFill>
                  <a:srgbClr val="e6ead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435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9de"/>
                </a:solidFill>
                <a:latin typeface="Bookman Old Style"/>
              </a:rPr>
              <a:t>Роутеры</a:t>
            </a:r>
            <a:endParaRPr b="0" lang="en-US" sz="4000" spc="-1" strike="noStrike">
              <a:solidFill>
                <a:srgbClr val="eae9d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360" y="357300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ead8"/>
                </a:solidFill>
                <a:latin typeface="Bookman Old Style"/>
              </a:rPr>
              <a:t>Исследовательская работа</a:t>
            </a:r>
            <a:endParaRPr b="0" lang="en-US" sz="2400" spc="-1" strike="noStrike">
              <a:solidFill>
                <a:srgbClr val="e6ead8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320480" y="5000760"/>
            <a:ext cx="6328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Работу выполнил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Владимиров Н.Л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группа № 46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Руководитель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Сазонова Н.В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0" y="18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6ead8"/>
                </a:solidFill>
                <a:latin typeface="Arial"/>
              </a:rPr>
              <a:t>Фестиваль исследовательских и творческих работ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6ead8"/>
                </a:solidFill>
                <a:latin typeface="Arial"/>
              </a:rPr>
              <a:t>«Портфолио»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0" y="846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Федеральное государственное образовательное учреждение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среднего профессионального образования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6ead8"/>
                </a:solidFill>
                <a:latin typeface="Arial"/>
              </a:rPr>
              <a:t>«Чернушинский политехнический колледж»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4" descr="http://stream-tst.ru/images/stories/modem/Dlink_DSL-500_504GT/11.JPG"/>
          <p:cNvPicPr/>
          <p:nvPr/>
        </p:nvPicPr>
        <p:blipFill>
          <a:blip r:embed="rId1"/>
          <a:stretch/>
        </p:blipFill>
        <p:spPr>
          <a:xfrm>
            <a:off x="528480" y="552600"/>
            <a:ext cx="8140680" cy="5798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50" name="Text 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Настройка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VC (VPI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VCI)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, ввод Имени и парол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:\НПК_Владимиров\IMG_0727.jpg"/>
          <p:cNvPicPr/>
          <p:nvPr/>
        </p:nvPicPr>
        <p:blipFill>
          <a:blip r:embed="rId1"/>
          <a:stretch/>
        </p:blipFill>
        <p:spPr>
          <a:xfrm>
            <a:off x="1428840" y="42876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071720" y="5643720"/>
            <a:ext cx="72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Данный проект реализован в Бухгалтерии нашего колледжа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4907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троение сет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therne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с доступом в сеть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net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редствами технолог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DS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0" y="78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ъект исследования: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0" y="13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DS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0" y="2405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мет исследования: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0" y="3048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DSL Router 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ink DS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5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0" y="4260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Цель исследования: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395280" y="1089720"/>
            <a:ext cx="8353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e6e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ad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ad8"/>
                </a:solidFill>
                <a:latin typeface="Arial"/>
              </a:rPr>
              <a:t>Ознакомление с технологией </a:t>
            </a:r>
            <a:r>
              <a:rPr b="0" lang="en-US" sz="2800" spc="-1" strike="noStrike">
                <a:solidFill>
                  <a:srgbClr val="e6ead8"/>
                </a:solidFill>
                <a:latin typeface="Arial"/>
              </a:rPr>
              <a:t>ADS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6e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ad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ad8"/>
                </a:solidFill>
                <a:latin typeface="Arial"/>
              </a:rPr>
              <a:t>Выбор оборудовани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6e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ad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ad8"/>
                </a:solidFill>
                <a:latin typeface="Arial"/>
              </a:rPr>
              <a:t>Подключение модема </a:t>
            </a:r>
            <a:r>
              <a:rPr b="0" lang="en-US" sz="2800" spc="-1" strike="noStrike">
                <a:solidFill>
                  <a:srgbClr val="e6ead8"/>
                </a:solidFill>
                <a:latin typeface="Arial"/>
              </a:rPr>
              <a:t>ADSL D</a:t>
            </a:r>
            <a:r>
              <a:rPr b="0" lang="ru-RU" sz="2800" spc="-1" strike="noStrike">
                <a:solidFill>
                  <a:srgbClr val="e6ead8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e6ead8"/>
                </a:solidFill>
                <a:latin typeface="Arial"/>
              </a:rPr>
              <a:t>Link DSL</a:t>
            </a:r>
            <a:r>
              <a:rPr b="0" lang="ru-RU" sz="2800" spc="-1" strike="noStrike">
                <a:solidFill>
                  <a:srgbClr val="e6ead8"/>
                </a:solidFill>
                <a:latin typeface="Arial"/>
              </a:rPr>
              <a:t>-500</a:t>
            </a:r>
            <a:r>
              <a:rPr b="0" lang="en-US" sz="2800" spc="-1" strike="noStrike">
                <a:solidFill>
                  <a:srgbClr val="e6ead8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6e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ad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ad8"/>
                </a:solidFill>
                <a:latin typeface="Arial"/>
              </a:rPr>
              <a:t>Настройка </a:t>
            </a:r>
            <a:r>
              <a:rPr b="0" lang="en-US" sz="2800" spc="-1" strike="noStrike">
                <a:solidFill>
                  <a:srgbClr val="e6ead8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e6ead8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e6ead8"/>
                </a:solidFill>
                <a:latin typeface="Arial"/>
              </a:rPr>
              <a:t>Link DSL</a:t>
            </a:r>
            <a:r>
              <a:rPr b="0" lang="ru-RU" sz="2800" spc="-1" strike="noStrike">
                <a:solidFill>
                  <a:srgbClr val="e6ead8"/>
                </a:solidFill>
                <a:latin typeface="Arial"/>
              </a:rPr>
              <a:t>-500</a:t>
            </a:r>
            <a:r>
              <a:rPr b="0" lang="en-US" sz="2800" spc="-1" strike="noStrike">
                <a:solidFill>
                  <a:srgbClr val="e6ead8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e6ead8"/>
                </a:solidFill>
                <a:latin typeface="Arial"/>
              </a:rPr>
              <a:t> в режиме роутера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1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ad8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00040" y="447840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ad8"/>
                </a:solidFill>
                <a:latin typeface="Arial"/>
                <a:ea typeface="Times New Roman"/>
              </a:rPr>
              <a:t>Технология </a:t>
            </a:r>
            <a:r>
              <a:rPr b="0" lang="en-US" sz="2800" spc="-1" strike="noStrike">
                <a:solidFill>
                  <a:srgbClr val="e6ead8"/>
                </a:solidFill>
                <a:latin typeface="Arial"/>
                <a:ea typeface="Times New Roman"/>
              </a:rPr>
              <a:t>ADSL </a:t>
            </a:r>
            <a:r>
              <a:rPr b="0" lang="ru-RU" sz="2800" spc="-1" strike="noStrike">
                <a:solidFill>
                  <a:srgbClr val="e6ead8"/>
                </a:solidFill>
                <a:latin typeface="Arial"/>
                <a:ea typeface="Times New Roman"/>
              </a:rPr>
              <a:t>позволяет реализовать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ad8"/>
                </a:solidFill>
                <a:latin typeface="Arial"/>
                <a:ea typeface="Times New Roman"/>
              </a:rPr>
              <a:t>коллективный доступ к сети </a:t>
            </a:r>
            <a:r>
              <a:rPr b="0" lang="en-US" sz="2800" spc="-1" strike="noStrike">
                <a:solidFill>
                  <a:srgbClr val="e6ead8"/>
                </a:solidFill>
                <a:latin typeface="Arial"/>
                <a:ea typeface="Times New Roman"/>
              </a:rPr>
              <a:t>Interne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0" y="3862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ad8"/>
                </a:solidFill>
                <a:latin typeface="Arial"/>
                <a:ea typeface="Times New Roman"/>
              </a:rPr>
              <a:t>Гипотеза: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0" y="-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Фирмы-производители  Роутеров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15920" y="1722600"/>
            <a:ext cx="2730600" cy="2255760"/>
          </a:xfrm>
          <a:prstGeom prst="rect">
            <a:avLst/>
          </a:prstGeom>
          <a:ln w="6480">
            <a:solidFill>
              <a:srgbClr val="ccffff"/>
            </a:solidFill>
            <a:miter/>
          </a:ln>
        </p:spPr>
      </p:pic>
      <p:pic>
        <p:nvPicPr>
          <p:cNvPr id="99" name="Picture 6" descr="Cisco_7301_Series_Router"/>
          <p:cNvPicPr/>
          <p:nvPr/>
        </p:nvPicPr>
        <p:blipFill>
          <a:blip r:embed="rId2"/>
          <a:stretch/>
        </p:blipFill>
        <p:spPr>
          <a:xfrm>
            <a:off x="2989440" y="1711440"/>
            <a:ext cx="2847960" cy="2276280"/>
          </a:xfrm>
          <a:prstGeom prst="rect">
            <a:avLst/>
          </a:prstGeom>
          <a:ln w="6480">
            <a:solidFill>
              <a:srgbClr val="ccffff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6012000" y="40194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Cisco 7600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978280" y="3995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Cisco 7301 Router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2" name="Picture 9" descr="7606_Series_Internet_Router"/>
          <p:cNvPicPr/>
          <p:nvPr/>
        </p:nvPicPr>
        <p:blipFill>
          <a:blip r:embed="rId3"/>
          <a:stretch/>
        </p:blipFill>
        <p:spPr>
          <a:xfrm>
            <a:off x="6056280" y="1700280"/>
            <a:ext cx="2908440" cy="23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Rectangle 10"/>
          <p:cNvSpPr/>
          <p:nvPr/>
        </p:nvSpPr>
        <p:spPr>
          <a:xfrm>
            <a:off x="148680" y="399744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Linksys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BEFSX41 router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0" y="1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Подключение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 rot="16200000">
            <a:off x="1654560" y="117288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Arial"/>
              </a:rPr>
              <a:t>Телефонная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Arial"/>
              </a:rPr>
              <a:t>линия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2421000" y="979560"/>
            <a:ext cx="0" cy="93672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205000" y="1916280"/>
            <a:ext cx="432000" cy="863280"/>
          </a:xfrm>
          <a:prstGeom prst="rect">
            <a:avLst/>
          </a:prstGeom>
          <a:solidFill>
            <a:srgbClr val="6699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 rot="16200000">
            <a:off x="2063880" y="222552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Arial"/>
              </a:rPr>
              <a:t>сплиттер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2637000" y="2347920"/>
            <a:ext cx="5047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hone3"/>
          <p:cNvSpPr/>
          <p:nvPr/>
        </p:nvSpPr>
        <p:spPr>
          <a:xfrm>
            <a:off x="3141720" y="2131920"/>
            <a:ext cx="457200" cy="457200"/>
          </a:xfrm>
          <a:prstGeom prst="pie">
            <a:avLst/>
          </a:prstGeom>
          <a:solidFill>
            <a:srgbClr val="6699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2421000" y="2779560"/>
            <a:ext cx="0" cy="57636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1552680" y="3355920"/>
            <a:ext cx="1728720" cy="503280"/>
          </a:xfrm>
          <a:prstGeom prst="rect">
            <a:avLst/>
          </a:prstGeom>
          <a:solidFill>
            <a:srgbClr val="4b78d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755000" y="3402000"/>
            <a:ext cx="13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ADSL </a:t>
            </a: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модем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с функ. роутера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773360" y="3859200"/>
            <a:ext cx="0" cy="6494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3070080" y="3859200"/>
            <a:ext cx="0" cy="6494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421000" y="3859200"/>
            <a:ext cx="0" cy="180036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computr3"/>
          <p:cNvSpPr/>
          <p:nvPr/>
        </p:nvSpPr>
        <p:spPr>
          <a:xfrm>
            <a:off x="2700360" y="4508640"/>
            <a:ext cx="719280" cy="538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computr3"/>
          <p:cNvSpPr/>
          <p:nvPr/>
        </p:nvSpPr>
        <p:spPr>
          <a:xfrm>
            <a:off x="1403280" y="4518000"/>
            <a:ext cx="719280" cy="538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computr3"/>
          <p:cNvSpPr/>
          <p:nvPr/>
        </p:nvSpPr>
        <p:spPr>
          <a:xfrm>
            <a:off x="2055960" y="5659560"/>
            <a:ext cx="718920" cy="538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971640" y="836640"/>
            <a:ext cx="358560" cy="5543640"/>
          </a:xfrm>
          <a:custGeom>
            <a:avLst/>
            <a:gdLst>
              <a:gd name="textAreaLeft" fmla="*/ 228960 w 358560"/>
              <a:gd name="textAreaRight" fmla="*/ 358560 w 358560"/>
              <a:gd name="textAreaTop" fmla="*/ 144360 h 5543640"/>
              <a:gd name="textAreaBottom" fmla="*/ 5399280 h 55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Text Box 28"/>
          <p:cNvSpPr/>
          <p:nvPr/>
        </p:nvSpPr>
        <p:spPr>
          <a:xfrm rot="16200000">
            <a:off x="-947880" y="3331440"/>
            <a:ext cx="329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Схема построения с использованием</a:t>
            </a:r>
            <a:endParaRPr b="0" lang="en-US" sz="1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ADSL </a:t>
            </a: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одема с функцией роутера</a:t>
            </a:r>
            <a:endParaRPr b="0" lang="en-US" sz="1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 rot="16200000">
            <a:off x="5748840" y="117432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Arial"/>
              </a:rPr>
              <a:t>Телефонная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Arial"/>
              </a:rPr>
              <a:t>линия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Line 30"/>
          <p:cNvSpPr/>
          <p:nvPr/>
        </p:nvSpPr>
        <p:spPr>
          <a:xfrm>
            <a:off x="6515280" y="981000"/>
            <a:ext cx="0" cy="93672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6299280" y="1917720"/>
            <a:ext cx="431640" cy="863640"/>
          </a:xfrm>
          <a:prstGeom prst="rect">
            <a:avLst/>
          </a:prstGeom>
          <a:solidFill>
            <a:srgbClr val="6699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 rot="16200000">
            <a:off x="6158160" y="222660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Arial"/>
              </a:rPr>
              <a:t>сплиттер</a:t>
            </a:r>
            <a:endParaRPr b="0" lang="en-US" sz="1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Line 33"/>
          <p:cNvSpPr/>
          <p:nvPr/>
        </p:nvSpPr>
        <p:spPr>
          <a:xfrm>
            <a:off x="6730920" y="2349360"/>
            <a:ext cx="50508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hone3"/>
          <p:cNvSpPr/>
          <p:nvPr/>
        </p:nvSpPr>
        <p:spPr>
          <a:xfrm>
            <a:off x="7236000" y="2133720"/>
            <a:ext cx="457200" cy="457200"/>
          </a:xfrm>
          <a:prstGeom prst="pie">
            <a:avLst/>
          </a:prstGeom>
          <a:solidFill>
            <a:srgbClr val="6699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515280" y="2781360"/>
            <a:ext cx="0" cy="57636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5867280" y="3357720"/>
            <a:ext cx="1285920" cy="374400"/>
          </a:xfrm>
          <a:prstGeom prst="rect">
            <a:avLst/>
          </a:prstGeom>
          <a:solidFill>
            <a:srgbClr val="4b78d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5957280" y="34034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ADSL </a:t>
            </a: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модем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Line 38"/>
          <p:cNvSpPr/>
          <p:nvPr/>
        </p:nvSpPr>
        <p:spPr>
          <a:xfrm>
            <a:off x="6516720" y="3726000"/>
            <a:ext cx="0" cy="5760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5718240" y="4308480"/>
            <a:ext cx="1584360" cy="431640"/>
          </a:xfrm>
          <a:prstGeom prst="rect">
            <a:avLst/>
          </a:prstGeom>
          <a:solidFill>
            <a:srgbClr val="4b78d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Роутер</a:t>
            </a:r>
            <a:endParaRPr b="0" lang="en-US" sz="1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computr3"/>
          <p:cNvSpPr/>
          <p:nvPr/>
        </p:nvSpPr>
        <p:spPr>
          <a:xfrm>
            <a:off x="6804000" y="4869000"/>
            <a:ext cx="719280" cy="538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computr3"/>
          <p:cNvSpPr/>
          <p:nvPr/>
        </p:nvSpPr>
        <p:spPr>
          <a:xfrm>
            <a:off x="5506920" y="4878360"/>
            <a:ext cx="719280" cy="538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computr3"/>
          <p:cNvSpPr/>
          <p:nvPr/>
        </p:nvSpPr>
        <p:spPr>
          <a:xfrm>
            <a:off x="6156360" y="5445000"/>
            <a:ext cx="719280" cy="538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Line 47"/>
          <p:cNvSpPr/>
          <p:nvPr/>
        </p:nvSpPr>
        <p:spPr>
          <a:xfrm flipV="1">
            <a:off x="5910120" y="4743360"/>
            <a:ext cx="0" cy="14472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Line 48"/>
          <p:cNvSpPr/>
          <p:nvPr/>
        </p:nvSpPr>
        <p:spPr>
          <a:xfrm flipV="1">
            <a:off x="7197840" y="4743360"/>
            <a:ext cx="0" cy="14472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Line 49"/>
          <p:cNvSpPr/>
          <p:nvPr/>
        </p:nvSpPr>
        <p:spPr>
          <a:xfrm>
            <a:off x="6545160" y="4738680"/>
            <a:ext cx="0" cy="72072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AutoShape 50"/>
          <p:cNvSpPr/>
          <p:nvPr/>
        </p:nvSpPr>
        <p:spPr>
          <a:xfrm>
            <a:off x="7667640" y="874800"/>
            <a:ext cx="433440" cy="5329080"/>
          </a:xfrm>
          <a:custGeom>
            <a:avLst/>
            <a:gdLst>
              <a:gd name="textAreaLeft" fmla="*/ 0 w 433440"/>
              <a:gd name="textAreaRight" fmla="*/ 156600 w 433440"/>
              <a:gd name="textAreaTop" fmla="*/ 138960 h 5329080"/>
              <a:gd name="textAreaBottom" fmla="*/ 5190120 h 53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 rot="16200000">
            <a:off x="7378920" y="3276720"/>
            <a:ext cx="203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Схема построения</a:t>
            </a:r>
            <a:endParaRPr b="0" lang="en-US" sz="1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ADSL </a:t>
            </a: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одем + Роутер</a:t>
            </a:r>
            <a:endParaRPr b="0" lang="en-US" sz="1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DSL Router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D-Link DSL-500T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2" name="Picture 5" descr="dsl-500t"/>
          <p:cNvPicPr/>
          <p:nvPr/>
        </p:nvPicPr>
        <p:blipFill>
          <a:blip r:embed="rId1"/>
          <a:stretch/>
        </p:blipFill>
        <p:spPr>
          <a:xfrm>
            <a:off x="1692360" y="692280"/>
            <a:ext cx="5904000" cy="4363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http://stream-tst.ru/images/stories/modem/asus6020/img/lan.jpg"/>
          <p:cNvPicPr/>
          <p:nvPr/>
        </p:nvPicPr>
        <p:blipFill>
          <a:blip r:embed="rId1"/>
          <a:stretch/>
        </p:blipFill>
        <p:spPr>
          <a:xfrm>
            <a:off x="2028960" y="642960"/>
            <a:ext cx="5186160" cy="5724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Назначение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P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адреса, маски, шлюза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http://stream-tst.ru/images/stories/modem/Dlink_DSL-500_504GT/08.JPG"/>
          <p:cNvPicPr/>
          <p:nvPr/>
        </p:nvPicPr>
        <p:blipFill>
          <a:blip r:embed="rId1"/>
          <a:stretch/>
        </p:blipFill>
        <p:spPr>
          <a:xfrm>
            <a:off x="104760" y="601560"/>
            <a:ext cx="8964720" cy="5797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46" name="Text Box 4"/>
          <p:cNvSpPr/>
          <p:nvPr/>
        </p:nvSpPr>
        <p:spPr>
          <a:xfrm>
            <a:off x="0" y="-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Вход в административную панель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DSL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Роутера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3" descr="http://stream-tst.ru/images/stories/modem/Dlink_DSL-500_504GT/09.JPG"/>
          <p:cNvPicPr/>
          <p:nvPr/>
        </p:nvPicPr>
        <p:blipFill>
          <a:blip r:embed="rId1"/>
          <a:stretch/>
        </p:blipFill>
        <p:spPr>
          <a:xfrm>
            <a:off x="395280" y="574560"/>
            <a:ext cx="8402760" cy="5797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48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Настройка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VC (VPI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VCI)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, ввод Имени и парол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01:10Z</dcterms:created>
  <dc:creator>st</dc:creator>
  <dc:description/>
  <cp:keywords/>
  <dc:language>en-US</dc:language>
  <cp:lastModifiedBy>k45-10</cp:lastModifiedBy>
  <dcterms:modified xsi:type="dcterms:W3CDTF">2009-01-23T09:34:32Z</dcterms:modified>
  <cp:revision>19</cp:revision>
  <dc:subject/>
  <dc:title>Роуте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