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5026-D21E-4C60-BF15-D1B0FCC0E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D2E3-D93E-4884-BFF0-8A4BD1096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7699-9CAD-40E2-9912-F726DE9C4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637A-5710-4795-BE54-B3A907DB6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58BFE-0B76-408A-AD03-26007AE41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505A7-0970-4798-AD35-E9EB18328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8E0A1-CF36-4845-BD03-47E94FD7F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56D3E-AA30-4307-9580-57755F06C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78F4F-7A53-4621-A0F5-8085E7C19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9BE33-F956-4BE6-9A88-DE1D43A6D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B9064-77B6-49E3-8EC9-6A49D88C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9F4A-C6DF-4D16-B486-22F0655E5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08159-3832-4910-8451-B10C0E07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5CEA8-ABFA-4CBA-BF1A-409104B9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B4158-EBA8-4B40-A4FC-02E743BA3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CD0AA-1F72-4993-92AA-D311A83DF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825E0-8BA5-4002-A0E2-76FFE64DA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0E0E-FE0A-4F1A-8BE3-478507120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3BB6-33F1-4ECA-80D9-B0D038AD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7CE4-37C6-45FE-A487-8E02490B9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4697-776D-492E-889D-555393ACA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D7CB-5332-4E01-A7CE-C63FAF24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27BC-A30F-4F02-A8B2-37DBCB18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4BDD-3B68-4AAB-B66C-D7F8007A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56DA7-2E1C-4663-AC1F-E9A31FB0B6F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73648-9B23-402F-ACF4-E859894EC7A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620640"/>
            <a:ext cx="7758000" cy="3021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i="1" lang="ru-RU" sz="4800" spc="-1" strike="noStrike">
                <a:solidFill>
                  <a:srgbClr val="6699ff"/>
                </a:solidFill>
                <a:latin typeface="Arial"/>
              </a:rPr>
              <a:t>Подобие треугольников. Применение подобия треугольников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003280" y="4723920"/>
            <a:ext cx="3961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дготовила учениц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9 Б класса МОУ лицея №5 города Ельц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инькова Наталь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120"/>
                            </p:stCondLst>
                            <p:childTnLst>
                              <p:par>
                                <p:cTn id="1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620"/>
                            </p:stCondLst>
                            <p:childTnLst>
                              <p:par>
                                <p:cTn id="1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120"/>
                            </p:stCondLst>
                            <p:childTnLst>
                              <p:par>
                                <p:cTn id="2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99ff"/>
                </a:solidFill>
                <a:latin typeface="Arial"/>
              </a:rPr>
              <a:t>Доказательство теоремы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усть треугольники АВС и 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одобны, причём коэффициент подобия равен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Обозначим буквам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лощади этих треугольников. Так как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 =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то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 / S`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АВ*АС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*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теореме об отношении площадей треугольников, имеющих по равному углу). По формулам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В/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/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/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 =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i="1" lang="ru-RU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меем: АВ/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,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/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i="1" lang="ru-RU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этом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S / S` = k</a:t>
            </a:r>
            <a:r>
              <a:rPr b="1" i="1" lang="ru-RU" sz="3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.т.д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6280"/>
                            </p:stCondLst>
                            <p:childTnLst>
                              <p:par>
                                <p:cTn id="3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8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7080"/>
                            </p:stCondLst>
                            <p:childTnLst>
                              <p:par>
                                <p:cTn id="3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8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160"/>
                            </p:stCondLst>
                            <p:childTnLst>
                              <p:par>
                                <p:cTn id="3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8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1200"/>
                            </p:stCondLst>
                            <p:childTnLst>
                              <p:par>
                                <p:cTn id="3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8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2560"/>
                            </p:stCondLst>
                            <p:childTnLst>
                              <p:par>
                                <p:cTn id="3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8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2920"/>
                            </p:stCondLst>
                            <p:childTnLst>
                              <p:par>
                                <p:cTn id="3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8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99ff"/>
                </a:solidFill>
                <a:latin typeface="Arial"/>
              </a:rPr>
              <a:t>Лемм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Прямая, параллельная какой-нибудь стороне треугольника и пересекающая две другие стороны, отсекает от него треугольник, подобный данном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99ff"/>
                </a:solidFill>
                <a:latin typeface="Arial"/>
              </a:rPr>
              <a:t>Доказательство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усть АВС – данный треугольник, 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N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прямая, параллельная стороне А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кажем, что </a:t>
            </a: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BN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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BC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Углы </a:t>
            </a: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BN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Соответственно равны углам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BC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– общий, </a:t>
            </a: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 = </a:t>
            </a: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 и </a:t>
            </a: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 =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как соответственные углы при пересечении параллельных прямых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N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АС секущими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кажем, что соответственные стороны </a:t>
            </a: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BN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BC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ропорциональ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порция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M / BA = BN / BC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ледует из теоремы о пропорциональных отрезках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8" descr=""/>
          <p:cNvPicPr/>
          <p:nvPr/>
        </p:nvPicPr>
        <p:blipFill>
          <a:blip r:embed="rId1"/>
          <a:stretch/>
        </p:blipFill>
        <p:spPr>
          <a:xfrm>
            <a:off x="4788000" y="4724280"/>
            <a:ext cx="33526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000"/>
                            </p:stCondLst>
                            <p:childTnLst>
                              <p:par>
                                <p:cTn id="3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8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4440"/>
                            </p:stCondLst>
                            <p:childTnLst>
                              <p:par>
                                <p:cTn id="4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8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0360"/>
                            </p:stCondLst>
                            <p:childTnLst>
                              <p:par>
                                <p:cTn id="4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8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2720"/>
                            </p:stCondLst>
                            <p:childTnLst>
                              <p:par>
                                <p:cTn id="4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8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99ff"/>
                </a:solidFill>
                <a:latin typeface="Arial"/>
              </a:rPr>
              <a:t>Доказательство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кажем. Что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N / BC = MN / AC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ведём через точку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ямую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P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параллельную отрезку АВ. Применяя следствие из теоремы  о пропорциональных отрезках к углу АСВ и параллельным прямым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P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АВ, получаем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 / CA = NB / CB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к как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NP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параллелограмм, то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 = NM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    поэтому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NM / CA = NB / CB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N / BC = MN / AC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начит,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M / BA = BN / BC = MN / A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.е. соответственные стороны треугольников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BN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АВС пропорциональны.                     ч.т.д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1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960"/>
                            </p:stCondLst>
                            <p:childTnLst>
                              <p:par>
                                <p:cTn id="4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7" dur="8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8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7720"/>
                            </p:stCondLst>
                            <p:childTnLst>
                              <p:par>
                                <p:cTn id="4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3" dur="8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4" dur="8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8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8240"/>
                            </p:stCondLst>
                            <p:childTnLst>
                              <p:par>
                                <p:cTn id="4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9" dur="8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0" dur="8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8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0360"/>
                            </p:stCondLst>
                            <p:childTnLst>
                              <p:par>
                                <p:cTn id="4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6" dur="8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7" dur="8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0880"/>
                            </p:stCondLst>
                            <p:childTnLst>
                              <p:par>
                                <p:cTn id="4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" dur="8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1880"/>
                            </p:stCondLst>
                            <p:childTnLst>
                              <p:par>
                                <p:cTn id="4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9" dur="8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99ff"/>
                </a:solidFill>
                <a:latin typeface="Arial"/>
              </a:rPr>
              <a:t>Теорема 1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Если два угла одного треугольника соответственно равны двум углам другого, то такие треугольники подобн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3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4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99ff"/>
                </a:solidFill>
                <a:latin typeface="Arial"/>
              </a:rPr>
              <a:t>Доказательство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усть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ВС и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дв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реугольника, у которых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 =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=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Докажем, чт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ВС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теореме о сумме угл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реугольника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 = 18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-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 -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= 18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°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и. значит,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 =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Таким образом, углы треугольника АВС соответственно равны углам треугольника 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6227640" y="1700280"/>
            <a:ext cx="235296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2880"/>
                            </p:stCondLst>
                            <p:childTnLst>
                              <p:par>
                                <p:cTn id="5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8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4040"/>
                            </p:stCondLst>
                            <p:childTnLst>
                              <p:par>
                                <p:cTn id="5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3" dur="8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4" dur="8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5" dur="8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4800"/>
                            </p:stCondLst>
                            <p:childTnLst>
                              <p:par>
                                <p:cTn id="5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9" dur="8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0" dur="8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1" dur="8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5360"/>
                            </p:stCondLst>
                            <p:childTnLst>
                              <p:par>
                                <p:cTn id="5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5" dur="8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6" dur="8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7" dur="8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6200"/>
                            </p:stCondLst>
                            <p:childTnLst>
                              <p:par>
                                <p:cTn id="5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1" dur="8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2" dur="8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3" dur="8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7280"/>
                            </p:stCondLst>
                            <p:childTnLst>
                              <p:par>
                                <p:cTn id="5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9" dur="8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99ff"/>
                </a:solidFill>
                <a:latin typeface="Arial"/>
              </a:rPr>
              <a:t>Доказательство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кажем, что стороны треугольника АВС пропорциональны сходственным сторонам треугольника 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Так как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 =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 =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то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В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/ S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 =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АВ * АС) / (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* 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В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/ S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= (СА * СВ) / (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* 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 этих равенств следует, что АВ / 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= ВС / 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Аналогично, используя равенства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 =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=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получаем ВС / 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= СА / 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так, стороны треугольника АВС пропорциональны сходственным сторонам треугольника 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орема доказа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0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2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3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4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6800"/>
                            </p:stCondLst>
                            <p:childTnLst>
                              <p:par>
                                <p:cTn id="5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8" dur="8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9" dur="8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0" dur="8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8240"/>
                            </p:stCondLst>
                            <p:childTnLst>
                              <p:par>
                                <p:cTn id="5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4" dur="8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8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2600"/>
                            </p:stCondLst>
                            <p:childTnLst>
                              <p:par>
                                <p:cTn id="5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0" dur="8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1" dur="8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2" dur="8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5880"/>
                            </p:stCondLst>
                            <p:childTnLst>
                              <p:par>
                                <p:cTn id="5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6" dur="8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7" dur="8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8" dur="8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99ff"/>
                </a:solidFill>
                <a:latin typeface="Arial"/>
              </a:rPr>
              <a:t>Теорема 2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Если две стороны одного треугольника пропорциональны двум сторонам другого треугольника и углы, заключенные между этими сторонами равны, то такие треугольники подобн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1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2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3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99ff"/>
                </a:solidFill>
                <a:latin typeface="Arial"/>
              </a:rPr>
              <a:t>Доказательство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ссмотрим два треугольни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ВС и 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у котор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В/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/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 =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Докажем, чт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ВС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Для этого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итывая первый признак подоб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реугольников, достаточно доказать, что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=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tretch/>
        </p:blipFill>
        <p:spPr>
          <a:xfrm>
            <a:off x="6012000" y="1628640"/>
            <a:ext cx="235260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0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000"/>
                            </p:stCondLst>
                            <p:childTnLst>
                              <p:par>
                                <p:cTn id="6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2000"/>
                            </p:stCondLst>
                            <p:childTnLst>
                              <p:par>
                                <p:cTn id="6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0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1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2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3040"/>
                            </p:stCondLst>
                            <p:childTnLst>
                              <p:par>
                                <p:cTn id="6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6" dur="8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7" dur="8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8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3840"/>
                            </p:stCondLst>
                            <p:childTnLst>
                              <p:par>
                                <p:cTn id="6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2" dur="8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3" dur="8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4" dur="8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4480"/>
                            </p:stCondLst>
                            <p:childTnLst>
                              <p:par>
                                <p:cTn id="6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8" dur="8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9" dur="8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0" dur="8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240"/>
                            </p:stCondLst>
                            <p:childTnLst>
                              <p:par>
                                <p:cTn id="6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4" dur="8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5" dur="8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6" dur="8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6160"/>
                            </p:stCondLst>
                            <p:childTnLst>
                              <p:par>
                                <p:cTn id="6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0" dur="8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1" dur="8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2" dur="8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7320"/>
                            </p:stCondLst>
                            <p:childTnLst>
                              <p:par>
                                <p:cTn id="6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6" dur="8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7" dur="8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8" dur="8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9080"/>
                            </p:stCondLst>
                            <p:childTnLst>
                              <p:par>
                                <p:cTn id="6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2" dur="80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3" dur="80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4" dur="80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99ff"/>
                </a:solidFill>
                <a:latin typeface="Arial"/>
              </a:rPr>
              <a:t>Доказательство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ссмотрим треугольник А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торого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 =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Треугольники А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обны по первом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знаку подобия треугольников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этому  АВ / 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= 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 другой стороны, по услови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В / 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= АС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Из эти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вух равенств получаем АС = 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9" descr=""/>
          <p:cNvPicPr/>
          <p:nvPr/>
        </p:nvPicPr>
        <p:blipFill>
          <a:blip r:embed="rId1"/>
          <a:stretch/>
        </p:blipFill>
        <p:spPr>
          <a:xfrm>
            <a:off x="6300720" y="1773360"/>
            <a:ext cx="188604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0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1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2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3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4080"/>
                            </p:stCondLst>
                            <p:childTnLst>
                              <p:par>
                                <p:cTn id="6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7" dur="8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8" dur="8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9" dur="8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4800"/>
                            </p:stCondLst>
                            <p:childTnLst>
                              <p:par>
                                <p:cTn id="6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3" dur="8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5" dur="8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5800"/>
                            </p:stCondLst>
                            <p:childTnLst>
                              <p:par>
                                <p:cTn id="6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9" dur="8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0" dur="8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1" dur="8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6760"/>
                            </p:stCondLst>
                            <p:childTnLst>
                              <p:par>
                                <p:cTn id="6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5" dur="8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6" dur="8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7" dur="8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7960"/>
                            </p:stCondLst>
                            <p:childTnLst>
                              <p:par>
                                <p:cTn id="6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1" dur="8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2" dur="8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3" dur="8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8920"/>
                            </p:stCondLst>
                            <p:childTnLst>
                              <p:par>
                                <p:cTn id="7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7" dur="8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8" dur="8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9" dur="8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9920"/>
                            </p:stCondLst>
                            <p:childTnLst>
                              <p:par>
                                <p:cTn id="7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3" dur="8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4" dur="8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5" dur="8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0840"/>
                            </p:stCondLst>
                            <p:childTnLst>
                              <p:par>
                                <p:cTn id="7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9" dur="8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0" dur="8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1" dur="8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99ff"/>
                </a:solidFill>
                <a:latin typeface="Arial"/>
              </a:rPr>
              <a:t>Оглавление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вед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 истории подоб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новная част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меры решения задач с помощью подоб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пользуемая литерату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900"/>
                            </p:stCondLst>
                            <p:childTnLst>
                              <p:par>
                                <p:cTn id="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260"/>
                            </p:stCondLst>
                            <p:childTnLst>
                              <p:par>
                                <p:cTn id="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940"/>
                            </p:stCondLst>
                            <p:childTnLst>
                              <p:par>
                                <p:cTn id="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500"/>
                            </p:stCondLst>
                            <p:childTnLst>
                              <p:par>
                                <p:cTn id="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900"/>
                            </p:stCondLst>
                            <p:childTnLst>
                              <p:par>
                                <p:cTn id="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99ff"/>
                </a:solidFill>
                <a:latin typeface="Arial"/>
              </a:rPr>
              <a:t>Доказательство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реугольники АВС и А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вны по двум сторонам и углу между ними (АВ – общая сторона, АС = 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 =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поскольку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 =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. Отсюда следует, что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=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а так как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т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=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Теорема доказан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0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1000"/>
                            </p:stCondLst>
                            <p:childTnLst>
                              <p:par>
                                <p:cTn id="7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4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5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6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7120"/>
                            </p:stCondLst>
                            <p:childTnLst>
                              <p:par>
                                <p:cTn id="7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0" dur="8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1" dur="8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2" dur="8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99ff"/>
                </a:solidFill>
                <a:latin typeface="Arial"/>
              </a:rPr>
              <a:t>Теорема 3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Если три стороны одного треугольника пропорциональны трём сторонам другого, то такие треугольники подобн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0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1000"/>
                            </p:stCondLst>
                            <p:childTnLst>
                              <p:par>
                                <p:cTn id="7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5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6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7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99ff"/>
                </a:solidFill>
                <a:latin typeface="Arial"/>
              </a:rPr>
              <a:t>Доказательство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усть стороны треугольни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ВС и 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ропорциональн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В / 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= АС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/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кажем, что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ВС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Дл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го, учитывая второй призна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обия треугольников, достаточ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казать, что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 =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Рассмотри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реугольник  А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у которо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 =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реугольники А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 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одобны по первом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знаку подобия треугольни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6156360" y="1628640"/>
            <a:ext cx="18860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0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1000"/>
                            </p:stCondLst>
                            <p:childTnLst>
                              <p:par>
                                <p:cTn id="7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4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5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6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3040"/>
                            </p:stCondLst>
                            <p:childTnLst>
                              <p:par>
                                <p:cTn id="7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0" dur="8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1" dur="8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2" dur="8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4120"/>
                            </p:stCondLst>
                            <p:childTnLst>
                              <p:par>
                                <p:cTn id="7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6" dur="8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7" dur="8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8" dur="8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5120"/>
                            </p:stCondLst>
                            <p:childTnLst>
                              <p:par>
                                <p:cTn id="7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2" dur="8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3" dur="8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4" dur="8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6240"/>
                            </p:stCondLst>
                            <p:childTnLst>
                              <p:par>
                                <p:cTn id="7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8" dur="8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9" dur="8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0" dur="8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7360"/>
                            </p:stCondLst>
                            <p:childTnLst>
                              <p:par>
                                <p:cTn id="8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4" dur="8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5" dur="8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6" dur="8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8640"/>
                            </p:stCondLst>
                            <p:childTnLst>
                              <p:par>
                                <p:cTn id="8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0" dur="8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1" dur="8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2" dur="8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9840"/>
                            </p:stCondLst>
                            <p:childTnLst>
                              <p:par>
                                <p:cTn id="8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6" dur="8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7" dur="8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8" dur="8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10840"/>
                            </p:stCondLst>
                            <p:childTnLst>
                              <p:par>
                                <p:cTn id="8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2" dur="8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3" dur="8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4" dur="8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11600"/>
                            </p:stCondLst>
                            <p:childTnLst>
                              <p:par>
                                <p:cTn id="8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8" dur="80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9" dur="80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0" dur="80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13160"/>
                            </p:stCondLst>
                            <p:childTnLst>
                              <p:par>
                                <p:cTn id="8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4" dur="80"/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5" dur="80"/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6" dur="80"/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99ff"/>
                </a:solidFill>
                <a:latin typeface="Arial"/>
              </a:rPr>
              <a:t>Доказательство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сюда АВ/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=ВС/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G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=СА/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Сравнивая эти равенства с равенствами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В / 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= АС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/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лучаем: ВС=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СА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. Треугольники АВС и А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равны по трём сторонам. Отсюда следует, что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 =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а так как 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то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 =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орема доказа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0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000"/>
                            </p:stCondLst>
                            <p:childTnLst>
                              <p:par>
                                <p:cTn id="8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9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0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1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3520"/>
                            </p:stCondLst>
                            <p:childTnLst>
                              <p:par>
                                <p:cTn id="8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5" dur="8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6" dur="8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7" dur="8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4520"/>
                            </p:stCondLst>
                            <p:childTnLst>
                              <p:par>
                                <p:cTn id="8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1" dur="8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2" dur="8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3" dur="8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8960"/>
                            </p:stCondLst>
                            <p:childTnLst>
                              <p:par>
                                <p:cTn id="8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7" dur="8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8" dur="8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9" dur="8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507520" cy="516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99ff"/>
                </a:solidFill>
                <a:latin typeface="Arial"/>
              </a:rPr>
              <a:t>Применение подобия к доказательству теорем и решению задач.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0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99ff"/>
                </a:solidFill>
                <a:latin typeface="Arial"/>
              </a:rPr>
              <a:t>Средняя линия треугольник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Средняя линия треугольника параллельна одной из его сторон и равна половине этой стороны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0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1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2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3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99ff"/>
                </a:solidFill>
                <a:latin typeface="Arial"/>
              </a:rPr>
              <a:t>Доказательство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усть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средняя ли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реугольника АВС. Докажем, чт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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 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N = 0.5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реугольник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MN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ВА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обны по второму признаку подобия треугольников (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– общий, ВМ / ВА = 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 /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ВС = 0,5), поэтому 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 =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 и 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/ АС = 0,5. Из равенства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 =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  следует, что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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 , а из второго равенства, - чт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N = 0.5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.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орема доказа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5867280" y="1628640"/>
            <a:ext cx="249552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fill="hold">
                      <p:stCondLst>
                        <p:cond delay="0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1000"/>
                            </p:stCondLst>
                            <p:childTnLst>
                              <p:par>
                                <p:cTn id="9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2000"/>
                            </p:stCondLst>
                            <p:childTnLst>
                              <p:par>
                                <p:cTn id="9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0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1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2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2840"/>
                            </p:stCondLst>
                            <p:childTnLst>
                              <p:par>
                                <p:cTn id="9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6" dur="8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7" dur="8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8" dur="8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3960"/>
                            </p:stCondLst>
                            <p:childTnLst>
                              <p:par>
                                <p:cTn id="9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2" dur="8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3" dur="8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4" dur="8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4640"/>
                            </p:stCondLst>
                            <p:childTnLst>
                              <p:par>
                                <p:cTn id="9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8" dur="8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9" dur="8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0" dur="8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5440"/>
                            </p:stCondLst>
                            <p:childTnLst>
                              <p:par>
                                <p:cTn id="9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4" dur="8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5" dur="8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6" dur="8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11560"/>
                            </p:stCondLst>
                            <p:childTnLst>
                              <p:par>
                                <p:cTn id="9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0" dur="8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1" dur="8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2" dur="8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11960"/>
                            </p:stCondLst>
                            <p:childTnLst>
                              <p:par>
                                <p:cTn id="9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6" dur="8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7" dur="8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8" dur="8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99ff"/>
                </a:solidFill>
                <a:latin typeface="Arial"/>
              </a:rPr>
              <a:t>Задача 1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Доказать, что медианы треугольника пересекаются в одной точке, которая делит каждую медиану в отношении 2:1 считая от вершины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0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1000"/>
                            </p:stCondLst>
                            <p:childTnLst>
                              <p:par>
                                <p:cTn id="9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1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2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3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60595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99ff"/>
                </a:solidFill>
                <a:latin typeface="Arial"/>
              </a:rPr>
              <a:t>Доказательство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ссмотрим произвольны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реугольник АВС. Обозначи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уквой О точку пересечения его медиан  А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 В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 проведём среднюю линию 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этого треугольника. Отрезок 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араллелен стороне АВ, поэтому углы 1 и 2, а также углы 3 и 4 равны как накрест лежащие углы при пересечении параллельных прямых АВ и 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екущими А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едовательно, треугольники АОВ и АОВ подобны по двум углам, и значит, их стороны пропорциональн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О / 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 = ВО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 = А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6300720" y="765000"/>
            <a:ext cx="214308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0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1000"/>
                            </p:stCondLst>
                            <p:childTnLst>
                              <p:par>
                                <p:cTn id="9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2000"/>
                            </p:stCondLst>
                            <p:childTnLst>
                              <p:par>
                                <p:cTn id="9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0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1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2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2920"/>
                            </p:stCondLst>
                            <p:childTnLst>
                              <p:par>
                                <p:cTn id="9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6" dur="8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7" dur="8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8" dur="8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3920"/>
                            </p:stCondLst>
                            <p:childTnLst>
                              <p:par>
                                <p:cTn id="9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2" dur="8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3" dur="8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4" dur="8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16239"/>
                            </p:stCondLst>
                            <p:childTnLst>
                              <p:par>
                                <p:cTn id="9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8" dur="8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9" dur="8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0" dur="8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99ff"/>
                </a:solidFill>
                <a:latin typeface="Arial"/>
              </a:rPr>
              <a:t>Доказательство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 АВ = 2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поэтому АО = 2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 и ВО = 2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. Таким образом, точка О пересечения медиан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 В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делит каждую из них в отношении 2:1 считая от вершины, и, следовательно, совпадает с точкой 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так, все три медианы треугольника АВС пересекаются в точке О и делятся ею в отношении 2:1, считая от вершин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.т.д.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fill="hold">
                      <p:stCondLst>
                        <p:cond delay="0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3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4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5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3840"/>
                            </p:stCondLst>
                            <p:childTnLst>
                              <p:par>
                                <p:cTn id="10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9" dur="8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0" dur="8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1" dur="8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7320"/>
                            </p:stCondLst>
                            <p:childTnLst>
                              <p:par>
                                <p:cTn id="10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5" dur="8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6" dur="8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7" dur="8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11040"/>
                            </p:stCondLst>
                            <p:childTnLst>
                              <p:par>
                                <p:cTn id="10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1" dur="8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2" dur="8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3" dur="8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ff"/>
                </a:solidFill>
                <a:latin typeface="Arial"/>
              </a:rPr>
              <a:t>Введение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80899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ше время позволяет изучать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следовать интересующий нас объект, узнава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ольше того, что нам дает школьная программ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ъектом моей творческой работы я выбрала тему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Подобные треугольники»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учая внешкольную литературу по геометрии ,а именно по выбранной мной теме, я поняла, что тема «Подобные треугольники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вляется одной из самых актуальных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спространенных в геометрии. Этот раздел содержит много теорем, следствий и интересных фактов. Изучив весь материал глубже, кажды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может решить любую задачу разного уровня различны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соба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580"/>
                            </p:stCondLst>
                            <p:childTnLst>
                              <p:par>
                                <p:cTn id="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260"/>
                            </p:stCondLst>
                            <p:childTnLst>
                              <p:par>
                                <p:cTn id="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860"/>
                            </p:stCondLst>
                            <p:childTnLst>
                              <p:par>
                                <p:cTn id="1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6540"/>
                            </p:stCondLst>
                            <p:childTnLst>
                              <p:par>
                                <p:cTn id="1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7500"/>
                            </p:stCondLst>
                            <p:childTnLst>
                              <p:par>
                                <p:cTn id="1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1660"/>
                            </p:stCondLst>
                            <p:childTnLst>
                              <p:par>
                                <p:cTn id="1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2940"/>
                            </p:stCondLst>
                            <p:childTnLst>
                              <p:par>
                                <p:cTn id="1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7580"/>
                            </p:stCondLst>
                            <p:childTnLst>
                              <p:par>
                                <p:cTn id="1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9460"/>
                            </p:stCondLst>
                            <p:childTnLst>
                              <p:par>
                                <p:cTn id="1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277560"/>
            <a:ext cx="8291520" cy="538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99ff"/>
                </a:solidFill>
                <a:latin typeface="Arial"/>
              </a:rPr>
              <a:t>Пропорциональные отрезки  в прямоугольном треугольнике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4" dur="indefinite" restart="never" nodeType="tmRoot">
          <p:childTnLst>
            <p:seq>
              <p:cTn id="1035" dur="indefinite" nodeType="mainSeq">
                <p:childTnLst>
                  <p:par>
                    <p:cTn id="1036" fill="hold">
                      <p:stCondLst>
                        <p:cond delay="0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99ff"/>
                </a:solidFill>
                <a:latin typeface="Arial"/>
              </a:rPr>
              <a:t>Среднее геометрическое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Средним пропорциональным или средним геометрическим для отрезков АВ и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D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, есл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XY =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5076720" y="4292640"/>
            <a:ext cx="3105360" cy="2238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7" name="Object 5"/>
              <p:cNvSpPr txBox="1"/>
              <p:nvPr/>
            </p:nvSpPr>
            <p:spPr>
              <a:xfrm>
                <a:off x="2357280" y="4572000"/>
                <a:ext cx="15382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168" name="Рисунок 7" descr="Рисунок3.png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429000" y="3357720"/>
            <a:ext cx="179388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3" dur="indefinite" restart="never" nodeType="tmRoot">
          <p:childTnLst>
            <p:seq>
              <p:cTn id="1044" dur="indefinite" nodeType="mainSeq">
                <p:childTnLst>
                  <p:par>
                    <p:cTn id="1045" fill="hold">
                      <p:stCondLst>
                        <p:cond delay="0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9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0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1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4760"/>
                            </p:stCondLst>
                            <p:childTnLst>
                              <p:par>
                                <p:cTn id="10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5" dur="8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6" dur="8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7" dur="8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99ff"/>
                </a:solidFill>
                <a:latin typeface="Arial"/>
              </a:rPr>
              <a:t>Задача 2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Доказать, что высота прямоугольного треугольника, проведённая из вершины прямого угла, разделяет треугольник на два подобных треугольника, каждый из которых подобен данному треугольник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8" dur="indefinite" restart="never" nodeType="tmRoot">
          <p:childTnLst>
            <p:seq>
              <p:cTn id="1069" dur="indefinite" nodeType="mainSeq">
                <p:childTnLst>
                  <p:par>
                    <p:cTn id="1070" fill="hold">
                      <p:stCondLst>
                        <p:cond delay="0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0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1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2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99ff"/>
                </a:solidFill>
                <a:latin typeface="Arial"/>
              </a:rPr>
              <a:t>Решение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усть АВС – прямоугольны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реугольник с прямым углом С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высота, проведённая из вершины С к гипотенузе АВ. Докажем, что </a:t>
            </a: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ВС </a:t>
            </a: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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ВС </a:t>
            </a: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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В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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В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реугольники АВС и А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одобны по первому признаку подобия треугольников (</a:t>
            </a: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 – общий, </a:t>
            </a: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СВ = </a:t>
            </a: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 = 9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). Точно так же подобны треугольники АВС и СВ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– общий, </a:t>
            </a: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СВ = </a:t>
            </a: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C = 9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°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, поэтому </a:t>
            </a: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 = </a:t>
            </a: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Наконец, треугольники А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 СВ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также подобны по первому признаку подобия (в этих треугольниках углы с вершиной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рямые 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 = </a:t>
            </a: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, что и требовалось доказа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5" descr=""/>
          <p:cNvPicPr/>
          <p:nvPr/>
        </p:nvPicPr>
        <p:blipFill>
          <a:blip r:embed="rId1"/>
          <a:stretch/>
        </p:blipFill>
        <p:spPr>
          <a:xfrm>
            <a:off x="5867280" y="115920"/>
            <a:ext cx="310536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fill="hold">
                      <p:stCondLst>
                        <p:cond delay="0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9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0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1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2920"/>
                            </p:stCondLst>
                            <p:childTnLst>
                              <p:par>
                                <p:cTn id="11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5" dur="8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6" dur="8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7" dur="8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fill="hold">
                            <p:stCondLst>
                              <p:cond delay="3960"/>
                            </p:stCondLst>
                            <p:childTnLst>
                              <p:par>
                                <p:cTn id="11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1" dur="8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2" dur="8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3" dur="8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fill="hold">
                            <p:stCondLst>
                              <p:cond delay="7440"/>
                            </p:stCondLst>
                            <p:childTnLst>
                              <p:par>
                                <p:cTn id="11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7" dur="8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8" dur="8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9" dur="8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18160"/>
                            </p:stCondLst>
                            <p:childTnLst>
                              <p:par>
                                <p:cTn id="11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3" dur="8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4" dur="8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5" dur="8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99ff"/>
                </a:solidFill>
                <a:latin typeface="Arial"/>
              </a:rPr>
              <a:t>Исходя из задачи 2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Высота прямоугольного треугольника, проведённая из вершины прямого угла, есть среднее пропорциональное для отрезков, на которые делится гипотенуза этой высото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6" dur="indefinite" restart="never" nodeType="tmRoot">
          <p:childTnLst>
            <p:seq>
              <p:cTn id="1127" dur="indefinite" nodeType="mainSeq">
                <p:childTnLst>
                  <p:par>
                    <p:cTn id="1128" fill="hold">
                      <p:stCondLst>
                        <p:cond delay="0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8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9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0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99ff"/>
                </a:solidFill>
                <a:latin typeface="Arial"/>
              </a:rPr>
              <a:t>Доказательство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йствительно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поэтом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 = CD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и 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едовательно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D =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 * D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.т.д.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5076720" y="1773360"/>
            <a:ext cx="3105360" cy="22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fill="hold">
                      <p:stCondLst>
                        <p:cond delay="0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7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8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9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2600"/>
                            </p:stCondLst>
                            <p:childTnLst>
                              <p:par>
                                <p:cTn id="11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3" dur="8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4" dur="8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5" dur="8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fill="hold">
                            <p:stCondLst>
                              <p:cond delay="3320"/>
                            </p:stCondLst>
                            <p:childTnLst>
                              <p:par>
                                <p:cTn id="11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9" dur="8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0" dur="8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1" dur="8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3920"/>
                            </p:stCondLst>
                            <p:childTnLst>
                              <p:par>
                                <p:cTn id="11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5" dur="8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6" dur="8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7" dur="8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fill="hold">
                            <p:stCondLst>
                              <p:cond delay="4520"/>
                            </p:stCondLst>
                            <p:childTnLst>
                              <p:par>
                                <p:cTn id="11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1" dur="8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2" dur="8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3" dur="8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4920"/>
                            </p:stCondLst>
                            <p:childTnLst>
                              <p:par>
                                <p:cTn id="11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7" dur="8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8" dur="8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9" dur="8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4960"/>
                            </p:stCondLst>
                            <p:childTnLst>
                              <p:par>
                                <p:cTn id="11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3" dur="8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4" dur="8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5" dur="8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99ff"/>
                </a:solidFill>
                <a:latin typeface="Arial"/>
              </a:rPr>
              <a:t>Исходя из задачи 2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Катет прямоугольного треугольника есть среднее пропорциональное для гипотенузы и отрезка гипотенузы, заключенного между катетом и высотой, проведенной из вершины прямого угл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6" dur="indefinite" restart="never" nodeType="tmRoot">
          <p:childTnLst>
            <p:seq>
              <p:cTn id="1197" dur="indefinite" nodeType="mainSeq">
                <p:childTnLst>
                  <p:par>
                    <p:cTn id="1198" fill="hold">
                      <p:stCondLst>
                        <p:cond delay="0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8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9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0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99ff"/>
                </a:solidFill>
                <a:latin typeface="Arial"/>
              </a:rPr>
              <a:t>Доказательство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самом деле,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АВС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А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этому АВ / АС = АС /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едовательно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 =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В *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.т.д.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5435640" y="1484280"/>
            <a:ext cx="31050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1" dur="indefinite" restart="never" nodeType="tmRoot">
          <p:childTnLst>
            <p:seq>
              <p:cTn id="1212" dur="indefinite" nodeType="mainSeq">
                <p:childTnLst>
                  <p:par>
                    <p:cTn id="1213" fill="hold">
                      <p:stCondLst>
                        <p:cond delay="0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7" dur="8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8" dur="8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9" dur="8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2880"/>
                            </p:stCondLst>
                            <p:childTnLst>
                              <p:par>
                                <p:cTn id="12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3" dur="8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4" dur="8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5" dur="8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3760"/>
                            </p:stCondLst>
                            <p:childTnLst>
                              <p:par>
                                <p:cTn id="12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9" dur="8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0" dur="8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1" dur="8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4360"/>
                            </p:stCondLst>
                            <p:childTnLst>
                              <p:par>
                                <p:cTn id="12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5" dur="8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6" dur="8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7" dur="8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fill="hold">
                            <p:stCondLst>
                              <p:cond delay="4800"/>
                            </p:stCondLst>
                            <p:childTnLst>
                              <p:par>
                                <p:cTn id="12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1" dur="8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2" dur="8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3" dur="8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6699ff"/>
                </a:solidFill>
                <a:latin typeface="Arial"/>
              </a:rPr>
              <a:t>Пропорциональные отрезки в круге.</a:t>
            </a:r>
            <a:br>
              <a:rPr sz="4400"/>
            </a:b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войство 1. Если хорды АВ и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D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кружности пересекаются в точке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, то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S BS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S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∙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S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, то есть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S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S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S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S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4" dur="indefinite" restart="never" nodeType="tmRoot">
          <p:childTnLst>
            <p:seq>
              <p:cTn id="1255" dur="indefinite" nodeType="mainSeq">
                <p:childTnLst>
                  <p:par>
                    <p:cTn id="1256" fill="hold">
                      <p:stCondLst>
                        <p:cond delay="0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6" dur="8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7" dur="8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8" dur="8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fill="hold">
                            <p:stCondLst>
                              <p:cond delay="4440"/>
                            </p:stCondLst>
                            <p:childTnLst>
                              <p:par>
                                <p:cTn id="12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2" dur="8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3" dur="8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4" dur="8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99ff"/>
                </a:solidFill>
                <a:latin typeface="Arial"/>
              </a:rPr>
              <a:t>Доказательство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кажем сначала, что треугольник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D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SB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обны. Вписанные углы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B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B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вны, как опирающиеся на одну и ту же дугу. Углы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D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SC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вны как вертикальные. Из равенства указанных углов следует, что треугольник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D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B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обны. Из подобия треугольников следует пропорция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S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S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S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ил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BS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S DS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что и требовалось доказа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10" descr=""/>
          <p:cNvPicPr/>
          <p:nvPr/>
        </p:nvPicPr>
        <p:blipFill>
          <a:blip r:embed="rId1"/>
          <a:stretch/>
        </p:blipFill>
        <p:spPr>
          <a:xfrm>
            <a:off x="5364000" y="4437000"/>
            <a:ext cx="2519640" cy="19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5" dur="indefinite" restart="never" nodeType="tmRoot">
          <p:childTnLst>
            <p:seq>
              <p:cTn id="1276" dur="indefinite" nodeType="mainSeq">
                <p:childTnLst>
                  <p:par>
                    <p:cTn id="1277" fill="hold">
                      <p:stCondLst>
                        <p:cond delay="0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1" dur="8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2" dur="8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3" dur="8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ff"/>
                </a:solidFill>
                <a:latin typeface="Arial"/>
              </a:rPr>
              <a:t>Из истори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дея отношения и пропорции зародилась в глубокой древности. Об этом свидетельствуют древнеегипетские храмы, детали гробницы Менеса и знаменитых пирамид в Гизе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II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ысячелетие до н. э.), вавилонские зиккураты (ступенчатые культовые башни), персидские дворцы, индийские и другие памятники древности. Все они построены по принципу подобия или пропорции. В том числе особенности архитектуры, требования удобства, техники и экономичности при возведении зданий и сооруже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99ff"/>
                </a:solidFill>
                <a:latin typeface="Arial"/>
              </a:rPr>
              <a:t>Свойство 2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Если из точки Р к окружности проведены две секущие, пересекающие окружность в точках А, В и С,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D 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соответственно, то АР/СР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DP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BP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4" dur="indefinite" restart="never" nodeType="tmRoot">
          <p:childTnLst>
            <p:seq>
              <p:cTn id="1295" dur="indefinite" nodeType="mainSeq">
                <p:childTnLst>
                  <p:par>
                    <p:cTn id="1296" fill="hold">
                      <p:stCondLst>
                        <p:cond delay="0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6" dur="8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7" dur="8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8" dur="8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99ff"/>
                </a:solidFill>
                <a:latin typeface="Arial"/>
              </a:rPr>
              <a:t>Доказательство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казательство. Пусть А и С - ближайшие к точке Р точки пересечения секущих с окружностью. Треугольник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D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РСВ подобны. У них угол при вершине Р общий, а углы В 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вны как вписанные, опирающиеся на одну и ту же дугу. Из подобия треугольников следует пропорция АР/СР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P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P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что и требовалось доказа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5148360" y="4149720"/>
            <a:ext cx="272556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9" dur="indefinite" restart="never" nodeType="tmRoot">
          <p:childTnLst>
            <p:seq>
              <p:cTn id="1310" dur="indefinite" nodeType="mainSeq">
                <p:childTnLst>
                  <p:par>
                    <p:cTn id="1311" fill="hold">
                      <p:stCondLst>
                        <p:cond delay="0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7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5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6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7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8062920" cy="475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99ff"/>
                </a:solidFill>
                <a:latin typeface="Arial"/>
              </a:rPr>
              <a:t>Примеры решения задач с помощью подобия треугольников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8" dur="indefinite" restart="never" nodeType="tmRoot">
          <p:childTnLst>
            <p:seq>
              <p:cTn id="1329" dur="indefinite" nodeType="mainSeq">
                <p:childTnLst>
                  <p:par>
                    <p:cTn id="1330" fill="hold">
                      <p:stCondLst>
                        <p:cond delay="0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99ff"/>
                </a:solidFill>
                <a:latin typeface="Arial"/>
              </a:rPr>
              <a:t>Задача 1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лины оснований трапеции АВС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равны а и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. Найти длину отрезка с концами на боковых сторонах трапеции, если этот отрезок параллелен основаниям и проходит через точку пересечения диагонале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7" dur="indefinite" restart="never" nodeType="tmRoot">
          <p:childTnLst>
            <p:seq>
              <p:cTn id="1338" dur="indefinite" nodeType="mainSeq">
                <p:childTnLst>
                  <p:par>
                    <p:cTn id="1339" fill="hold">
                      <p:stCondLst>
                        <p:cond delay="0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5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9" dur="8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0" dur="8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1" dur="8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99ff"/>
                </a:solidFill>
                <a:latin typeface="Arial"/>
              </a:rPr>
              <a:t>Решение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усть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N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отрезок, длин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торого требуется найт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а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означим МО = х, О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у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`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ины высот, проведённых из вершины В в треугольниках МВО и АВ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соответственн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к как </a:t>
            </a: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ВО </a:t>
            </a: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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В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О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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о х/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`/h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у/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`/h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следовательно, х = у. Из подобия треугольников АМО и АВС следует х/а =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h – h`) / h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ли х/а = 1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`/h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этому х/а = 1 – х/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Решая это уравнение, получим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х =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) / (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 +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вет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NI = 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х =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) / (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 +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4716360" y="1125360"/>
            <a:ext cx="313380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2" dur="indefinite" restart="never" nodeType="tmRoot">
          <p:childTnLst>
            <p:seq>
              <p:cTn id="1353" dur="indefinite" nodeType="mainSeq">
                <p:childTnLst>
                  <p:par>
                    <p:cTn id="1354" fill="hold">
                      <p:stCondLst>
                        <p:cond delay="0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0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8" dur="8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9" dur="8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0" dur="8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fill="hold">
                            <p:stCondLst>
                              <p:cond delay="2880"/>
                            </p:stCondLst>
                            <p:childTnLst>
                              <p:par>
                                <p:cTn id="13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4" dur="8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5" dur="8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6" dur="8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fill="hold">
                            <p:stCondLst>
                              <p:cond delay="3840"/>
                            </p:stCondLst>
                            <p:childTnLst>
                              <p:par>
                                <p:cTn id="13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0" dur="8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1" dur="8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2" dur="8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3" fill="hold">
                            <p:stCondLst>
                              <p:cond delay="4440"/>
                            </p:stCondLst>
                            <p:childTnLst>
                              <p:par>
                                <p:cTn id="13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6" dur="8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7" dur="8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8" dur="8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5240"/>
                            </p:stCondLst>
                            <p:childTnLst>
                              <p:par>
                                <p:cTn id="13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2" dur="8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3" dur="8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4" dur="8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fill="hold">
                            <p:stCondLst>
                              <p:cond delay="8200"/>
                            </p:stCondLst>
                            <p:childTnLst>
                              <p:par>
                                <p:cTn id="13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8" dur="8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9" dur="8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0" dur="8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" fill="hold">
                            <p:stCondLst>
                              <p:cond delay="9280"/>
                            </p:stCondLst>
                            <p:childTnLst>
                              <p:par>
                                <p:cTn id="14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4" dur="8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5" dur="8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6" dur="8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fill="hold">
                            <p:stCondLst>
                              <p:cond delay="12800"/>
                            </p:stCondLst>
                            <p:childTnLst>
                              <p:par>
                                <p:cTn id="14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0" dur="80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1" dur="80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2" dur="80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fill="hold">
                            <p:stCondLst>
                              <p:cond delay="13400"/>
                            </p:stCondLst>
                            <p:childTnLst>
                              <p:par>
                                <p:cTn id="14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6" dur="80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7" dur="80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8" dur="80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fill="hold">
                            <p:stCondLst>
                              <p:cond delay="15120"/>
                            </p:stCondLst>
                            <p:childTnLst>
                              <p:par>
                                <p:cTn id="14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2" dur="80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3" dur="80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4" dur="80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fill="hold">
                            <p:stCondLst>
                              <p:cond delay="15680"/>
                            </p:stCondLst>
                            <p:childTnLst>
                              <p:par>
                                <p:cTn id="14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8" dur="80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9" dur="80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0" dur="80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99ff"/>
                </a:solidFill>
                <a:latin typeface="Arial"/>
              </a:rPr>
              <a:t>Задача 2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 найти расстояние до недоступной точки путём построения подобных треугольников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1" dur="indefinite" restart="never" nodeType="tmRoot">
          <p:childTnLst>
            <p:seq>
              <p:cTn id="1432" dur="indefinite" nodeType="mainSeq">
                <p:childTnLst>
                  <p:par>
                    <p:cTn id="1433" fill="hold">
                      <p:stCondLst>
                        <p:cond delay="0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3" dur="8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4" dur="8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5" dur="8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99ff"/>
                </a:solidFill>
                <a:latin typeface="Arial"/>
              </a:rPr>
              <a:t>Решение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усть нужно найти расстояние от А до В. Выбираем произвольную точку С, на отрезке ВС отмечаем любую точку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 через неё проводим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║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огда из подобия ∆АВС и 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BD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находим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В = (ВС * ВЕ) / 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Если провест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K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║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то из    подобия ∆АВС и 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  можно найти АВ = (ВС * К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 /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вет: АВ = (ВС * К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 /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4"/>
              <p:cNvSpPr txBox="1"/>
              <p:nvPr/>
            </p:nvSpPr>
            <p:spPr>
              <a:xfrm>
                <a:off x="0" y="0"/>
                <a:ext cx="9525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6"/>
              <p:cNvSpPr txBox="1"/>
              <p:nvPr/>
            </p:nvSpPr>
            <p:spPr>
              <a:xfrm>
                <a:off x="0" y="0"/>
                <a:ext cx="9525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9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8"/>
              <p:cNvSpPr txBox="1"/>
              <p:nvPr/>
            </p:nvSpPr>
            <p:spPr>
              <a:xfrm>
                <a:off x="0" y="0"/>
                <a:ext cx="9237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1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10"/>
              <p:cNvSpPr txBox="1"/>
              <p:nvPr/>
            </p:nvSpPr>
            <p:spPr>
              <a:xfrm>
                <a:off x="0" y="0"/>
                <a:ext cx="9237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3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14" descr=""/>
          <p:cNvPicPr/>
          <p:nvPr/>
        </p:nvPicPr>
        <p:blipFill>
          <a:blip r:embed="rId1"/>
          <a:stretch/>
        </p:blipFill>
        <p:spPr>
          <a:xfrm>
            <a:off x="5940360" y="4437000"/>
            <a:ext cx="21146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6" dur="indefinite" restart="never" nodeType="tmRoot">
          <p:childTnLst>
            <p:seq>
              <p:cTn id="1447" dur="indefinite" nodeType="mainSeq">
                <p:childTnLst>
                  <p:par>
                    <p:cTn id="1448" fill="hold">
                      <p:stCondLst>
                        <p:cond delay="0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8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2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4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8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0" dur="1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1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4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6" dur="1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7" fill="hold">
                            <p:stCondLst>
                              <p:cond delay="5000"/>
                            </p:stCondLst>
                            <p:childTnLst>
                              <p:par>
                                <p:cTn id="147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0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2" dur="10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99ff"/>
                </a:solidFill>
                <a:latin typeface="Arial"/>
              </a:rPr>
              <a:t>Используемая литератур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танасян Л. С, Бутузов В. Ф., Кадомцев С. Б., Позняк Э. Г. Геометрия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ебник для 7-9 классов. М.: Просвещение 199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рдуванова Ф. Ф., Галин Э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, Г. А., Харисова Н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Задач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 математике для школ (классов) с углублённым изучение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8, 9 классы): Методические рекомендации / Башкирск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ститут развития образования. - Уфа, 1999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арков А. В. Математические олимпиады в школе. 5- 11 класс- М.: Айрис-пресс, 200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3" dur="indefinite" restart="never" nodeType="tmRoot">
          <p:childTnLst>
            <p:seq>
              <p:cTn id="1484" dur="indefinite" nodeType="mainSeq">
                <p:childTnLst>
                  <p:par>
                    <p:cTn id="1485" fill="hold">
                      <p:stCondLst>
                        <p:cond delay="0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1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5" dur="8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6" dur="8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7" dur="8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8" fill="hold">
                            <p:stCondLst>
                              <p:cond delay="4920"/>
                            </p:stCondLst>
                            <p:childTnLst>
                              <p:par>
                                <p:cTn id="14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1" dur="8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2" dur="8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3" dur="8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fill="hold">
                            <p:stCondLst>
                              <p:cond delay="6880"/>
                            </p:stCondLst>
                            <p:childTnLst>
                              <p:par>
                                <p:cTn id="15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7" dur="8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8" dur="8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9" dur="8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fill="hold">
                            <p:stCondLst>
                              <p:cond delay="8880"/>
                            </p:stCondLst>
                            <p:childTnLst>
                              <p:par>
                                <p:cTn id="15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3" dur="8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4" dur="8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5" dur="8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fill="hold">
                            <p:stCondLst>
                              <p:cond delay="10800"/>
                            </p:stCondLst>
                            <p:childTnLst>
                              <p:par>
                                <p:cTn id="15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9" dur="8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0" dur="8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1" dur="8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2" fill="hold">
                            <p:stCondLst>
                              <p:cond delay="12360"/>
                            </p:stCondLst>
                            <p:childTnLst>
                              <p:par>
                                <p:cTn id="15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5" dur="8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6" dur="8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7" dur="8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ff"/>
                </a:solidFill>
                <a:latin typeface="Arial"/>
              </a:rPr>
              <a:t>Из истори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«Началах» Евклида учение об отношениях излагается дважды. В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I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ниге содержится арифметическая теория. Она относится только к соизмеримым величинам и к целым числам. Эта теория создана на основе практики действия с дробями. Евклид применяет ее для исследования свойств целых чисел. В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ниге излагается общая теория отношений и пропорций, разработанная Евдоксом. Она лежит в основе учения о подобии фигур, изложенного в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ниге «Начал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ff"/>
                </a:solidFill>
                <a:latin typeface="Arial"/>
              </a:rPr>
              <a:t>Из истори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динаковые по форме, но разные п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еличине фигуры встречаются 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авилонских 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гипетских памятниках. В сохранившейс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гребальной камере отца фараон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мсеса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меется стена, покрытая сетью квадратиков, с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мощью которых на стену перенесены 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величенном виде рисунки меньши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змер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160"/>
                            </p:stCondLst>
                            <p:childTnLst>
                              <p:par>
                                <p:cTn id="1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240"/>
                            </p:stCondLst>
                            <p:childTnLst>
                              <p:par>
                                <p:cTn id="1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8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760"/>
                            </p:stCondLst>
                            <p:childTnLst>
                              <p:par>
                                <p:cTn id="2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200"/>
                            </p:stCondLst>
                            <p:childTnLst>
                              <p:par>
                                <p:cTn id="2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400"/>
                            </p:stCondLst>
                            <p:childTnLst>
                              <p:par>
                                <p:cTn id="2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6800"/>
                            </p:stCondLst>
                            <p:childTnLst>
                              <p:par>
                                <p:cTn id="2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8400"/>
                            </p:stCondLst>
                            <p:childTnLst>
                              <p:par>
                                <p:cTn id="2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9720"/>
                            </p:stCondLst>
                            <p:childTnLst>
                              <p:par>
                                <p:cTn id="2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920"/>
                            </p:stCondLst>
                            <p:childTnLst>
                              <p:par>
                                <p:cTn id="2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99ff"/>
                </a:solidFill>
                <a:latin typeface="Arial"/>
              </a:rPr>
              <a:t>Определение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Два треугольника называются подобными, если их углы соответственно равны, и стороны одного треугольника пропорциональны сходственным сторонам другого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000" y="259920"/>
            <a:ext cx="821844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ругими словами, два треугольника 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подобны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если для них можно ввести обозначения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C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`B`C`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к, что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=</a:t>
            </a:r>
            <a:r>
              <a:rPr b="0" lang="ru-RU" sz="32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`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=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`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=</a:t>
            </a:r>
            <a:r>
              <a:rPr b="0" lang="ru-RU" sz="32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В/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С/В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`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/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` =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i="1" lang="ru-RU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исло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равное отношению сходственных сторон подобных треугольников, называется </a:t>
            </a:r>
            <a:r>
              <a:rPr b="1" i="1" lang="ru-RU" sz="2800" spc="-1" strike="noStrike">
                <a:solidFill>
                  <a:srgbClr val="ffffcc"/>
                </a:solidFill>
                <a:latin typeface="Arial"/>
              </a:rPr>
              <a:t>коэффициентом подобия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обие треугольников АВС и 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`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означается так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ВС</a:t>
            </a: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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`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560"/>
                            </p:stCondLst>
                            <p:childTnLst>
                              <p:par>
                                <p:cTn id="2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4440"/>
                            </p:stCondLst>
                            <p:childTnLst>
                              <p:par>
                                <p:cTn id="2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8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480"/>
                            </p:stCondLst>
                            <p:childTnLst>
                              <p:par>
                                <p:cTn id="2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240"/>
                            </p:stCondLst>
                            <p:childTnLst>
                              <p:par>
                                <p:cTn id="2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8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1120"/>
                            </p:stCondLst>
                            <p:childTnLst>
                              <p:par>
                                <p:cTn id="2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8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99ff"/>
                </a:solidFill>
                <a:latin typeface="Arial"/>
              </a:rPr>
              <a:t>Теорема о площадях подобных треугольников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636640"/>
            <a:ext cx="8229600" cy="34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тношение площадей двух подобных треугольников равно квадрату коэффициента подоби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 / S` = k</a:t>
            </a:r>
            <a:r>
              <a:rPr b="1" i="1" lang="ru-RU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4040"/>
                            </p:stCondLst>
                            <p:childTnLst>
                              <p:par>
                                <p:cTn id="3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8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5:13:26Z</dcterms:created>
  <dc:creator>Наташа</dc:creator>
  <dc:description/>
  <dc:language>en-US</dc:language>
  <cp:lastModifiedBy>Sanya</cp:lastModifiedBy>
  <dcterms:modified xsi:type="dcterms:W3CDTF">2009-01-29T21:37:02Z</dcterms:modified>
  <cp:revision>13</cp:revision>
  <dc:subject/>
  <dc:title> Подобие треугольников. Применение подобия треугольников.</dc:title>
</cp:coreProperties>
</file>