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42B-4635-4F48-BD9E-D6BC791A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BB5-C7F3-458A-BCDF-CE50BBCA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22F-C9A4-4BCB-A3C9-63260086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176-F62D-4BF4-B07F-D44A8EF6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8719-3756-4026-98F0-606C6E53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2213-F1F3-4B19-A63B-92D0A625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B658-3D5B-4FEB-B043-ACA0382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9A61-F67B-4778-8B0A-A92D28A6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F67A-38CA-4CF9-8596-A0783855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CCA-47AE-4EF3-B3C7-C32C281A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76C8-05A3-4020-97C6-E1A9D5E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E4D-4331-4D4D-86EE-C3C844F3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CA3F-A602-4DC5-9787-07EC6EE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1800-79B0-4206-87D3-07D092F4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96C-CA3E-4678-AEFC-DE36191F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FAFA-C609-4E8E-96E2-D5453048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38EB-4951-4A86-A7E3-89E0FE2B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873-821F-4AE0-A1DC-0707AFF2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E2A-37A6-4A15-8964-3DAC4E9D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E9D-CAE7-462B-B1A2-2F0CE88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037-7819-4218-82ED-875A457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EF5-2CB0-4D77-ADC7-7DC1BC6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A69-FA16-48AA-9CAC-0213096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441-48C0-4E06-8C78-716D4CF0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BD19-ACD8-4704-B4FF-1208707AB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F506-4134-46F2-8D02-F538A39FE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ollege.ru/mathematics/courses/planimetry/content/chapter14/section/paragraph3/theory.html" TargetMode="External"/><Relationship Id="rId2" Type="http://schemas.openxmlformats.org/officeDocument/2006/relationships/hyperlink" Target="http://www.mathauto.ru/calc/tplan.htm" TargetMode="External"/><Relationship Id="rId3" Type="http://schemas.openxmlformats.org/officeDocument/2006/relationships/hyperlink" Target="http://www.yspu.yar.r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1219320" y="1752480"/>
            <a:ext cx="63626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внобедренны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угольни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791320" y="4800600"/>
            <a:ext cx="3047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9 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лицея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анов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2057400" y="228600"/>
            <a:ext cx="4695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33520" y="1463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равнобедренный ∆ АВС  ВD = h основная высота, опущенная из вершины В на основание АС = 2*а; АВ = ВС = b  боковые стороны треугольника; DО = КО = LО = r - радиус вписанной в ∆ АВС.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=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762120" y="2723040"/>
            <a:ext cx="2895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76092-4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66880" y="3581280"/>
            <a:ext cx="2886120" cy="281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1981080" y="2627280"/>
                <a:ext cx="1219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133720" y="228600"/>
            <a:ext cx="461952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Picture 6" descr="76092-4"/>
          <p:cNvPicPr/>
          <p:nvPr/>
        </p:nvPicPr>
        <p:blipFill>
          <a:blip r:embed="rId1"/>
          <a:stretch/>
        </p:blipFill>
        <p:spPr>
          <a:xfrm>
            <a:off x="3505320" y="4191120"/>
            <a:ext cx="2047680" cy="1993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1981080" y="1250280"/>
            <a:ext cx="45226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 метод площадей для ∆АВ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 ∆АВ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 ∆АВС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282040" y="28947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6553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2"/>
              <p:cNvSpPr txBox="1"/>
              <p:nvPr/>
            </p:nvSpPr>
            <p:spPr>
              <a:xfrm>
                <a:off x="2943360" y="2371680"/>
                <a:ext cx="704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3"/>
              <p:cNvSpPr txBox="1"/>
              <p:nvPr/>
            </p:nvSpPr>
            <p:spPr>
              <a:xfrm>
                <a:off x="3619440" y="2362320"/>
                <a:ext cx="26672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4"/>
              <p:cNvSpPr txBox="1"/>
              <p:nvPr/>
            </p:nvSpPr>
            <p:spPr>
              <a:xfrm>
                <a:off x="3330720" y="2808360"/>
                <a:ext cx="4190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3619440" y="1693800"/>
                <a:ext cx="3392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7"/>
              <p:cNvSpPr txBox="1"/>
              <p:nvPr/>
            </p:nvSpPr>
            <p:spPr>
              <a:xfrm>
                <a:off x="2952720" y="1693800"/>
                <a:ext cx="635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6"/>
          <p:cNvSpPr txBox="1"/>
          <p:nvPr/>
        </p:nvSpPr>
        <p:spPr>
          <a:xfrm>
            <a:off x="1676520" y="304920"/>
            <a:ext cx="58100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ы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62120" y="12949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ношение половины основания равнобедренного треугольника к радиусу вписанной в него окружности равно котангенсу половинного угла при основан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154240" y="2285280"/>
            <a:ext cx="6172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                                                                  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              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3046320" y="2289240"/>
                <a:ext cx="838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6"/>
              <p:cNvSpPr txBox="1"/>
              <p:nvPr/>
            </p:nvSpPr>
            <p:spPr>
              <a:xfrm>
                <a:off x="2403360" y="3111480"/>
                <a:ext cx="54482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2535120" y="3962520"/>
                <a:ext cx="3657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8" name="Picture 6" descr="76092-4"/>
          <p:cNvPicPr/>
          <p:nvPr/>
        </p:nvPicPr>
        <p:blipFill>
          <a:blip r:embed="rId1"/>
          <a:stretch/>
        </p:blipFill>
        <p:spPr>
          <a:xfrm>
            <a:off x="3505320" y="4724280"/>
            <a:ext cx="2047680" cy="19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676520" y="304920"/>
            <a:ext cx="58100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ы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09480" y="1584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тношение боковой стороны равнобедренного треугольника к радиусу вписанной в него окружности равно отношению котангенса половинного угла при основании к косинусу полного угла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8"/>
              <p:cNvSpPr txBox="1"/>
              <p:nvPr/>
            </p:nvSpPr>
            <p:spPr>
              <a:xfrm>
                <a:off x="838080" y="3200400"/>
                <a:ext cx="7696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2" name="Picture 6" descr="nhteujkmybr"/>
          <p:cNvPicPr/>
          <p:nvPr/>
        </p:nvPicPr>
        <p:blipFill>
          <a:blip r:embed="rId1">
            <a:alphaModFix amt="0"/>
          </a:blip>
          <a:srcRect l="32248" t="28998" r="39990" b="33551"/>
          <a:stretch/>
        </p:blipFill>
        <p:spPr>
          <a:xfrm>
            <a:off x="2971800" y="4191120"/>
            <a:ext cx="2670120" cy="24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676520" y="304920"/>
            <a:ext cx="58100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ы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80880" y="159984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 равнобедренном треугольнике отношение разницы между основной высотой и радиусом вписанной окружности к величине последнего равно отношению боковой стороны к половине основания или величине, обратной значению косинуса угла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3276720" y="3048120"/>
                <a:ext cx="25398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2819520" y="3809880"/>
                <a:ext cx="3327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7" name="Picture 6" descr="76092-4"/>
          <p:cNvPicPr/>
          <p:nvPr/>
        </p:nvPicPr>
        <p:blipFill>
          <a:blip r:embed="rId1"/>
          <a:stretch/>
        </p:blipFill>
        <p:spPr>
          <a:xfrm>
            <a:off x="3429000" y="4648320"/>
            <a:ext cx="2048040" cy="19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2666880" y="1143000"/>
            <a:ext cx="3429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ема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09480" y="236268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основной высоты равнобедренного треугольника к радиусу описанной вокруг него окружности равно удвоенному произведению квадрата синуса угла при основании или разнице единицы и косинуса двойного угла при осн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76092-11"/>
          <p:cNvPicPr/>
          <p:nvPr/>
        </p:nvPicPr>
        <p:blipFill>
          <a:blip r:embed="rId1"/>
          <a:stretch/>
        </p:blipFill>
        <p:spPr>
          <a:xfrm>
            <a:off x="2743200" y="3733920"/>
            <a:ext cx="2971800" cy="26604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76320" y="15235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равнобедренный ∆АВС  ВD = h - основная высота, опущенная из вершины В на основание АС = 2*а; АВ = ВС = b - боковые стороны треугольника; АQ = BQ = CQ = R - радиус описанной вокруг ∆АВС окружности, ∆ ВАС = ∆ В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133720" y="457200"/>
            <a:ext cx="461952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69720" y="2589840"/>
            <a:ext cx="2186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1447920" y="2514600"/>
                <a:ext cx="2412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775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775"/>
                            </p:stCondLst>
                            <p:childTnLst>
                              <p:par>
                                <p:cTn id="4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981080" y="1647360"/>
            <a:ext cx="50292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ы для вычисления площади ∆АВ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 ∆АВС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 ∆АВС =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6400800" y="4952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19"/>
          <p:cNvSpPr txBox="1"/>
          <p:nvPr/>
        </p:nvSpPr>
        <p:spPr>
          <a:xfrm>
            <a:off x="2133720" y="457200"/>
            <a:ext cx="461952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0"/>
              <p:cNvSpPr txBox="1"/>
              <p:nvPr/>
            </p:nvSpPr>
            <p:spPr>
              <a:xfrm>
                <a:off x="1981080" y="4191120"/>
                <a:ext cx="55753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1"/>
              <p:cNvSpPr txBox="1"/>
              <p:nvPr/>
            </p:nvSpPr>
            <p:spPr>
              <a:xfrm>
                <a:off x="3124080" y="2104920"/>
                <a:ext cx="2514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2"/>
              <p:cNvSpPr txBox="1"/>
              <p:nvPr/>
            </p:nvSpPr>
            <p:spPr>
              <a:xfrm>
                <a:off x="3124080" y="2895480"/>
                <a:ext cx="2197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3"/>
              <p:cNvSpPr txBox="1"/>
              <p:nvPr/>
            </p:nvSpPr>
            <p:spPr>
              <a:xfrm>
                <a:off x="3124080" y="3543480"/>
                <a:ext cx="20322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1523880" y="228600"/>
            <a:ext cx="579132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ы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144756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шение половины стороны основания равнобедренного треугольника к радиусу описанной вокруг него окружности равно синусу двойного угла при основан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54760" y="2590920"/>
            <a:ext cx="25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   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438280" y="5029200"/>
                <a:ext cx="3340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Q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QD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3276720" y="2514600"/>
                <a:ext cx="83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4"/>
              <p:cNvSpPr txBox="1"/>
              <p:nvPr/>
            </p:nvSpPr>
            <p:spPr>
              <a:xfrm>
                <a:off x="2743200" y="3352680"/>
                <a:ext cx="48769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Q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5"/>
              <p:cNvSpPr txBox="1"/>
              <p:nvPr/>
            </p:nvSpPr>
            <p:spPr>
              <a:xfrm>
                <a:off x="2666880" y="4495680"/>
                <a:ext cx="2489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4"/>
          <p:cNvSpPr txBox="1"/>
          <p:nvPr/>
        </p:nvSpPr>
        <p:spPr>
          <a:xfrm>
            <a:off x="1523880" y="228600"/>
            <a:ext cx="579132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ы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1904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шение боковой стороны к радиусу описанной окружности равно двум синусам углам при основан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752480" y="3124080"/>
                <a:ext cx="53341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2" name="Picture 6" descr="ttttttttttttttttttttt"/>
          <p:cNvPicPr/>
          <p:nvPr/>
        </p:nvPicPr>
        <p:blipFill>
          <a:blip r:embed="rId1"/>
          <a:srcRect l="30322" t="27137" r="37421" b="25148"/>
          <a:stretch/>
        </p:blipFill>
        <p:spPr>
          <a:xfrm>
            <a:off x="3048120" y="4191120"/>
            <a:ext cx="231588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38080" y="2438280"/>
            <a:ext cx="75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оект посвящен изучению свойств равнобедренных треугольников, а также установлению взаимосвязей между данными треугольниками. Необходимость исследований назрела, в первую очередь, из-за частого применения в архитектуре равнобедренных треугольников как геометрических моделей отдельных фрагментов зданий и сооружений, а во-вторых, пополнения базы знаний в области элементарной гео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28600" y="190476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отношение разницы между радиусом описанной окружности и основной высотой к величине первого равно косинусу двойного угла при основан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1523880" y="533520"/>
            <a:ext cx="579132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ы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8"/>
              <p:cNvSpPr txBox="1"/>
              <p:nvPr/>
            </p:nvSpPr>
            <p:spPr>
              <a:xfrm>
                <a:off x="1828800" y="2971800"/>
                <a:ext cx="5283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96" name="Picture 6" descr="ttttttttttttttttttttt"/>
          <p:cNvPicPr/>
          <p:nvPr/>
        </p:nvPicPr>
        <p:blipFill>
          <a:blip r:embed="rId1"/>
          <a:srcRect l="30322" t="27137" r="37421" b="25148"/>
          <a:stretch/>
        </p:blipFill>
        <p:spPr>
          <a:xfrm>
            <a:off x="3048120" y="4267080"/>
            <a:ext cx="23158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1219320" y="533520"/>
            <a:ext cx="594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 1 и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80880" y="18284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отношение радиуса вписанной к радиусу описанной окружности равно произведению тангенса половинного угла при основании и синуса двойного угла при основан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8"/>
              <p:cNvSpPr txBox="1"/>
              <p:nvPr/>
            </p:nvSpPr>
            <p:spPr>
              <a:xfrm>
                <a:off x="2209680" y="3200400"/>
                <a:ext cx="3772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0" name="Picture 6" descr="гк4уын5н7у"/>
          <p:cNvPicPr/>
          <p:nvPr/>
        </p:nvPicPr>
        <p:blipFill>
          <a:blip r:embed="rId1"/>
          <a:srcRect l="22117" t="18128" r="46153" b="34458"/>
          <a:stretch/>
        </p:blipFill>
        <p:spPr>
          <a:xfrm>
            <a:off x="2819520" y="4267080"/>
            <a:ext cx="236700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2743200" y="914400"/>
            <a:ext cx="3600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ема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09480" y="25912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два равнобедренных треугольника построены на одной основной высоте и равные углы при основании одного равны углу между боковыми сторонами второго, то их центры вписанной и описанной окружностей соответственно совпад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380880" y="144756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равнобедренные ∆АВС и ∆ЕBF c общей основной высотой ВD = h, DO = r и ВО = R - радиусы вписанной и описанной окружностей равнобедренных ∆АВС и ∆ЕBF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76092-45"/>
          <p:cNvPicPr/>
          <p:nvPr/>
        </p:nvPicPr>
        <p:blipFill>
          <a:blip r:embed="rId1"/>
          <a:stretch/>
        </p:blipFill>
        <p:spPr>
          <a:xfrm>
            <a:off x="2590920" y="3505320"/>
            <a:ext cx="3809880" cy="22986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7"/>
          <p:cNvSpPr txBox="1"/>
          <p:nvPr/>
        </p:nvSpPr>
        <p:spPr>
          <a:xfrm>
            <a:off x="2133720" y="228600"/>
            <a:ext cx="461952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457200" y="23616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h = R +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nk 9"/>
          <p:cNvSpPr/>
          <p:nvPr/>
        </p:nvSpPr>
        <p:spPr>
          <a:xfrm>
            <a:off x="9126360" y="662616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25375" y="18405"/>
                </a:moveTo>
                <a:lnTo>
                  <a:pt x="25375" y="18405"/>
                </a:lnTo>
              </a:path>
              <a:path w="26" h="1">
                <a:moveTo>
                  <a:pt x="25350" y="18405"/>
                </a:moveTo>
                <a:lnTo>
                  <a:pt x="25350" y="1840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6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2133720" y="228600"/>
            <a:ext cx="4619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79080" y="1370520"/>
            <a:ext cx="3321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внобедренного ∆АВ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04920" y="2208600"/>
            <a:ext cx="338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внобедренного ∆ЕB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10920" y="3199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условию теорем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" descr="76092-45"/>
          <p:cNvPicPr/>
          <p:nvPr/>
        </p:nvPicPr>
        <p:blipFill>
          <a:blip r:embed="rId1"/>
          <a:stretch/>
        </p:blipFill>
        <p:spPr>
          <a:xfrm>
            <a:off x="6095880" y="4952880"/>
            <a:ext cx="2590920" cy="1563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Object 12"/>
              <p:cNvSpPr txBox="1"/>
              <p:nvPr/>
            </p:nvSpPr>
            <p:spPr>
              <a:xfrm>
                <a:off x="380880" y="3581280"/>
                <a:ext cx="32004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C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EBF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3"/>
              <p:cNvSpPr txBox="1"/>
              <p:nvPr/>
            </p:nvSpPr>
            <p:spPr>
              <a:xfrm>
                <a:off x="609480" y="3962520"/>
                <a:ext cx="2597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EF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FE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14"/>
          <p:cNvSpPr/>
          <p:nvPr/>
        </p:nvSpPr>
        <p:spPr>
          <a:xfrm>
            <a:off x="152280" y="434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152280" y="4952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792680" y="1584360"/>
            <a:ext cx="267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5"/>
              <p:cNvSpPr txBox="1"/>
              <p:nvPr/>
            </p:nvSpPr>
            <p:spPr>
              <a:xfrm>
                <a:off x="4876920" y="3124080"/>
                <a:ext cx="2349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6"/>
              <p:cNvSpPr txBox="1"/>
              <p:nvPr/>
            </p:nvSpPr>
            <p:spPr>
              <a:xfrm>
                <a:off x="1600200" y="175248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7"/>
              <p:cNvSpPr txBox="1"/>
              <p:nvPr/>
            </p:nvSpPr>
            <p:spPr>
              <a:xfrm>
                <a:off x="762120" y="2590920"/>
                <a:ext cx="2400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8"/>
              <p:cNvSpPr txBox="1"/>
              <p:nvPr/>
            </p:nvSpPr>
            <p:spPr>
              <a:xfrm>
                <a:off x="1219320" y="4295880"/>
                <a:ext cx="35812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EF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F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⇔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29"/>
              <p:cNvSpPr txBox="1"/>
              <p:nvPr/>
            </p:nvSpPr>
            <p:spPr>
              <a:xfrm>
                <a:off x="1219320" y="4838760"/>
                <a:ext cx="38098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0"/>
              <p:cNvSpPr txBox="1"/>
              <p:nvPr/>
            </p:nvSpPr>
            <p:spPr>
              <a:xfrm>
                <a:off x="1219320" y="5486400"/>
                <a:ext cx="2222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1"/>
              <p:cNvSpPr txBox="1"/>
              <p:nvPr/>
            </p:nvSpPr>
            <p:spPr>
              <a:xfrm>
                <a:off x="5562720" y="1600200"/>
                <a:ext cx="8888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2"/>
              <p:cNvSpPr txBox="1"/>
              <p:nvPr/>
            </p:nvSpPr>
            <p:spPr>
              <a:xfrm>
                <a:off x="5181480" y="2133720"/>
                <a:ext cx="76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990720" y="380880"/>
            <a:ext cx="64008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ы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609480" y="15238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Если два равнобедренных треугольника построены на одной основной высоте и угол между боковыми сторонами одного равен углам при основании второго, то отношение соответствующих оснований равно разнице величины, обратной по значению косинусам равных углов при основании второго, и един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907200" y="3416400"/>
            <a:ext cx="29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              и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2"/>
              <p:cNvSpPr txBox="1"/>
              <p:nvPr/>
            </p:nvSpPr>
            <p:spPr>
              <a:xfrm>
                <a:off x="1819440" y="3371760"/>
                <a:ext cx="825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3"/>
              <p:cNvSpPr txBox="1"/>
              <p:nvPr/>
            </p:nvSpPr>
            <p:spPr>
              <a:xfrm>
                <a:off x="2867040" y="3371760"/>
                <a:ext cx="812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5"/>
              <p:cNvSpPr txBox="1"/>
              <p:nvPr/>
            </p:nvSpPr>
            <p:spPr>
              <a:xfrm>
                <a:off x="1600200" y="5029200"/>
                <a:ext cx="61977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1523880" y="4495680"/>
                <a:ext cx="2298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304920" y="14479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Если два равнобедренных треугольника построены на одной основной высоте и равные углы при основании одного равны углу между боковыми сторонами второго, то отношение соответствующих боковых сторон равно половине величины, обратной по значению синусам равных углов при основании второг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219320" y="380880"/>
            <a:ext cx="64008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из теоремы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04640" y="350604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1676520" y="3510000"/>
                <a:ext cx="888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2"/>
              <p:cNvSpPr txBox="1"/>
              <p:nvPr/>
            </p:nvSpPr>
            <p:spPr>
              <a:xfrm>
                <a:off x="2895480" y="3510000"/>
                <a:ext cx="889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4267080" y="3581280"/>
                <a:ext cx="21211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4"/>
              <p:cNvSpPr txBox="1"/>
              <p:nvPr/>
            </p:nvSpPr>
            <p:spPr>
              <a:xfrm>
                <a:off x="1981080" y="4419720"/>
                <a:ext cx="48006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Text Box 25"/>
          <p:cNvSpPr/>
          <p:nvPr/>
        </p:nvSpPr>
        <p:spPr>
          <a:xfrm>
            <a:off x="504720" y="357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коль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2562120" y="35528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3714840" y="3514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3857760" y="3533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24382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ема 4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28600" y="221076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два равнобедренных треугольника имеют общее основание и вершина, являющаяся пересечением боковых сторон первого, совпадает с центром вписанной во второй треугольник окружности, то центр описанной вокруг первого треугольника окружности лежит на пересечении перпендикуляров к боковым сторонам вто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5238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43000" y="159984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равнобедренные ∆ АВС и ∆ АОС с общим основанием АС = 2*а, DO = r = H  радиус вписанной окружности и высота равнобедренных ∆ АВС и ∆ AOC соответств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76092-63"/>
          <p:cNvPicPr/>
          <p:nvPr/>
        </p:nvPicPr>
        <p:blipFill>
          <a:blip r:embed="rId1"/>
          <a:stretch/>
        </p:blipFill>
        <p:spPr>
          <a:xfrm>
            <a:off x="2971800" y="3962520"/>
            <a:ext cx="2685960" cy="269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553080" y="2209680"/>
                <a:ext cx="182880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C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1"/>
              <p:cNvSpPr txBox="1"/>
              <p:nvPr/>
            </p:nvSpPr>
            <p:spPr>
              <a:xfrm>
                <a:off x="4114800" y="3048120"/>
                <a:ext cx="1765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OA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OC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2"/>
              <p:cNvSpPr txBox="1"/>
              <p:nvPr/>
            </p:nvSpPr>
            <p:spPr>
              <a:xfrm>
                <a:off x="1295280" y="2514600"/>
                <a:ext cx="180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OA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OC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Rectangle 13"/>
          <p:cNvSpPr/>
          <p:nvPr/>
        </p:nvSpPr>
        <p:spPr>
          <a:xfrm>
            <a:off x="1291320" y="3047040"/>
            <a:ext cx="1610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5"/>
              <p:cNvSpPr txBox="1"/>
              <p:nvPr/>
            </p:nvSpPr>
            <p:spPr>
              <a:xfrm>
                <a:off x="2457360" y="3048120"/>
                <a:ext cx="1505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S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C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16"/>
          <p:cNvSpPr/>
          <p:nvPr/>
        </p:nvSpPr>
        <p:spPr>
          <a:xfrm>
            <a:off x="3857760" y="30956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5"/>
          <p:cNvSpPr txBox="1"/>
          <p:nvPr/>
        </p:nvSpPr>
        <p:spPr>
          <a:xfrm>
            <a:off x="1981080" y="457200"/>
            <a:ext cx="477216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289160" y="1828080"/>
            <a:ext cx="69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ходя из рисунка, получим следующую цепочку соотнош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373040" y="3139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57200" y="3673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согласно определению равнобедренные ∆ АВС и ∆ АСS являются полуподобными, поскольку                                                  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228600" y="4266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оборот, а равнобедренные ∆АВС и ∆АОС являются половинноподобными, поскольку удовлетворяют определению:            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0"/>
              <p:cNvSpPr txBox="1"/>
              <p:nvPr/>
            </p:nvSpPr>
            <p:spPr>
              <a:xfrm>
                <a:off x="914400" y="2362320"/>
                <a:ext cx="6692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A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1"/>
              <p:cNvSpPr txBox="1"/>
              <p:nvPr/>
            </p:nvSpPr>
            <p:spPr>
              <a:xfrm>
                <a:off x="2133720" y="3063960"/>
                <a:ext cx="5016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A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S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AS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AS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2"/>
              <p:cNvSpPr txBox="1"/>
              <p:nvPr/>
            </p:nvSpPr>
            <p:spPr>
              <a:xfrm>
                <a:off x="4514760" y="4016520"/>
                <a:ext cx="32641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C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S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DS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3"/>
              <p:cNvSpPr txBox="1"/>
              <p:nvPr/>
            </p:nvSpPr>
            <p:spPr>
              <a:xfrm>
                <a:off x="4648320" y="4616280"/>
                <a:ext cx="1993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C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4"/>
              <p:cNvSpPr txBox="1"/>
              <p:nvPr/>
            </p:nvSpPr>
            <p:spPr>
              <a:xfrm>
                <a:off x="6715080" y="4511520"/>
                <a:ext cx="1917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OA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OC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8088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внобедренны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всякий треугольник, две стороны которого рав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 равные стороны называю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оковы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ью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057400" y="762120"/>
            <a:ext cx="441972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ят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6" descr="Треугольник"/>
          <p:cNvPicPr/>
          <p:nvPr/>
        </p:nvPicPr>
        <p:blipFill>
          <a:blip r:embed="rId1"/>
          <a:srcRect l="27350" t="22499" r="52993" b="45002"/>
          <a:stretch/>
        </p:blipFill>
        <p:spPr>
          <a:xfrm>
            <a:off x="3200400" y="4191120"/>
            <a:ext cx="208908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1219320" y="2057400"/>
            <a:ext cx="66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www.college.ru/mathematics/courses/planimetry/content/chapter14/section/paragraph3/theo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mathauto.ru/calc/tp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www.yspu.ya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d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d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d3"/>
                </a:solidFill>
                <a:latin typeface="Arial"/>
              </a:rPr>
              <a:t>Л.С.Атанасян, В.Ф.Бутузов, С.Е.Каломцев и др. – Геометрия. 7 – 9: Учебник для образовательных учреждений. – 13 изд. – М.: Просвещ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d3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3760d3"/>
                </a:solidFill>
                <a:latin typeface="Arial"/>
              </a:rPr>
              <a:t>2003. – 384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d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d3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760d3"/>
                </a:solidFill>
                <a:latin typeface="Arial"/>
              </a:rPr>
              <a:t>В.В.Шлыков. – Геометрия. Планеметрия,: Школьное учебное пособие. – Мн. : ООО «Асар», 2003. – 288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d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d3"/>
                </a:solidFill>
                <a:latin typeface="Arial"/>
              </a:rPr>
              <a:t>З.Н.Альхова, А.В.Макеева. Внеклассная работа по математике. – Саратов: « Лицей», 2002. – 280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d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d3"/>
                </a:solidFill>
                <a:latin typeface="Arial"/>
              </a:rPr>
              <a:t>Энциклопедия для детей. Т.11. Математика. – Глав. ред. М.Д. Аксенова. – М.: Аванта +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7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99"/>
                </a:solidFill>
                <a:latin typeface="Monotype Corsiva"/>
              </a:rPr>
              <a:t>Ресурсы</a:t>
            </a:r>
            <a:endParaRPr b="1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000"/>
                            </p:stCondLst>
                            <p:childTnLst>
                              <p:par>
                                <p:cTn id="9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4000"/>
                            </p:stCondLst>
                            <p:childTnLst>
                              <p:par>
                                <p:cTn id="9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0"/>
                            </p:stCondLst>
                            <p:childTnLst>
                              <p:par>
                                <p:cTn id="9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752480" y="304920"/>
            <a:ext cx="5524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 равнобедренно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917280" y="1828080"/>
            <a:ext cx="76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1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равнобедренном треугольнике углы при основании рав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28600" y="2438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Δ  ABC – равнобедренный с основанием AB . Рассмотрим Δ  BAC . По первому признаку эти треугольники равны. Действительно, AC=BC; BC=AC ; C= C. Отсюда следует A= B как соответствующие углы равных треугольников. Теорема доказ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ang"/>
          <p:cNvPicPr/>
          <p:nvPr/>
        </p:nvPicPr>
        <p:blipFill>
          <a:blip r:embed="rId1"/>
          <a:stretch/>
        </p:blipFill>
        <p:spPr>
          <a:xfrm>
            <a:off x="142920" y="3381480"/>
            <a:ext cx="200160" cy="28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g"/>
          <p:cNvPicPr/>
          <p:nvPr/>
        </p:nvPicPr>
        <p:blipFill>
          <a:blip r:embed="rId2"/>
          <a:stretch/>
        </p:blipFill>
        <p:spPr>
          <a:xfrm>
            <a:off x="533520" y="3381480"/>
            <a:ext cx="199800" cy="28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ang"/>
          <p:cNvPicPr/>
          <p:nvPr/>
        </p:nvPicPr>
        <p:blipFill>
          <a:blip r:embed="rId3"/>
          <a:stretch/>
        </p:blipFill>
        <p:spPr>
          <a:xfrm>
            <a:off x="2666880" y="337176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g"/>
          <p:cNvPicPr/>
          <p:nvPr/>
        </p:nvPicPr>
        <p:blipFill>
          <a:blip r:embed="rId4"/>
          <a:stretch/>
        </p:blipFill>
        <p:spPr>
          <a:xfrm>
            <a:off x="3038400" y="337176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Треугольник"/>
          <p:cNvPicPr/>
          <p:nvPr/>
        </p:nvPicPr>
        <p:blipFill>
          <a:blip r:embed="rId5"/>
          <a:srcRect l="27350" t="22499" r="52993" b="45002"/>
          <a:stretch/>
        </p:blipFill>
        <p:spPr>
          <a:xfrm>
            <a:off x="3200400" y="4191120"/>
            <a:ext cx="208908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752480" y="304920"/>
            <a:ext cx="5524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 равнобедренно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38080" y="1675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2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равнобедренном треугольнике медиана, проведенная к основанию, является биссектрисой и высот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08000" y="236268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ΔABC – равнобедренный с основанием AB,CD – медиана, проведенная к основанию. В треугольниках CAD и CBD углы CAD и CBD равны, как углы при основании равнобедренного треугольника (т.к. углы при основание равны), стороны AC и BC равны по определению равнобедренного треугольника, стороны AD и BD равны, потому что D – середина отрезка AB . Отсюда получаем, что Δ  ACD  = Δ  BC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авенства треугольников следует равенство соответствующих углов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CD=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CD,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DC=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DC. Из первого равенства следует, что CD– биссектриса. Углы ADC и BDC смежные, и в силу второго равенства они прямые, поэтому CD – высота треугольника. 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ng"/>
          <p:cNvPicPr/>
          <p:nvPr/>
        </p:nvPicPr>
        <p:blipFill>
          <a:blip r:embed="rId1"/>
          <a:stretch/>
        </p:blipFill>
        <p:spPr>
          <a:xfrm>
            <a:off x="10987200" y="49752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ang"/>
          <p:cNvPicPr/>
          <p:nvPr/>
        </p:nvPicPr>
        <p:blipFill>
          <a:blip r:embed="rId2"/>
          <a:stretch/>
        </p:blipFill>
        <p:spPr>
          <a:xfrm>
            <a:off x="12238200" y="49752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ang"/>
          <p:cNvPicPr/>
          <p:nvPr/>
        </p:nvPicPr>
        <p:blipFill>
          <a:blip r:embed="rId3"/>
          <a:stretch/>
        </p:blipFill>
        <p:spPr>
          <a:xfrm>
            <a:off x="13355640" y="49752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g"/>
          <p:cNvPicPr/>
          <p:nvPr/>
        </p:nvPicPr>
        <p:blipFill>
          <a:blip r:embed="rId4"/>
          <a:stretch/>
        </p:blipFill>
        <p:spPr>
          <a:xfrm>
            <a:off x="14606640" y="4975200"/>
            <a:ext cx="199800" cy="28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0400301"/>
          <p:cNvPicPr/>
          <p:nvPr/>
        </p:nvPicPr>
        <p:blipFill>
          <a:blip r:embed="rId5"/>
          <a:stretch/>
        </p:blipFill>
        <p:spPr>
          <a:xfrm>
            <a:off x="3200400" y="53341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676520" y="380880"/>
            <a:ext cx="541476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наки равнобедрено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72240" y="2437560"/>
            <a:ext cx="85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1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треугольнике два угла равны, то он равнобедрен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533520" y="3124080"/>
            <a:ext cx="819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Δ  ABC – треугольник, в котором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A  =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. ΔABC равен ΔBAC по второму признаку равенства треугольников. Действительно: AB=BA;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. Из равенства треугольников следует равенство соответствующих его сторон: AC  =  BC . Тогда, по определению, Δ  ABC – равнобедренный. Теорема доказ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ang"/>
          <p:cNvPicPr/>
          <p:nvPr/>
        </p:nvPicPr>
        <p:blipFill>
          <a:blip r:embed="rId1"/>
          <a:stretch/>
        </p:blipFill>
        <p:spPr>
          <a:xfrm>
            <a:off x="20126160" y="416232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g"/>
          <p:cNvPicPr/>
          <p:nvPr/>
        </p:nvPicPr>
        <p:blipFill>
          <a:blip r:embed="rId2"/>
          <a:stretch/>
        </p:blipFill>
        <p:spPr>
          <a:xfrm>
            <a:off x="21047040" y="416232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Треугольник"/>
          <p:cNvPicPr/>
          <p:nvPr/>
        </p:nvPicPr>
        <p:blipFill>
          <a:blip r:embed="rId3"/>
          <a:srcRect l="27350" t="22499" r="52993" b="45002"/>
          <a:stretch/>
        </p:blipFill>
        <p:spPr>
          <a:xfrm>
            <a:off x="3429000" y="4419720"/>
            <a:ext cx="19540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676520" y="228600"/>
            <a:ext cx="541476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наки равнобедрено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85800" y="22093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 треугольнике медиана является и высотой, то такой треугольник равнобедре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52280" y="2895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ABC проведем медиану BD , которая по условию также является высотой. Прямоугольные треугольники ABD и CBD равны, т. к. катет BD общий, AD  =  CD по построению. Следовательно, гипотенузы этих треугольников равны как соответственные элементы равных треугольников, т. е. AB  =  BC . Теорема доказ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0400301"/>
          <p:cNvPicPr/>
          <p:nvPr/>
        </p:nvPicPr>
        <p:blipFill>
          <a:blip r:embed="rId1"/>
          <a:stretch/>
        </p:blipFill>
        <p:spPr>
          <a:xfrm>
            <a:off x="3581280" y="51055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838080" y="380880"/>
            <a:ext cx="73152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ём некоторые опреде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57200" y="1752120"/>
            <a:ext cx="85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выс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ысота равнобедренного треугольника, опущенная из вершины, являющейся точкой пересечения равных боковых сторон, на основание и соответственно пересекающей последнее в его серед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71520" y="289512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луподобные равнобедренные треуголь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внобедренные треугольники, для которых справедливо равенство углов при основании одного половинным углам между боковыми сторонами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49280" y="388584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ловинноподобные равнобедренные треуголь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внобедренные треугольники, равные углы при основании одного являются половинными углами при основании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Треугольник"/>
          <p:cNvPicPr/>
          <p:nvPr/>
        </p:nvPicPr>
        <p:blipFill>
          <a:blip r:embed="rId1"/>
          <a:srcRect l="27350" t="22499" r="52993" b="45002"/>
          <a:stretch/>
        </p:blipFill>
        <p:spPr>
          <a:xfrm>
            <a:off x="7467480" y="5029200"/>
            <a:ext cx="148284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2438280" y="990720"/>
            <a:ext cx="371952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ема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066680" y="2611800"/>
            <a:ext cx="723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основной высоты равнобедренного треугольника к радиусу вписанной в него окружности равно алгебраической сумме единицы и величины, обратной по значению косинусу равных углов при осн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ya</cp:lastModifiedBy>
  <dcterms:modified xsi:type="dcterms:W3CDTF">2009-01-29T21:09:1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