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7A1-7733-48B4-BA60-B4148184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893-14EB-44E7-BB69-41A0535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4F3-2739-4827-92B2-1FBB7119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69D-16E7-4B21-91ED-4C8E28C9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435CF-F34B-4827-B34C-5694B1A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FC45A-293D-4761-9C48-1AA26CFC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9887-0013-4A7E-B5E3-F1CA5672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9FF0-68F5-4E1E-AFC3-0EF68328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5F6A-02A1-4704-AA7B-AD828EC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3410C-0B66-4946-966B-33844EC5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75421-F84D-4333-9F22-24E68C8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426-9557-4E3E-B93C-8243E32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FA378-9B03-4E9E-9731-4D543EE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11B3-5849-4A58-BF0E-B57AB816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97553-F74F-40C9-A44A-FFDC2C04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AF0BE-8D74-4A4B-988E-E84AFF30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5D214-AFCB-437B-B357-B1857316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A2A-8474-4703-990E-0D8C1C4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1CB-BEC8-40DE-9BB0-59FBE30C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E6B-C69D-4F32-B45C-2485A247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7E1-5D45-40E3-B6BA-EB2658B1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F2E-19A7-4689-9400-5902000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C26-F0D5-415B-B694-335DC87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FB3-5BEB-4167-88A6-29F00BB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F0D-16FB-48CE-95CD-D9DF2E398E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9D9-D902-4D27-8F6B-CE8EB44070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llege.ru/mathematics/courses/planimetry/content/chapter14/section/paragraph3/theory.html" TargetMode="External"/><Relationship Id="rId2" Type="http://schemas.openxmlformats.org/officeDocument/2006/relationships/hyperlink" Target="http://www.mathauto.ru/calc/tplan.htm" TargetMode="External"/><Relationship Id="rId3" Type="http://schemas.openxmlformats.org/officeDocument/2006/relationships/hyperlink" Target="http://www.yspu.yar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7"/>
          <p:cNvSpPr txBox="1"/>
          <p:nvPr/>
        </p:nvSpPr>
        <p:spPr>
          <a:xfrm>
            <a:off x="611280" y="260280"/>
            <a:ext cx="806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12600">
                  <a:solidFill>
                    <a:srgbClr val="f60c54"/>
                  </a:solidFill>
                  <a:custDash>
                    <a:ds d="100000" sp="1000"/>
                  </a:custDash>
                  <a:miter/>
                </a:ln>
                <a:solidFill>
                  <a:srgbClr val="f60c5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угольник и окружность.</a:t>
            </a:r>
            <a:endParaRPr b="0" lang="en-US" sz="2000" spc="1" strike="noStrike">
              <a:ln cap="rnd" w="12600">
                <a:solidFill>
                  <a:srgbClr val="f60c54"/>
                </a:solidFill>
                <a:custDash>
                  <a:ds d="100000" sp="1000"/>
                </a:custDash>
                <a:miter/>
              </a:ln>
              <a:solidFill>
                <a:srgbClr val="f60c5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2484360" y="3573360"/>
            <a:ext cx="2879640" cy="2880000"/>
          </a:xfrm>
          <a:prstGeom prst="ellipse">
            <a:avLst/>
          </a:prstGeom>
          <a:solidFill>
            <a:srgbClr val="f60c54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324000" y="2060640"/>
            <a:ext cx="2303280" cy="2376360"/>
          </a:xfrm>
          <a:prstGeom prst="triangle">
            <a:avLst>
              <a:gd name="adj" fmla="val 50000"/>
            </a:avLst>
          </a:prstGeom>
          <a:solidFill>
            <a:srgbClr val="f60c54"/>
          </a:solidFill>
          <a:ln w="9360">
            <a:solidFill>
              <a:srgbClr val="f6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5867280" y="4724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: Артюшевская Ел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Елец, Липецкая обла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лицей № 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 «Б» клас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Определени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кружность называется вписанной в треугольник, если она касается всех трех его сторон, а её центр находится внутри окру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Теорем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любой треугольни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вписать окруж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1116000" y="404640"/>
            <a:ext cx="648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60c54"/>
                  </a:solidFill>
                  <a:miter/>
                </a:ln>
                <a:solidFill>
                  <a:srgbClr val="f60c5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писанная окружность.</a:t>
            </a:r>
            <a:endParaRPr b="0" lang="en-US" sz="3200" spc="1" strike="noStrike">
              <a:ln w="12600">
                <a:solidFill>
                  <a:srgbClr val="f60c54"/>
                </a:solidFill>
                <a:miter/>
              </a:ln>
              <a:solidFill>
                <a:srgbClr val="f60c5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796000" y="3357720"/>
            <a:ext cx="3166920" cy="331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370560" y="4653000"/>
            <a:ext cx="201636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Доказательств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ссмотрим   произволь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означим буквой О точку пересечения его биссектрис. Проведем из точ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ы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енно к сторона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, В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ак как точ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удалена от сторо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окружность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диус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ходит через точ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роны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саю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й окружности в точк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как они перпендикулярны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диуса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, окружность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-              диус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вписанной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3917"/>
          <a:stretch/>
        </p:blipFill>
        <p:spPr>
          <a:xfrm>
            <a:off x="7405560" y="3213000"/>
            <a:ext cx="17384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Замеч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, что в треугольник можно вписать только одну окруж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амом деле, допустим, что в треугольник можно вписать две окружности. Тогда центр каждой окружности равноуда­лен от сторон треугольника и, значит, совпадает с точк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чения биссектрис треугольника, а радиус равен расстоянию от точки О до сторон треугольника. Следовательно, эти окружности совпад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Теорем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вписанной в треугольник окружности лежит на пересечении биссектрис внутренних углов треугольника.</a:t>
            </a:r>
            <a:br>
              <a:rPr sz="2800"/>
            </a:b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Доказательств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йствительно, вписанная в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BC окружность с центром в точке O касается всех сторон треугольника по определению вписанной окружности. Это значит, что точка O удалена от сторо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BC на расстояние, равное радиусу вписанной окружности, то есть точка O равноудалена от сторо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B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вписанная окружность"/>
          <p:cNvPicPr/>
          <p:nvPr/>
        </p:nvPicPr>
        <p:blipFill>
          <a:blip r:embed="rId1"/>
          <a:stretch/>
        </p:blipFill>
        <p:spPr>
          <a:xfrm>
            <a:off x="4859280" y="4808520"/>
            <a:ext cx="4284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овательно, точка O равноудалена от сторон AB и AC, то есть лежит на биссектрисе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. Аналогично точка O лежит на биссектрисе углов B и C. Теорема доказа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знаем, что центр окружности равноудален от всех точек окружности (по определению) в том числе и от точек касание сторон треугольника. Также мы знаем, что каждая точка биссектрисы угла равноудалена от сторон уг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вписанная окружность"/>
          <p:cNvPicPr/>
          <p:nvPr/>
        </p:nvPicPr>
        <p:blipFill>
          <a:blip r:embed="rId1"/>
          <a:stretch/>
        </p:blipFill>
        <p:spPr>
          <a:xfrm>
            <a:off x="4716360" y="4740120"/>
            <a:ext cx="44276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точка пересечения биссектрис треугольника равноудалена от каждой стороны, т.к. равноудалена от трех пар сторон для каждой биссектрисы. Таким образом, в треугольнике есть только одна точка равноудаленная от всех сторон - это пересечение биссектрис треугольника. Поэтому центр лежит именно в этой точ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60c54"/>
                </a:solidFill>
                <a:latin typeface="Arial"/>
              </a:rPr>
              <a:t>Определение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невписанной окружностью треугольника называется окружность, касающаяся одной из его сторон и продолжения двух друг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1258920" y="260280"/>
            <a:ext cx="6305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60c54"/>
                  </a:solidFill>
                  <a:miter/>
                </a:ln>
                <a:solidFill>
                  <a:srgbClr val="f60c5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вписанная окружность.</a:t>
            </a:r>
            <a:endParaRPr b="0" lang="en-US" sz="3200" spc="1" strike="noStrike">
              <a:ln w="12600">
                <a:solidFill>
                  <a:srgbClr val="f60c54"/>
                </a:solidFill>
                <a:miter/>
              </a:ln>
              <a:solidFill>
                <a:srgbClr val="f60c5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3637080" y="4292640"/>
            <a:ext cx="1512720" cy="151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2629080" y="3645000"/>
            <a:ext cx="3887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629080" y="3645000"/>
            <a:ext cx="172872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3492360" y="3500280"/>
            <a:ext cx="576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, однако, еще три окружности, касающиеся всех трех прямых, на которых лежат стороны треугольника. Так, рассмотрим треугольник АВС и биссектрисы его внутреннего угла А и двух внешних углов В и С: Точка пересечения последних двух биссектрис                                          одинаково удалена                                       от всех трех                                          прямых АВ, ВС и                                                  АС и потому лежит                                                        на биссектрисе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4500720" y="3549600"/>
          <a:ext cx="464328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549600"/>
                    <a:ext cx="464328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1890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76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а является центром                                  окружности, касающейся стороны ВС треугольника и продолжений двух других его сторон. Такая окружность называется внешне вписанной (вневписанной) в треугольни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76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а пересечения последних двух биссектрис одинаково удалена от всех трех прямых АВ, ВС и АС и потому лежит на биссектрис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; она является центром окружности, касающейся стороны ВС треугольника и продолжений двух других его сторон. Такая окружность называется внешне вписанной (вневписанной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76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угольник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Задачи для самостоятельного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очка касания вписанной окружности делит гипотенузу прямоугольного треугольника на отрезки 4см и 6см. Найдите радиусы описанной и вписанной окруж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та равнобедренного треугольника, проведенная к основанию, равна 32см, а радиус окружности, вписанной в треугольник, равен 12см. Найдите радиус окружности, описанной около треуголь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60c54"/>
                </a:solidFill>
                <a:latin typeface="Tahoma"/>
              </a:rPr>
              <a:t>Введ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учении геометрии в 7- 9 классах, мы получили довольно обширную информацию о разных геометрических фигурах и их взаимосвяз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боты взята одна из школьных тем геометрии: «Треугольник и окружность», где представлена информация о некоторых типах окружностей, на изучение которых в школьной программе недостаточно времени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мощи учащимся в работе создана система из определений, теорем и задач. Вам предоставляется возможность не только узнать несколько интересных и полезных свойств и теорем, не упоминающихся на уроке, но и самим попробовать решить задачи на основе предложенных пример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ность сторон прямоугольного треугольника равна 14см. Биссектриса прямого угла делит диагональ в отношении 5:12. Найдите длину описанной окруж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ысота равнобедренного треугольника, проведенная к основанию, равна 64см, а диаметр вписанной окружности равен 48см. Найдите радиус окружности, описанной около треуголь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ажите, что три отрезка, каждый из которых точкой касания противоположной стороны с вневписанной окружностью, пересекаются в одной точ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0c54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площадь прямоугольного треугольника, если радиус вписанной в него окружности раве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а радиус вневписанной окружности, касающейся гипотенузы, раве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5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college.ru/mathematics/courses/planimetry/content/chapter14/section/paragraph3/theory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285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mathauto.ru/calc/tplan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285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http://www.yspu.yar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285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285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dd7"/>
                </a:solidFill>
                <a:latin typeface="Arial"/>
              </a:rPr>
              <a:t>Л.С.Атанасян, В.Ф.Бутузов, С.Е.Каломцев и др. – Геометрия. 7 – 9: Учебник для образовательных учреждений. – 13 изд. – М.: Просвещ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28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050920" y="0"/>
            <a:ext cx="45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60c54"/>
                  </a:solidFill>
                  <a:miter/>
                </a:ln>
                <a:solidFill>
                  <a:srgbClr val="f60c5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тература.</a:t>
            </a:r>
            <a:endParaRPr b="0" lang="en-US" sz="3200" spc="1" strike="noStrike">
              <a:ln w="9360">
                <a:solidFill>
                  <a:srgbClr val="f60c54"/>
                </a:solidFill>
                <a:miter/>
              </a:ln>
              <a:solidFill>
                <a:srgbClr val="f60c5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Определение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ружность называется описанной около треугольника, если она проходит через все его верш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900000" y="189000"/>
            <a:ext cx="73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исанная окружность.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3276720" y="4005360"/>
            <a:ext cx="2089080" cy="208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708360" y="4005360"/>
            <a:ext cx="1224000" cy="1871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0"/>
            <a:ext cx="9144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60c54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60c54"/>
                </a:solidFill>
                <a:latin typeface="Arial"/>
              </a:rPr>
              <a:t>Теорема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круг любого треугольника можно описать   окружность, и только од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Доказательств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ссмотрим произвольный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значим букв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у пересечения серединных перпендикуляров к его сторонам и проведем отрез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А, 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 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как точ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удалена от вершин треугольник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А=ОВ = ОС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окружность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диус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ходит через все три вершины треугольника  и, значит, явл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ной окол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rcRect l="0" t="0" r="0" b="10056"/>
          <a:stretch/>
        </p:blipFill>
        <p:spPr>
          <a:xfrm>
            <a:off x="7000920" y="4692600"/>
            <a:ext cx="18860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Замечание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, что около треугольника можно описать только одну окруж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амом деле, допустим, что около треугольника можно описать две окружности. Тогда центр каждой из них равноудален от его вершин и поэтому совпадает с точкой О пересечения серединных перпендикуляров к сторонам треугольника, а радиус равен расстоянию от точки О до вершин треугольни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овательно, эти окружности совпад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2399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Определени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ерединным перпендикуляром называют прямую перпендикулярную отрезку и проходящую через его середи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Теорем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ерединные перпендикуляры трех сторон треугольника пересекаются в одной точке.</a:t>
            </a:r>
            <a:br>
              <a:rPr sz="2800"/>
            </a:b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Доказательств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ямая QO - серединный перпендикуляр к стороне AB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BC. Прямая PO - серединный перпендикуляр к стороне BC. Эти две прямые пересекаются в точке O (действительно, пусть они не пересекаются; тогда они параллельны, а значит, угол ABC развернутый; это означало бы, что точки A, B и C лежат на одной прямой, а это противоречит определению треугольника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ак, серединные перпендикуляры к сторонам AB и BC пересекаются в точке O. Тогда точка O равноудалена от точек A, B и C. Значит, AO = OC. Следовательно, точка O принадлежит геометрическому месту точек, равноудаленных от концов отрезка AC, то есть лежит на серединном перпендикуляре к этому отрезку. Значит, точка O принадлежит всем трём серединным перпендикулярам к сторон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BC, то есть является точкой их пересечения. Значит, эти серединные перпендикуляры пересекаются в одной точке. Теорема д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60c54"/>
                </a:solidFill>
                <a:latin typeface="Arial"/>
              </a:rPr>
              <a:t>Теорем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чка пересечения серединных перпендикуляров треугольника является центром описанной около треугольника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зательство: Пусть ABC - данный треугольник, а O - центр описанной около него окружности. Окружность проходит через точки A, B, C. Значит, OA = OB = OC, то есть OAB, OBC, OAC - равнобедренные треугольн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к доказательству"/>
          <p:cNvPicPr/>
          <p:nvPr/>
        </p:nvPicPr>
        <p:blipFill>
          <a:blip r:embed="rId1"/>
          <a:stretch/>
        </p:blipFill>
        <p:spPr>
          <a:xfrm>
            <a:off x="5796000" y="35100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а O равноудалена от концов отрезков AB, BC, AC. Следовательно, точка O принадлежит геометрическому месту точек, равноудаленных от концов отрезка AB, геометрическому месту точек, равноудалённых от концов отрезка BC, а также геометрическому месту точек, равноудалённых от концов отрезка AC. Значит, точка O принадлежит серединному перпендикуляру к AB, серединному перпендикуляру к                            BC, а также серединному                     перпендикуляру к A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к доказательству"/>
          <p:cNvPicPr/>
          <p:nvPr/>
        </p:nvPicPr>
        <p:blipFill>
          <a:blip r:embed="rId1"/>
          <a:stretch/>
        </p:blipFill>
        <p:spPr>
          <a:xfrm>
            <a:off x="6372360" y="4302000"/>
            <a:ext cx="2555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38:06Z</dcterms:created>
  <dc:creator>реинкарнация</dc:creator>
  <dc:description/>
  <dc:language>en-US</dc:language>
  <cp:lastModifiedBy>Sanya</cp:lastModifiedBy>
  <dcterms:modified xsi:type="dcterms:W3CDTF">2009-01-29T20:08:21Z</dcterms:modified>
  <cp:revision>32</cp:revision>
  <dc:subject/>
  <dc:title>Слайд 1</dc:title>
</cp:coreProperties>
</file>