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F68-B980-4D81-A474-E187D4C6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28B1-05A5-410F-BC46-258143A7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26F9-050C-4AC9-93D4-337CE356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7F8-383A-4209-BF69-CBA43F5D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B7F9-8008-4BE3-A8DF-0ED9452C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C7EC-343E-4733-BABB-84357ED8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4319-94CA-4133-9139-8E2F2809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CD53-A26B-40DF-BEC9-6237D9EA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AFC7-E6E7-426D-A6DD-DBF332E3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D154-23F8-426F-8F78-39D28A2B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CC58-EF79-4335-A584-8C096C43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415-25D2-4703-AA0D-59058187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42E8-2044-4021-8C7F-55DFF882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A71B-BB9C-44C8-9BC5-128059D2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27FD-8BD3-4339-A06A-5BB172C3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B884-E9AF-4899-98B4-0255DF5A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DF51-529A-416B-B792-FCA02AFA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73A2-997F-4074-8C2B-C25F17CD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BDE-6D52-49E2-9456-AA8B6529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ABF-7123-49B1-A61E-2B97C885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ED2A-808F-44D6-BB95-E1AF8530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6901-0014-415E-8B1F-8608950C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B15-0F0A-4586-9D78-5C3DA49F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7CA-7BE0-4D9E-9D38-9071C788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A5BB-AC48-4EDB-A02C-42BE96A204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7B47-6A34-497D-9196-61BD791345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403200"/>
            <a:ext cx="687060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ТРЕУГОЛЬНИК -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00720" y="1915920"/>
            <a:ext cx="3954240" cy="38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Фигура, состоящая из трех точек, не лежащих на одой прямой, и трех отрезков, попарно соединяющих эти точ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1258920" y="1628640"/>
            <a:ext cx="2735280" cy="2952720"/>
          </a:xfrm>
          <a:prstGeom prst="triangle">
            <a:avLst>
              <a:gd name="adj" fmla="val 50028"/>
            </a:avLst>
          </a:prstGeom>
          <a:gradFill rotWithShape="0">
            <a:gsLst>
              <a:gs pos="0">
                <a:srgbClr val="6fb56d"/>
              </a:gs>
              <a:gs pos="100000">
                <a:srgbClr val="33543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971640" y="458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995640" y="45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411280" y="1268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755640" y="333360"/>
            <a:ext cx="72010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Comic Sans MS"/>
              </a:rPr>
              <a:t>В треугольник АВС вписана окружность, касающаяся его сторон в точках А</a:t>
            </a:r>
            <a:r>
              <a:rPr b="0" lang="ru-RU" sz="2400" spc="-1" strike="noStrike" baseline="-25000">
                <a:solidFill>
                  <a:srgbClr val="ffffcc"/>
                </a:solidFill>
                <a:latin typeface="Comic Sans MS"/>
              </a:rPr>
              <a:t>1</a:t>
            </a:r>
            <a:r>
              <a:rPr b="0" lang="ru-RU" sz="2400" spc="-1" strike="noStrike">
                <a:solidFill>
                  <a:srgbClr val="ffffcc"/>
                </a:solidFill>
                <a:latin typeface="Comic Sans MS"/>
              </a:rPr>
              <a:t>,В</a:t>
            </a:r>
            <a:r>
              <a:rPr b="0" lang="ru-RU" sz="2400" spc="-1" strike="noStrike" baseline="-25000">
                <a:solidFill>
                  <a:srgbClr val="ffffcc"/>
                </a:solidFill>
                <a:latin typeface="Comic Sans MS"/>
              </a:rPr>
              <a:t>1</a:t>
            </a:r>
            <a:r>
              <a:rPr b="0" lang="ru-RU" sz="2400" spc="-1" strike="noStrike">
                <a:solidFill>
                  <a:srgbClr val="ffffcc"/>
                </a:solidFill>
                <a:latin typeface="Comic Sans MS"/>
              </a:rPr>
              <a:t>,С</a:t>
            </a:r>
            <a:r>
              <a:rPr b="0" lang="ru-RU" sz="2400" spc="-1" strike="noStrike" baseline="-25000">
                <a:solidFill>
                  <a:srgbClr val="ffffcc"/>
                </a:solidFill>
                <a:latin typeface="Comic Sans MS"/>
              </a:rPr>
              <a:t>1</a:t>
            </a:r>
            <a:r>
              <a:rPr b="0" lang="ru-RU" sz="2400" spc="-1" strike="noStrike">
                <a:solidFill>
                  <a:srgbClr val="ffffcc"/>
                </a:solidFill>
                <a:latin typeface="Comic Sans MS"/>
              </a:rPr>
              <a:t>, то треугольники АВС и А</a:t>
            </a:r>
            <a:r>
              <a:rPr b="0" lang="ru-RU" sz="2400" spc="-1" strike="noStrike" baseline="-25000">
                <a:solidFill>
                  <a:srgbClr val="ffffcc"/>
                </a:solidFill>
                <a:latin typeface="Comic Sans MS"/>
              </a:rPr>
              <a:t>1</a:t>
            </a:r>
            <a:r>
              <a:rPr b="0" lang="ru-RU" sz="2400" spc="-1" strike="noStrike">
                <a:solidFill>
                  <a:srgbClr val="ffffcc"/>
                </a:solidFill>
                <a:latin typeface="Comic Sans MS"/>
              </a:rPr>
              <a:t>В</a:t>
            </a:r>
            <a:r>
              <a:rPr b="0" lang="ru-RU" sz="2400" spc="-1" strike="noStrike" baseline="-25000">
                <a:solidFill>
                  <a:srgbClr val="ffffcc"/>
                </a:solidFill>
                <a:latin typeface="Comic Sans MS"/>
              </a:rPr>
              <a:t>1</a:t>
            </a:r>
            <a:r>
              <a:rPr b="0" lang="ru-RU" sz="2400" spc="-1" strike="noStrike">
                <a:solidFill>
                  <a:srgbClr val="ffffcc"/>
                </a:solidFill>
                <a:latin typeface="Comic Sans MS"/>
              </a:rPr>
              <a:t>С</a:t>
            </a:r>
            <a:r>
              <a:rPr b="0" lang="ru-RU" sz="2400" spc="-1" strike="noStrike" baseline="-25000">
                <a:solidFill>
                  <a:srgbClr val="ffffcc"/>
                </a:solidFill>
                <a:latin typeface="Comic Sans MS"/>
              </a:rPr>
              <a:t>1</a:t>
            </a:r>
            <a:r>
              <a:rPr b="0" lang="ru-RU" sz="2400" spc="-1" strike="noStrike">
                <a:solidFill>
                  <a:srgbClr val="ffffcc"/>
                </a:solidFill>
                <a:latin typeface="Comic Sans MS"/>
              </a:rPr>
              <a:t> подобны, то треугольник АВС правиль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68360" y="2133720"/>
            <a:ext cx="7488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глы треугольник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В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то углы треугольник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вны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)/2, (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пусть для определенности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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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Тогд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)/2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следовательно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= (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)/2 и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= (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т.е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KL"/>
          <p:cNvPicPr/>
          <p:nvPr/>
        </p:nvPicPr>
        <p:blipFill>
          <a:blip r:embed="rId1"/>
          <a:stretch/>
        </p:blipFill>
        <p:spPr>
          <a:xfrm>
            <a:off x="2340000" y="3500280"/>
            <a:ext cx="4140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684360" y="189000"/>
            <a:ext cx="74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Comic Sans MS"/>
              </a:rPr>
              <a:t>Если радиус вписанной окружности треугольника равен 1, длина высот- целые числа, тогда треугольник правиль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79280" y="1989000"/>
            <a:ext cx="7488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любом треугольнике высота больше диаметра вписанной окружности . Поэтому длины высот- целые числа, большие 2, т.е все они не меньше 3. пусть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лощадь треугольника,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наибольшая его сторона,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ответствующая высо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положим, что треугольник неправильный. Тогда его периметр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ньше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Поэтому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P=Pr =2S=h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.е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получено противореч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6" descr=",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219640" y="3932280"/>
            <a:ext cx="2917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971640" y="1197000"/>
            <a:ext cx="705636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ДАЧ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179280" y="189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Arial"/>
              </a:rPr>
              <a:t>№</a:t>
            </a:r>
            <a:r>
              <a:rPr b="0" i="1" lang="ru-RU" sz="4400" spc="-1" strike="noStrike">
                <a:solidFill>
                  <a:srgbClr val="ffff99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95280" y="1268280"/>
            <a:ext cx="83534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нутри треугольника АВС  взята  точка Р так, что </a:t>
            </a:r>
            <a:r>
              <a:rPr b="0" i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РС= </a:t>
            </a:r>
            <a:r>
              <a:rPr b="0" i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А=60</a:t>
            </a:r>
            <a:r>
              <a:rPr b="0" i="1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АРС= </a:t>
            </a:r>
            <a:r>
              <a:rPr b="0" i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+60</a:t>
            </a:r>
            <a:r>
              <a:rPr b="0" i="1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АРВ= </a:t>
            </a:r>
            <a:r>
              <a:rPr b="0" i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+60</a:t>
            </a:r>
            <a:r>
              <a:rPr b="0" i="1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 прямые АР, ВР и СР пересекают описанную окружность треугольника АВС в точках А</a:t>
            </a:r>
            <a:r>
              <a:rPr b="0" i="1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, В</a:t>
            </a:r>
            <a:r>
              <a:rPr b="0" i="1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и С</a:t>
            </a:r>
            <a:r>
              <a:rPr b="0" i="1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 докажите что треугольник А</a:t>
            </a:r>
            <a:r>
              <a:rPr b="0" i="1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i="1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i="1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правиль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0" y="2492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79280" y="321300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кладывая равенства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28180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Равносторонний  треугольник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32360" y="2852640"/>
            <a:ext cx="3849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Если все стороны треугольника равны, треугольник называется равносторонним или правильным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=b=c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1" descr="mnnm"/>
          <p:cNvPicPr/>
          <p:nvPr/>
        </p:nvPicPr>
        <p:blipFill>
          <a:blip r:embed="rId1"/>
          <a:stretch/>
        </p:blipFill>
        <p:spPr>
          <a:xfrm>
            <a:off x="539640" y="2133720"/>
            <a:ext cx="45720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tregougCDRcurv1"/>
          <p:cNvPicPr/>
          <p:nvPr/>
        </p:nvPicPr>
        <p:blipFill>
          <a:blip r:embed="rId1"/>
          <a:stretch/>
        </p:blipFill>
        <p:spPr>
          <a:xfrm>
            <a:off x="2268360" y="333360"/>
            <a:ext cx="45133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5"/>
          <p:cNvSpPr txBox="1"/>
          <p:nvPr/>
        </p:nvSpPr>
        <p:spPr>
          <a:xfrm rot="21416400">
            <a:off x="826560" y="1125000"/>
            <a:ext cx="75614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766000"/>
                </a:gradFill>
                <a:latin typeface="Comic Sans MS"/>
              </a:rPr>
              <a:t>свойств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766000"/>
              </a:gradFill>
              <a:latin typeface="Comic Sans MS"/>
              <a:ea typeface="Comic Sans MS"/>
            </a:endParaRPr>
          </a:p>
        </p:txBody>
      </p:sp>
      <p:sp>
        <p:nvSpPr>
          <p:cNvPr id="109" name="WordArt 6"/>
          <p:cNvSpPr txBox="1"/>
          <p:nvPr/>
        </p:nvSpPr>
        <p:spPr>
          <a:xfrm rot="262200">
            <a:off x="1476000" y="3212640"/>
            <a:ext cx="568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4836000"/>
                </a:gradFill>
                <a:latin typeface="Comic Sans MS"/>
              </a:rPr>
              <a:t>правильного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4836000"/>
              </a:gradFill>
              <a:latin typeface="Comic Sans MS"/>
              <a:ea typeface="Comic Sans MS"/>
            </a:endParaRPr>
          </a:p>
        </p:txBody>
      </p:sp>
      <p:sp>
        <p:nvSpPr>
          <p:cNvPr id="110" name="WordArt 7"/>
          <p:cNvSpPr txBox="1"/>
          <p:nvPr/>
        </p:nvSpPr>
        <p:spPr>
          <a:xfrm rot="21456600">
            <a:off x="1979640" y="4869000"/>
            <a:ext cx="4581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664000"/>
                </a:gradFill>
                <a:latin typeface="Comic Sans MS"/>
              </a:rPr>
              <a:t>треуольник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664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95280" y="4762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Comic Sans MS"/>
              </a:rPr>
              <a:t>Если точки правильного треугольника делят стороны в отношении 1:2 ,то </a:t>
            </a:r>
            <a:r>
              <a:rPr b="0" lang="el-GR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α</a:t>
            </a:r>
            <a:r>
              <a:rPr b="0" lang="ru-RU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=90</a:t>
            </a:r>
            <a:r>
              <a:rPr b="0" lang="ru-RU" sz="2800" spc="-1" strike="noStrike" baseline="30000">
                <a:solidFill>
                  <a:srgbClr val="ffffcc"/>
                </a:solidFill>
                <a:latin typeface="Comic Sans MS"/>
                <a:ea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11280" y="1916280"/>
            <a:ext cx="79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сть точка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елит отрезок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отношении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F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B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=1:2;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чки пересечения  отрезк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F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B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E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оответственно. Ясно что треугольник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P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вильный. следовательно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P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F =3: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Q:QF=6: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то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P:PQ:QF=3:3: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значит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P=PQ=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этому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OC= </a:t>
            </a: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OP+ </a:t>
            </a: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Q=90</a:t>
            </a:r>
            <a:r>
              <a:rPr b="1" i="1" lang="en-US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.т.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348000" y="407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7" descr="kjml"/>
          <p:cNvPicPr/>
          <p:nvPr/>
        </p:nvPicPr>
        <p:blipFill>
          <a:blip r:embed="rId1"/>
          <a:stretch/>
        </p:blipFill>
        <p:spPr>
          <a:xfrm>
            <a:off x="2987640" y="3860640"/>
            <a:ext cx="30225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971640" y="115920"/>
            <a:ext cx="66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Comic Sans MS"/>
              </a:rPr>
              <a:t>Если окружность делит каждую из сторон треугольника на три равные части, то этот треугольник прави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95280" y="2060640"/>
            <a:ext cx="828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СТЬ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чки пересечения окружности  со сторонами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Q,QR,R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угольника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QR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Рассмотрим медиану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Она соединят середины параллельных хорд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A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поэтому перпендикулярна им. Следовательно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является высотой треугольник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Q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а значит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Q=PR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так же  и стороны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Q=QR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следовательно треугольник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QR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авиль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k"/>
          <p:cNvPicPr/>
          <p:nvPr/>
        </p:nvPicPr>
        <p:blipFill>
          <a:blip r:embed="rId1"/>
          <a:stretch/>
        </p:blipFill>
        <p:spPr>
          <a:xfrm>
            <a:off x="5292720" y="4005360"/>
            <a:ext cx="3456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50920" y="40464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Comic Sans MS"/>
              </a:rPr>
              <a:t>Если точка пересечения высот остроугольного треугольника делит высоты в одном и том же отношении, то этот треугольник прави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24000" y="2060640"/>
            <a:ext cx="684036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сть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точка пересечения высот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BB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угольника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По условию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*BH=B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*A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другой стороны, так как точк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лежат на окружности с диаметром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то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H*A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=BH*B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следовательно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H=BH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=B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а значит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C=B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аналогично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BC=A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следовательно треугольник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виль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6" descr="bn"/>
          <p:cNvPicPr/>
          <p:nvPr/>
        </p:nvPicPr>
        <p:blipFill>
          <a:blip r:embed="rId1"/>
          <a:stretch/>
        </p:blipFill>
        <p:spPr>
          <a:xfrm>
            <a:off x="4500720" y="4005360"/>
            <a:ext cx="30240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719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Comic Sans MS"/>
              </a:rPr>
              <a:t>Если выполняется равенство а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=b +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=c+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Comic Sans MS"/>
              </a:rPr>
              <a:t>c</a:t>
            </a:r>
            <a:r>
              <a:rPr b="0" lang="ru-RU" sz="3200" spc="-1" strike="noStrike">
                <a:solidFill>
                  <a:srgbClr val="ffffcc"/>
                </a:solidFill>
                <a:latin typeface="Comic Sans MS"/>
              </a:rPr>
              <a:t>,то треугольник правиль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826920" y="191628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95280" y="2205000"/>
            <a:ext cx="82090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положи, что треугольник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ВС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равильный; например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ак как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+ h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=a+ b sin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+ h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=b+ a sin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т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-b)(1- sin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)=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этому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n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=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т.е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=90</a:t>
            </a:r>
            <a:r>
              <a:rPr b="1" i="1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о тогда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аналогично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=90</a:t>
            </a:r>
            <a:r>
              <a:rPr b="1" i="1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получено противореч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468360" y="40464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84360" y="11592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Comic Sans MS"/>
              </a:rPr>
              <a:t>Если в треугольник АВС вписаны три квадрата, и у одного две вершины  лежат на стороне 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b</a:t>
            </a:r>
            <a:r>
              <a:rPr b="0" lang="ru-RU" sz="2400" spc="-1" strike="noStrike">
                <a:solidFill>
                  <a:srgbClr val="ffffcc"/>
                </a:solidFill>
                <a:latin typeface="Comic Sans MS"/>
              </a:rPr>
              <a:t>, у другого на стороне 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ffffcc"/>
                </a:solidFill>
                <a:latin typeface="Comic Sans MS"/>
              </a:rPr>
              <a:t>, у третьего на стороне 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c</a:t>
            </a:r>
            <a:r>
              <a:rPr b="0" lang="ru-RU" sz="2400" spc="-1" strike="noStrike">
                <a:solidFill>
                  <a:srgbClr val="ffffcc"/>
                </a:solidFill>
                <a:latin typeface="Comic Sans MS"/>
              </a:rPr>
              <a:t>, то все три квадрата равны, тогда треугольник АВС прави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611280" y="2421000"/>
            <a:ext cx="806436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значим сторону квадрата, две вершины которого лежат на сторон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чере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 подобия треугольнико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BC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Q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вершины квадрата, лежащие 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лучаем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=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.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=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огичные рассуждения для других квадратов показывают, что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+ h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=b+ h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=c+ h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7380360" y="3500280"/>
                <a:ext cx="306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7885080" y="3573360"/>
                <a:ext cx="9367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2"/>
              <p:cNvSpPr txBox="1"/>
              <p:nvPr/>
            </p:nvSpPr>
            <p:spPr>
              <a:xfrm>
                <a:off x="5219640" y="3932280"/>
                <a:ext cx="1657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2:08:08Z</dcterms:created>
  <dc:creator> </dc:creator>
  <dc:description/>
  <dc:language>en-US</dc:language>
  <cp:lastModifiedBy>Sanya</cp:lastModifiedBy>
  <dcterms:modified xsi:type="dcterms:W3CDTF">2009-01-30T05:53:28Z</dcterms:modified>
  <cp:revision>15</cp:revision>
  <dc:subject/>
  <dc:title>Слайд 1</dc:title>
</cp:coreProperties>
</file>