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7A6-CA74-4584-91A1-7775A4C7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6AE-9B0F-4900-8F8C-1167CC9D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D89-CCFB-41AC-8D9F-51D67E6B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837-A6E7-4ABC-985F-AA4C7B65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7118-090F-4B08-ADC4-BF163BB3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932-5A8C-4C01-9E61-05FC6B6E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9C27-434B-4658-992E-433C565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0DE3-3D99-4924-9C9A-52831FD0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00B9-1C4B-4D29-A6BA-4E15208A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17D-747E-4756-8F0E-2FBD9AF1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757E-5297-4A11-9AA5-B7882B75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F99-02A5-42A1-90AF-4EBA453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7A51-E1A6-4EC0-A219-1856D17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CB01-00FC-4B24-B327-D9623A56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E0DB-3011-46F2-84A5-F0B1A760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B8C5-1230-4038-8B5C-6FEA19EC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9171-8D82-4126-932A-BBE2CB9D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61C-AF9D-4723-99AE-022E3132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376-B9AF-4E9E-97F2-0E9382BD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728-3623-401D-8166-F5FF801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AAC-1160-4950-99AE-C8D0EC2E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707-2174-4DA4-A19E-E91D05EE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07E-B908-4F27-806D-5F09921B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19A-7F43-42A9-AFD3-15B484B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72A4-5F67-4A31-ABDD-4ADC04EF3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8CE6-FA0B-4299-9E63-3EF56CB73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teach.ru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“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Сумма углов треугольника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Карташова Юлия. 9Б класс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Четвертый способ доказательства теоремы о сумме углов треугольни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глы 1 и 4 равны (как соответственные), углы 2 и 6 равны (как соответственные), углы 3 и 5равны (как соответственные). Сумма углов 1, 2, 3 равна сумме углов 4, 5, 6. Так как сумма углов 4, 5, 6 равна 18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то и сумма углов 1, 2, 3 равна 18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2276640"/>
            <a:ext cx="1368360" cy="28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3141720"/>
            <a:ext cx="3095640" cy="20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157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20480" y="351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14160" y="3278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324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3240" y="40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6520" y="4646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7000" y="4791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692360" y="3716280"/>
            <a:ext cx="141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763640" y="3645000"/>
            <a:ext cx="28800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692360" y="3573360"/>
            <a:ext cx="285120" cy="1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64000" y="3716280"/>
            <a:ext cx="4312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8000" y="3645000"/>
            <a:ext cx="72000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3573360"/>
            <a:ext cx="86328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052720" y="3933360"/>
            <a:ext cx="14256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980000" y="3860280"/>
            <a:ext cx="288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720" y="5013360"/>
            <a:ext cx="43056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2720" y="4869000"/>
            <a:ext cx="86328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9080" y="4941720"/>
            <a:ext cx="573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708360" y="5013360"/>
            <a:ext cx="14256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Вывод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умма углов треугольника различного вида равна 18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67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2. Лабораторный мето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спользуя данный метод , было найдено два пути для подтверждения выдвинутой гипотез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Первый способ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76360" y="980640"/>
            <a:ext cx="56163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орему о сумме углов треугольника можно доказать с помощью листа бума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Для этого необходимо всего лишь вырезать из листа бумаги треугольн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Отогнем один угол треугольника так, чтобы он касался противоположной стороны, и линия сгиба была параллельна данной сторон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Второй угол треугольника отогнем так, чтобы он соприкасался с первым уг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Аналогично отогнем третий угол треугольника. Все углы сошлись в одной точке и образуют развернутый угол, что составляет 18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80" y="14130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37080" y="24210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278136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186920" y="278136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342900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84360" y="2781360"/>
            <a:ext cx="432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342900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68000" y="907920"/>
            <a:ext cx="718920" cy="122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13372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907920"/>
            <a:ext cx="792360" cy="122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2781360"/>
            <a:ext cx="50328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050920" y="2781360"/>
            <a:ext cx="4334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0" y="3789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39640" y="4292640"/>
            <a:ext cx="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292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4292640"/>
            <a:ext cx="5032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501336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4292640"/>
            <a:ext cx="432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971280" y="4292640"/>
            <a:ext cx="36036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365720"/>
            <a:ext cx="432000" cy="647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501336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88200" y="52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5373720"/>
            <a:ext cx="64764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124000" y="5373720"/>
            <a:ext cx="71928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537372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6237360"/>
            <a:ext cx="144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843280" y="537336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37372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03280" y="5373720"/>
            <a:ext cx="720720" cy="79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623736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24000" y="6237360"/>
            <a:ext cx="719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124000" y="5373360"/>
            <a:ext cx="719280" cy="863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03280" y="630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8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Второй способ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Для данного доказательства вырежем из бумаги треугольник любого вид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Разрежем бумажный треугольник по намеченным лини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Сложим разрезанные  части так, чтобы все углы треугольника сошлись в одной точке и образовали развернутый угол, что составляет 18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55640" y="1413000"/>
            <a:ext cx="64764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1413000"/>
            <a:ext cx="216072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8920" y="14270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3280" y="30844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55640" y="2997360"/>
            <a:ext cx="64764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2997360"/>
            <a:ext cx="216072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400536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2880" y="3542760"/>
            <a:ext cx="713880" cy="491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763640" y="3357720"/>
            <a:ext cx="432000" cy="57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2205000"/>
            <a:ext cx="142920" cy="2160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15" y="11"/>
                  <a:pt x="30" y="22"/>
                  <a:pt x="45" y="45"/>
                </a:cubicBezTo>
                <a:cubicBezTo>
                  <a:pt x="60" y="68"/>
                  <a:pt x="83" y="121"/>
                  <a:pt x="90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60120" y="2003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8920" y="1484280"/>
            <a:ext cx="360360" cy="168480"/>
          </a:xfrm>
          <a:custGeom>
            <a:avLst/>
            <a:gdLst/>
            <a:ahLst/>
            <a:rect l="l" t="t" r="r" b="b"/>
            <a:pathLst>
              <a:path w="227" h="106">
                <a:moveTo>
                  <a:pt x="0" y="91"/>
                </a:moveTo>
                <a:cubicBezTo>
                  <a:pt x="26" y="98"/>
                  <a:pt x="53" y="106"/>
                  <a:pt x="91" y="91"/>
                </a:cubicBezTo>
                <a:cubicBezTo>
                  <a:pt x="129" y="76"/>
                  <a:pt x="178" y="38"/>
                  <a:pt x="22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332000" y="1483920"/>
            <a:ext cx="14436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20480" y="157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059280" y="2205000"/>
            <a:ext cx="72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131640" y="227664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3280" y="2276640"/>
            <a:ext cx="730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88840" y="207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628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41000" y="306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936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3280" y="43797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573408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557000" y="537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88640" y="530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65000" y="537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050920" y="5157360"/>
            <a:ext cx="12258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5157720"/>
            <a:ext cx="358560" cy="5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1692360" y="5229360"/>
            <a:ext cx="358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26920" y="5229360"/>
            <a:ext cx="865440" cy="50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92360" y="4652640"/>
            <a:ext cx="503280" cy="5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95640" y="465300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Я убедилась в том, что сумма углов треугольника любого вида равна 18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3. Аналитический метод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347640" y="1052640"/>
            <a:ext cx="5545080" cy="49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ема о сумме углов треугольника была известна пифагорейцам, по крайней мере для равносторонних треугольников. Они выводили ее из того факта, что плоскость можно покрыть (замостить) равными  равносторонними треугольниками без пробелов и перекрытий. Это верно и для треугольников произвольной формы. В любом узле образующейся треугольной сетки сходится 6 углов, среди которых каждый угол треугольника встречается ровно 2 раза. Т.о., сумма всех этих 6 углов, т. е. удвоенная сумма углов треугольника, равна полному углу- 3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095640" cy="2665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348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умма углов треугольника равна 18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и не зависит от вида треугольни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бщий вывод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езультате исследования я нашла подтверждение гипотезы и ответила на проблемные вопрос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казала теорему о сумме углов треугольника, используя различные мет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 определила, что сумма углов треугольника не зависит от вида треуголь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Литература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«Геометрия 7-9»Л. С. Атанасян, В.Ф.Бутузов, С. В.Кадомцев и др.-13 издание-М: Просвещение,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«Геометрия 7-9». А. В. Погорелов. М. Просвещение, 2002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«Геометрия» А.П.Киселев изд. 11-е, М, 195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«Энциклопедия для детей» т.11.Математика. Главный редактор М. Д. Аксенова. -М.: Аванта +,199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нтернет-ресур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iteach.r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Тема  исследовани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1828440"/>
            <a:ext cx="6369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нообразные способы доказательства теоремы о сумме  углов треуголь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Цель исследовани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йти разнообразные способы доказательства теоремы о сумме углов треугольника, опираясь на различные мет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Задачи исследовани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Доказать теорему о сумме углов треугольника, используя различный теоретический матери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Установить: зависит ли сумма углов треугольника  от вида уг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Гипотез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ма углов треугольника не зависит от вида                  треуголь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Методы исследовани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теоретиче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лаборато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аналитиче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1.Теоретический метод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 повторила следующие вопросы теор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Треугольн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Признак параллельности прям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Углы, образованные при пересечении двух прямых секущ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Свойство углов, образованных при пересечении параллельных прямых секущ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Соответственные уг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Я изучила новые вопросы теории по теме и  нашла 4 способа доказательства теоремы о сумме углов треугольника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Первый способ доказательства  теоремы о сумме углов треугольника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19640" y="2057040"/>
            <a:ext cx="5262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смотрим∆ АВС. Проведем через вершину В прямую, параллельную прямой АС. Отметим на ней точку Д так, чтобы точки А 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лежали по разные стороны от прямой  ВС. Углы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 и АСВ  равны (как внутренние накрест лежащие, образованные секущей ВС с параллельными прямыми АС и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Сумма углов треугольника при вершинах В и С равна углу А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а сумма всех трех углов треугольника  равна сумме углов А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ВАС(эти углы внутренние односторонние для параллельных прямых АС и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екущей АВ). Т.о. сумма углов треугольника равна 18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78136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6560" y="4221000"/>
            <a:ext cx="295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4000" y="2781360"/>
            <a:ext cx="93492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2781360"/>
            <a:ext cx="129708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781360"/>
            <a:ext cx="215640" cy="2160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5" y="11"/>
                  <a:pt x="114" y="22"/>
                  <a:pt x="91" y="45"/>
                </a:cubicBezTo>
                <a:cubicBezTo>
                  <a:pt x="68" y="68"/>
                  <a:pt x="15" y="121"/>
                  <a:pt x="0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0"/>
                </a:moveTo>
                <a:cubicBezTo>
                  <a:pt x="102" y="30"/>
                  <a:pt x="69" y="60"/>
                  <a:pt x="46" y="90"/>
                </a:cubicBezTo>
                <a:cubicBezTo>
                  <a:pt x="23" y="120"/>
                  <a:pt x="11" y="150"/>
                  <a:pt x="0" y="18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11920" y="2205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9720" y="22050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270828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270828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1497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41497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5360" y="4221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4221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Второй способ доказательства теоремы о сумме углов треугольни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4686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ведем через вершину В прямую а, параллельную стороне АС. Угол 1 равен углу4(как накрест лежащие углы при пересечении параллельных прямых а и АС секущей АВ). Угол 3 равен углу5 (как накрест лежащие углы при пересечении тех же параллельных прямых секущей ВС). Очевидно, что сумма углов 4,2,5 равна развернутому углу с вершиной 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781360"/>
            <a:ext cx="28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4869000"/>
            <a:ext cx="26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2781360"/>
            <a:ext cx="432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797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2240" y="47800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16840" y="218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39360" y="2187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278136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52280" y="2846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01560" y="4379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0156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 rot="1509600">
            <a:off x="2294280" y="2882520"/>
            <a:ext cx="43128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411280" y="2994840"/>
            <a:ext cx="57744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411280" y="3069720"/>
            <a:ext cx="57744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71640" y="465300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627280" y="4508640"/>
            <a:ext cx="720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258560" y="2781360"/>
            <a:ext cx="136836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3800" y="4581360"/>
            <a:ext cx="28512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57800" y="2564640"/>
            <a:ext cx="2851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84720" y="2493360"/>
            <a:ext cx="43128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40000" y="256464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Третий способ доказательства теоремы о сумме углов треугольника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40000" y="1557000"/>
            <a:ext cx="439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сть АВС- какой-нибудь треугольник. Продолжив сторону АС и проведя С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АВ, найдем, что угол А равен углу Е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как соответственные углы при параллельных прямых). Угол В равен углу ВСЕ (как углы накрест лежащие при параллельных прямых).Т.о. сумма углов А, В, С равна  сумме углов Е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,ВСЕ, С и равна 18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422100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924280"/>
            <a:ext cx="273672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492360" y="2276280"/>
            <a:ext cx="0" cy="19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55640" y="2276280"/>
            <a:ext cx="0" cy="19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6120" y="4292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3760" y="2708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7360" y="4221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30120" y="4221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3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400536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0" y="0"/>
                </a:moveTo>
                <a:cubicBezTo>
                  <a:pt x="34" y="11"/>
                  <a:pt x="68" y="22"/>
                  <a:pt x="91" y="45"/>
                </a:cubicBezTo>
                <a:cubicBezTo>
                  <a:pt x="114" y="68"/>
                  <a:pt x="129" y="113"/>
                  <a:pt x="136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11640" y="2852280"/>
            <a:ext cx="288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059280" y="4076640"/>
            <a:ext cx="144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16360" y="4005360"/>
            <a:ext cx="2851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771640" y="3933720"/>
            <a:ext cx="2887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4005360"/>
            <a:ext cx="43056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03640" y="3933720"/>
            <a:ext cx="57672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00536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40000" y="2781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9:45Z</dcterms:created>
  <dc:creator>ученик</dc:creator>
  <dc:description/>
  <dc:language>en-US</dc:language>
  <cp:lastModifiedBy>Юля</cp:lastModifiedBy>
  <dcterms:modified xsi:type="dcterms:W3CDTF">2009-01-20T18:59:50Z</dcterms:modified>
  <cp:revision>35</cp:revision>
  <dc:subject/>
  <dc:title>Тема  исследования</dc:title>
</cp:coreProperties>
</file>