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E3C-3BAC-4AC2-8363-5B29335A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644-0D95-4534-8DA9-366BF67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6A7-74B8-4C27-B2CD-54A49FE5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1B6-F4F5-4504-8274-3B8D200C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B82-7491-4585-A743-4078843F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62D-0932-41C5-B647-D3C9D7F6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0E0-D815-4C1F-BC6D-A8913744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DA6-54EE-4D2C-ACBF-25BAF01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815-F378-44CB-916C-C6F1E7F1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D43-FDD1-4CC2-B6E6-C1EE2715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22F-F772-4A52-8BF9-B2E038F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C92-653A-420A-8B79-BF0B7372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20FA-2899-4CA9-9AD3-DFF5B2406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Документы\Для школы\2008\География\вязьма\kupanie.jpg"/>
          <p:cNvPicPr/>
          <p:nvPr/>
        </p:nvPicPr>
        <p:blipFill>
          <a:blip r:embed="rId1"/>
          <a:srcRect l="3581" t="0" r="4376" b="0"/>
          <a:stretch/>
        </p:blipFill>
        <p:spPr>
          <a:xfrm>
            <a:off x="-144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701640" y="255600"/>
            <a:ext cx="7120080" cy="1933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D:\Документы\Для школы\2008\География\рудня\i9.JPG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Документы\Для школы\2008\География\сычевка\24986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D:\Документы\Для школы\2008\География\вязьма\2684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Документы\Для школы\2008\География\вязьма\1555652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Документы\Для школы\2008\География\вязьма\P10202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Документы\Для школы\2008\География\гагарин\P210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Документы\Для школы\2008\География\гагарин\P2120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Документы\Для школы\2008\География\демидов\447aaaa79bf1.jpg"/>
          <p:cNvPicPr/>
          <p:nvPr/>
        </p:nvPicPr>
        <p:blipFill>
          <a:blip r:embed="rId1"/>
          <a:srcRect l="0" t="0" r="1417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Документы\Для школы\2008\География\духовщина\pic2003.03.25_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Документы\Для школы\2008\География\ельня\a9edf8f45234.jpg"/>
          <p:cNvPicPr/>
          <p:nvPr/>
        </p:nvPicPr>
        <p:blipFill>
          <a:blip r:embed="rId1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Документы\Для школы\2008\География\ельня\img_0240.jpg"/>
          <p:cNvPicPr/>
          <p:nvPr/>
        </p:nvPicPr>
        <p:blipFill>
          <a:blip r:embed="rId2"/>
          <a:srcRect l="9449" t="0" r="0" b="0"/>
          <a:stretch/>
        </p:blipFill>
        <p:spPr>
          <a:xfrm>
            <a:off x="4486320" y="0"/>
            <a:ext cx="4657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2:26Z</dcterms:created>
  <dc:creator>Антон</dc:creator>
  <dc:description/>
  <dc:language>en-US</dc:language>
  <cp:lastModifiedBy>Антон</cp:lastModifiedBy>
  <dcterms:modified xsi:type="dcterms:W3CDTF">2009-01-25T20:13:57Z</dcterms:modified>
  <cp:revision>3</cp:revision>
  <dc:subject/>
  <dc:title>Слайд 1</dc:title>
</cp:coreProperties>
</file>