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5B1-93E1-4094-870A-E63A7634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0FF-A780-4A40-B509-834466E8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EFA-0464-4F52-A9D3-3D8EB268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CAF-7985-468F-8990-47B95AA5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442-1ACB-489D-A728-2CCF2984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5C4-6247-401C-B111-B2D94EC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BED-728B-4CD3-84DF-947068BF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A4E-EACD-4C3E-AE63-8D0B32B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AA6-393A-406D-884B-FEA9E785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06F-2839-4D7F-AB40-7EE0996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17C-053E-4668-BD9E-4936171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D23-B30C-44EB-9EB6-9CDB89B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087-362A-41AB-B2F2-6A8036562E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Multimedia\Фотки\Раньше\Школа\FOTO Smolensk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712880" y="1133640"/>
            <a:ext cx="585144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Multimedia\Фотки\Раньше\Школа\FOTO Smolensk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560520" y="396720"/>
            <a:ext cx="8119800" cy="1938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Multimedia\Фотки\Раньше\Школа\FOTO Smolensk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Multimedia\Фотки\Раньше\Школа\FOTO Smolensk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Multimedia\Фотки\Раньше\Школа\FOTO Smolensk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4541760"/>
            <a:ext cx="8053560" cy="1932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Multimedia\Фотки\Раньше\Школа\FOTO Smolensk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2"/>
          <a:stretch/>
        </p:blipFill>
        <p:spPr>
          <a:xfrm>
            <a:off x="1414440" y="4254480"/>
            <a:ext cx="6357960" cy="19335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Multimedia\Фотки\Раньше\Школа\FOTO Smolensk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1255680" y="542880"/>
            <a:ext cx="6784920" cy="27608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4:59Z</dcterms:created>
  <dc:creator>Антон</dc:creator>
  <dc:description/>
  <dc:language>en-US</dc:language>
  <cp:lastModifiedBy>Антон</cp:lastModifiedBy>
  <dcterms:modified xsi:type="dcterms:W3CDTF">2009-01-25T19:00:06Z</dcterms:modified>
  <cp:revision>8</cp:revision>
  <dc:subject/>
  <dc:title>Слайд 1</dc:title>
</cp:coreProperties>
</file>