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0AF-BBC2-4264-9A67-AD15EAC7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DF7-2B0D-442F-A993-560E8ACF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949-F283-4B6C-ABA2-560BB834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D0D-445E-4999-B21C-62EBBB97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161-6201-4E0D-82BA-14D9F32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8B1-0FB2-48E9-9426-761E021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47F-1BFA-4896-BA9A-9593F69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C38-5187-4C3E-A3DC-E627F4E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264-431D-4830-85A7-FE19E74D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E5F-D76C-433C-848D-291C1F5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D56-0D65-4C4D-B432-8D6BE8D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67B-0961-4B65-A6D6-672F345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A5B-30C2-40FD-B6E9-73BD2E7C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image" Target="../media/image16.jpeg"/><Relationship Id="rId6" Type="http://schemas.openxmlformats.org/officeDocument/2006/relationships/slide" Target="slide14.xml"/><Relationship Id="rId7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484360" y="836640"/>
            <a:ext cx="4368960" cy="504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0000">
                <a:alpha val="50000"/>
              </a:srgbClr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1476360" y="5877000"/>
            <a:ext cx="6840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Елизавета I Петровна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(1709-1761)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189000"/>
            <a:ext cx="7921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248000" cy="2446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ЕРЕВОРОТ 1741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5616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24 ноября 1741 го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есток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ился к Елизавете и показал ей два сделанных им карандашных рисунка: на одном цесаревна с короной на голове; на другом –в монашеской рясе среди орудий казни. Надо было выбирать, и Елизавета  выбрала опасный путь к кор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очь с 24 на 25 ноября 1741 года успешный дворцовый переворот привел на престол Елизавету Петров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Началось новое царствование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5867280" y="981000"/>
            <a:ext cx="266400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8459640" y="6453360"/>
            <a:ext cx="505080" cy="404640"/>
          </a:xfrm>
          <a:custGeom>
            <a:avLst/>
            <a:gdLst>
              <a:gd name="textAreaLeft" fmla="*/ 67680 w 505080"/>
              <a:gd name="textAreaRight" fmla="*/ 437400 w 50508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404640"/>
            <a:ext cx="4248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Цар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5040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зглашен курс на возврат к наследию Петра Великого, восстановлена роль Сената и некоторых других центральных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це 1740-х  был осуществлен ряд серьезных преобразований, важнейшим из которых стала отмена в 1754 внутренних тамож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аны первые русские банки — Дворянский, Купеческий и Медны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уществлена реформа налогооб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754 была создана новая комиссия для составления У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2480" y="334080"/>
            <a:ext cx="423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Century"/>
              </a:rPr>
              <a:t>Во дщери Петр опять на трон взоше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Century"/>
              </a:rPr>
              <a:t>В Елизавете все свои дела наше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Century"/>
              </a:rPr>
              <a:t>(А.П. Сумаро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370320" cy="3744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93236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858920" y="620280"/>
            <a:ext cx="403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Внешняя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Елизавете  Россия вновь начала проводить активную внешнюю полит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о её царствования совпало с русско-шведской войной 1741-1743 г.г., которая оказалась для России удачной: к ней отошла часть Фин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756 г. Россия вступила в Семилетнюю вой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ская армия одержала ряд серьезных побед, оккупировала Восточную Пруссию и даже (на короткое время) Бер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Успешно завершить разгром прусской армии помешала смерть Елиза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Еще раз о Елизавете Пет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917880" cy="540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Особенно значимы были успехи в </a:t>
            </a:r>
            <a:r>
              <a:rPr b="1" i="1" lang="en-US" sz="2000" spc="-1" strike="noStrike">
                <a:solidFill>
                  <a:srgbClr val="663300"/>
                </a:solidFill>
                <a:latin typeface="Century"/>
              </a:rPr>
              <a:t>области культуры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. В1755 году по инициативе и непосредственном участ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entury"/>
                <a:hlinkClick r:id="rId3" action="ppaction://hlinksldjump"/>
              </a:rPr>
              <a:t>И.И. Шувало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entury"/>
                <a:hlinkClick r:id="rId4" action="ppaction://hlinksldjump"/>
              </a:rPr>
              <a:t>М.В. Ломо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был основан Московский университет (1755), гимназии в Москве (1755) и Казани (1758), Академия художеств в Петербурге (1760), в 1756 году по инициативе Ф.Г. Волкова и А.П. Сумарокова открыт первый публичный театр, созданы шедевры живописи и архитектуры (в частности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entury"/>
                <a:hlinkClick r:id="rId5" action="ppaction://hlinksldjump"/>
              </a:rPr>
              <a:t>Зимний дворец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Ф.Б. Растрел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 Елизавете Петровне – поэтесс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2920" y="3573360"/>
            <a:ext cx="424836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лишь один  маленький отрывок из стихотвор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 К родни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Я не въ своей мо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гнь утушить.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 Сердцемъ я бол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а чемъ пособить?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 Что всегда разлучно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  И безъ тебя скучно!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  Легче бъ тя не знати, 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  Нежель такъ страдати</a:t>
            </a:r>
            <a:br>
              <a:rPr sz="2000"/>
            </a:b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                 Всегда по тебе !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" y="1844280"/>
            <a:ext cx="36687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изавета сама обладала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многими таланта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ездила верхом (за 48 часов преодолевала пространство от Петербурга в Москву); танцевала; как и ее отец, Петр Великий, прекрасно пела; сочиняла стихи и песни, увлекалась театром. С легкой руки молодой императрицы к нам завезли гитару и арф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" descr=" / Императрица Елизавета Петровна в Царском селе. Е.Б. Лансере"/>
          <p:cNvPicPr/>
          <p:nvPr/>
        </p:nvPicPr>
        <p:blipFill>
          <a:blip r:embed="rId2"/>
          <a:stretch/>
        </p:blipFill>
        <p:spPr>
          <a:xfrm>
            <a:off x="4788000" y="981000"/>
            <a:ext cx="3673440" cy="259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Monotype Corsiva"/>
              </a:rPr>
              <a:t>В</a:t>
            </a: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АЛЕКСАНДРОВОЙ</a:t>
            </a: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Monotype Corsiva"/>
              </a:rPr>
              <a:t>СЛОБ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306864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нова зори над Русью встают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ыхали они при Петре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овьи те же песни поют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авя жизнь и любовь на Земле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яча страх в монастырских стенах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жалея ни времени, сил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Юный царь на Немецких горах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есь в атаку  „ потешных ” водил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 же тут суждено было ей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н монашки? А может быть яд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нь и ночь неусыпно за не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уги Анны -  царицы следя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9280" y="328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отой, гордой статью слыл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ражала мужчин наповал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, монашкой она не была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вот Шубин судьбой ее стал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и строки читаю я вновь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и чувства на все времен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этессу родила любовь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Руси стала первой она…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ышит древностью наша земля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саревна…князья…и цари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все так же примята трав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все те же поют соловь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 Елизавета Пет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4465800" cy="236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 rot="10800000">
            <a:off x="5650920" y="5444280"/>
            <a:ext cx="3097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504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С 1757 года Елизавету стали преследовать тяжелые истерические припад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ее мучила астма и эпилепсия, доставшаяся ей от отца. Она то и дело лишалась чув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гда непоседливая и общительная, она теперь пребывала в глубочайше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ота ее быстро разрушалась, и это более всего удручало. Врачи объявили, что положение императрицы безнаде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изавет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ведовалась и причастил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рть наступила 25 декабря 1761 (5 января 1762) года на 53 году ее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рестол взошел её племянник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т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ерцога Шлезвиг-Голштинского Карла Петра Ульриха, известного под именем Пет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Фёдорови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3349440" cy="4176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16000" y="764640"/>
            <a:ext cx="40388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изавету хоронили в Петропавловском соборе уже в новом 176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было как всегда на царских похоронах - многолюдно, утомительно и красиво. Даже в гробу Елизавета оставалась кокет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исала Екатерина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в гробу государыня лежала, одетая в серебряной робе с кружевными рукавами, имея на голове императорскую корону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0" b="3236"/>
          <a:stretch/>
        </p:blipFill>
        <p:spPr>
          <a:xfrm>
            <a:off x="611280" y="1484280"/>
            <a:ext cx="3457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4319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Период царствования Елизаветы — период роскоши и излишеств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дворе регулярно проводились бал-маск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 Елизавета Петровна задавала тон и была законодательницей м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313080" cy="3052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384720" cy="3141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782000">
            <a:off x="4062240" y="4504320"/>
            <a:ext cx="5059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Гардероб императрицы насчиты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до 12 тысяч плат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Роль в истори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80000" y="764640"/>
            <a:ext cx="5040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брачная дочь Петра I совершила государственный переворот и узурпировала власть, на которую не имела никаких прав. Добрая, хотя и вспыльчивая, веселая и сентиментальная, Елизавета Петровна оставила о себе в общем светлую пам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завета не раз провозглашала, что продолжает политику Петра Великого. Двадцать лет ее царствования стали временем экономической и политической стабилизации и укрепления позиций России на международной аре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было время развития искусств и наук. Ученые труды и оды Ломоносова, трагедии Сумарокова, творения Растрелли ознаменовали начало расцвета русской культуры середины XVIII-первой четверти XIX в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27168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Цель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  полный таинств и секре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, который  и до настоящего времени остается загадкой для нас люде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X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ять, глубже разобраться в далеком от нас веке решила я работа над темой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сторический портрет Елизаветы Петров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кая она дочь Петра Великого и Екатерины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Алексеев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"/>
              </a:rPr>
              <a:t>Творческая работа ученицы 8 класса Фоминой Юлии Сергеев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"/>
              </a:rPr>
              <a:t>МОУ «Средняя общеобразовательная школа № 19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"/>
              </a:rPr>
              <a:t>город Яровое, Алтайск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46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и правлении Елизаветы Россия пришла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правлении Елизаветы отзывались по 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.М.Карамзин «Россия пришла в себя. На высших местах управления снова явились русские люд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.Ф.Платонов « Были люди, которые с осуждением вспоминали ее время и ее поряд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ледовав от отца уменье выбирать и сохранять способных людей, она призвала к деятельности новое поколение русских людей, знаменитых при ней и после неё и умела примирять их деятельность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803760" cy="5030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бы  я принимала участие в проекте «Имя России», то представляла бы Елизавет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етровну. Так как, двадцать лет ее царствования стали временем экономической и политической стабилизации и укрепления позиций России на международной арене. В стране наблюдался подъем промышленности и торговли, шел медленный, но постоянный прогресс. Особенно значимы были успехи в области культ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оцарением в 1741 г. 32-летней Елизаветы Петровны возродилась линия Петра Первого. Под елизаветинским крылом нашлось место для выдающихся государственных деятелей, людей прогрессивно мыслящих, которые реально участвовали в управлении страной и проводили в жизнь свои замысл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Современники Елиза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4365360"/>
            <a:ext cx="4140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Century"/>
              </a:rPr>
              <a:t>Бестужев-Рюми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93300"/>
                </a:solidFill>
                <a:latin typeface="Century"/>
              </a:rPr>
              <a:t>Алекс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993300"/>
                </a:solidFill>
                <a:latin typeface="Century"/>
              </a:rPr>
              <a:t>Петрович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государственный деятель и дипломат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(1693-1766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После воцарения Елизаветы Петровны Бестужев-Рюмин стал вице-канцлером и сенат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34612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1197000"/>
            <a:ext cx="2424240" cy="309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 rot="10800000">
            <a:off x="5217840" y="4292280"/>
            <a:ext cx="3925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Century"/>
              </a:rPr>
              <a:t>Разумовский Алексей Григорьевич</a:t>
            </a:r>
            <a:r>
              <a:rPr b="0" lang="en-US" sz="1600" spc="-1" strike="noStrike">
                <a:solidFill>
                  <a:srgbClr val="993300"/>
                </a:solidFill>
                <a:latin typeface="Centur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фаворит императрицы Елизаветы Петровны, выходец из украинских реестровых казаков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(1709-1771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В 1742 году Разумовский стал морганатическим супругом Елизаветы Петро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1341360"/>
            <a:ext cx="3006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Century"/>
              </a:rPr>
              <a:t>Лесток Иоганн-Герман</a:t>
            </a:r>
            <a:r>
              <a:rPr b="0" lang="en-US" sz="1600" spc="-1" strike="noStrike">
                <a:solidFill>
                  <a:srgbClr val="993300"/>
                </a:solidFill>
                <a:latin typeface="Centur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граф, русский государственный деятель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(1692-1767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 По восшествии Елизаветы Петровны на престол Лесток стал одним из самых доверенных и приближенных к императрице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459640" y="6308640"/>
            <a:ext cx="433440" cy="358920"/>
          </a:xfrm>
          <a:custGeom>
            <a:avLst/>
            <a:gdLst>
              <a:gd name="textAreaLeft" fmla="*/ 57960 w 433440"/>
              <a:gd name="textAreaRight" fmla="*/ 375480 w 433440"/>
              <a:gd name="textAreaTop" fmla="*/ 62640 h 358920"/>
              <a:gd name="textAreaBottom" fmla="*/ 26028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2314440" cy="3095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234000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342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Century"/>
              </a:rPr>
              <a:t>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357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00"/>
                </a:solidFill>
                <a:latin typeface="Century"/>
              </a:rPr>
              <a:t>И.И.Шув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35772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933720"/>
            <a:ext cx="32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М.В. Ломоносов – первый русский ученый – естествоиспытатель мирового значения ,поэт, художник, историк, поборник отечественного просвещения, развития русской науки, культуры и экономики.</a:t>
            </a:r>
            <a:r>
              <a:rPr b="0" i="1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860640"/>
            <a:ext cx="316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Иван Шувалов прославился как один из организаторов Академии художеств Московского университета. Елизавета Петровна подписала указ о создании университета в Первопрестольной в день именин Татьяны Семеновны Шуваловой – матери своего фавор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>
            <a:off x="8459640" y="6308640"/>
            <a:ext cx="433440" cy="358920"/>
          </a:xfrm>
          <a:custGeom>
            <a:avLst/>
            <a:gdLst>
              <a:gd name="textAreaLeft" fmla="*/ 57960 w 433440"/>
              <a:gd name="textAreaRight" fmla="*/ 375480 w 433440"/>
              <a:gd name="textAreaTop" fmla="*/ 62640 h 358920"/>
              <a:gd name="textAreaBottom" fmla="*/ 26028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И.А.Заичкин, И.Н.Почкаев. Русская Истор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популярный очерк. Москва. Мысыль.199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Всемирная История энциклопедия В 14 то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том 3 ОЛМП медиагрупп Москва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А.И. Кулюгин Правители России Москва 200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ЗАО «Фирма СТД», ЗАО «Славянский дом книг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Энциклопедия «История России. 862 – 1917 г.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Интернет – ресурсы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6272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72360" y="765000"/>
            <a:ext cx="2438280" cy="316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6897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УТЬ К ПРЕСТО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2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18 декабря 1709 год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лась Елизавета Петров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день Пет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ржест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ъезжал в Москву с пленё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Полтавой шве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второй жены Екатерин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ётр имел девять детей , 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нолетия достиг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две дочери Анна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лиза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76800" y="765000"/>
            <a:ext cx="3967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Детство и ю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лизавета провела в подмосковных  селах Преображенском и Измайловском, благодаря чему Москва и ее окрестности остались ей близкими на вс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изавета с сестрами очень редко видели отца, участвовавшего в непрерывных походах. Когда к мужу уезжала Екатерина, дети переходили под опеку сестры Петра Натальи Алексеевны, или семьи Меншиков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8000" y="620640"/>
            <a:ext cx="3225600" cy="3673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4038840" cy="3084480"/>
          </a:xfrm>
          <a:prstGeom prst="rect">
            <a:avLst/>
          </a:prstGeom>
          <a:ln w="0">
            <a:noFill/>
          </a:ln>
          <a:effectLst>
            <a:outerShdw dist="16189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809280"/>
            <a:ext cx="489744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Воспитание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Её учили: танцам, музыке, умению одеваться, этике и иностранным языкам. Особое внимание уделялось французскому языку, и Елизавета знала его в совершен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изавета была хорошо образованной женщиной своего времени. Это не омрачают даже такие факты как ее слабое правописание, и просто невероятное свидетельство князя Щербатова о том, что уже будучи  императрицей Елизавета не знала, что Великобритания есть остр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86400" cy="468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392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лизавета Петровна была «умной и доброй, но беспорядочной и своенравной русской барыней», соединявшей «новые европейские веяния» с «благочестивой отечественной старин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.О.Ключев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9280" y="3789000"/>
            <a:ext cx="403848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и представителей эпохи непрерывных дворцовых переворотов Елизавета способна олицетворять стремление правящих кругов к стабильности как внутри, так и вне Российской имп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456000" cy="3359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2924280" cy="352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6000" y="2133720"/>
            <a:ext cx="4788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ая, приветливая, крупная 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йная, удивительный цвет лица, пламенные глаза,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ершенные линии губ, белейшая ш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к этому добавить высокий рост, стройный стан, умение танцевать, ездить верхом, быть приятным собеседником, то становится ясно, почему у нее от поклонников не было отбоя.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3949560" cy="4752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521280"/>
            <a:ext cx="44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Все современники Елизаветы         Петровны сходились во мнении, что Цесаревна была прекрасна:</a:t>
            </a:r>
            <a:r>
              <a:rPr b="0" i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836640"/>
            <a:ext cx="8424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5400720" cy="3029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07664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33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Добродушная цесаревна щедро одаривала бе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Охотно участвовала  в свадьбах, крестинах, праздниках и т.д.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Это была истинно русская душа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живущая широко, раздольно и крас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Народу она нравилась, гвардейцы готовы были пойти за ней в огонь и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 смертью Петра II, и с восшествием на престол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нны Иоанновн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в жизни Елизаветы начинается пожалуй самый сложный период. Фактически же все десять лет правления Анны Иоанновны, Елизавета находилась в опа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598480" cy="360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1640" y="404640"/>
            <a:ext cx="3095640" cy="360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"/>
          <p:cNvSpPr/>
          <p:nvPr/>
        </p:nvSpPr>
        <p:spPr>
          <a:xfrm>
            <a:off x="777600" y="400536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Анна Иоан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67880" y="393372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</a:rPr>
              <a:t>Елиза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0"/>
            <a:ext cx="67690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Исторический портрет Елизаветы Петров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01:40Z</dcterms:created>
  <dc:creator>Customer</dc:creator>
  <dc:description/>
  <dc:language>en-US</dc:language>
  <cp:lastModifiedBy>s19</cp:lastModifiedBy>
  <dcterms:modified xsi:type="dcterms:W3CDTF">2009-01-26T05:05:56Z</dcterms:modified>
  <cp:revision>65</cp:revision>
  <dc:subject/>
  <dc:title>Слайд 1</dc:title>
</cp:coreProperties>
</file>