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7.png" ContentType="image/pn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15138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0785-B086-42B4-9811-ABA446E64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00A9F-F3E2-4C24-B02A-C461C2058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EF3E1-EDB8-44E8-AC30-7832D45F3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61FF-0A38-441E-9240-D37798FDA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A4EB8-2974-42F3-B5DB-A0704C45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D76EC-CCFC-4802-89CF-255D08964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A803-883B-4702-9D2E-018CAA038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ABD4A-E5D4-48A5-8BF1-34AA1E632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C6261-B2E3-4BB3-AC96-6E96EB6D3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96DC5-89A0-450F-878D-C1C5EF143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48AB8-5188-4DDB-B7EF-934E8B40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2EF3-3306-4FE6-B760-C66872BA7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C7E8B-B479-463C-A6D5-C0344A0C0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600" y="1981080"/>
            <a:ext cx="86868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Исследовательский проект</a:t>
            </a:r>
            <a:br>
              <a:rPr sz="4400"/>
            </a:br>
            <a:r>
              <a:rPr b="1" lang="en-US" sz="4400" spc="-1" strike="noStrike">
                <a:solidFill>
                  <a:srgbClr val="003399"/>
                </a:solidFill>
                <a:latin typeface="Times New Roman"/>
              </a:rPr>
              <a:t>«Пагубная привычка - курени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62520" y="4724280"/>
            <a:ext cx="48006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Автор: Куйбышева Яраславна, </a:t>
            </a:r>
            <a:br>
              <a:rPr sz="1400"/>
            </a:b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учащаяся 2 класса, МОУ СОШ № 46</a:t>
            </a:r>
            <a:br>
              <a:rPr sz="1400"/>
            </a:b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Руководитель УИП: </a:t>
            </a:r>
            <a:br>
              <a:rPr sz="1400"/>
            </a:b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Мирошникова Алла Александровна, </a:t>
            </a:r>
            <a:br>
              <a:rPr sz="1400"/>
            </a:b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учитель начальных классов, </a:t>
            </a:r>
            <a:br>
              <a:rPr sz="1400"/>
            </a:b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высшая категория, МОУ СОШ № 46,</a:t>
            </a:r>
            <a:br>
              <a:rPr sz="1400"/>
            </a:b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П.Черноморский, Северский р-он, Краснодарского кр., телефон: 66-331</a:t>
            </a:r>
            <a:br>
              <a:rPr sz="1400"/>
            </a:b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2008- 2009 учебный год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1e117d"/>
                </a:solidFill>
                <a:latin typeface="Arial"/>
              </a:rPr>
              <a:t>кра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457200" y="3505320"/>
            <a:ext cx="3352680" cy="3160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838080" y="380880"/>
            <a:ext cx="7925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e117d"/>
                </a:solidFill>
                <a:latin typeface="Arial"/>
              </a:rPr>
              <a:t>Муниципальное образовательное учреждение</a:t>
            </a:r>
            <a:br>
              <a:rPr sz="1400"/>
            </a:br>
            <a:r>
              <a:rPr b="1" lang="en-US" sz="1400" spc="-1" strike="noStrike">
                <a:solidFill>
                  <a:srgbClr val="1e117d"/>
                </a:solidFill>
                <a:latin typeface="Arial"/>
              </a:rPr>
              <a:t>средняя общеобразовательная школа № 46</a:t>
            </a:r>
            <a:br>
              <a:rPr sz="1400"/>
            </a:br>
            <a:r>
              <a:rPr b="1" lang="en-US" sz="1400" spc="-1" strike="noStrike">
                <a:solidFill>
                  <a:srgbClr val="1e117d"/>
                </a:solidFill>
                <a:latin typeface="Arial"/>
              </a:rPr>
              <a:t>Северского района, Краснодарского края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1714680" y="233280"/>
            <a:ext cx="5715000" cy="63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457200" y="609480"/>
            <a:ext cx="83818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84240" indent="11160" algn="ctr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ПРЕЖДЕ ЧЕМ ВЗЯТЬ СИГАРЕТУ, ..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 algn="ctr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ВСПОМНИ, что никотин достигает клетки мозга за семь секунд . В течении считанных минут его количество в крови возрастает в несколько раз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Никотин возбуждает нервную систему и воздействует на организм следующим образ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приводит мозг в состояние повышенной (критической) возбудимост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чащает сердцебиение и увеличивает кровяное давление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ослабляет мышечную деятельность, расшатывает эндокринную систему и препятствует выделению в кровь органических веществ, нейтрализующих стресс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до предела тормозит циркуляцию крови в капилляр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4240" indent="11160">
              <a:lnSpc>
                <a:spcPct val="100000"/>
              </a:lnSpc>
              <a:tabLst>
                <a:tab algn="l" pos="0"/>
                <a:tab algn="l" pos="895032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уменьшает аппетит и нарушает баланс углеводо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3300"/>
                </a:solidFill>
                <a:latin typeface="Arial Black"/>
              </a:rPr>
              <a:t>Анкетирование школьников</a:t>
            </a:r>
            <a:br>
              <a:rPr sz="3600"/>
            </a:br>
            <a:r>
              <a:rPr b="1" i="1" lang="en-US" sz="3600" spc="-1" strike="noStrike">
                <a:solidFill>
                  <a:srgbClr val="ff3300"/>
                </a:solidFill>
                <a:latin typeface="Arial Black"/>
              </a:rPr>
              <a:t>1-4 классо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533520" y="1523880"/>
          <a:ext cx="8129520" cy="4949640"/>
        </p:xfrm>
        <a:graphic>
          <a:graphicData uri="http://schemas.openxmlformats.org/drawingml/2006/table">
            <a:tbl>
              <a:tblPr/>
              <a:tblGrid>
                <a:gridCol w="511200"/>
                <a:gridCol w="5832720"/>
                <a:gridCol w="928440"/>
                <a:gridCol w="857160"/>
              </a:tblGrid>
              <a:tr h="32904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№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просы исследования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 </a:t>
                      </a: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езульта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79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а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т</a:t>
                      </a:r>
                      <a:endParaRPr b="0" lang="en-US" sz="1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наешь ли ты о том, что курение приносит большой вред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урят ли твои родител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8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Если курят, то прячут ли сигарет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2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реди твоих друзей и знакомых есть те кто пробовал курить или уже курит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едлагали ли тебе покури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озникало ли у тебя желание попробовать покури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окупал ли ты когда-нибудь сигареты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Пробовал ли ты когда-нибудь курить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4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Узнали ли об этом твои родител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Ты выбираешь здоровый образ жизн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обходимо ли проводить занятия о здоровом образе жизни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7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560" y="304920"/>
            <a:ext cx="8458200" cy="1371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Исследование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«Демонстрация процесса курен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733560" y="2057040"/>
            <a:ext cx="464796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Приготовили самодельный прибор для демонстрации процесса курения и ватные шари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4920" y="4800600"/>
            <a:ext cx="5181480" cy="11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. Подготовка  к исследованию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609480" y="2057400"/>
            <a:ext cx="3048120" cy="2284560"/>
          </a:xfrm>
          <a:prstGeom prst="rect">
            <a:avLst/>
          </a:prstGeom>
          <a:ln w="0">
            <a:noFill/>
          </a:ln>
        </p:spPr>
      </p:pic>
      <p:pic>
        <p:nvPicPr>
          <p:cNvPr id="79" name="" descr=""/>
          <p:cNvPicPr/>
          <p:nvPr/>
        </p:nvPicPr>
        <p:blipFill>
          <a:blip r:embed="rId3"/>
          <a:stretch/>
        </p:blipFill>
        <p:spPr>
          <a:xfrm>
            <a:off x="5257800" y="3886200"/>
            <a:ext cx="2971800" cy="2227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3885840" y="1295280"/>
            <a:ext cx="47242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 В один конец трубки вставлена сигарета, другой опущен в бутылку с ватными шарик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5800" y="3733920"/>
            <a:ext cx="4648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. Сжимаем бутылку, выдавливая из нее часть воздуха (имитируя легкие курильщика), поджигаем сигар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762120" y="838080"/>
            <a:ext cx="2971800" cy="222732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3"/>
          <a:stretch/>
        </p:blipFill>
        <p:spPr>
          <a:xfrm>
            <a:off x="5410080" y="3886200"/>
            <a:ext cx="2895840" cy="217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3886200" y="1066680"/>
            <a:ext cx="510552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. Равномерно ослабляем давление на бутылку, сигарета начинает дымиться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09480" y="4648320"/>
            <a:ext cx="43434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наполняя бутылку и помещение дымо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685800" y="533520"/>
            <a:ext cx="2798640" cy="3733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5029200" y="3733920"/>
            <a:ext cx="334476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191120" y="68580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По мере заполнения бутылки дымом, наблюдаем как часть смолистых веществ сигареты осядет на стенках бутылки и ватных шарик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33520" y="4114800"/>
            <a:ext cx="441936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. Через некоторое время достаем ватные шарики из бутыл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3353040" cy="25131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5105520" y="3733920"/>
            <a:ext cx="3344760" cy="250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4038480" y="533520"/>
            <a:ext cx="47246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6. После проведения исследования, мы видим, что ватные шарики потеряли форму и стали грязно-желтого цвета …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" y="4419720"/>
            <a:ext cx="4648320" cy="117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а на стенках бутылки видны, осевшие ве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09480" y="914400"/>
            <a:ext cx="3353040" cy="251316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5791320" y="2819520"/>
            <a:ext cx="2620800" cy="349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962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Вывод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Из результатов демонстрационного исследования мы можем пронаблюдать, как смолистые вещества немедленно проникают в рот и легкие курильщика, и какой «след» там оставляю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В ходе исследования была использована ВСЕГО ОДНА сигарета!!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Можно представить себе, как выглядят легкие курильщ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5105520" y="457200"/>
            <a:ext cx="3200400" cy="2398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26708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4267080" y="0"/>
            <a:ext cx="48769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Arial"/>
              </a:rPr>
              <a:t>У тебя всегда есть выбор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79280" y="1600200"/>
          <a:ext cx="4240080" cy="4574880"/>
        </p:xfrm>
        <a:graphic>
          <a:graphicData uri="http://schemas.openxmlformats.org/drawingml/2006/table">
            <a:tbl>
              <a:tblPr/>
              <a:tblGrid>
                <a:gridCol w="4240080"/>
              </a:tblGrid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В здоровом теле - здоровый дух!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Здоровое яблоко не падает с ветк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Здоровье – первое богатств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Здоровому врач не надобе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Доброго держишь, от худого удалис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Береги здоровье смолод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ffff00"/>
                          </a:solidFill>
                          <a:latin typeface="Arial Black"/>
                        </a:rPr>
                        <a:t>Кто рано встает, тому Бог здоровье дае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4643280" y="1700280"/>
          <a:ext cx="4111920" cy="4471560"/>
        </p:xfrm>
        <a:graphic>
          <a:graphicData uri="http://schemas.openxmlformats.org/drawingml/2006/table">
            <a:tbl>
              <a:tblPr/>
              <a:tblGrid>
                <a:gridCol w="4111920"/>
              </a:tblGrid>
              <a:tr h="569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Курить – здоровью вред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Кто курить любит – тот сам себя губ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Курево входит, ум выход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Курение человека не краси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Курильщик – сам себе могильщик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Плохая дорога ведет к плохому концу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0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800" spc="-1" strike="noStrike">
                          <a:solidFill>
                            <a:srgbClr val="3366ff"/>
                          </a:solidFill>
                          <a:latin typeface="Arial Black"/>
                        </a:rPr>
                        <a:t>Больше курить, меньше жи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e9e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830592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Проблема курения с каждым годом становится все более актуальной, как среди взрослых, так и среди детей и подростков. В последние годы значительно увеличилось число курящих детей и подростков. Курение оказывает губительное действ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 растущий, еще не окрепш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организ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838080" y="685800"/>
            <a:ext cx="6705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Актуальность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6400800" y="4191120"/>
            <a:ext cx="2371680" cy="2438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1ff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229600" cy="914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Умей сказать: «НЕТ</a:t>
            </a:r>
            <a:r>
              <a:rPr b="1" lang="en-US" sz="4000" spc="-1" strike="noStrike">
                <a:solidFill>
                  <a:srgbClr val="0066ff"/>
                </a:solidFill>
                <a:latin typeface="Arial Black"/>
              </a:rPr>
              <a:t>!</a:t>
            </a:r>
            <a:r>
              <a:rPr b="1" lang="ru-RU" sz="4000" spc="-1" strike="noStrike">
                <a:solidFill>
                  <a:srgbClr val="0066ff"/>
                </a:solidFill>
                <a:latin typeface="Arial Black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447920"/>
            <a:ext cx="8382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.Спасибо. Я в этом пока не нуждаю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.Я в этом больше не нуждаю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.Я не кур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.Не похоже, чтобы мне сегодня от этого стало хорош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.Я не собираюсь загрязнять организ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.Я не в настроении, поэтому не хочу сегодня это попроб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.Не сегодня и не сейчас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Думаю, что мне не стоит это начинать до тех пор, пока я не буду иметь своих денег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9.Нет, я не хочу неприятносте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0.Я сейчас не могу, моя мать проверяет меня, когда я прихожу домой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1.Когда мне понадобится это, я тебе сообщ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2.Мои родители меня убь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3.Я таких вещей бою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4.Когда-нибудь в другой ра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5.Эта дрянь не для ме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6.Нет, спасиб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7.Если тренер это узнает, он выгонит меня из секци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8.Последний раз, когда мать застала меня за курением, мне перестали давать деньг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19.Ненавижу думать о том, что случится, если родители застанут меня за куре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0.Нет, спасибо. У меня и так хватает неприятностей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1.Я не уверен, что вы достаточно об этом знает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2.Нет, спасибо. Я дождусь, пока мне будет разрешено закон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3.Ты надо мной смеешься? Меня лишают денег, даже если от меня пахнет сигаретным дымо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6095880" y="3733920"/>
            <a:ext cx="2552760" cy="127620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2"/>
          <a:stretch/>
        </p:blipFill>
        <p:spPr>
          <a:xfrm>
            <a:off x="5791320" y="1447920"/>
            <a:ext cx="2857320" cy="142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dffc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609120" y="685800"/>
            <a:ext cx="80773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4.Нет, спасибо. У меня и так ужасные оценк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5.Я - за витамины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6.Нет, спасибо, рак легких не хочу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7.Я и без этого превосходно себя чувству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8.Нет, спасибо, у меня завтра проверочная работа за полугодие и мне вечером надо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подум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9.Нет, спасибо, у меня на это аллергическая реакц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0.Я вчера поздно лег спать, у меня и без того красные глаз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1.Нет, мне понадобятся все мозги, какие ес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2.Нет, спасибо, это опасно для здоровь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3.Я занимаюсь спортом, и слышал, что дым вреден для легких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4.Ты с ума сошел? Я даже не собираюсь это пробоват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5.Нет, я это пробовал, и мне не понравилос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6.Я не хочу умереть молод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7.Нет, я и так достаточно ссорюсь с родителям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8.Нет, может быть, мне когда-нибудь захочется иметь здоровую семь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39.Нет, спасибо. Я как раз прочел статью о вреде курени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0.Я хочу быть здоровы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1. Это мне ничего не дае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2.Сейчас сезон аллергии, и мои глаза уже и так красные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3.Нет, спасибо. Я слышал, что от этого глаза красне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4.У меня завтра большая контрольная работ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5.Я начинаю вести себя глупо, когда курю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6.Меня до сих пор контролирую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47.Нет, это не для меня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3657600" cy="18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0852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380880" y="3733920"/>
            <a:ext cx="845820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99ff"/>
                </a:solidFill>
                <a:latin typeface="Arial Black"/>
              </a:rPr>
              <a:t>Не обязательно платить здоровьем,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 Black"/>
              </a:rPr>
              <a:t>ПОВЕРЬ В СЕБЯ!</a:t>
            </a:r>
            <a:br>
              <a:rPr sz="3600"/>
            </a:br>
            <a:r>
              <a:rPr b="0" lang="en-US" sz="3600" spc="-1" strike="noStrike">
                <a:solidFill>
                  <a:srgbClr val="0099ff"/>
                </a:solidFill>
                <a:latin typeface="Arial Black"/>
              </a:rPr>
              <a:t>Выбирай здоровый образ жизн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7772400" cy="621648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324480" y="3200400"/>
            <a:ext cx="2543400" cy="19051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248520" y="533520"/>
            <a:ext cx="2476440" cy="13906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33520" y="2990880"/>
            <a:ext cx="2971800" cy="2225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304920" y="5181480"/>
            <a:ext cx="861048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99"/>
                </a:solidFill>
                <a:latin typeface="Arial Black"/>
              </a:rPr>
              <a:t>Здоровый образ жизни- альтернатива курени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006600"/>
            </a:outerShdw>
          </a:effectLst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10480" cy="61722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66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Arial Black"/>
              </a:rPr>
              <a:t>Сделай свой выбор:</a:t>
            </a:r>
            <a:br>
              <a:rPr sz="6600"/>
            </a:br>
            <a:br>
              <a:rPr sz="3600"/>
            </a:br>
            <a:r>
              <a:rPr b="0" lang="en-US" sz="3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жестокий плен опасного врага </a:t>
            </a:r>
            <a:br>
              <a:rPr sz="3600"/>
            </a:br>
            <a:r>
              <a:rPr b="1" i="1" lang="en-US" sz="6000" spc="-1" strike="noStrike">
                <a:solidFill>
                  <a:srgbClr val="66ff66"/>
                </a:solidFill>
                <a:latin typeface="Arial Black"/>
              </a:rPr>
              <a:t>или </a:t>
            </a:r>
            <a:br>
              <a:rPr sz="6000"/>
            </a:br>
            <a:r>
              <a:rPr b="1" i="1" lang="en-US" sz="6000" spc="-1" strike="noStrike">
                <a:solidFill>
                  <a:srgbClr val="66ff66"/>
                </a:solidFill>
                <a:latin typeface="Arial Black"/>
              </a:rPr>
              <a:t>здоровье </a:t>
            </a:r>
            <a:br>
              <a:rPr sz="6000"/>
            </a:br>
            <a:r>
              <a:rPr b="1" i="1" lang="en-US" sz="6000" spc="-1" strike="noStrike">
                <a:solidFill>
                  <a:srgbClr val="66ff66"/>
                </a:solidFill>
                <a:latin typeface="Arial Black"/>
              </a:rPr>
              <a:t>и счастливая жизнь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304920" y="2361960"/>
            <a:ext cx="853416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Сформировать в сознании школьников негативное отношение к курени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научить их сказать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«Нет вредным привычкам!!!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552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3467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2666880" y="1295280"/>
            <a:ext cx="3816360" cy="75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ЦЕЛЬ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162920" y="5105520"/>
            <a:ext cx="1447560" cy="11142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 flipH="1">
            <a:off x="7009920" y="5105520"/>
            <a:ext cx="1752840" cy="10666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5334120"/>
            <a:ext cx="1676520" cy="83808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3f3ab"/>
            </a:gs>
            <a:gs pos="50000">
              <a:srgbClr val="dddddd"/>
            </a:gs>
            <a:gs pos="100000">
              <a:srgbClr val="f3f3a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Провести анкетирование среди школьников 1-4 класса с целью: выявления наличия пагубной привычки в семьях детей, доступности сигарет, возможности первичной пробы кур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Путем проведения практического исследования доказать огромный вред, наносимый курением организм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676520" y="914400"/>
            <a:ext cx="548640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1680">
                  <a:solidFill>
                    <a:srgbClr val="ffff00"/>
                  </a:solidFill>
                  <a:miter/>
                </a:ln>
                <a:solidFill>
                  <a:srgbClr val="ff0000"/>
                </a:solid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Arial Black"/>
              </a:rPr>
              <a:t>Задачи</a:t>
            </a:r>
            <a:endParaRPr b="1" lang="en-US" sz="1800" spc="1" strike="noStrike">
              <a:ln w="31680">
                <a:solidFill>
                  <a:srgbClr val="ffff00"/>
                </a:solidFill>
                <a:miter/>
              </a:ln>
              <a:solidFill>
                <a:srgbClr val="ff0000"/>
              </a:solid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3f3a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685800" y="533520"/>
            <a:ext cx="7924680" cy="44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Times New Roman"/>
              </a:rPr>
              <a:t>статистические данные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Times New Roman"/>
              <a:ea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142640"/>
            <a:ext cx="830592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0 % заядлых курильщиков умирают прежде, чем достигают 65-ти лет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Из 12 человек, умерших от рака легких, 11 были курильщик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 человека,  выкуривающего 20  сигарет  в день,  жизнь  сокращается  в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реднем на 5 лет. На 8 лет - у тех, кто выкуривает 40 в день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У курильщика в 6 раз возрастает риск смерти от острых респираторных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болеваний, эмфиземы и хронического бронхит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Среди   курящих  смерть  от  сердечного приступа происходит в 3 раза чаще. А для тех, кто выкуривает больше одной пачки в день, риск увеличивается в 5 раз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Дети,   рожденные   от   курящих   родителей,   чаще   болеют   пневмонией   и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бронхитом в первый год жизни. В дальнейшем чаще обращаются к врачу,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чаще попадают в больницы и дольше там пребывают, чем дети некурящих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родител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За один час нахождения в накуренной комнате человек получает столько канцерогенов (вещества, вызывающие рак), сколько от выкуривания 15 сигарет с фильтром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Каждый год сотни людей умирают от болезней, связанных с курением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60" name=""/>
          <p:cNvSpPr/>
          <p:nvPr/>
        </p:nvSpPr>
        <p:spPr>
          <a:xfrm>
            <a:off x="609480" y="457200"/>
            <a:ext cx="7696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3809880"/>
            <a:ext cx="845820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Пассивное курение приноси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некурящим людям, и особенно детям гораздо больший вред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 Black"/>
              </a:rPr>
              <a:t>чем самому курильщик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752120" y="5028840"/>
            <a:ext cx="7162920" cy="1600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4fdbf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В среднем курильщик тратит тысячи и миллионы рублей на сигареты каждый год. Лечение заболеваний, связанных с курением тоже обходится недешев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305920" cy="1219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d1ffd1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Воздействие всего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 Black"/>
              </a:rPr>
              <a:t>одной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сигареты на организм</a:t>
            </a: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2286000" y="2286000"/>
            <a:ext cx="4343400" cy="4145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Всего одна сигарета уже вредн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Так как в каждой выкуренной сигарете содержится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04920"/>
            <a:ext cx="822960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6600"/>
                </a:solidFill>
                <a:latin typeface="Arial Black"/>
              </a:rPr>
              <a:t>Воздействие вредных веществ вызывает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1. Ухудшение деятельности легк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Газы-раздражители вызывают сужение бронхиальных труб, что является причиной кашля и ухудшения деятельности легких. А смолы и слизь накапливающиеся в легких??? А рак легких??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2. Учащенный пульс и высокое кровяное давл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котин является причиной учащенного пульса, что затрудняет работу сердца и повышает кровяное давление. Частота пульса увеличивается более чем на 20 ударов в минут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6600"/>
                </a:solidFill>
                <a:latin typeface="Times New Roman"/>
              </a:rPr>
              <a:t>3. Сердечно-сосудистые заболе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Никотин вызывает сужение кровеносных сосудов. Из-за этого сокращается приток крови к пальцам рук и ног, и температура кожного покрова падает на 5°. Сердечная мышца не получает необходимого количества живительного кислорода и у человека развиваются различные сердечно-сосудистые заболе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+</cp:lastModifiedBy>
  <dcterms:modified xsi:type="dcterms:W3CDTF">2009-01-20T19:30:01Z</dcterms:modified>
  <cp:revision>10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