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2.png" ContentType="image/png"/>
  <Override PartName="/ppt/media/image41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8.jpeg" ContentType="image/jpeg"/>
  <Override PartName="/ppt/media/image3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C22-8315-4309-BAE0-4352C07C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D04-1D19-41C5-9A8B-3AD53412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F23-3C0D-44D3-A821-3F2C34F1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FEB-EC12-4F6B-9A63-1A742973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93CD-FDD3-4489-B3E1-D3B67F16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5A58-1BC2-46D2-887D-2FBEDCEB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9761-7FD2-4BFE-95B5-057A72F9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C697-21E7-4467-A6EB-9AA08B1D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2269-0449-426C-9B83-EEBBDEDE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C673-4F7F-4F18-9B25-33FE88B4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E362-0BB9-4B2C-A753-F074A53A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6B9-0F60-420F-AA26-196D49E5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3EC6-2F39-4C1F-A92E-DCDE687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A379-31E7-4904-ACAA-CD0E76D9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D97D-DC9D-4BBF-80D1-3C8922F7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02A8-48C5-497E-99F6-F24A0CFC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233A-EBBB-4D2E-8503-27B46B5E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4F7-6BD1-408E-AB9D-8F0E9124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B9A-1981-44D6-B60C-021DD459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84B-8F4E-4459-BD56-B4703C0F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B86-E49F-455F-8B81-11D22194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4C8-D85F-4EC1-A8E1-EF9BA1CD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AE6-3686-46BF-8FB3-4599C54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02B-DC67-4D0B-8762-412EC1A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8F2B-7088-43BC-A90A-7A8A55834E09}" type="slidenum">
              <a:rPr b="0" lang="ru-RU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98F0-1C7E-431F-A038-D34856E2CA87}" type="slidenum">
              <a:rPr b="0" lang="ru-RU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" Target="slide1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" Target="slide2.xm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24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5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" Target="slide2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" Target="slide13.xml"/><Relationship Id="rId18" Type="http://schemas.openxmlformats.org/officeDocument/2006/relationships/slide" Target="slide14.xml"/><Relationship Id="rId19" Type="http://schemas.openxmlformats.org/officeDocument/2006/relationships/slide" Target="slide15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18.xml"/><Relationship Id="rId2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" Target="slide2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" Target="slide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" Target="slide2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1.jpeg"/><Relationship Id="rId4" Type="http://schemas.openxmlformats.org/officeDocument/2006/relationships/slide" Target="slide24.xml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" Target="slide2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" Target="slide26.xm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image" Target="../media/image36.jpeg"/><Relationship Id="rId4" Type="http://schemas.openxmlformats.org/officeDocument/2006/relationships/slide" Target="slide27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" Target="slide2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" Target="slide2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" Target="slide2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" Target="slide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" Target="slide2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schoolchemistry.by.ru/" TargetMode="External"/><Relationship Id="rId4" Type="http://schemas.openxmlformats.org/officeDocument/2006/relationships/hyperlink" Target="http://www.alhimikov.net/" TargetMode="External"/><Relationship Id="rId5" Type="http://schemas.openxmlformats.org/officeDocument/2006/relationships/hyperlink" Target="http://www.periodictable.ru/" TargetMode="External"/><Relationship Id="rId6" Type="http://schemas.openxmlformats.org/officeDocument/2006/relationships/hyperlink" Target="http://www.chem.isu.ru/" TargetMode="External"/><Relationship Id="rId7" Type="http://schemas.openxmlformats.org/officeDocument/2006/relationships/hyperlink" Target="http://www.xumuk.ru/" TargetMode="External"/><Relationship Id="rId8" Type="http://schemas.openxmlformats.org/officeDocument/2006/relationships/hyperlink" Target="http://himia.ucoz.ru/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Химия вокруг нас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2852640"/>
            <a:ext cx="3554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ца 9 «А» класс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У СОШ № 546 г.Москвы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миец Екатерин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химии Симонова Т.В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сметика</a:t>
            </a:r>
            <a:endParaRPr b="0" lang="en-US" sz="44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108000" y="907920"/>
            <a:ext cx="586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йдется ли женщина, которая не хотела бы быть красивой?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днако быть красивой в эпоху стрессов и экологических катастроф очень трудно. И здесь приходит на помощь косметика. </a:t>
            </a:r>
            <a:endParaRPr b="0" lang="en-US" sz="25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бы выбрать самый правильный путь к красоте, надо немножко разбираться в хим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3708360" y="4653000"/>
            <a:ext cx="1224000" cy="720720"/>
          </a:xfrm>
          <a:prstGeom prst="leftArrow">
            <a:avLst>
              <a:gd name="adj1" fmla="val 50000"/>
              <a:gd name="adj2" fmla="val 42458"/>
            </a:avLst>
          </a:prstGeom>
          <a:solidFill>
            <a:srgbClr val="ffe8d1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240000" cy="25160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3924360" y="5661000"/>
            <a:ext cx="1224000" cy="719280"/>
          </a:xfrm>
          <a:prstGeom prst="rightArrow">
            <a:avLst>
              <a:gd name="adj1" fmla="val 50000"/>
              <a:gd name="adj2" fmla="val 42543"/>
            </a:avLst>
          </a:prstGeom>
          <a:solidFill>
            <a:srgbClr val="ffe8d1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Кожа, мыло и вода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219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ачала о воде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проводная 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личается от дождевой и снеговой тем, что обычно содержит много солей кальция и магния. В такой воде плохо мылится мыло, на коже образуется налет труднорастворимых солей, и она неприятно стягивается. Все это означает, что вода жестка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кость в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ич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аняется кипячен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 можно умягчить воду, добавляя молочную, винную или лимонную кислот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вещества образуют с катионами кальция и магния прочные комплексные соединения и не позволяют им взаимодействовать с анионами жирных кислот, входящими в состав мыла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587760" cy="48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763640" y="6093000"/>
            <a:ext cx="1295640" cy="649080"/>
          </a:xfrm>
          <a:prstGeom prst="leftArrow">
            <a:avLst>
              <a:gd name="adj1" fmla="val 50000"/>
              <a:gd name="adj2" fmla="val 49903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348000" y="6093000"/>
            <a:ext cx="1295280" cy="64908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Мыло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Кожа, мыло и вода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перь о мы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мыла основано на том, что его частицы, содержа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дрофильную и гидрофобную ч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лужат посредниками между водой и жировыми загрязнениями. Они захватывают частичку грязи и переносят ее в раствор. Это эффективнее всего происходит в теплой вод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умывания л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ебуется более «мягкое» мыло, 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у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мыло "посерьезнее"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000" y="3141360"/>
            <a:ext cx="399564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метологи к ежедневному умыванию лица с мылом относятся плохо. В крайнем случае, рекомендуют пользоваться жидким мылом или специальным гелем для умывания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ие сорта туалетного мыла отличаю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зкой щелоч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х вырабатывают, используя кокосовое или пальмовое масло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8000" y="3357720"/>
            <a:ext cx="5113440" cy="2984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7524720" y="6093000"/>
            <a:ext cx="1366920" cy="647640"/>
          </a:xfrm>
          <a:prstGeom prst="rightArrow">
            <a:avLst>
              <a:gd name="adj1" fmla="val 50000"/>
              <a:gd name="adj2" fmla="val 52765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Лосьоны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5867280" y="6093000"/>
            <a:ext cx="1366920" cy="647640"/>
          </a:xfrm>
          <a:prstGeom prst="leftArrow">
            <a:avLst>
              <a:gd name="adj1" fmla="val 50000"/>
              <a:gd name="adj2" fmla="val 52765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51640" y="765000"/>
            <a:ext cx="3492360" cy="532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 Black"/>
              </a:rPr>
              <a:t>Лосьоны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58672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косметических лосьонов, пом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ходят до 40% этилового спирта, а также различные неорганические и органическое добавки, например, борная кислота, соли алюминия, отдушки и консерванты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ловый спи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могает успешному растворению полезных биологически активных добавок, введенных в лосьон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еспечивает антимикробное действие, 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и алюми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тягивающий и коагулирующий эффект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5796000" y="6237360"/>
            <a:ext cx="1511280" cy="503280"/>
          </a:xfrm>
          <a:prstGeom prst="leftArrow">
            <a:avLst>
              <a:gd name="adj1" fmla="val 50000"/>
              <a:gd name="adj2" fmla="val 75072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7451640" y="6237360"/>
            <a:ext cx="1511280" cy="503280"/>
          </a:xfrm>
          <a:prstGeom prst="rightArrow">
            <a:avLst>
              <a:gd name="adj1" fmla="val 50000"/>
              <a:gd name="adj2" fmla="val 75072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Кремы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Крем полезен всем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700280"/>
            <a:ext cx="51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0e3a"/>
                </a:solidFill>
                <a:latin typeface="Arial"/>
              </a:rPr>
              <a:t>Жирные кремы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 смягчают и обладают очищающим действием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0e3a"/>
                </a:solidFill>
                <a:latin typeface="Arial"/>
              </a:rPr>
              <a:t>Эмульсионные кремы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 содержат водорастворимые вещества в водной, а жирорастворимые - в масляной фазе взвеси мельчайших капелек. Очень активно впитывается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0e3a"/>
                </a:solidFill>
                <a:latin typeface="Arial"/>
              </a:rPr>
              <a:t>Противоморщинные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520e3a"/>
                </a:solidFill>
                <a:latin typeface="Arial"/>
              </a:rPr>
              <a:t>антистрессовые кремы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 омолаживают кожу. В них велико содержание </a:t>
            </a:r>
            <a:r>
              <a:rPr b="1" lang="ru-RU" sz="1800" spc="-1" strike="noStrike">
                <a:solidFill>
                  <a:srgbClr val="520e3a"/>
                </a:solidFill>
                <a:latin typeface="Arial"/>
              </a:rPr>
              <a:t>витамина А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, стимулирующего кожный обмен веществ, </a:t>
            </a:r>
            <a:r>
              <a:rPr b="1" lang="ru-RU" sz="1800" spc="-1" strike="noStrike">
                <a:solidFill>
                  <a:srgbClr val="520e3a"/>
                </a:solidFill>
                <a:latin typeface="Arial"/>
              </a:rPr>
              <a:t>витамина С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, укрепляющего иммунитет, и главного "антистарителя" </a:t>
            </a:r>
            <a:r>
              <a:rPr b="1" lang="ru-RU" sz="1800" spc="-1" strike="noStrike">
                <a:solidFill>
                  <a:srgbClr val="520e3a"/>
                </a:solidFill>
                <a:latin typeface="Arial"/>
              </a:rPr>
              <a:t>витамина Е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0e3a"/>
                </a:solidFill>
                <a:latin typeface="Arial"/>
              </a:rPr>
              <a:t>Очищающие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520e3a"/>
                </a:solidFill>
                <a:latin typeface="Arial"/>
              </a:rPr>
              <a:t>увлажняющие кремы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 содержат различные адсорбенты типа </a:t>
            </a:r>
            <a:r>
              <a:rPr b="0" i="1" lang="ru-RU" sz="1800" spc="-1" strike="noStrike">
                <a:solidFill>
                  <a:srgbClr val="520e3a"/>
                </a:solidFill>
                <a:latin typeface="Arial"/>
              </a:rPr>
              <a:t>магнезии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, "фруктовые" кислоты - </a:t>
            </a:r>
            <a:r>
              <a:rPr b="0" i="1" lang="ru-RU" sz="1800" spc="-1" strike="noStrike">
                <a:solidFill>
                  <a:srgbClr val="520e3a"/>
                </a:solidFill>
                <a:latin typeface="Arial"/>
              </a:rPr>
              <a:t>яблочную</a:t>
            </a: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 или </a:t>
            </a:r>
            <a:r>
              <a:rPr b="0" i="1" lang="ru-RU" sz="1800" spc="-1" strike="noStrike">
                <a:solidFill>
                  <a:srgbClr val="520e3a"/>
                </a:solidFill>
                <a:latin typeface="Arial"/>
              </a:rPr>
              <a:t>лимонную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3419640" y="6165720"/>
            <a:ext cx="2158920" cy="576360"/>
          </a:xfrm>
          <a:prstGeom prst="rightArrow">
            <a:avLst>
              <a:gd name="adj1" fmla="val 50000"/>
              <a:gd name="adj2" fmla="val 93645"/>
            </a:avLst>
          </a:prstGeom>
          <a:solidFill>
            <a:srgbClr val="ffe8d1"/>
          </a:solidFill>
          <a:ln w="38160">
            <a:solidFill>
              <a:srgbClr val="4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Секреты завив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108000" y="6165720"/>
            <a:ext cx="1511280" cy="576360"/>
          </a:xfrm>
          <a:prstGeom prst="leftArrow">
            <a:avLst>
              <a:gd name="adj1" fmla="val 50000"/>
              <a:gd name="adj2" fmla="val 65553"/>
            </a:avLst>
          </a:prstGeom>
          <a:solidFill>
            <a:srgbClr val="ffe8d1"/>
          </a:solidFill>
          <a:ln w="38160">
            <a:solidFill>
              <a:srgbClr val="4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0e3a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364000" y="1628640"/>
            <a:ext cx="3495960" cy="45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Секреты завивки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336699"/>
                </a:solidFill>
                <a:latin typeface="Arial"/>
              </a:rPr>
              <a:t>В состав </a:t>
            </a:r>
            <a:r>
              <a:rPr b="0" lang="ru-RU" sz="3000" spc="-1" strike="noStrike">
                <a:solidFill>
                  <a:srgbClr val="336699"/>
                </a:solidFill>
                <a:latin typeface="Arial"/>
              </a:rPr>
              <a:t>препаратов для химической завивки</a:t>
            </a:r>
            <a:r>
              <a:rPr b="1" lang="ru-RU" sz="3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6699"/>
                </a:solidFill>
                <a:latin typeface="Arial"/>
              </a:rPr>
              <a:t>входят </a:t>
            </a:r>
            <a:r>
              <a:rPr b="0" i="1" lang="ru-RU" sz="3000" spc="-1" strike="noStrike">
                <a:solidFill>
                  <a:srgbClr val="336699"/>
                </a:solidFill>
                <a:latin typeface="Arial"/>
              </a:rPr>
              <a:t>поверхностно-активные вещества</a:t>
            </a:r>
            <a:r>
              <a:rPr b="0" lang="ru-RU" sz="3000" spc="-1" strike="noStrike">
                <a:solidFill>
                  <a:srgbClr val="336699"/>
                </a:solidFill>
                <a:latin typeface="Arial"/>
              </a:rPr>
              <a:t>, которые помогают равномерно распределить на голове состав для завивки, </a:t>
            </a:r>
            <a:r>
              <a:rPr b="0" i="1" lang="ru-RU" sz="3000" spc="-1" strike="noStrike">
                <a:solidFill>
                  <a:srgbClr val="336699"/>
                </a:solidFill>
                <a:latin typeface="Arial"/>
              </a:rPr>
              <a:t>мочевина </a:t>
            </a:r>
            <a:r>
              <a:rPr b="0" lang="ru-RU" sz="3000" spc="-1" strike="noStrike">
                <a:solidFill>
                  <a:srgbClr val="336699"/>
                </a:solidFill>
                <a:latin typeface="Arial"/>
              </a:rPr>
              <a:t>и </a:t>
            </a:r>
            <a:r>
              <a:rPr b="0" i="1" lang="ru-RU" sz="3000" spc="-1" strike="noStrike">
                <a:solidFill>
                  <a:srgbClr val="336699"/>
                </a:solidFill>
                <a:latin typeface="Arial"/>
              </a:rPr>
              <a:t>тиогликолевая кислота</a:t>
            </a:r>
            <a:r>
              <a:rPr b="0" lang="ru-RU" sz="3000" spc="-1" strike="noStrike">
                <a:solidFill>
                  <a:srgbClr val="336699"/>
                </a:solidFill>
                <a:latin typeface="Arial"/>
              </a:rPr>
              <a:t>. В роли закрепителей выступают </a:t>
            </a:r>
            <a:r>
              <a:rPr b="0" i="1" lang="ru-RU" sz="3000" spc="-1" strike="noStrike">
                <a:solidFill>
                  <a:srgbClr val="336699"/>
                </a:solidFill>
                <a:latin typeface="Arial"/>
              </a:rPr>
              <a:t>перекись водорода, бромат натрия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1908000" y="6021360"/>
            <a:ext cx="1295640" cy="719280"/>
          </a:xfrm>
          <a:prstGeom prst="leftArrow">
            <a:avLst>
              <a:gd name="adj1" fmla="val 50000"/>
              <a:gd name="adj2" fmla="val 45033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3492360" y="6021360"/>
            <a:ext cx="1943280" cy="719280"/>
          </a:xfrm>
          <a:prstGeom prst="rightArrow">
            <a:avLst>
              <a:gd name="adj1" fmla="val 50000"/>
              <a:gd name="adj2" fmla="val 67543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краска воло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651640" y="1700280"/>
            <a:ext cx="3268440" cy="466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9400"/>
                </a:solidFill>
                <a:latin typeface="Arial Black"/>
              </a:rPr>
              <a:t>Блондинка, брюнетка, шатенка….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52720" y="1386000"/>
            <a:ext cx="561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ветления вол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ют специальные составы, содержащи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кись водор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ее производные. С химической точки зрения осветление волос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ый окислительно-восстановительный проце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м в роли окислителя чаще всего выступает атомарный кислород, выделяемый водой под действием ультрафиолетового излучения либ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кисью водород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омарный кислород окисляет красящий пигмент воло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ла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чем действие окислителя ускоряется в щелочной среде. Кислоты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уравьи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ксус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замедляют окисление. Очень удобен для осветления вол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пер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оединение перекиси водорода с мочевиной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чев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могает увлажнению и набуханию волос, и действие перекиси водорода усиливается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5435640" y="5950080"/>
            <a:ext cx="1297080" cy="718920"/>
          </a:xfrm>
          <a:prstGeom prst="leftArrow">
            <a:avLst>
              <a:gd name="adj1" fmla="val 50000"/>
              <a:gd name="adj2" fmla="val 45105"/>
            </a:avLst>
          </a:prstGeom>
          <a:solidFill>
            <a:srgbClr val="ccff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4616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64000" y="1628640"/>
            <a:ext cx="3476880" cy="399096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7093080" y="5950080"/>
            <a:ext cx="1871640" cy="718920"/>
          </a:xfrm>
          <a:prstGeom prst="rightArrow">
            <a:avLst>
              <a:gd name="adj1" fmla="val 50000"/>
              <a:gd name="adj2" fmla="val 65085"/>
            </a:avLst>
          </a:prstGeom>
          <a:solidFill>
            <a:srgbClr val="ccff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4616"/>
                </a:solidFill>
                <a:latin typeface="Arial"/>
              </a:rPr>
              <a:t>Гигиена зубо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92000" y="-360"/>
            <a:ext cx="5651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игиена зубов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19280" y="2421000"/>
            <a:ext cx="572436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о-профилактические пас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ключают фторсодержащие компоненты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торид натрия, фторофосфат натрия, фторид о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т.п. Такие добавки помогают образованию и сохранению на поверхности зубной эмали твердого защитного слоя, по химическому составу подобного природному минерал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торапатит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. Хорошая зубная паста имеет прият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ус и зап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это заслуга отдушек и вкусовых добавок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ятного, коричного, эвкалиптового, гвоздичного масел, лимонной кисл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угих веществ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-252720" y="980640"/>
            <a:ext cx="9396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убные паст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ставе любой зубной пасты обязательно е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разивные веще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механической очистки зубов от налета. Чаще всего это осажденны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л, фосфаты кальция, оксид и гидроксид алюминия, диоксид кремния, ортосиликат цирко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енообразующей добавкой в пастах служит сульфированное мыло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84720" y="6021360"/>
            <a:ext cx="1295280" cy="719280"/>
          </a:xfrm>
          <a:prstGeom prst="leftArrow">
            <a:avLst>
              <a:gd name="adj1" fmla="val 50000"/>
              <a:gd name="adj2" fmla="val 45020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3600720" cy="36720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5940360" y="6021360"/>
            <a:ext cx="2016360" cy="719280"/>
          </a:xfrm>
          <a:prstGeom prst="rightArrow">
            <a:avLst>
              <a:gd name="adj1" fmla="val 50000"/>
              <a:gd name="adj2" fmla="val 70083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арфюмер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971640" y="6237360"/>
            <a:ext cx="1655640" cy="503280"/>
          </a:xfrm>
          <a:prstGeom prst="leftArrow">
            <a:avLst>
              <a:gd name="adj1" fmla="val 50000"/>
              <a:gd name="adj2" fmla="val 82242"/>
            </a:avLst>
          </a:prstGeom>
          <a:solidFill>
            <a:srgbClr val="f0d4e5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В меню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778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 Black"/>
              </a:rPr>
              <a:t>Состав парфюмерии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57840" y="2349360"/>
            <a:ext cx="3386160" cy="3963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651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 всей парфюмерии одинаков. Ее делают из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центр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арфюмерной композиции)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ир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ница в пропорция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ми дорогими и стойкими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х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ычно они содержат 20-35% парфюмерной композиции, растворенной в 90% спирте плюс фиксатор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екол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6% парфюмерной композиции в 70-80%спирте. Такого вида парфюм выпускают для мужчин.</a:t>
            </a:r>
            <a:br>
              <a:rPr sz="2400"/>
            </a:b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ИТЕРИИ ЗАПАХ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сть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пость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лейф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наваемость, возможность распознать, ассоциировать запах с фирмой, со стилем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2916360" y="6237360"/>
            <a:ext cx="2303280" cy="503280"/>
          </a:xfrm>
          <a:prstGeom prst="rightArrow">
            <a:avLst>
              <a:gd name="adj1" fmla="val 50000"/>
              <a:gd name="adj2" fmla="val 114413"/>
            </a:avLst>
          </a:prstGeom>
          <a:solidFill>
            <a:srgbClr val="f0d4e5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Стройматериалы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899160" cy="3899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6012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Arial Black"/>
              </a:rPr>
              <a:t>Строительные материалы</a:t>
            </a:r>
            <a:br>
              <a:rPr sz="2800"/>
            </a:br>
            <a:r>
              <a:rPr b="0" lang="ru-RU" sz="2800" spc="-1" strike="noStrike">
                <a:solidFill>
                  <a:srgbClr val="ccff66"/>
                </a:solidFill>
                <a:latin typeface="Arial Black"/>
              </a:rPr>
              <a:t>Известь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580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ве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один из древнейших связующих материалов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гашеную изве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ксид кальция, CaО) получают обжигом природных карбонатов кальция: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CaО + C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Δ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= –179 кДж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пользования извести в качестве связующего ее гасят, готовят тесто, которое затем смешивают с песком в количестве от двух до четырех частей по объему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вердение извести связано с физическими и химическими процессами. Во-первых, происходит испарение механически примешанной воды. Во-вторых, гидроксид кальция кристаллизуется, образуя известковый каркас из сросшихся кристаллов Ca(OH)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окружающей частицы песка. Кроме того, происходит взаимодействие гидроксида кальция с C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духа с образованием карбоната («карбонизация»):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+ C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= CaC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+ 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>
            <a:hlinkClick r:id="rId3" action="ppaction://hlinksldjump"/>
          </p:cNvPr>
          <p:cNvSpPr/>
          <p:nvPr/>
        </p:nvSpPr>
        <p:spPr>
          <a:xfrm>
            <a:off x="4859280" y="5877000"/>
            <a:ext cx="1366920" cy="718920"/>
          </a:xfrm>
          <a:prstGeom prst="leftArrow">
            <a:avLst>
              <a:gd name="adj1" fmla="val 50000"/>
              <a:gd name="adj2" fmla="val 47534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В меню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6443640" y="5877000"/>
            <a:ext cx="2519280" cy="718920"/>
          </a:xfrm>
          <a:prstGeom prst="rightArrow">
            <a:avLst>
              <a:gd name="adj1" fmla="val 50000"/>
              <a:gd name="adj2" fmla="val 87606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Красный кирпич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66"/>
                </a:solidFill>
                <a:latin typeface="Arial Black"/>
              </a:rPr>
              <a:t>Содержание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00240" y="1628280"/>
            <a:ext cx="4343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b5cf"/>
                </a:solidFill>
                <a:latin typeface="Arial"/>
              </a:rPr>
              <a:t>Строительные материалы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2" action="ppaction://hlinksldjump"/>
              </a:rPr>
              <a:t>Известь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3" action="ppaction://hlinksldjump"/>
              </a:rPr>
              <a:t>Красный глиняный кирпич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4" action="ppaction://hlinksldjump"/>
              </a:rPr>
              <a:t>Силикатный кирпич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5" action="ppaction://hlinksldjump"/>
              </a:rPr>
              <a:t>Цемент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6" action="ppaction://hlinksldjump"/>
              </a:rPr>
              <a:t>Гипсовые изделия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7" action="ppaction://hlinksldjump"/>
              </a:rPr>
              <a:t>Бетон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ами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ракот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йоли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ян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рфор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сквитный фарфор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тяной фарфор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иттованный фарфор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няная посу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использованных материало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628640"/>
            <a:ext cx="4427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b5cf"/>
                </a:solidFill>
                <a:latin typeface="Arial"/>
              </a:rPr>
              <a:t>Советы хозяйке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8" action="ppaction://hlinksldjump"/>
              </a:rPr>
              <a:t>Стирка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9" action="ppaction://hlinksldjump"/>
              </a:rPr>
              <a:t>Окраска тканей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10" action="ppaction://hlinksldjump"/>
              </a:rPr>
              <a:t>Уборка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11" action="ppaction://hlinksldjump"/>
              </a:rPr>
              <a:t>Уход за полом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12" action="ppaction://hlinksldjump"/>
              </a:rPr>
              <a:t>Краски и эмали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13" action="ppaction://hlinksldjump"/>
              </a:rPr>
              <a:t>Клеи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14" action="ppaction://hlinksldjump"/>
              </a:rPr>
              <a:t>Во всеоружии против тараканов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3b5cf"/>
                </a:solidFill>
                <a:uFillTx/>
                <a:latin typeface="Arial"/>
                <a:hlinkClick r:id="rId15" action="ppaction://hlinksldjump"/>
              </a:rPr>
              <a:t>Космети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16" action="ppaction://hlinksldjump"/>
              </a:rPr>
              <a:t>Кожа, мыло и вода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17" action="ppaction://hlinksldjump"/>
              </a:rPr>
              <a:t>Лосьоны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18" action="ppaction://hlinksldjump"/>
              </a:rPr>
              <a:t>Крем полезен всем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19" action="ppaction://hlinksldjump"/>
              </a:rPr>
              <a:t>Секреты завивки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20" action="ppaction://hlinksldjump"/>
              </a:rPr>
              <a:t>Блондинка, брюнетка, шатенка…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21" action="ppaction://hlinksldjump"/>
              </a:rPr>
              <a:t>Гигиена зубов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3b5cf"/>
                </a:solidFill>
                <a:uFillTx/>
                <a:latin typeface="Arial"/>
                <a:hlinkClick r:id="rId22" action="ppaction://hlinksldjump"/>
              </a:rPr>
              <a:t>Состав парфюмерии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4096080" cy="3276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48000" y="47592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Arial Black"/>
              </a:rPr>
              <a:t>Красный глиняный кирпич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3357720"/>
            <a:ext cx="48243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стоящее время в строительстве широко использу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устотелый кирпи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.е. имеющий внутри полости определенной формы. Такой кирпич позволяет уменьшать массу жилого здания примерно на 2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0%. Это позволяет существенно сократить затраты при транспортировке и трудозатраты на строительстве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0" y="1557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асный глиняный кирпи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готавливают из замешанной с водой глины с последующим формованием, сушкой и обжиг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формованный кирпич (сырец) не должен давать трещин при сушке.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сная окраска кирпича обусловлена наличием в глине оксида желез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II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4788000" y="6093000"/>
            <a:ext cx="1366560" cy="647640"/>
          </a:xfrm>
          <a:prstGeom prst="leftArrow">
            <a:avLst>
              <a:gd name="adj1" fmla="val 50000"/>
              <a:gd name="adj2" fmla="val 52752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">
            <a:hlinkClick r:id="rId4" action="ppaction://hlinksldjump"/>
          </p:cNvPr>
          <p:cNvSpPr/>
          <p:nvPr/>
        </p:nvSpPr>
        <p:spPr>
          <a:xfrm>
            <a:off x="6300720" y="6093000"/>
            <a:ext cx="2735280" cy="647640"/>
          </a:xfrm>
          <a:prstGeom prst="rightArrow">
            <a:avLst>
              <a:gd name="adj1" fmla="val 50000"/>
              <a:gd name="adj2" fmla="val 105586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Силикатный кирпич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80880"/>
            <a:ext cx="5779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Силикатный кирпич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5148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ырьем для силикатного кирпича служи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ве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варцевый песо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Подготовленную массу прессуют и затем подвергают нагреванию (при температуре около 170°C) в автоклаве под действием пара высокого давления. При высокой температуре значительно ускоряется кислотно-основное взаимодействие гидроксида кальция Ca(OH)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диоксидом кремния Si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образованием соли – силиката кальция CaSi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Образование последнего и обеспечивает связку между зернами песка, а следовательно, прочность и долговечность изделия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032360" cy="417672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684360" y="6093000"/>
            <a:ext cx="1366560" cy="647640"/>
          </a:xfrm>
          <a:prstGeom prst="leftArrow">
            <a:avLst>
              <a:gd name="adj1" fmla="val 50000"/>
              <a:gd name="adj2" fmla="val 52752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В меню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2411280" y="6093000"/>
            <a:ext cx="1366920" cy="647640"/>
          </a:xfrm>
          <a:prstGeom prst="rightArrow">
            <a:avLst>
              <a:gd name="adj1" fmla="val 50000"/>
              <a:gd name="adj2" fmla="val 52765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Цемен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66"/>
                </a:solidFill>
                <a:latin typeface="Arial Black"/>
              </a:rPr>
              <a:t>Цемент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бирательное название различных порошкообразных вяжущих веществ, способных при смешении с водой образовывать пластичную массу, приобретающую со временем камневидное состояние. Большинство цементов вяжущими веществами, которые, начав твердеть на воздухе, продолжают твердеть и под водой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-360" y="3428640"/>
            <a:ext cx="5148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основных и наиболее распространенных промышленных цементов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тландце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настоящее время его готовят обжигом до спекания (т.е. до появления жидкой фазы) смеси известняка и алюмосиликатного компонента (глины, шлака, золы)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838680" cy="281772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250920" y="5950080"/>
            <a:ext cx="1511280" cy="647640"/>
          </a:xfrm>
          <a:prstGeom prst="leftArrow">
            <a:avLst>
              <a:gd name="adj1" fmla="val 50000"/>
              <a:gd name="adj2" fmla="val 58338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В меню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1" name="">
            <a:hlinkClick r:id="rId4" action="ppaction://hlinksldjump"/>
          </p:cNvPr>
          <p:cNvSpPr/>
          <p:nvPr/>
        </p:nvSpPr>
        <p:spPr>
          <a:xfrm>
            <a:off x="2050920" y="5950080"/>
            <a:ext cx="2880000" cy="647640"/>
          </a:xfrm>
          <a:prstGeom prst="rightArrow">
            <a:avLst>
              <a:gd name="adj1" fmla="val 50000"/>
              <a:gd name="adj2" fmla="val 111173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Гипсовые изделия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16000" y="333360"/>
            <a:ext cx="6227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Строительные гипсовые </a:t>
            </a: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	</a:t>
            </a: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изделия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ительный гип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ают из природного минерала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сового камн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a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или из минера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гидр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a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также из отходов некоторых отраслей химической индустри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4720" y="2636640"/>
            <a:ext cx="4859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ительный гип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ают прокаливанием природного гипса или ангидрита при температуре около 1300°C. При этой температуре выделяется триоксид серы по реакции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 CaO + 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лучается твердый раствор CaО в Ca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и замешивании с водой измельченный продукт быстро образует очень твердую и плотную массу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11280" y="6093000"/>
            <a:ext cx="1655640" cy="647640"/>
          </a:xfrm>
          <a:prstGeom prst="leftArrow">
            <a:avLst>
              <a:gd name="adj1" fmla="val 50000"/>
              <a:gd name="adj2" fmla="val 63911"/>
            </a:avLst>
          </a:prstGeom>
          <a:solidFill>
            <a:srgbClr val="ffd9b3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6" name="" descr="http://lepnoi-decor.narod.ru/"/>
          <p:cNvPicPr/>
          <p:nvPr/>
        </p:nvPicPr>
        <p:blipFill>
          <a:blip r:embed="rId3"/>
          <a:stretch/>
        </p:blipFill>
        <p:spPr>
          <a:xfrm>
            <a:off x="250920" y="2565360"/>
            <a:ext cx="424800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4" action="ppaction://hlinksldjump"/>
          </p:cNvPr>
          <p:cNvSpPr/>
          <p:nvPr/>
        </p:nvSpPr>
        <p:spPr>
          <a:xfrm>
            <a:off x="2627280" y="6093000"/>
            <a:ext cx="1655640" cy="647640"/>
          </a:xfrm>
          <a:prstGeom prst="rightArrow">
            <a:avLst>
              <a:gd name="adj1" fmla="val 50000"/>
              <a:gd name="adj2" fmla="val 63911"/>
            </a:avLst>
          </a:prstGeom>
          <a:solidFill>
            <a:srgbClr val="ffd9b3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етон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Бетон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03280" y="1916280"/>
            <a:ext cx="5940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т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азновидность искусственных каменных материалов. Для изготовления использую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мен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Составными частями бетона явл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яжущие вещества, вод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олн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бычно сочетают крупные и мелкие наполнители. К крупным относят гравий и щебень, а к мелкому – песок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ествуют ячеистые бетоны, которые содержат мелкие ячейки, занимающие до 85% объема. Эт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нобет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зобет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ервый получают смешением цементного теста с пеной. Для получения газобетона в тесто вводят газообразующие добавки. Обычно – это алюминиевая пудра. Поскольку среда цементного теста щелочная, алюминий взаимодействует со щелочами в соответствии с уравнением: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l + Ca(OH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+ 2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= Ca(Al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яющийся водород и вспучивает цементное тесто, делая его пористым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416400" cy="40636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4211640" y="6021360"/>
            <a:ext cx="1655640" cy="719280"/>
          </a:xfrm>
          <a:prstGeom prst="leftArrow">
            <a:avLst>
              <a:gd name="adj1" fmla="val 50000"/>
              <a:gd name="adj2" fmla="val 57545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66"/>
                </a:solidFill>
                <a:latin typeface="Arial"/>
              </a:rPr>
              <a:t>В меню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6300720" y="6021360"/>
            <a:ext cx="1871640" cy="719280"/>
          </a:xfrm>
          <a:prstGeom prst="rightArrow">
            <a:avLst>
              <a:gd name="adj1" fmla="val 50000"/>
              <a:gd name="adj2" fmla="val 65053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66"/>
                </a:solidFill>
                <a:latin typeface="Arial"/>
              </a:rPr>
              <a:t>Керамика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68000" y="115560"/>
            <a:ext cx="67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Керамика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19280" y="1125360"/>
            <a:ext cx="5724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dff3ff"/>
                </a:solidFill>
                <a:latin typeface="Arial"/>
              </a:rPr>
              <a:t>Керамические изделия</a:t>
            </a:r>
            <a:r>
              <a:rPr b="0" lang="ru-RU" sz="2000" spc="-1" strike="noStrike">
                <a:solidFill>
                  <a:srgbClr val="dff3ff"/>
                </a:solidFill>
                <a:latin typeface="Arial"/>
              </a:rPr>
              <a:t> широко представлены в быту и строительстве. Геологи различают около шестидесяти различных видов глин. Основными свойствами глин являются</a:t>
            </a:r>
            <a:r>
              <a:rPr b="0" i="1" lang="ru-RU" sz="2000" spc="-1" strike="noStrike">
                <a:solidFill>
                  <a:srgbClr val="dff3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ff3ff"/>
                </a:solidFill>
                <a:latin typeface="Arial"/>
              </a:rPr>
              <a:t>пластичность и огнеупорность. Порошок глины, замешанный с водой, образует вязкое тесто, способное формоваться и сохранять приданную ему форму. Обожженное в огне тесто приобретает каменистую твердость и крепость. На этих двух свойствах глины зиждется керамическая промышленность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f3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dff3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dff3ff"/>
                </a:solidFill>
                <a:latin typeface="Arial"/>
              </a:rPr>
              <a:t>В настоящее время керамические материалы делят на </a:t>
            </a:r>
            <a:r>
              <a:rPr b="0" i="1" lang="ru-RU" sz="2000" spc="-1" strike="noStrike">
                <a:solidFill>
                  <a:srgbClr val="dff3ff"/>
                </a:solidFill>
                <a:latin typeface="Arial"/>
              </a:rPr>
              <a:t>грубые</a:t>
            </a:r>
            <a:r>
              <a:rPr b="0" lang="ru-RU" sz="2000" spc="-1" strike="noStrike">
                <a:solidFill>
                  <a:srgbClr val="dff3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dff3ff"/>
                </a:solidFill>
                <a:latin typeface="Arial"/>
              </a:rPr>
              <a:t>тонкие</a:t>
            </a:r>
            <a:r>
              <a:rPr b="0" lang="ru-RU" sz="2000" spc="-1" strike="noStrike">
                <a:solidFill>
                  <a:srgbClr val="dff3ff"/>
                </a:solidFill>
                <a:latin typeface="Arial"/>
              </a:rPr>
              <a:t>. Первые характеризуются высокой пористостью и высоким водопоглощением. Тонкую керамику делят на </a:t>
            </a:r>
            <a:r>
              <a:rPr b="0" i="1" lang="ru-RU" sz="2000" spc="-1" strike="noStrike">
                <a:solidFill>
                  <a:srgbClr val="dff3ff"/>
                </a:solidFill>
                <a:latin typeface="Arial"/>
              </a:rPr>
              <a:t>пористую</a:t>
            </a:r>
            <a:r>
              <a:rPr b="0" lang="ru-RU" sz="2000" spc="-1" strike="noStrike">
                <a:solidFill>
                  <a:srgbClr val="dff3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dff3ff"/>
                </a:solidFill>
                <a:latin typeface="Arial"/>
              </a:rPr>
              <a:t>плотную</a:t>
            </a:r>
            <a:r>
              <a:rPr b="0" lang="ru-RU" sz="2000" spc="-1" strike="noStrike">
                <a:solidFill>
                  <a:srgbClr val="dff3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179280" y="5950080"/>
            <a:ext cx="1656000" cy="755640"/>
          </a:xfrm>
          <a:prstGeom prst="leftArrow">
            <a:avLst>
              <a:gd name="adj1" fmla="val 50000"/>
              <a:gd name="adj2" fmla="val 54788"/>
            </a:avLst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00"/>
                </a:solidFill>
                <a:latin typeface="Arial"/>
              </a:rPr>
              <a:t>В меню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2050920" y="5950080"/>
            <a:ext cx="1800360" cy="755640"/>
          </a:xfrm>
          <a:prstGeom prst="rightArrow">
            <a:avLst>
              <a:gd name="adj1" fmla="val 50000"/>
              <a:gd name="adj2" fmla="val 59564"/>
            </a:avLst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00"/>
                </a:solidFill>
                <a:latin typeface="Arial"/>
              </a:rPr>
              <a:t>Терракота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84360" y="2708280"/>
            <a:ext cx="2614320" cy="29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4897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b3"/>
                </a:solidFill>
                <a:latin typeface="Arial Black"/>
              </a:rPr>
              <a:t>Терракота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751280" cy="561672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d9b3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d9b3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d9b3"/>
                </a:solidFill>
                <a:latin typeface="Arial"/>
              </a:rPr>
              <a:t>Терракота</a:t>
            </a:r>
            <a:r>
              <a:rPr b="0" lang="ru-RU" sz="2100" spc="-1" strike="noStrike">
                <a:solidFill>
                  <a:srgbClr val="ffd9b3"/>
                </a:solidFill>
                <a:latin typeface="Arial"/>
              </a:rPr>
              <a:t> – разновидность </a:t>
            </a:r>
            <a:r>
              <a:rPr b="0" i="1" lang="ru-RU" sz="2100" spc="-1" strike="noStrike">
                <a:solidFill>
                  <a:srgbClr val="ffd9b3"/>
                </a:solidFill>
                <a:latin typeface="Arial"/>
              </a:rPr>
              <a:t>грубой</a:t>
            </a:r>
            <a:r>
              <a:rPr b="0" lang="ru-RU" sz="2100" spc="-1" strike="noStrike">
                <a:solidFill>
                  <a:srgbClr val="ffd9b3"/>
                </a:solidFill>
                <a:latin typeface="Arial"/>
              </a:rPr>
              <a:t> керамики. Терракота выпускается промышленностью в виде неглазурованных однотонных керамических изделий с пористым черепком красного, коричневого или кремового цветов. Цветовой оттенок терракоты в значительной степени зависит от условий обжига. Ее водопоглощение от 8 до 10%.</a:t>
            </a:r>
            <a:endParaRPr b="0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d9b3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d9b3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d9b3"/>
                </a:solidFill>
                <a:latin typeface="Arial"/>
              </a:rPr>
              <a:t>При обжиге глины в атмосфере углеводородов, можно получить керамические изделия серебристо-черных тонов. Этот цвет обусловлен графитом, образующимся при каталитическом разложении углеводородов на поверхности раскаленной глины.</a:t>
            </a:r>
            <a:endParaRPr b="0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5076720" y="5950080"/>
            <a:ext cx="1656000" cy="792000"/>
          </a:xfrm>
          <a:prstGeom prst="leftArrow">
            <a:avLst>
              <a:gd name="adj1" fmla="val 50000"/>
              <a:gd name="adj2" fmla="val 52273"/>
            </a:avLst>
          </a:prstGeom>
          <a:solidFill>
            <a:srgbClr val="ffd9b3">
              <a:alpha val="30000"/>
            </a:srgbClr>
          </a:solidFill>
          <a:ln w="936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меню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1" name="" descr="Картинка 8 из 2308"/>
          <p:cNvPicPr/>
          <p:nvPr/>
        </p:nvPicPr>
        <p:blipFill>
          <a:blip r:embed="rId3"/>
          <a:stretch/>
        </p:blipFill>
        <p:spPr>
          <a:xfrm>
            <a:off x="5003640" y="189000"/>
            <a:ext cx="4032360" cy="561636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7164360" y="5950080"/>
            <a:ext cx="1727280" cy="792000"/>
          </a:xfrm>
          <a:prstGeom prst="rightArrow">
            <a:avLst>
              <a:gd name="adj1" fmla="val 50000"/>
              <a:gd name="adj2" fmla="val 54523"/>
            </a:avLst>
          </a:prstGeom>
          <a:solidFill>
            <a:srgbClr val="ffd9b3">
              <a:alpha val="30000"/>
            </a:srgbClr>
          </a:solidFill>
          <a:ln w="936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йоли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Майолика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108360" y="1557000"/>
            <a:ext cx="5543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йол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крыта глазурью. Глазурь придает изделию влагонепроницаемость, предохраняет от загрязнений, улучшает внешний вид, повышает прочность. Для майолики доступной и дешевой является соляная глазурь. Для ее нанесения на поверхность изделия в топку раскаленной печи (1040...1180°C) вводят каменную соль (NaCl) и водяной пар. При соляном глазуровании происходит гидролиз хлорида натрия. Хорошие глазури имеют состав от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·0,5A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2,8Si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·A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5,5Si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105360" cy="424800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5292720" y="6021360"/>
            <a:ext cx="1511280" cy="719280"/>
          </a:xfrm>
          <a:prstGeom prst="leftArrow">
            <a:avLst>
              <a:gd name="adj1" fmla="val 50000"/>
              <a:gd name="adj2" fmla="val 52528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66"/>
                </a:solidFill>
                <a:latin typeface="Arial"/>
              </a:rPr>
              <a:t>В меню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7381800" y="6021360"/>
            <a:ext cx="1511280" cy="719280"/>
          </a:xfrm>
          <a:prstGeom prst="rightArrow">
            <a:avLst>
              <a:gd name="adj1" fmla="val 50000"/>
              <a:gd name="adj2" fmla="val 52528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66"/>
                </a:solidFill>
                <a:latin typeface="Arial"/>
              </a:rPr>
              <a:t>Фаянс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08000" y="1125360"/>
            <a:ext cx="5076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ян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им содержание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ины (до 85%), высок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истостью,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поглощением (д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%)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тура обжига фаянса вплоть д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50°C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зависимости от качества глины цвет фаянса изменяется от белого до кремового. По причине высокой пористости фаянсы всегда покр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ур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4869000"/>
            <a:ext cx="9144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ллекционеров и ценителей керамики сетка трещин служит признаком возраста изделия. Причиной разрыва глазури и образования трещин является склонность фаянса к обратимому поглощению влаги и набуханию, вследствие чего объем черепка увеличивается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0" name="" descr="Картинка 17 из 1693"/>
          <p:cNvPicPr/>
          <p:nvPr/>
        </p:nvPicPr>
        <p:blipFill>
          <a:blip r:embed="rId2"/>
          <a:stretch/>
        </p:blipFill>
        <p:spPr>
          <a:xfrm>
            <a:off x="5038560" y="115920"/>
            <a:ext cx="4105440" cy="43210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3"/>
          <p:cNvSpPr>
            <a:spLocks noGrp="1"/>
          </p:cNvSpPr>
          <p:nvPr>
            <p:ph type="title"/>
          </p:nvPr>
        </p:nvSpPr>
        <p:spPr>
          <a:xfrm>
            <a:off x="3708360" y="11556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f0f6a"/>
                </a:solidFill>
                <a:latin typeface="Arial Black"/>
              </a:rPr>
              <a:t>Фаянс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4643280" y="6093000"/>
            <a:ext cx="1800360" cy="647640"/>
          </a:xfrm>
          <a:prstGeom prst="leftArrow">
            <a:avLst>
              <a:gd name="adj1" fmla="val 50000"/>
              <a:gd name="adj2" fmla="val 69497"/>
            </a:avLst>
          </a:prstGeom>
          <a:solidFill>
            <a:srgbClr val="f0d4e5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В меню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6588000" y="6093000"/>
            <a:ext cx="1800360" cy="647640"/>
          </a:xfrm>
          <a:prstGeom prst="rightArrow">
            <a:avLst>
              <a:gd name="adj1" fmla="val 50000"/>
              <a:gd name="adj2" fmla="val 69497"/>
            </a:avLst>
          </a:prstGeom>
          <a:solidFill>
            <a:srgbClr val="f0d4e5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Фарфор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Фарфор</a:t>
            </a:r>
            <a:endParaRPr b="0" lang="en-US" sz="54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313080" cy="4321440"/>
          </a:xfrm>
          <a:prstGeom prst="rect">
            <a:avLst/>
          </a:prstGeom>
          <a:ln w="57240">
            <a:solidFill>
              <a:srgbClr val="ffcc99"/>
            </a:solidFill>
            <a:miter/>
          </a:ln>
        </p:spPr>
      </p:pic>
      <p:sp>
        <p:nvSpPr>
          <p:cNvPr id="226" name="">
            <a:hlinkClick r:id="rId3" action="ppaction://hlinksldjump"/>
          </p:cNvPr>
          <p:cNvSpPr/>
          <p:nvPr/>
        </p:nvSpPr>
        <p:spPr>
          <a:xfrm>
            <a:off x="108000" y="5589720"/>
            <a:ext cx="1727280" cy="647640"/>
          </a:xfrm>
          <a:prstGeom prst="leftArrow">
            <a:avLst>
              <a:gd name="adj1" fmla="val 50000"/>
              <a:gd name="adj2" fmla="val 66676"/>
            </a:avLst>
          </a:prstGeom>
          <a:solidFill>
            <a:srgbClr val="ffd9b3">
              <a:alpha val="30000"/>
            </a:srgbClr>
          </a:soli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">
            <a:hlinkClick r:id="rId4" action="ppaction://hlinksldjump"/>
          </p:cNvPr>
          <p:cNvSpPr/>
          <p:nvPr/>
        </p:nvSpPr>
        <p:spPr>
          <a:xfrm>
            <a:off x="826920" y="609300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solidFill>
            <a:srgbClr val="ffd9b3">
              <a:alpha val="30000"/>
            </a:srgbClr>
          </a:soli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исквитный фарфор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76720" y="980640"/>
            <a:ext cx="57592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e8d1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e8d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рф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атериал, состоящий из каолина, глины, кварца и полевого шпата. Различают две основные разновидности фарфора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верд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 небольшими добавками плавня (полевого шпата) и потому обжигаемый при высокой температуре (1380...1460°C). Масса состоит из 25% кварца, 25% полевого шпата и 50% каолина и глины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ягк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 повышенным содержанием плавней, обжигаемый при температуре 1200...1280°C. Кроме полевого шпата в качестве плавней используют мрамор, доломит, магнезит, жженую кость или фосфорит. С увеличением содержания плавней улучшается просвечиваемость фарфора, но снижаются прочность и термостойкость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4788000" cy="1066680"/>
          </a:xfrm>
          <a:prstGeom prst="rect">
            <a:avLst/>
          </a:prstGeom>
          <a:solidFill>
            <a:srgbClr val="0000ff">
              <a:alpha val="20000"/>
            </a:srgbClr>
          </a:solidFill>
          <a:ln w="76320">
            <a:solidFill>
              <a:srgbClr val="3366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тирка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9144000" cy="227664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дно из важных свойств ПАВ — способность дробить загрязнения на мельчайшие частицы и удерживать их в воде, не давая снова осесть на ткань. </a:t>
            </a:r>
            <a:endParaRPr b="0" lang="en-US" sz="2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-360" y="980640"/>
            <a:ext cx="5651640" cy="3600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dddddd"/>
                </a:solidFill>
                <a:latin typeface="Arial"/>
              </a:rPr>
              <a:t>При стирке необходимо, чтобы грязь перешла с ткани в моющий раствор, в воду. </a:t>
            </a: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Это достигается с помощью 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поверхностно-активных веществ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(ПАВ), к числу которых относится и мыло. </a:t>
            </a:r>
            <a:endParaRPr b="0" lang="en-US" sz="29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51640" y="115920"/>
            <a:ext cx="3384360" cy="44654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4859280" y="6308640"/>
            <a:ext cx="1513080" cy="549360"/>
          </a:xfrm>
          <a:prstGeom prst="leftArrow">
            <a:avLst>
              <a:gd name="adj1" fmla="val 50000"/>
              <a:gd name="adj2" fmla="val 68856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6732720" y="6307200"/>
            <a:ext cx="2158920" cy="550800"/>
          </a:xfrm>
          <a:prstGeom prst="rightArrow">
            <a:avLst>
              <a:gd name="adj1" fmla="val 50000"/>
              <a:gd name="adj2" fmla="val 97990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краска тканей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31640" y="380880"/>
            <a:ext cx="570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 Black"/>
              </a:rPr>
              <a:t>Бисквитный фарфор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175280" y="1700280"/>
            <a:ext cx="496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рфор бисквит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атовый, без глазур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мнение, что бисквитным его называют по причине двукратного обжига. Приставка «бис» во многих языках означают дв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оизводстве фарфора сначала производят обжиг, который называют утильным, а затем следует обжиг при глазуровании. Бисквитный фарфор также обжигается дважды, но второй раз без глазури. В настоящее время технология производства бисквитного фарфора может и не включать второго обжиг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1" name="" descr="Картинка 4 из 17"/>
          <p:cNvPicPr/>
          <p:nvPr/>
        </p:nvPicPr>
        <p:blipFill>
          <a:blip r:embed="rId2"/>
          <a:stretch/>
        </p:blipFill>
        <p:spPr>
          <a:xfrm>
            <a:off x="395280" y="1700280"/>
            <a:ext cx="3782880" cy="48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4284720" y="6093000"/>
            <a:ext cx="1655640" cy="647640"/>
          </a:xfrm>
          <a:prstGeom prst="leftArrow">
            <a:avLst>
              <a:gd name="adj1" fmla="val 50000"/>
              <a:gd name="adj2" fmla="val 63911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В меню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">
            <a:hlinkClick r:id="rId4" action="ppaction://hlinksldjump"/>
          </p:cNvPr>
          <p:cNvSpPr/>
          <p:nvPr/>
        </p:nvSpPr>
        <p:spPr>
          <a:xfrm>
            <a:off x="6156360" y="6093000"/>
            <a:ext cx="2879640" cy="647640"/>
          </a:xfrm>
          <a:prstGeom prst="rightArrow">
            <a:avLst>
              <a:gd name="adj1" fmla="val 50000"/>
              <a:gd name="adj2" fmla="val 111159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Костяной фарфор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10820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66"/>
                </a:solidFill>
                <a:latin typeface="Arial Black"/>
              </a:rPr>
              <a:t>Костяной</a:t>
            </a:r>
            <a:r>
              <a:rPr b="1" lang="ru-RU" sz="44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ccff66"/>
                </a:solidFill>
                <a:latin typeface="Arial Black"/>
              </a:rPr>
              <a:t>фарфор</a:t>
            </a:r>
            <a:endParaRPr b="0" lang="en-US" sz="44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4465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арфор костя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мягкий фарфор, непременной составной частью которого является зола костей крупного рогатого скота, состоящая главным образом из фосфата кальция. В настоящее время ее иногда заменяют природными фосфатами кальция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готовленные из костяного фарфора изделия характеризуются высокой просвечиваемостью, декоративностью и белизной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6" name="" descr="Картинка 1 из 225"/>
          <p:cNvPicPr/>
          <p:nvPr/>
        </p:nvPicPr>
        <p:blipFill>
          <a:blip r:embed="rId2"/>
          <a:srcRect l="22181" t="0" r="20803" b="0"/>
          <a:stretch/>
        </p:blipFill>
        <p:spPr>
          <a:xfrm>
            <a:off x="4859280" y="1628640"/>
            <a:ext cx="4033800" cy="489744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179280" y="5950080"/>
            <a:ext cx="1440000" cy="647640"/>
          </a:xfrm>
          <a:prstGeom prst="leftArrow">
            <a:avLst>
              <a:gd name="adj1" fmla="val 50000"/>
              <a:gd name="adj2" fmla="val 55586"/>
            </a:avLst>
          </a:prstGeom>
          <a:solidFill>
            <a:srgbClr val="f0d4e5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8" name="">
            <a:hlinkClick r:id="rId4" action="ppaction://hlinksldjump"/>
          </p:cNvPr>
          <p:cNvSpPr/>
          <p:nvPr/>
        </p:nvSpPr>
        <p:spPr>
          <a:xfrm>
            <a:off x="1763640" y="5950080"/>
            <a:ext cx="2951280" cy="647640"/>
          </a:xfrm>
          <a:prstGeom prst="rightArrow">
            <a:avLst>
              <a:gd name="adj1" fmla="val 50000"/>
              <a:gd name="adj2" fmla="val 113924"/>
            </a:avLst>
          </a:prstGeom>
          <a:solidFill>
            <a:srgbClr val="f0d4e5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Фриттованный фарфор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Arial Black"/>
              </a:rPr>
              <a:t>Фриттованный фарфор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00360" y="2707920"/>
            <a:ext cx="45003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ит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мпозиционные добавки к фарфоровой массе, обеспечивающие образование стекловидной фазы, а следовательно, и обусловливающие просвечиваемость фарфора. В состав фритт входят: песок, сода, селитра, гипс, поваренная соль и измельченное свинцовое стекло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2560" y="1628280"/>
            <a:ext cx="9001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рфор фриттован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хорошо просвечиваемый мягкий фарфор. Он содержит 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0% каолина, 2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% кварца, 2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% богатой щелочью стекольной фритты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2" name="" descr="Картинка 3 из 80"/>
          <p:cNvPicPr/>
          <p:nvPr/>
        </p:nvPicPr>
        <p:blipFill>
          <a:blip r:embed="rId2"/>
          <a:stretch/>
        </p:blipFill>
        <p:spPr>
          <a:xfrm>
            <a:off x="179280" y="2781360"/>
            <a:ext cx="4537080" cy="32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4500720" y="6093000"/>
            <a:ext cx="1655640" cy="647640"/>
          </a:xfrm>
          <a:prstGeom prst="leftArrow">
            <a:avLst>
              <a:gd name="adj1" fmla="val 50000"/>
              <a:gd name="adj2" fmla="val 63911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В меню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4" name="">
            <a:hlinkClick r:id="rId4" action="ppaction://hlinksldjump"/>
          </p:cNvPr>
          <p:cNvSpPr/>
          <p:nvPr/>
        </p:nvSpPr>
        <p:spPr>
          <a:xfrm>
            <a:off x="6300720" y="6093000"/>
            <a:ext cx="2735280" cy="647640"/>
          </a:xfrm>
          <a:prstGeom prst="rightArrow">
            <a:avLst>
              <a:gd name="adj1" fmla="val 50000"/>
              <a:gd name="adj2" fmla="val 105586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Глиняная посуд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 Black"/>
              </a:rPr>
              <a:t>Глиняная посуда</a:t>
            </a:r>
            <a:endParaRPr b="0" lang="en-US" sz="44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859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посуда характеризуется чрезвычайно плотным белым или окрашенным черепком. Черепок не просвечивает даже в тонких слоях и характеризуется водопоглощением, не превышающим 7%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рьем для каменной керамики служит глина, смешанная с полевым шпатом, кварцем, шамотом и другими веществами. Обжиг проводили при температуре 12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80°C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508720" y="981000"/>
            <a:ext cx="3263760" cy="5121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6300720" y="6237360"/>
            <a:ext cx="1656000" cy="503280"/>
          </a:xfrm>
          <a:prstGeom prst="leftArrow">
            <a:avLst>
              <a:gd name="adj1" fmla="val 50000"/>
              <a:gd name="adj2" fmla="val 82260"/>
            </a:avLst>
          </a:prstGeom>
          <a:solidFill>
            <a:srgbClr val="ffd9b3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802800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Список использованных материалов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79640" y="1752120"/>
            <a:ext cx="69357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3b5cf"/>
                </a:solidFill>
                <a:uFillTx/>
                <a:latin typeface="Arial"/>
                <a:hlinkClick r:id="rId2"/>
              </a:rPr>
              <a:t>http://ru.wikipedia.or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3b5cf"/>
                </a:solidFill>
                <a:uFillTx/>
                <a:latin typeface="Arial"/>
                <a:hlinkClick r:id="rId3"/>
              </a:rPr>
              <a:t>http://schoolchemistry.by.r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3b5cf"/>
                </a:solidFill>
                <a:uFillTx/>
                <a:latin typeface="Arial"/>
                <a:hlinkClick r:id="rId4"/>
              </a:rPr>
              <a:t>http://www.alhimikov.ne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3b5cf"/>
                </a:solidFill>
                <a:uFillTx/>
                <a:latin typeface="Arial"/>
                <a:hlinkClick r:id="rId5"/>
              </a:rPr>
              <a:t>http://www.periodictable.r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3b5cf"/>
                </a:solidFill>
                <a:uFillTx/>
                <a:latin typeface="Arial"/>
                <a:hlinkClick r:id="rId6"/>
              </a:rPr>
              <a:t>http://www.chem.isu.ru/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3b5cf"/>
                </a:solidFill>
                <a:uFillTx/>
                <a:latin typeface="Arial"/>
                <a:hlinkClick r:id="rId7"/>
              </a:rPr>
              <a:t>http://www.xumuk.ru/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3b5cf"/>
                </a:solidFill>
                <a:uFillTx/>
                <a:latin typeface="Arial"/>
                <a:hlinkClick r:id="rId8"/>
              </a:rPr>
              <a:t>http://himia.ucoz.ru/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92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0057"/>
                </a:solidFill>
                <a:latin typeface="Arial Black"/>
              </a:rPr>
              <a:t>Окраска тканей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87280" y="980640"/>
            <a:ext cx="615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ители быв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ля хлопчатобумажных тканей),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слот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ля шерсти),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спер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капрона, нейлона и ацетатного шелка),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тио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нитрона),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хлопчатобумажных, льняных тканей)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ниверса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ерекраске цветных тканей оттенки получаются другие, всегда более темные и насыщенные. Кроме того, не удается закрасить набивной рисунок на ткани или сильно выгоревшие места.</a:t>
            </a:r>
            <a:r>
              <a:rPr b="0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108000" y="6093000"/>
            <a:ext cx="1403280" cy="620640"/>
          </a:xfrm>
          <a:prstGeom prst="leftArrow">
            <a:avLst>
              <a:gd name="adj1" fmla="val 50000"/>
              <a:gd name="adj2" fmla="val 5652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6" name="" descr="Картинка 4 из 457"/>
          <p:cNvPicPr/>
          <p:nvPr/>
        </p:nvPicPr>
        <p:blipFill>
          <a:blip r:embed="rId2"/>
          <a:srcRect l="0" t="8426" r="0" b="10660"/>
          <a:stretch/>
        </p:blipFill>
        <p:spPr>
          <a:xfrm>
            <a:off x="108000" y="1268280"/>
            <a:ext cx="3168720" cy="46101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1835280" y="6093000"/>
            <a:ext cx="1298520" cy="618840"/>
          </a:xfrm>
          <a:prstGeom prst="rightArrow">
            <a:avLst>
              <a:gd name="adj1" fmla="val 50000"/>
              <a:gd name="adj2" fmla="val 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ор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3280" cy="1066680"/>
          </a:xfrm>
          <a:prstGeom prst="rect">
            <a:avLst/>
          </a:prstGeom>
          <a:noFill/>
          <a:ln w="9360">
            <a:solidFill>
              <a:srgbClr val="ffc285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Уборка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181440" y="1052280"/>
            <a:ext cx="482436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ую мебель отделывают различными лаками и эмалями, строганной фанерой из твердых лиственных пород, слоистыми пластиками и синтетическими материалами. Поэтому уход за мебелью теперь просто невозможен без разнообразных химических средств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пачкаются оконные стекла и подоконники, покрытые масляными краскам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6308640"/>
            <a:ext cx="1656000" cy="549360"/>
          </a:xfrm>
          <a:prstGeom prst="leftArrow">
            <a:avLst>
              <a:gd name="adj1" fmla="val 50000"/>
              <a:gd name="adj2" fmla="val 7536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6308640"/>
            <a:ext cx="2051280" cy="549360"/>
          </a:xfrm>
          <a:prstGeom prst="rightArrow">
            <a:avLst>
              <a:gd name="adj1" fmla="val 50000"/>
              <a:gd name="adj2" fmla="val 9334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од за полом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91160" y="260280"/>
            <a:ext cx="4281480" cy="64087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56000" y="0"/>
            <a:ext cx="478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Уход за полом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32000" y="980640"/>
            <a:ext cx="601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мытье пола водой с мыл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грязь полностью удаляется, но такой способ не способствует длительной сохранности деревянных полов: вода попадает в щели, древесина набухает и деформируется.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йчас созда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ирующие средст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торые позволяют одновременно удалять грязь с полов и натирать их. При использовании таких средств отпадает необходимость часто мыть полы — достаточно протирать их влажной тряпкой и время от времени наносить полирующий состав.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179280" y="5300640"/>
            <a:ext cx="2054160" cy="720720"/>
          </a:xfrm>
          <a:prstGeom prst="leftArrow">
            <a:avLst>
              <a:gd name="adj1" fmla="val 50000"/>
              <a:gd name="adj2" fmla="val 71254"/>
            </a:avLst>
          </a:prstGeom>
          <a:solidFill>
            <a:srgbClr val="ffe8d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3779640" cy="512748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971640" y="6021360"/>
            <a:ext cx="2054160" cy="719280"/>
          </a:xfrm>
          <a:prstGeom prst="rightArrow">
            <a:avLst>
              <a:gd name="adj1" fmla="val 50000"/>
              <a:gd name="adj2" fmla="val 71396"/>
            </a:avLst>
          </a:prstGeom>
          <a:solidFill>
            <a:srgbClr val="ffe8d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ки и эмал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ff66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раски и эмали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796000" cy="5805360"/>
          </a:xfrm>
          <a:prstGeom prst="rect">
            <a:avLst/>
          </a:prstGeom>
          <a:solidFill>
            <a:srgbClr val="ccff66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ой красок и эмалей являю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ующ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они после высыхания краски образуют на окрашиваемой поверхности сплошную тонкую твердую пленку. Наиболее распространены следующие связующие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нер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цемент, известь, жидкое стекло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лее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казеиновые или декстриновые клеи, крахмал, костный клей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лифы, поливиниловый спирт, нитрат целлюлозы, кремнийорганические соединения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имо связующих в состав красок входя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гме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придают краскам цвет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олн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вор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ав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также различные вещества, способствующие образованию пленки на окрашиваемой поверхности и регулирующие скорость этого процесс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867280" y="6308640"/>
            <a:ext cx="1366920" cy="549360"/>
          </a:xfrm>
          <a:prstGeom prst="leftArrow">
            <a:avLst>
              <a:gd name="adj1" fmla="val 50000"/>
              <a:gd name="adj2" fmla="val 62205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810400" y="1052640"/>
            <a:ext cx="3333600" cy="51847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7596360" y="6307200"/>
            <a:ext cx="1366560" cy="550800"/>
          </a:xfrm>
          <a:prstGeom prst="rightArrow">
            <a:avLst>
              <a:gd name="adj1" fmla="val 50000"/>
              <a:gd name="adj2" fmla="val 62026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Кле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afcf"/>
                </a:solidFill>
                <a:latin typeface="Arial Black"/>
              </a:rPr>
              <a:t>Клеи</a:t>
            </a:r>
            <a:endParaRPr b="0" lang="en-US" sz="44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48000" y="981000"/>
            <a:ext cx="5796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de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de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Одни </a:t>
            </a:r>
            <a:r>
              <a:rPr b="1" lang="ru-RU" sz="2200" spc="-1" strike="noStrike">
                <a:solidFill>
                  <a:srgbClr val="ffcde1"/>
                </a:solidFill>
                <a:latin typeface="Arial"/>
              </a:rPr>
              <a:t>клеи приготовлены</a:t>
            </a: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 на воде или органических растворителях, и когда растворитель испаряется, остается твердая пленка из основного материала клея. Пленка других клеев образуется в результате химических реакций.</a:t>
            </a: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cde1"/>
                </a:solidFill>
                <a:latin typeface="Arial"/>
              </a:rPr>
              <a:t>Универсальными</a:t>
            </a: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 называют такие клеи, с помощью которых можно соединить несколько различных материалов.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cde1"/>
                </a:solidFill>
                <a:latin typeface="Arial"/>
              </a:rPr>
              <a:t>Сейчас в продажу поступает около 50 различных клеев, герметиков, мастик и замазок, не считая так называемых изделий с остаточной липкостью — липких лент, самоклеющихся обоев и т. д.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076720" y="6354720"/>
            <a:ext cx="1441440" cy="503280"/>
          </a:xfrm>
          <a:prstGeom prst="leftArrow">
            <a:avLst>
              <a:gd name="adj1" fmla="val 50000"/>
              <a:gd name="adj2" fmla="val 71602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3322800" cy="5105520"/>
          </a:xfrm>
          <a:prstGeom prst="rect">
            <a:avLst/>
          </a:prstGeom>
          <a:ln w="76320">
            <a:solidFill>
              <a:srgbClr val="ffcde1"/>
            </a:solidFill>
            <a:miter/>
          </a:ln>
        </p:spPr>
      </p:pic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6948360" y="6372360"/>
            <a:ext cx="1874880" cy="485640"/>
          </a:xfrm>
          <a:prstGeom prst="rightArrow">
            <a:avLst>
              <a:gd name="adj1" fmla="val 50000"/>
              <a:gd name="adj2" fmla="val 96516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Инсектициды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Arial Black"/>
              </a:rPr>
              <a:t>Во всеоружии против тараканов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635280" cy="5300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6950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Многие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химические средства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для уничтожения тараканов выпускаются в виде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орошков и жидких препаратов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. Именно в этих формах достигается наибольший эффект от применения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инсектицидов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, составляющих основу средств данного назначения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395280" y="5877000"/>
            <a:ext cx="1582920" cy="549360"/>
          </a:xfrm>
          <a:prstGeom prst="leftArrow">
            <a:avLst>
              <a:gd name="adj1" fmla="val 50000"/>
              <a:gd name="adj2" fmla="val 72035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2484360" y="5877000"/>
            <a:ext cx="2158920" cy="550800"/>
          </a:xfrm>
          <a:prstGeom prst="rightArrow">
            <a:avLst>
              <a:gd name="adj1" fmla="val 50000"/>
              <a:gd name="adj2" fmla="val 97990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Космети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9:56:56Z</dcterms:created>
  <dc:creator>Angel-of-Death</dc:creator>
  <dc:description/>
  <cp:keywords/>
  <dc:language>en-US</dc:language>
  <cp:lastModifiedBy>Владелец</cp:lastModifiedBy>
  <dcterms:modified xsi:type="dcterms:W3CDTF">2009-01-19T10:47:23Z</dcterms:modified>
  <cp:revision>1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49</vt:lpwstr>
  </property>
</Properties>
</file>