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68EF-6CD5-400C-B320-D3C255E5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FB0-39C9-4247-99BE-25D94592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7C09-5EB8-42C6-95AB-E25204FB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0B9-9D1B-4521-B300-8DDC1B92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8373-927C-4C56-A778-3F65052F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A687-08DB-440D-9025-F255AD6F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757B-DD18-4C1F-912C-64DB7324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6736-1D3A-4DFE-ACA4-4A26D769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9A81-ADD5-4BE2-BEE1-474E2123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D19A-D22F-4AB5-9BE9-051D2811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F07B-A295-4227-A386-955E0EBB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4E7-DEE5-4097-99E7-0999C06F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9ACE-197F-495A-8457-A2C4C9CE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C1B6-AC6C-4E8D-B383-2F1E619E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FB27-7A36-4C49-8A30-F6E47D18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8543-0536-4DEB-A6C7-3EEECE57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C53D-D2B0-4B44-B3BA-B2F39EF0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9BA-DA81-4880-83AD-50F5DCC0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1CA-794D-4CFF-AFDE-47DE7780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0E8-7593-4CF4-AB5C-B34A89F2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EBA-12CB-4475-8601-A50F16B0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BE7-33B6-402C-A4F2-5DD6C6F4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9012-2F7E-4B72-B77A-5F88A76C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B297-9184-4DE9-8C6F-D7631617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157C-A9DF-4B87-B190-DCFD02DFBA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B9CE-75CC-41E7-BACE-B2E6F781F0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38188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Гуси – выгода для моей семьи!?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востиков Алекс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б класс МОУ СОШ №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72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Расчет расходов на выращивание молодняка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Расчет финансовых расходов на выращивание молодняка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839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Расчет расходов на выращивание взрослых гус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38095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дная таблица затр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915400" cy="202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76320" y="4343400"/>
          <a:ext cx="8970840" cy="129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4343400"/>
                    <a:ext cx="89708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Результаты продуктивности «выхода» взрослых пород гус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Арзамасские гус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Горьковские гус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Китайские гус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Кубанские гус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Холмогорские гус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того: ≈ 121 к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14400" y="1746360"/>
            <a:ext cx="9172800" cy="600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-14400" y="2743200"/>
            <a:ext cx="9172800" cy="609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-9360" y="3772080"/>
            <a:ext cx="9162720" cy="628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-9360" y="4822920"/>
            <a:ext cx="9162720" cy="600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-9360" y="5848200"/>
            <a:ext cx="91627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Самые рентабельные породы гус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результатам моих расчетов наиболее рентабельными породами гусей можно считать Кубанскую и Холмогорскую, так как при одинаковых условиях содержания они набрали наибольший ве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Формула рентабельности выращивания гус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 = Сумма дохода – Сумма зат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мма затрат – 1625 р. + 2800 р. = 4425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мма дохода – складываем её из стоимости мяса гусей, субпроду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яс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ч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бпродукты, ш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усиный ж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того: 13940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 = 13940 – 4425 = 9515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еще хочу добавить,  что из гусиного пуха мама сделала нам всем по новой подуш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4440" y="2575080"/>
            <a:ext cx="8561520" cy="564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70000" y="3381480"/>
            <a:ext cx="8542080" cy="581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70000" y="4210200"/>
            <a:ext cx="8542080" cy="546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60280" y="5006880"/>
            <a:ext cx="8551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5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500"/>
                            </p:stCondLst>
                            <p:childTnLst>
                              <p:par>
                                <p:cTn id="4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000"/>
                            </p:stCondLst>
                            <p:childTnLst>
                              <p:par>
                                <p:cTn id="4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3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7500"/>
                            </p:stCondLst>
                            <p:childTnLst>
                              <p:par>
                                <p:cTn id="4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3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ля моей семьи выращивание гусей на приусадебном участке выгодно, так как рентабельность составила 9515 р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аиболее продуктивные породы гусей – Кубанская и Холмогорска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ясо одного гуся мы расходуем в течение 1 недели. Значит, 29 гусей хватит нам на 29 недель. А если учесть другие продукты, то всего наша семья будет в течение 30-32 недель обеспечена качественным мясом. Гусиный жир, также используется в пищу. А на новых подушках всем членам семьи замечательно спитс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а следующий год мы решили продолжить разведение гусей. Я думаю, что результат получится еще более высоким, так как наши гуси нанесут нам достаточное количество яиц, а, следовательно, уменьшатся затрат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30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Экспериментально-математическим путем выяснить, рентабельно ли для моей семьи разводить гусей на нашем приусадебном участк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30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Рассчитать затраты на содержание гусей с момента приобретения яиц для закладки в инкубатор до момента получения продуктов питания и пух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30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Определить, выгодно ли для моей семьи содержать гусей в домашнем хозяйств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30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Выяснить, какие породы гусей более рентабель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30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Гипотеза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уси – домашние птицы, разведение которых помогает экономии семейного бюджета нашей семь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Породы гусей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замасские гус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90920" y="2311560"/>
            <a:ext cx="58482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0" y="2092320"/>
            <a:ext cx="5859360" cy="40035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Породы гусей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рьковские гус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959200" y="2057400"/>
            <a:ext cx="5422680" cy="3940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Породы гусей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тайские гус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12920" y="2057400"/>
            <a:ext cx="6093000" cy="3952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Породы гусей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банские гус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Породы гусей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лмогорские гуси (серы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8120" y="2389320"/>
            <a:ext cx="51894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Породы гусей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лмогорские гуси (белы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518652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Описание семейного эксперимента по разведению гус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упка гусиных яиц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2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8.01.07 – 30 штук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2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8.02.07 – 30 штук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2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0.03.07 – 30 штук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2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1.04.07 – 22 штук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ладка в инкубатор «Петушок» для получения гус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2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облюдение температурного режима для инкубирования – 37-37,5</a:t>
            </a:r>
            <a:r>
              <a:rPr b="0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 при влажности воздуха 75-85% в течение всего времени (28-30 суток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2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аждое яйцо необходимо в течение суток 4-5 раз переворачивать (инкубатор это делает автоматически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2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а 10 сутки производится выбраковка «пустых» яиц при помощи овоскопа (рис 6) для просмотра яиц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2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сле выбраковки оставшиеся яйца продолжили инкубировать до появления гуся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2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ыход гусят из заложенных яиц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партия – 11 штук (33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партия – 16 штук (5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партия – 15 штук (5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партия – 8 штук (43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За весь период инкубировано 52 гус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щивание молодня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орм взрослой пт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2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лучение продуктов питания и пух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5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5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5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50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елоусов Игорь Александрович</cp:lastModifiedBy>
  <dcterms:modified xsi:type="dcterms:W3CDTF">2008-03-26T14:16:5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