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23.wmf" ContentType="image/x-wmf"/>
  <Override PartName="/ppt/media/image6.jpeg" ContentType="image/jpeg"/>
  <Override PartName="/ppt/media/image5.jpeg" ContentType="image/jpeg"/>
  <Override PartName="/ppt/media/image26.jpeg" ContentType="image/jpeg"/>
  <Override PartName="/ppt/media/image22.wmf" ContentType="image/x-wmf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21.wmf" ContentType="image/x-wmf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4.jpeg" ContentType="image/jpeg"/>
  <Override PartName="/ppt/media/image3.jpeg" ContentType="image/jpeg"/>
  <Override PartName="/ppt/media/image4.jpeg" ContentType="image/jpeg"/>
  <Override PartName="/ppt/media/image2.png" ContentType="image/png"/>
  <Override PartName="/ppt/media/image25.jpeg" ContentType="image/jpeg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2F961-0689-48F0-887E-6882C5956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5F3DA-859F-4843-8C2D-8D62B9E2A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037D70-E730-427E-93E8-92493B3CA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48D13B-4CBA-4206-8DD8-2619DA297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2288BC-5DB0-4069-ACA1-62A798FB1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DB46C2-83A8-4C48-81A9-1C25DFE11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83E56B-96EA-4CEB-A6CC-9685D096E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DF6EEB-0029-4F8B-AC7B-2149DB37F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DD0CDD-8AA0-4E8A-94A2-ED2A9CF58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DACE77-E817-4F86-BB6C-C4FA32EC1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5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6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DDE13B-D47A-4692-8490-98B18C62A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C83AD-2BB1-4D36-A3EB-F93BBB055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A72AF-E8E9-4A19-924C-75613DFA7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A11D1-C855-4CC4-9BD9-6A191B45B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422E5-A3CF-4D44-8A14-0EC7B4FA0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5AF99-7243-4BEB-9F23-DBA331A87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7FF27-C361-413C-973A-04EC0A655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9A110-6EC1-4F6E-9D6D-F2C9D353C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19AFB-3AA0-4922-BA13-D47824546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6F1B3-26C3-4D27-AE92-3DD562DF3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BE141-7CB6-4EBA-B2DE-9DD4D482A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51E3A-A512-4E41-992F-5D2130742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FA0FC-9B78-466F-938E-1EDE0967B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D883D-7E85-4788-9D9A-871F67602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F895A-AE4C-4634-B8A5-202A020D2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6D3A2-E23C-4CC3-87F7-F6A764253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4BB5A8-7F16-4CFE-9B6E-11F4541D9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FC661D-29BF-4819-B6A0-2A8A2F06B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426F0D-0653-4741-8664-6FB611280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DA9534-1FB8-495B-88D8-D5E14F227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7513A2-E4C4-46DC-98E9-CD6E4775F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A0C9D-8C01-4CFA-BC07-7E4A93CCE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7E8CDE-D697-48C9-910B-37F14DAAA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3B5F49-D1E2-4D39-9EB0-903A75012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A14F86-E829-4FA1-9F02-DE47535B6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CE1249-2C88-4F97-B1C1-AE5718964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552644-4258-412A-A7C8-15859BB45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B646AA-F083-43FA-A112-C4DF50B9A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2BE01D-3282-48C4-8B4A-2B026625A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B4E937-852D-4BD2-907D-03C9A7DB6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F07FE1-C6BD-46D9-995A-7E999D899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F2D605-0806-4B07-9B41-E7308C8A7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694D3-E7B5-4440-9346-7D2413C3A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7430A6-3BF0-4FCD-A269-04EC8FAC3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5EAA30-C5A4-4A7C-98E0-5D7B8EA96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835B02-C967-4688-8EFD-7D6FB6A8D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1B24A4-BED6-4834-B981-037CEA613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97E84F-5BAF-49AF-B2CA-C901BFF95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E7446F-F0CC-4CBD-9DD9-DB2B57A2E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AC7134-14BC-4F82-B679-383EB63EB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E4B972-054D-4255-B24B-CC76E0B69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93C9E2-F18A-4226-906F-C135FB840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15A1369-AFE9-47CD-A4A2-A40281BAC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C65A1-BE38-44EC-B793-D371109FA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393F62B-E8DC-4B05-B86D-FE1043B6B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16DF5E1-9147-48EF-8EC6-C8C56FF14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DD127BC-0764-4278-A2AE-ACEDFA675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0B3F06B-11D1-4D6C-AB06-AC6AFDD8B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C44631F-2CB3-46EA-8B18-C652A5A89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6142149-2867-49D9-AF4D-A7A89E152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402DD16-0F3E-4608-BDF3-DD23F056F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5A58FFF-72BF-4ACC-857A-3E659431C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846496F-5735-4B66-A361-01CF126C6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7A99C49-6C20-4D89-A43E-A53CD1C93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79E7C-9135-4F65-9BDE-396643FE4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626EC67-B756-462C-8FA2-5CED55ABA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0F375F-C359-49FE-99EC-2B58A7C3A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0CFDFB-638D-47C2-81B2-02CCD0442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14D07E-3FBA-4218-BDDC-18CFDB8DD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5C0508-3DDE-4EF1-9F92-9DEFF653D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922EDE-8C18-4139-918E-4B2450361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005403-3D46-46BF-9D62-2C7DB1B05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7B7340-1489-43D1-BA13-AE07F311F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464EC6-7607-48CC-8C09-2AFAF25C4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BBACB4-4CD5-4E82-BE2A-65BFBDAA7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BDFBA-10C1-4D03-93D2-B5ED399BA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BE338F-E79D-4699-9CEA-C67342CCE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F81CB0-405D-44B1-A190-EC0A0F5FB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45C612-48BF-451A-8B11-BFABC3764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0EAA9B-18ED-4038-9B3C-444ED49CC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28CC38-728A-4AB8-ABE8-3B19BE9D9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33979E-3177-4BD8-A733-466A1DB5E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4FC0B9-7F24-4F5B-9D88-13BB42DD3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3FF559-CC32-4000-8378-9C3BF56D9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DC1E5B-9AB3-44BF-9E1B-11F729BA9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857C38-376C-4D84-9E85-30730ACD0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1B816-C22C-4A97-A52D-DEEC660EF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5D5EBA-CAAF-43BC-9AC8-C08177F18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68FE2B-7DA3-40FA-AFBE-9FF8AAD37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A068FF-7AD1-4BB0-8E6A-F74EA9954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4B27F6-409A-4D66-A8C1-57D9B6C06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5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E82D9B-96EC-4610-95BB-1A30E59C7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142C06-9F94-4645-ACA2-0694FF58B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0152BC-604C-4746-B2D7-085549360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527ABE-FE58-4FAE-8EDE-2CE644923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923BE6-614D-481D-A6E3-CF7B0C2E2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5922F0-0BBD-492E-8847-FBDA2FB63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C52EC-0DF2-466B-8BF0-5F09AA8C8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FEB41E-456E-4892-ADF6-F8BA93290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6BDD05-C06C-40CB-A345-A31ECE3A7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399163-98B0-4D00-A72B-8735D4A51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F9CDF8-4F81-4D72-9F26-DAC9123E1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A71DFE-7297-40D1-83B4-8DB58F314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6ABC23-0443-4824-A182-4F623A23E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AC7576-DC60-41C7-9A07-B31418E94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07336D-79DF-4B46-B02C-EF8FF59AD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FDA935-ADD7-4341-93EB-8E791B178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F7D681-2B81-42F2-8438-82E842A90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15F81-926C-44E1-80BB-E33E8806DC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BBC18-3C83-4D74-9CC4-9F83EB178D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6C286-12B2-427B-AD35-5A7BBF197B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23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127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8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129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36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0E229-AA87-493B-90F0-996DC75728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3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84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88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9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90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5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97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sldNum" idx="1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21348-A58D-4157-A98C-7BF2C3AF72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 type="ftr" idx="1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3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244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DFB1C-44F9-471D-B991-C824AA39E25C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0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301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811A1-FB3F-43D0-AC93-73984B66EA8E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35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2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3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24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A12EA-C23C-4360-A627-C7731502E329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2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433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7" name="PlaceHolder 1"/>
          <p:cNvSpPr>
            <a:spLocks noGrp="1"/>
          </p:cNvSpPr>
          <p:nvPr>
            <p:ph type="dt" idx="25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ftr" idx="26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 type="sldNum" idx="27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182DC-5C1D-449B-AA13-985ED2BC5FA5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" Target="slide3.xml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2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23.wmf"/><Relationship Id="rId7" Type="http://schemas.openxmlformats.org/officeDocument/2006/relationships/slide" Target="slide3.xml"/><Relationship Id="rId8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" Target="slide4.xml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8.xml"/><Relationship Id="rId7" Type="http://schemas.openxmlformats.org/officeDocument/2006/relationships/slide" Target="slide9.xml"/><Relationship Id="rId8" Type="http://schemas.openxmlformats.org/officeDocument/2006/relationships/slide" Target="slide10.xml"/><Relationship Id="rId9" Type="http://schemas.openxmlformats.org/officeDocument/2006/relationships/slide" Target="slide10.xml"/><Relationship Id="rId10" Type="http://schemas.openxmlformats.org/officeDocument/2006/relationships/slide" Target="slide11.xml"/><Relationship Id="rId11" Type="http://schemas.openxmlformats.org/officeDocument/2006/relationships/slide" Target="slide12.xml"/><Relationship Id="rId12" Type="http://schemas.openxmlformats.org/officeDocument/2006/relationships/slide" Target="slide13.xml"/><Relationship Id="rId13" Type="http://schemas.openxmlformats.org/officeDocument/2006/relationships/slide" Target="slide17.xml"/><Relationship Id="rId14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3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jpeg"/><Relationship Id="rId3" Type="http://schemas.openxmlformats.org/officeDocument/2006/relationships/slide" Target="slide3.xml"/><Relationship Id="rId4" Type="http://schemas.openxmlformats.org/officeDocument/2006/relationships/slideLayout" Target="../slideLayouts/slideLayout6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" Target="slide3.xml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" Target="slide3.xml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" Target="slide3.xm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" Target="slide3.xm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8" name=""/>
          <p:cNvSpPr/>
          <p:nvPr/>
        </p:nvSpPr>
        <p:spPr>
          <a:xfrm>
            <a:off x="0" y="0"/>
            <a:ext cx="9144000" cy="68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Times New Roman"/>
              </a:rPr>
              <a:t>Чепецкая средняя общеобразовательная школ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Times New Roman"/>
              </a:rPr>
              <a:t>Кезского района Удмуртской Республ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</a:t>
            </a:r>
            <a:r>
              <a:rPr b="1" lang="ru-RU" sz="2000" spc="-1" strike="noStrike">
                <a:solidFill>
                  <a:srgbClr val="800000"/>
                </a:solidFill>
                <a:latin typeface="Times New Roman"/>
              </a:rPr>
              <a:t>Выполнила: ученица 9 клас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Times New Roman"/>
              </a:rPr>
              <a:t>                                                                                            </a:t>
            </a:r>
            <a:r>
              <a:rPr b="1" lang="ru-RU" sz="2000" spc="-1" strike="noStrike">
                <a:solidFill>
                  <a:srgbClr val="800000"/>
                </a:solidFill>
                <a:latin typeface="Times New Roman"/>
              </a:rPr>
              <a:t>Дементьева Верон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Times New Roman"/>
              </a:rPr>
              <a:t>                                                                            </a:t>
            </a:r>
            <a:r>
              <a:rPr b="1" lang="ru-RU" sz="2000" spc="-1" strike="noStrike">
                <a:solidFill>
                  <a:srgbClr val="800000"/>
                </a:solidFill>
                <a:latin typeface="Times New Roman"/>
              </a:rPr>
              <a:t>Руководитель: Юферева Е. 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 txBox="1"/>
          <p:nvPr/>
        </p:nvSpPr>
        <p:spPr>
          <a:xfrm>
            <a:off x="1187280" y="836640"/>
            <a:ext cx="669636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Исследовательская работ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1403280" y="2349360"/>
            <a:ext cx="6335640" cy="648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94622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по информатик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0" y="0"/>
            <a:ext cx="9144000" cy="66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1704960" y="3166920"/>
            <a:ext cx="573408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Компьютерные професси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900000" y="3860640"/>
            <a:ext cx="740088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прошлого, настоящего и будущег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2771640" y="630864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9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6" name="" descr=""/>
          <p:cNvPicPr/>
          <p:nvPr/>
        </p:nvPicPr>
        <p:blipFill>
          <a:blip r:embed="rId1"/>
          <a:stretch/>
        </p:blipFill>
        <p:spPr>
          <a:xfrm>
            <a:off x="324000" y="907920"/>
            <a:ext cx="5616360" cy="4213440"/>
          </a:xfrm>
          <a:prstGeom prst="rect">
            <a:avLst/>
          </a:prstGeom>
          <a:ln w="0">
            <a:noFill/>
          </a:ln>
        </p:spPr>
      </p:pic>
      <p:sp>
        <p:nvSpPr>
          <p:cNvPr id="557" name=""/>
          <p:cNvSpPr/>
          <p:nvPr/>
        </p:nvSpPr>
        <p:spPr>
          <a:xfrm>
            <a:off x="6156360" y="620640"/>
            <a:ext cx="2987640" cy="49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ИНТЕРНЕТ - ТРЕЙДЕ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Это человек торгующий акциями на фондовом рынке через Интернет. Это модный, стильный профи, который делает деньги на всем: как на падении, так и на росте. Он энергичный и целенаправленный, он человек будущего. Операции на фондовом рынке занимают считанные секунды, а прибыли поражают воображение, а самое интересное, что он может работать по своему личному графику где угодно, т.е., где есть доступ к Интернету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>
            <a:hlinkClick r:id="" action="ppaction://hlinkshowjump?jump=previousslide"/>
          </p:cNvPr>
          <p:cNvSpPr/>
          <p:nvPr/>
        </p:nvSpPr>
        <p:spPr>
          <a:xfrm>
            <a:off x="539640" y="6021360"/>
            <a:ext cx="216000" cy="21600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>
            <a:hlinkClick r:id="" action="ppaction://hlinkshowjump?jump=lastslide"/>
          </p:cNvPr>
          <p:cNvSpPr/>
          <p:nvPr/>
        </p:nvSpPr>
        <p:spPr>
          <a:xfrm>
            <a:off x="826920" y="6021360"/>
            <a:ext cx="216000" cy="21600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4299" y="10800"/>
                </a:moveTo>
                <a:lnTo>
                  <a:pt x="3794" y="17806"/>
                </a:lnTo>
                <a:lnTo>
                  <a:pt x="3794" y="3794"/>
                </a:lnTo>
                <a:close/>
              </a:path>
              <a:path fill="darken" w="21600" h="21600">
                <a:moveTo>
                  <a:pt x="16144" y="3794"/>
                </a:moveTo>
                <a:lnTo>
                  <a:pt x="16144" y="17806"/>
                </a:lnTo>
                <a:lnTo>
                  <a:pt x="17806" y="17806"/>
                </a:lnTo>
                <a:lnTo>
                  <a:pt x="1780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>
            <a:hlinkClick r:id="rId2" action="ppaction://hlinksldjump"/>
          </p:cNvPr>
          <p:cNvSpPr/>
          <p:nvPr/>
        </p:nvSpPr>
        <p:spPr>
          <a:xfrm>
            <a:off x="1116000" y="6021360"/>
            <a:ext cx="1225440" cy="216000"/>
          </a:xfrm>
          <a:custGeom>
            <a:avLst/>
            <a:gdLst>
              <a:gd name="textAreaLeft" fmla="*/ 13680 w 1225440"/>
              <a:gd name="textAreaRight" fmla="*/ 1211760 w 12254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122376" h="21600">
                <a:moveTo>
                  <a:pt x="0" y="0"/>
                </a:moveTo>
                <a:lnTo>
                  <a:pt x="122376" y="0"/>
                </a:lnTo>
                <a:lnTo>
                  <a:pt x="122376" y="21600"/>
                </a:lnTo>
                <a:lnTo>
                  <a:pt x="0" y="21600"/>
                </a:lnTo>
                <a:close/>
              </a:path>
              <a:path fill="lightenLess" w="122376" h="21600">
                <a:moveTo>
                  <a:pt x="0" y="0"/>
                </a:moveTo>
                <a:lnTo>
                  <a:pt x="122376" y="0"/>
                </a:lnTo>
                <a:lnTo>
                  <a:pt x="120976" y="1400"/>
                </a:lnTo>
                <a:lnTo>
                  <a:pt x="1400" y="1400"/>
                </a:lnTo>
                <a:close/>
              </a:path>
              <a:path fill="darken" w="122376" h="21600">
                <a:moveTo>
                  <a:pt x="122376" y="0"/>
                </a:moveTo>
                <a:lnTo>
                  <a:pt x="122376" y="21600"/>
                </a:lnTo>
                <a:lnTo>
                  <a:pt x="120976" y="20200"/>
                </a:lnTo>
                <a:lnTo>
                  <a:pt x="120976" y="1400"/>
                </a:lnTo>
                <a:close/>
              </a:path>
              <a:path fill="darkenLess" w="122376" h="21600">
                <a:moveTo>
                  <a:pt x="1223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0976" y="20200"/>
                </a:lnTo>
                <a:close/>
              </a:path>
              <a:path fill="lighten" w="1223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к содержани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"/>
          <p:cNvSpPr/>
          <p:nvPr/>
        </p:nvSpPr>
        <p:spPr>
          <a:xfrm>
            <a:off x="0" y="0"/>
            <a:ext cx="9144000" cy="544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</a:rPr>
              <a:t>ТЕСТЕ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офессия, которая еще не прижилась в СНГ окончательно, но популярна в США и Канаде. Тесте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изван обеспечить отличное качество программного продукта, включая и самые ранние этапы его разработк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Условно можно разделить тестеров на альфа-тестеров и бета-тестеров. Альфа - это те, кто работает над программой совместно с программистами (командой), начиная с рождения продукта. Бета-тестеры, как правило, являются конечными "оценщиками". Они находят ошибки в бета-версиях программ, чтобы к моменту выхода релиза продукт был в идеальном состоянии и не вызывал у пользователей неудобств.. Прежде всего, бета-тестер должен обладать необходимым минимумом знаний компьютерной грамотности. Также очень желательно изучить специальную терминологию, и необходимую для создания грамотных отчетов по результатам тестирования. Пригодится умение писать четко, связно и понятно при составлении плана тестирования – ведь написанное должно быть понятно даже человеку, не знающему программу детальн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Из личностных качеств ценятся прежде всего вниматель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ость, терпеливость и усидчивость. Тестер должен уме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быстро овладевать новыми знаниями и понятиями, н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аниковать при неожиданных результатах. Основа рабо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Ты бета-тестера - не только отыскать ошибку в програм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ме, но и суметь ее подробно описать.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2" name="" descr=""/>
          <p:cNvPicPr/>
          <p:nvPr/>
        </p:nvPicPr>
        <p:blipFill>
          <a:blip r:embed="rId2"/>
          <a:stretch/>
        </p:blipFill>
        <p:spPr>
          <a:xfrm>
            <a:off x="5148360" y="4005360"/>
            <a:ext cx="3313080" cy="2495520"/>
          </a:xfrm>
          <a:prstGeom prst="rect">
            <a:avLst/>
          </a:prstGeom>
          <a:ln w="0">
            <a:noFill/>
          </a:ln>
        </p:spPr>
      </p:pic>
      <p:sp>
        <p:nvSpPr>
          <p:cNvPr id="563" name="">
            <a:hlinkClick r:id="" action="ppaction://hlinkshowjump?jump=previousslide"/>
          </p:cNvPr>
          <p:cNvSpPr/>
          <p:nvPr/>
        </p:nvSpPr>
        <p:spPr>
          <a:xfrm>
            <a:off x="539640" y="6021360"/>
            <a:ext cx="216000" cy="21600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>
            <a:hlinkClick r:id="" action="ppaction://hlinkshowjump?jump=lastslide"/>
          </p:cNvPr>
          <p:cNvSpPr/>
          <p:nvPr/>
        </p:nvSpPr>
        <p:spPr>
          <a:xfrm>
            <a:off x="826920" y="6021360"/>
            <a:ext cx="216000" cy="21600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4299" y="10800"/>
                </a:moveTo>
                <a:lnTo>
                  <a:pt x="3794" y="17806"/>
                </a:lnTo>
                <a:lnTo>
                  <a:pt x="3794" y="3794"/>
                </a:lnTo>
                <a:close/>
              </a:path>
              <a:path fill="darken" w="21600" h="21600">
                <a:moveTo>
                  <a:pt x="16144" y="3794"/>
                </a:moveTo>
                <a:lnTo>
                  <a:pt x="16144" y="17806"/>
                </a:lnTo>
                <a:lnTo>
                  <a:pt x="17806" y="17806"/>
                </a:lnTo>
                <a:lnTo>
                  <a:pt x="1780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>
            <a:hlinkClick r:id="rId3" action="ppaction://hlinksldjump"/>
          </p:cNvPr>
          <p:cNvSpPr/>
          <p:nvPr/>
        </p:nvSpPr>
        <p:spPr>
          <a:xfrm>
            <a:off x="1116000" y="6021360"/>
            <a:ext cx="1225440" cy="216000"/>
          </a:xfrm>
          <a:custGeom>
            <a:avLst/>
            <a:gdLst>
              <a:gd name="textAreaLeft" fmla="*/ 13680 w 1225440"/>
              <a:gd name="textAreaRight" fmla="*/ 1211760 w 12254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122376" h="21600">
                <a:moveTo>
                  <a:pt x="0" y="0"/>
                </a:moveTo>
                <a:lnTo>
                  <a:pt x="122376" y="0"/>
                </a:lnTo>
                <a:lnTo>
                  <a:pt x="122376" y="21600"/>
                </a:lnTo>
                <a:lnTo>
                  <a:pt x="0" y="21600"/>
                </a:lnTo>
                <a:close/>
              </a:path>
              <a:path fill="lightenLess" w="122376" h="21600">
                <a:moveTo>
                  <a:pt x="0" y="0"/>
                </a:moveTo>
                <a:lnTo>
                  <a:pt x="122376" y="0"/>
                </a:lnTo>
                <a:lnTo>
                  <a:pt x="120976" y="1400"/>
                </a:lnTo>
                <a:lnTo>
                  <a:pt x="1400" y="1400"/>
                </a:lnTo>
                <a:close/>
              </a:path>
              <a:path fill="darken" w="122376" h="21600">
                <a:moveTo>
                  <a:pt x="122376" y="0"/>
                </a:moveTo>
                <a:lnTo>
                  <a:pt x="122376" y="21600"/>
                </a:lnTo>
                <a:lnTo>
                  <a:pt x="120976" y="20200"/>
                </a:lnTo>
                <a:lnTo>
                  <a:pt x="120976" y="1400"/>
                </a:lnTo>
                <a:close/>
              </a:path>
              <a:path fill="darkenLess" w="122376" h="21600">
                <a:moveTo>
                  <a:pt x="1223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0976" y="20200"/>
                </a:lnTo>
                <a:close/>
              </a:path>
              <a:path fill="lighten" w="1223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к содержани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4b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"/>
          <p:cNvSpPr/>
          <p:nvPr/>
        </p:nvSpPr>
        <p:spPr>
          <a:xfrm>
            <a:off x="0" y="0"/>
            <a:ext cx="9144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imes New Roman"/>
              </a:rPr>
              <a:t>Анализ анкетирования, проведенного среди старшеклассников нашей школ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7" name=""/>
          <p:cNvGraphicFramePr/>
          <p:nvPr/>
        </p:nvGraphicFramePr>
        <p:xfrm>
          <a:off x="324000" y="333360"/>
          <a:ext cx="4321080" cy="3114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333360"/>
                    <a:ext cx="4321080" cy="311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9" name=""/>
          <p:cNvGraphicFramePr/>
          <p:nvPr/>
        </p:nvGraphicFramePr>
        <p:xfrm>
          <a:off x="4716360" y="404640"/>
          <a:ext cx="4175280" cy="30308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57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404640"/>
                    <a:ext cx="4175280" cy="303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1" name=""/>
          <p:cNvGraphicFramePr/>
          <p:nvPr/>
        </p:nvGraphicFramePr>
        <p:xfrm>
          <a:off x="2627280" y="3500280"/>
          <a:ext cx="4176720" cy="296100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57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627280" y="3500280"/>
                    <a:ext cx="4176720" cy="296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3" name="">
            <a:hlinkClick r:id="" action="ppaction://hlinkshowjump?jump=previousslide"/>
          </p:cNvPr>
          <p:cNvSpPr/>
          <p:nvPr/>
        </p:nvSpPr>
        <p:spPr>
          <a:xfrm>
            <a:off x="539640" y="6021360"/>
            <a:ext cx="216000" cy="21600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>
            <a:hlinkClick r:id="" action="ppaction://hlinkshowjump?jump=lastslide"/>
          </p:cNvPr>
          <p:cNvSpPr/>
          <p:nvPr/>
        </p:nvSpPr>
        <p:spPr>
          <a:xfrm>
            <a:off x="826920" y="6021360"/>
            <a:ext cx="216000" cy="21600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4299" y="10800"/>
                </a:moveTo>
                <a:lnTo>
                  <a:pt x="3794" y="17806"/>
                </a:lnTo>
                <a:lnTo>
                  <a:pt x="3794" y="3794"/>
                </a:lnTo>
                <a:close/>
              </a:path>
              <a:path fill="darken" w="21600" h="21600">
                <a:moveTo>
                  <a:pt x="16144" y="3794"/>
                </a:moveTo>
                <a:lnTo>
                  <a:pt x="16144" y="17806"/>
                </a:lnTo>
                <a:lnTo>
                  <a:pt x="17806" y="17806"/>
                </a:lnTo>
                <a:lnTo>
                  <a:pt x="1780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>
            <a:hlinkClick r:id="rId7" action="ppaction://hlinksldjump"/>
          </p:cNvPr>
          <p:cNvSpPr/>
          <p:nvPr/>
        </p:nvSpPr>
        <p:spPr>
          <a:xfrm>
            <a:off x="1116000" y="6021360"/>
            <a:ext cx="1225440" cy="216000"/>
          </a:xfrm>
          <a:custGeom>
            <a:avLst/>
            <a:gdLst>
              <a:gd name="textAreaLeft" fmla="*/ 13680 w 1225440"/>
              <a:gd name="textAreaRight" fmla="*/ 1211760 w 12254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122376" h="21600">
                <a:moveTo>
                  <a:pt x="0" y="0"/>
                </a:moveTo>
                <a:lnTo>
                  <a:pt x="122376" y="0"/>
                </a:lnTo>
                <a:lnTo>
                  <a:pt x="122376" y="21600"/>
                </a:lnTo>
                <a:lnTo>
                  <a:pt x="0" y="21600"/>
                </a:lnTo>
                <a:close/>
              </a:path>
              <a:path fill="lightenLess" w="122376" h="21600">
                <a:moveTo>
                  <a:pt x="0" y="0"/>
                </a:moveTo>
                <a:lnTo>
                  <a:pt x="122376" y="0"/>
                </a:lnTo>
                <a:lnTo>
                  <a:pt x="120976" y="1400"/>
                </a:lnTo>
                <a:lnTo>
                  <a:pt x="1400" y="1400"/>
                </a:lnTo>
                <a:close/>
              </a:path>
              <a:path fill="darken" w="122376" h="21600">
                <a:moveTo>
                  <a:pt x="122376" y="0"/>
                </a:moveTo>
                <a:lnTo>
                  <a:pt x="122376" y="21600"/>
                </a:lnTo>
                <a:lnTo>
                  <a:pt x="120976" y="20200"/>
                </a:lnTo>
                <a:lnTo>
                  <a:pt x="120976" y="1400"/>
                </a:lnTo>
                <a:close/>
              </a:path>
              <a:path fill="darkenLess" w="122376" h="21600">
                <a:moveTo>
                  <a:pt x="1223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0976" y="20200"/>
                </a:lnTo>
                <a:close/>
              </a:path>
              <a:path fill="lighten" w="1223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к содержани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6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4284720" cy="3213000"/>
          </a:xfrm>
          <a:prstGeom prst="rect">
            <a:avLst/>
          </a:prstGeom>
          <a:ln w="0">
            <a:noFill/>
          </a:ln>
        </p:spPr>
      </p:pic>
      <p:sp>
        <p:nvSpPr>
          <p:cNvPr id="577" name=""/>
          <p:cNvSpPr/>
          <p:nvPr/>
        </p:nvSpPr>
        <p:spPr>
          <a:xfrm>
            <a:off x="0" y="0"/>
            <a:ext cx="9144000" cy="56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ОВЕРЬ СЕБ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Для выяснения своих склонностей можно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оспользоваться дифференциально-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диагностическим опросником (ДДО). Как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им пользоваться. Необходимо ответить на 20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опросов. Номера и буквенные обозначения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тветов соответствуют номерам и обозначениям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опросов. Каждый вопрос имеет как бы дв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«крыла», соединенных союзом «или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ак отвечать? Нужно спросить себя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«Нравиться ли мне занятие, о котором говорится в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ервой части вопроса, или нет?» Долго здесь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аздумывать не надо – лучше полагаться н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ервое, непосредственное чувство. Если скорее нравится, чем не нравится, - поставить на против этого вопроса знак «+». Если определенно нравится – два плюса, если очень нравится – три таких знака. Если скорее не нравится, чем нравится, - один минус, если определенно не нравится  – два, а если очень не нравится – три минуса. Одну из половинок нужно обязательно выбрат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ам будет предложен тест из которого нужно выбрать один из двух вариантов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Итак, начинаем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0" y="6500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>
            <a:hlinkClick r:id="" action="ppaction://hlinkshowjump?jump=previousslide"/>
          </p:cNvPr>
          <p:cNvSpPr/>
          <p:nvPr/>
        </p:nvSpPr>
        <p:spPr>
          <a:xfrm>
            <a:off x="539640" y="6021360"/>
            <a:ext cx="216000" cy="21600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>
            <a:hlinkClick r:id="" action="ppaction://hlinkshowjump?jump=lastslide"/>
          </p:cNvPr>
          <p:cNvSpPr/>
          <p:nvPr/>
        </p:nvSpPr>
        <p:spPr>
          <a:xfrm>
            <a:off x="826920" y="6021360"/>
            <a:ext cx="216000" cy="21600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4299" y="10800"/>
                </a:moveTo>
                <a:lnTo>
                  <a:pt x="3794" y="17806"/>
                </a:lnTo>
                <a:lnTo>
                  <a:pt x="3794" y="3794"/>
                </a:lnTo>
                <a:close/>
              </a:path>
              <a:path fill="darken" w="21600" h="21600">
                <a:moveTo>
                  <a:pt x="16144" y="3794"/>
                </a:moveTo>
                <a:lnTo>
                  <a:pt x="16144" y="17806"/>
                </a:lnTo>
                <a:lnTo>
                  <a:pt x="17806" y="17806"/>
                </a:lnTo>
                <a:lnTo>
                  <a:pt x="17806" y="3794"/>
                </a:lnTo>
                <a:close/>
              </a:path>
            </a:pathLst>
          </a:cu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1116000" y="6021360"/>
            <a:ext cx="1225440" cy="216000"/>
          </a:xfrm>
          <a:custGeom>
            <a:avLst/>
            <a:gdLst>
              <a:gd name="textAreaLeft" fmla="*/ 13680 w 1225440"/>
              <a:gd name="textAreaRight" fmla="*/ 1211760 w 12254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122376" h="21600">
                <a:moveTo>
                  <a:pt x="0" y="0"/>
                </a:moveTo>
                <a:lnTo>
                  <a:pt x="122376" y="0"/>
                </a:lnTo>
                <a:lnTo>
                  <a:pt x="122376" y="21600"/>
                </a:lnTo>
                <a:lnTo>
                  <a:pt x="0" y="21600"/>
                </a:lnTo>
                <a:close/>
              </a:path>
              <a:path fill="lightenLess" w="122376" h="21600">
                <a:moveTo>
                  <a:pt x="0" y="0"/>
                </a:moveTo>
                <a:lnTo>
                  <a:pt x="122376" y="0"/>
                </a:lnTo>
                <a:lnTo>
                  <a:pt x="120976" y="1400"/>
                </a:lnTo>
                <a:lnTo>
                  <a:pt x="1400" y="1400"/>
                </a:lnTo>
                <a:close/>
              </a:path>
              <a:path fill="darken" w="122376" h="21600">
                <a:moveTo>
                  <a:pt x="122376" y="0"/>
                </a:moveTo>
                <a:lnTo>
                  <a:pt x="122376" y="21600"/>
                </a:lnTo>
                <a:lnTo>
                  <a:pt x="120976" y="20200"/>
                </a:lnTo>
                <a:lnTo>
                  <a:pt x="120976" y="1400"/>
                </a:lnTo>
                <a:close/>
              </a:path>
              <a:path fill="darkenLess" w="122376" h="21600">
                <a:moveTo>
                  <a:pt x="1223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0976" y="20200"/>
                </a:lnTo>
                <a:close/>
              </a:path>
              <a:path fill="lighten" w="1223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к содержани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>
            <a:hlinkClick r:id="" action="ppaction://hlinkshowjump?jump=nextslide"/>
          </p:cNvPr>
          <p:cNvSpPr/>
          <p:nvPr/>
        </p:nvSpPr>
        <p:spPr>
          <a:xfrm>
            <a:off x="2484360" y="6021360"/>
            <a:ext cx="863640" cy="216000"/>
          </a:xfrm>
          <a:custGeom>
            <a:avLst/>
            <a:gdLst>
              <a:gd name="textAreaLeft" fmla="*/ 13680 w 863640"/>
              <a:gd name="textAreaRight" fmla="*/ 849960 w 8636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86256" h="21600">
                <a:moveTo>
                  <a:pt x="0" y="0"/>
                </a:moveTo>
                <a:lnTo>
                  <a:pt x="86256" y="0"/>
                </a:lnTo>
                <a:lnTo>
                  <a:pt x="86256" y="21600"/>
                </a:lnTo>
                <a:lnTo>
                  <a:pt x="0" y="21600"/>
                </a:lnTo>
                <a:close/>
              </a:path>
              <a:path fill="lightenLess" w="86256" h="21600">
                <a:moveTo>
                  <a:pt x="0" y="0"/>
                </a:moveTo>
                <a:lnTo>
                  <a:pt x="86256" y="0"/>
                </a:lnTo>
                <a:lnTo>
                  <a:pt x="84856" y="1400"/>
                </a:lnTo>
                <a:lnTo>
                  <a:pt x="1400" y="1400"/>
                </a:lnTo>
                <a:close/>
              </a:path>
              <a:path fill="darken" w="86256" h="21600">
                <a:moveTo>
                  <a:pt x="86256" y="0"/>
                </a:moveTo>
                <a:lnTo>
                  <a:pt x="86256" y="21600"/>
                </a:lnTo>
                <a:lnTo>
                  <a:pt x="84856" y="20200"/>
                </a:lnTo>
                <a:lnTo>
                  <a:pt x="84856" y="1400"/>
                </a:lnTo>
                <a:close/>
              </a:path>
              <a:path fill="darkenLess" w="86256" h="21600">
                <a:moveTo>
                  <a:pt x="862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856" y="20200"/>
                </a:lnTo>
                <a:close/>
              </a:path>
              <a:path fill="lighten" w="862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тес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cc"/>
                </a:solidFill>
                <a:latin typeface="Times New Roman"/>
              </a:rPr>
              <a:t>ДДО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cc"/>
                </a:solidFill>
                <a:latin typeface="Times New Roman"/>
              </a:rPr>
              <a:t>Предположим, что после соответствующего обучения ты сможешь выполнять любую другую работу. Однако, если бы тебе пришлось выбрать только из двух возможностей, что ты предпочтешь?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cc"/>
                </a:solidFill>
                <a:latin typeface="Times New Roman"/>
              </a:rPr>
              <a:t>1а</a:t>
            </a:r>
            <a:r>
              <a:rPr b="0" lang="ru-RU" sz="1400" spc="-1" strike="noStrike">
                <a:solidFill>
                  <a:srgbClr val="ffffcc"/>
                </a:solidFill>
                <a:latin typeface="Times New Roman"/>
              </a:rPr>
              <a:t>      Ухаживать за животными                                     или         </a:t>
            </a:r>
            <a:r>
              <a:rPr b="1" i="1" lang="ru-RU" sz="1400" spc="-1" strike="noStrike">
                <a:solidFill>
                  <a:srgbClr val="ffffcc"/>
                </a:solidFill>
                <a:latin typeface="Times New Roman"/>
              </a:rPr>
              <a:t> 1б</a:t>
            </a:r>
            <a:r>
              <a:rPr b="0" lang="ru-RU" sz="1400" spc="-1" strike="noStrike">
                <a:solidFill>
                  <a:srgbClr val="ffffcc"/>
                </a:solidFill>
                <a:latin typeface="Times New Roman"/>
              </a:rPr>
              <a:t>      Обслуживать машины, приборы (следить, регулировать)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cc"/>
                </a:solidFill>
                <a:latin typeface="Times New Roman"/>
              </a:rPr>
              <a:t>2а</a:t>
            </a:r>
            <a:r>
              <a:rPr b="0" lang="ru-RU" sz="1400" spc="-1" strike="noStrike">
                <a:solidFill>
                  <a:srgbClr val="ffffcc"/>
                </a:solidFill>
                <a:latin typeface="Times New Roman"/>
              </a:rPr>
              <a:t>      Помогать больным людям, лечить их                  или          </a:t>
            </a:r>
            <a:r>
              <a:rPr b="1" i="1" lang="ru-RU" sz="1400" spc="-1" strike="noStrike">
                <a:solidFill>
                  <a:srgbClr val="ffffcc"/>
                </a:solidFill>
                <a:latin typeface="Times New Roman"/>
              </a:rPr>
              <a:t>2б</a:t>
            </a:r>
            <a:r>
              <a:rPr b="0" lang="ru-RU" sz="1400" spc="-1" strike="noStrike">
                <a:solidFill>
                  <a:srgbClr val="ffffcc"/>
                </a:solidFill>
                <a:latin typeface="Times New Roman"/>
              </a:rPr>
              <a:t>      Составлять таблицы, схемы, программы ВМ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cc"/>
                </a:solidFill>
                <a:latin typeface="Times New Roman"/>
              </a:rPr>
              <a:t>3а</a:t>
            </a:r>
            <a:r>
              <a:rPr b="0" lang="ru-RU" sz="1400" spc="-1" strike="noStrike">
                <a:solidFill>
                  <a:srgbClr val="ffffcc"/>
                </a:solidFill>
                <a:latin typeface="Times New Roman"/>
              </a:rPr>
              <a:t>      Следить за качеством книжных иллюст-             или          </a:t>
            </a:r>
            <a:r>
              <a:rPr b="1" i="1" lang="ru-RU" sz="1400" spc="-1" strike="noStrike">
                <a:solidFill>
                  <a:srgbClr val="ffffcc"/>
                </a:solidFill>
                <a:latin typeface="Times New Roman"/>
              </a:rPr>
              <a:t>3б </a:t>
            </a:r>
            <a:r>
              <a:rPr b="0" lang="ru-RU" sz="1400" spc="-1" strike="noStrike">
                <a:solidFill>
                  <a:srgbClr val="ffffcc"/>
                </a:solidFill>
                <a:latin typeface="Times New Roman"/>
              </a:rPr>
              <a:t>     Следить за состоянием, развитием растений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cc"/>
                </a:solidFill>
                <a:latin typeface="Times New Roman"/>
              </a:rPr>
              <a:t>раций, плакатов, художественных открыток,              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cc"/>
                </a:solidFill>
                <a:latin typeface="Times New Roman"/>
              </a:rPr>
              <a:t>грампластинок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cc"/>
                </a:solidFill>
                <a:latin typeface="Times New Roman"/>
              </a:rPr>
              <a:t>4а</a:t>
            </a:r>
            <a:r>
              <a:rPr b="0" lang="ru-RU" sz="1400" spc="-1" strike="noStrike">
                <a:solidFill>
                  <a:srgbClr val="ffffcc"/>
                </a:solidFill>
                <a:latin typeface="Times New Roman"/>
              </a:rPr>
              <a:t>      Обрабатывать материалы (дерево, ткань и т.п.)  или         </a:t>
            </a:r>
            <a:r>
              <a:rPr b="1" i="1" lang="ru-RU" sz="1400" spc="-1" strike="noStrike">
                <a:solidFill>
                  <a:srgbClr val="ffffcc"/>
                </a:solidFill>
                <a:latin typeface="Times New Roman"/>
              </a:rPr>
              <a:t>4б</a:t>
            </a:r>
            <a:r>
              <a:rPr b="0" lang="ru-RU" sz="1400" spc="-1" strike="noStrike">
                <a:solidFill>
                  <a:srgbClr val="ffffcc"/>
                </a:solidFill>
                <a:latin typeface="Times New Roman"/>
              </a:rPr>
              <a:t>      Доводить товары до потребителя (     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cc"/>
                </a:solidFill>
                <a:latin typeface="Times New Roman"/>
              </a:rPr>
              <a:t>                                                                                                                      </a:t>
            </a:r>
            <a:r>
              <a:rPr b="0" lang="ru-RU" sz="1400" spc="-1" strike="noStrike">
                <a:solidFill>
                  <a:srgbClr val="ffffcc"/>
                </a:solidFill>
                <a:latin typeface="Times New Roman"/>
              </a:rPr>
              <a:t>рекламировать и т.п.)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cc"/>
                </a:solidFill>
                <a:latin typeface="Times New Roman"/>
              </a:rPr>
              <a:t>5а </a:t>
            </a:r>
            <a:r>
              <a:rPr b="0" lang="ru-RU" sz="1400" spc="-1" strike="noStrike">
                <a:solidFill>
                  <a:srgbClr val="ffffcc"/>
                </a:solidFill>
                <a:latin typeface="Times New Roman"/>
              </a:rPr>
              <a:t>     Обсуждать научно-популярные книги, статьи    или         </a:t>
            </a:r>
            <a:r>
              <a:rPr b="1" i="1" lang="ru-RU" sz="1400" spc="-1" strike="noStrike">
                <a:solidFill>
                  <a:srgbClr val="ffffcc"/>
                </a:solidFill>
                <a:latin typeface="Times New Roman"/>
              </a:rPr>
              <a:t>5б</a:t>
            </a:r>
            <a:r>
              <a:rPr b="0" lang="ru-RU" sz="1400" spc="-1" strike="noStrike">
                <a:solidFill>
                  <a:srgbClr val="ffffcc"/>
                </a:solidFill>
                <a:latin typeface="Times New Roman"/>
              </a:rPr>
              <a:t>      Обсуждать художественные книги (пьесы,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cc"/>
                </a:solidFill>
                <a:latin typeface="Times New Roman"/>
              </a:rPr>
              <a:t>                                                                                                                      </a:t>
            </a:r>
            <a:r>
              <a:rPr b="0" lang="ru-RU" sz="1400" spc="-1" strike="noStrike">
                <a:solidFill>
                  <a:srgbClr val="ffffcc"/>
                </a:solidFill>
                <a:latin typeface="Times New Roman"/>
              </a:rPr>
              <a:t>концерты)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cc"/>
                </a:solidFill>
                <a:latin typeface="Times New Roman"/>
              </a:rPr>
              <a:t>6а</a:t>
            </a:r>
            <a:r>
              <a:rPr b="0" lang="ru-RU" sz="1400" spc="-1" strike="noStrike">
                <a:solidFill>
                  <a:srgbClr val="ffffcc"/>
                </a:solidFill>
                <a:latin typeface="Times New Roman"/>
              </a:rPr>
              <a:t>      Выращивать молодняк (животных какой-либо   или         </a:t>
            </a:r>
            <a:r>
              <a:rPr b="1" i="1" lang="ru-RU" sz="1400" spc="-1" strike="noStrike">
                <a:solidFill>
                  <a:srgbClr val="ffffcc"/>
                </a:solidFill>
                <a:latin typeface="Times New Roman"/>
              </a:rPr>
              <a:t>6б </a:t>
            </a:r>
            <a:r>
              <a:rPr b="0" lang="ru-RU" sz="1400" spc="-1" strike="noStrike">
                <a:solidFill>
                  <a:srgbClr val="ffffcc"/>
                </a:solidFill>
                <a:latin typeface="Times New Roman"/>
              </a:rPr>
              <a:t>     Тренировать товарищей (или младших) в 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ffffcc"/>
                </a:solidFill>
                <a:latin typeface="Times New Roman"/>
              </a:rPr>
              <a:t>породы)                                                                                                       выполнении каких-либо действий (трудовых,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cc"/>
                </a:solidFill>
                <a:latin typeface="Times New Roman"/>
              </a:rPr>
              <a:t>                                                                                                                      </a:t>
            </a:r>
            <a:r>
              <a:rPr b="0" lang="ru-RU" sz="1400" spc="-1" strike="noStrike">
                <a:solidFill>
                  <a:srgbClr val="ffffcc"/>
                </a:solidFill>
                <a:latin typeface="Times New Roman"/>
              </a:rPr>
              <a:t>учебных, спортивных)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cc"/>
                </a:solidFill>
                <a:latin typeface="Times New Roman"/>
              </a:rPr>
              <a:t>7а </a:t>
            </a:r>
            <a:r>
              <a:rPr b="0" lang="ru-RU" sz="1400" spc="-1" strike="noStrike">
                <a:solidFill>
                  <a:srgbClr val="ffffcc"/>
                </a:solidFill>
                <a:latin typeface="Times New Roman"/>
              </a:rPr>
              <a:t>     Копировать рисунки, изображения (или              или         </a:t>
            </a:r>
            <a:r>
              <a:rPr b="1" i="1" lang="ru-RU" sz="1400" spc="-1" strike="noStrike">
                <a:solidFill>
                  <a:srgbClr val="ffffcc"/>
                </a:solidFill>
                <a:latin typeface="Times New Roman"/>
              </a:rPr>
              <a:t>7б </a:t>
            </a:r>
            <a:r>
              <a:rPr b="0" lang="ru-RU" sz="1400" spc="-1" strike="noStrike">
                <a:solidFill>
                  <a:srgbClr val="ffffcc"/>
                </a:solidFill>
                <a:latin typeface="Times New Roman"/>
              </a:rPr>
              <a:t>     Управлять каким-либо грузовым (подъемным                  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cc"/>
                </a:solidFill>
                <a:latin typeface="Times New Roman"/>
              </a:rPr>
              <a:t>настраивать музыкальные инструменты)                                                или транспортным) средством – трактором, 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cc"/>
                </a:solidFill>
                <a:latin typeface="Times New Roman"/>
              </a:rPr>
              <a:t>                                                                                                                      </a:t>
            </a:r>
            <a:r>
              <a:rPr b="0" lang="ru-RU" sz="1400" spc="-1" strike="noStrike">
                <a:solidFill>
                  <a:srgbClr val="ffffcc"/>
                </a:solidFill>
                <a:latin typeface="Times New Roman"/>
              </a:rPr>
              <a:t>тепловозом и т. д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cc"/>
                </a:solidFill>
                <a:latin typeface="Times New Roman"/>
              </a:rPr>
              <a:t>8а   </a:t>
            </a:r>
            <a:r>
              <a:rPr b="0" lang="ru-RU" sz="1400" spc="-1" strike="noStrike">
                <a:solidFill>
                  <a:srgbClr val="ffffcc"/>
                </a:solidFill>
                <a:latin typeface="Times New Roman"/>
              </a:rPr>
              <a:t>   Сообщать, разъяснять людям нужные им све-    или         </a:t>
            </a:r>
            <a:r>
              <a:rPr b="1" i="1" lang="ru-RU" sz="1400" spc="-1" strike="noStrike">
                <a:solidFill>
                  <a:srgbClr val="ffffcc"/>
                </a:solidFill>
                <a:latin typeface="Times New Roman"/>
              </a:rPr>
              <a:t>8б</a:t>
            </a:r>
            <a:r>
              <a:rPr b="0" lang="ru-RU" sz="1400" spc="-1" strike="noStrike">
                <a:solidFill>
                  <a:srgbClr val="ffffcc"/>
                </a:solidFill>
                <a:latin typeface="Times New Roman"/>
              </a:rPr>
              <a:t>      Художественно оформлять выставки, витрины           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ffffcc"/>
                </a:solidFill>
                <a:latin typeface="Times New Roman"/>
              </a:rPr>
              <a:t>дения (в справочном бюро, на экскурсии и т. д.)                                  (или участвовать в подготовке пьес, концертов)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cc"/>
                </a:solidFill>
                <a:latin typeface="Times New Roman"/>
              </a:rPr>
              <a:t>9а</a:t>
            </a:r>
            <a:r>
              <a:rPr b="0" lang="ru-RU" sz="1400" spc="-1" strike="noStrike">
                <a:solidFill>
                  <a:srgbClr val="ffffcc"/>
                </a:solidFill>
                <a:latin typeface="Times New Roman"/>
              </a:rPr>
              <a:t>      Ремонтировать вещи, изделия (одежду, тех-       или          </a:t>
            </a:r>
            <a:r>
              <a:rPr b="1" i="1" lang="ru-RU" sz="1400" spc="-1" strike="noStrike">
                <a:solidFill>
                  <a:srgbClr val="ffffcc"/>
                </a:solidFill>
                <a:latin typeface="Times New Roman"/>
              </a:rPr>
              <a:t>9б </a:t>
            </a:r>
            <a:r>
              <a:rPr b="0" lang="ru-RU" sz="1400" spc="-1" strike="noStrike">
                <a:solidFill>
                  <a:srgbClr val="ffffcc"/>
                </a:solidFill>
                <a:latin typeface="Times New Roman"/>
              </a:rPr>
              <a:t>     Искать и исправлять ошибки в текстах,    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ffffcc"/>
                </a:solidFill>
                <a:latin typeface="Times New Roman"/>
              </a:rPr>
              <a:t>нику), жилище                                                                                            таблицах, рисунках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cc"/>
                </a:solidFill>
                <a:latin typeface="Times New Roman"/>
              </a:rPr>
              <a:t>10а</a:t>
            </a:r>
            <a:r>
              <a:rPr b="0" lang="ru-RU" sz="1400" spc="-1" strike="noStrike">
                <a:solidFill>
                  <a:srgbClr val="ffffcc"/>
                </a:solidFill>
                <a:latin typeface="Times New Roman"/>
              </a:rPr>
              <a:t>     Лечить животных                                                  или         </a:t>
            </a:r>
            <a:r>
              <a:rPr b="1" i="1" lang="ru-RU" sz="1400" spc="-1" strike="noStrike">
                <a:solidFill>
                  <a:srgbClr val="ffffcc"/>
                </a:solidFill>
                <a:latin typeface="Times New Roman"/>
              </a:rPr>
              <a:t>10б</a:t>
            </a:r>
            <a:r>
              <a:rPr b="0" lang="ru-RU" sz="1400" spc="-1" strike="noStrike">
                <a:solidFill>
                  <a:srgbClr val="ffffcc"/>
                </a:solidFill>
                <a:latin typeface="Times New Roman"/>
              </a:rPr>
              <a:t>       Выполнять вычисления, расчеты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cc"/>
                </a:solidFill>
                <a:latin typeface="Times New Roman"/>
              </a:rPr>
              <a:t>11а</a:t>
            </a:r>
            <a:r>
              <a:rPr b="0" lang="ru-RU" sz="1400" spc="-1" strike="noStrike">
                <a:solidFill>
                  <a:srgbClr val="ffffcc"/>
                </a:solidFill>
                <a:latin typeface="Times New Roman"/>
              </a:rPr>
              <a:t>     Выводить новые сорта растений                         или         </a:t>
            </a:r>
            <a:r>
              <a:rPr b="1" i="1" lang="ru-RU" sz="1400" spc="-1" strike="noStrike">
                <a:solidFill>
                  <a:srgbClr val="ffffcc"/>
                </a:solidFill>
                <a:latin typeface="Times New Roman"/>
              </a:rPr>
              <a:t>11б  </a:t>
            </a:r>
            <a:r>
              <a:rPr b="0" lang="ru-RU" sz="1400" spc="-1" strike="noStrike">
                <a:solidFill>
                  <a:srgbClr val="ffffcc"/>
                </a:solidFill>
                <a:latin typeface="Times New Roman"/>
              </a:rPr>
              <a:t>    Конструировать, проектировать новые виды      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cc"/>
                </a:solidFill>
                <a:latin typeface="Times New Roman"/>
              </a:rPr>
              <a:t>                                                                                                                      </a:t>
            </a:r>
            <a:r>
              <a:rPr b="0" lang="ru-RU" sz="1400" spc="-1" strike="noStrike">
                <a:solidFill>
                  <a:srgbClr val="ffffcc"/>
                </a:solidFill>
                <a:latin typeface="Times New Roman"/>
              </a:rPr>
              <a:t>промышленных изделий (машины или одежду,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cc"/>
                </a:solidFill>
                <a:latin typeface="Times New Roman"/>
              </a:rPr>
              <a:t>                                                                                                                      </a:t>
            </a:r>
            <a:r>
              <a:rPr b="0" lang="ru-RU" sz="1400" spc="-1" strike="noStrike">
                <a:solidFill>
                  <a:srgbClr val="ffffcc"/>
                </a:solidFill>
                <a:latin typeface="Times New Roman"/>
              </a:rPr>
              <a:t>дома и т. п.)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cc"/>
                </a:solidFill>
                <a:latin typeface="Times New Roman"/>
              </a:rPr>
              <a:t>12а</a:t>
            </a:r>
            <a:r>
              <a:rPr b="0" lang="ru-RU" sz="1400" spc="-1" strike="noStrike">
                <a:solidFill>
                  <a:srgbClr val="ffffcc"/>
                </a:solidFill>
                <a:latin typeface="Times New Roman"/>
              </a:rPr>
              <a:t>     Разбирать споры, ссоры м/у людьми, убеж-      или         </a:t>
            </a:r>
            <a:r>
              <a:rPr b="1" i="1" lang="ru-RU" sz="1400" spc="-1" strike="noStrike">
                <a:solidFill>
                  <a:srgbClr val="ffffcc"/>
                </a:solidFill>
                <a:latin typeface="Times New Roman"/>
              </a:rPr>
              <a:t>12б</a:t>
            </a:r>
            <a:r>
              <a:rPr b="0" lang="ru-RU" sz="1400" spc="-1" strike="noStrike">
                <a:solidFill>
                  <a:srgbClr val="ffffcc"/>
                </a:solidFill>
                <a:latin typeface="Times New Roman"/>
              </a:rPr>
              <a:t>       Разбираться в чертежах, схемах, таблицах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ffffcc"/>
                </a:solidFill>
                <a:latin typeface="Times New Roman"/>
              </a:rPr>
              <a:t>дать, разъяснять, поощрять, наказывать                                                  (проверять, уточнять, приводить в порядок)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4" name="">
            <a:hlinkClick r:id="" action="ppaction://hlinkshowjump?jump=previousslide"/>
          </p:cNvPr>
          <p:cNvSpPr/>
          <p:nvPr/>
        </p:nvSpPr>
        <p:spPr>
          <a:xfrm>
            <a:off x="1835280" y="6453360"/>
            <a:ext cx="215640" cy="215640"/>
          </a:xfrm>
          <a:custGeom>
            <a:avLst/>
            <a:gdLst>
              <a:gd name="textAreaLeft" fmla="*/ 13680 w 215640"/>
              <a:gd name="textAreaRight" fmla="*/ 201960 w 21564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8a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>
            <a:hlinkClick r:id="" action="ppaction://hlinkshowjump?jump=lastslide"/>
          </p:cNvPr>
          <p:cNvSpPr/>
          <p:nvPr/>
        </p:nvSpPr>
        <p:spPr>
          <a:xfrm>
            <a:off x="2122560" y="6453360"/>
            <a:ext cx="216000" cy="21564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21636" h="21600">
                <a:moveTo>
                  <a:pt x="0" y="0"/>
                </a:moveTo>
                <a:lnTo>
                  <a:pt x="21636" y="0"/>
                </a:lnTo>
                <a:lnTo>
                  <a:pt x="21636" y="21600"/>
                </a:lnTo>
                <a:lnTo>
                  <a:pt x="0" y="21600"/>
                </a:lnTo>
                <a:close/>
              </a:path>
              <a:path fill="lightenLess" w="21636" h="21600">
                <a:moveTo>
                  <a:pt x="0" y="0"/>
                </a:moveTo>
                <a:lnTo>
                  <a:pt x="21636" y="0"/>
                </a:lnTo>
                <a:lnTo>
                  <a:pt x="20236" y="1400"/>
                </a:lnTo>
                <a:lnTo>
                  <a:pt x="1400" y="1400"/>
                </a:lnTo>
                <a:close/>
              </a:path>
              <a:path fill="darken" w="21636" h="21600">
                <a:moveTo>
                  <a:pt x="21636" y="0"/>
                </a:moveTo>
                <a:lnTo>
                  <a:pt x="21636" y="21600"/>
                </a:lnTo>
                <a:lnTo>
                  <a:pt x="20236" y="20200"/>
                </a:lnTo>
                <a:lnTo>
                  <a:pt x="20236" y="1400"/>
                </a:lnTo>
                <a:close/>
              </a:path>
              <a:path fill="darkenLess" w="21636" h="21600">
                <a:moveTo>
                  <a:pt x="216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36" y="20200"/>
                </a:lnTo>
                <a:close/>
              </a:path>
              <a:path fill="lighten" w="216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36" h="21600">
                <a:moveTo>
                  <a:pt x="14317" y="10800"/>
                </a:moveTo>
                <a:lnTo>
                  <a:pt x="3812" y="17806"/>
                </a:lnTo>
                <a:lnTo>
                  <a:pt x="3812" y="3794"/>
                </a:lnTo>
                <a:close/>
              </a:path>
              <a:path fill="darken" w="21636" h="21600">
                <a:moveTo>
                  <a:pt x="16162" y="3794"/>
                </a:moveTo>
                <a:lnTo>
                  <a:pt x="16162" y="17806"/>
                </a:lnTo>
                <a:lnTo>
                  <a:pt x="17824" y="17806"/>
                </a:lnTo>
                <a:lnTo>
                  <a:pt x="17824" y="3794"/>
                </a:lnTo>
                <a:close/>
              </a:path>
            </a:pathLst>
          </a:custGeom>
          <a:solidFill>
            <a:srgbClr val="f8a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"/>
          <p:cNvSpPr/>
          <p:nvPr/>
        </p:nvSpPr>
        <p:spPr>
          <a:xfrm>
            <a:off x="0" y="549360"/>
            <a:ext cx="9144000" cy="48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cc"/>
                </a:solidFill>
                <a:latin typeface="Times New Roman"/>
              </a:rPr>
              <a:t>13а</a:t>
            </a:r>
            <a:r>
              <a:rPr b="0" lang="ru-RU" sz="1400" spc="-1" strike="noStrike">
                <a:solidFill>
                  <a:srgbClr val="ffffcc"/>
                </a:solidFill>
                <a:latin typeface="Times New Roman"/>
              </a:rPr>
              <a:t>     Наблюдать, изучать работу кружков худо-        или         </a:t>
            </a:r>
            <a:r>
              <a:rPr b="1" i="1" lang="ru-RU" sz="1400" spc="-1" strike="noStrike">
                <a:solidFill>
                  <a:srgbClr val="ffffcc"/>
                </a:solidFill>
                <a:latin typeface="Times New Roman"/>
              </a:rPr>
              <a:t>13б</a:t>
            </a:r>
            <a:r>
              <a:rPr b="0" lang="ru-RU" sz="1400" spc="-1" strike="noStrike">
                <a:solidFill>
                  <a:srgbClr val="ffffcc"/>
                </a:solidFill>
                <a:latin typeface="Times New Roman"/>
              </a:rPr>
              <a:t>       Наблюдать, изучать жизнь микроб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cc"/>
                </a:solidFill>
                <a:latin typeface="Times New Roman"/>
              </a:rPr>
              <a:t>жественной самодеятельно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cc"/>
                </a:solidFill>
                <a:latin typeface="Times New Roman"/>
              </a:rPr>
              <a:t>14а  </a:t>
            </a:r>
            <a:r>
              <a:rPr b="0" lang="ru-RU" sz="1400" spc="-1" strike="noStrike">
                <a:solidFill>
                  <a:srgbClr val="ffffcc"/>
                </a:solidFill>
                <a:latin typeface="Times New Roman"/>
              </a:rPr>
              <a:t>   Обслуживать, налаживать мед. приборы,          или         </a:t>
            </a:r>
            <a:r>
              <a:rPr b="1" i="1" lang="ru-RU" sz="1400" spc="-1" strike="noStrike">
                <a:solidFill>
                  <a:srgbClr val="ffffcc"/>
                </a:solidFill>
                <a:latin typeface="Times New Roman"/>
              </a:rPr>
              <a:t>14б</a:t>
            </a:r>
            <a:r>
              <a:rPr b="0" lang="ru-RU" sz="1400" spc="-1" strike="noStrike">
                <a:solidFill>
                  <a:srgbClr val="ffffcc"/>
                </a:solidFill>
                <a:latin typeface="Times New Roman"/>
              </a:rPr>
              <a:t>       Оказывать людям мед. помощь при ранениях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ffffcc"/>
                </a:solidFill>
                <a:latin typeface="Times New Roman"/>
              </a:rPr>
              <a:t>аппараты                                                                                                      ушибах, ожогах и т. п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cc"/>
                </a:solidFill>
                <a:latin typeface="Times New Roman"/>
              </a:rPr>
              <a:t>15а</a:t>
            </a:r>
            <a:r>
              <a:rPr b="0" lang="ru-RU" sz="1400" spc="-1" strike="noStrike">
                <a:solidFill>
                  <a:srgbClr val="ffffcc"/>
                </a:solidFill>
                <a:latin typeface="Times New Roman"/>
              </a:rPr>
              <a:t>     Составлять точные описания – отчеты о           или          </a:t>
            </a:r>
            <a:r>
              <a:rPr b="1" i="1" lang="ru-RU" sz="1400" spc="-1" strike="noStrike">
                <a:solidFill>
                  <a:srgbClr val="ffffcc"/>
                </a:solidFill>
                <a:latin typeface="Times New Roman"/>
              </a:rPr>
              <a:t>15б</a:t>
            </a:r>
            <a:r>
              <a:rPr b="0" lang="ru-RU" sz="1400" spc="-1" strike="noStrike">
                <a:solidFill>
                  <a:srgbClr val="ffffcc"/>
                </a:solidFill>
                <a:latin typeface="Times New Roman"/>
              </a:rPr>
              <a:t>       Художественно описывать, изображать наблюдаемых явлениях, событиях и др.                                                    события (наблюдаемые или представляемые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cc"/>
                </a:solidFill>
                <a:latin typeface="Times New Roman"/>
              </a:rPr>
              <a:t>16а</a:t>
            </a:r>
            <a:r>
              <a:rPr b="0" lang="ru-RU" sz="1400" spc="-1" strike="noStrike">
                <a:solidFill>
                  <a:srgbClr val="ffffcc"/>
                </a:solidFill>
                <a:latin typeface="Times New Roman"/>
              </a:rPr>
              <a:t>     Делать лабораторные анализы в больнице        или         </a:t>
            </a:r>
            <a:r>
              <a:rPr b="1" i="1" lang="ru-RU" sz="1400" spc="-1" strike="noStrike">
                <a:solidFill>
                  <a:srgbClr val="ffffcc"/>
                </a:solidFill>
                <a:latin typeface="Times New Roman"/>
              </a:rPr>
              <a:t>16б</a:t>
            </a:r>
            <a:r>
              <a:rPr b="0" lang="ru-RU" sz="1400" spc="-1" strike="noStrike">
                <a:solidFill>
                  <a:srgbClr val="ffffcc"/>
                </a:solidFill>
                <a:latin typeface="Times New Roman"/>
              </a:rPr>
              <a:t>        Принимать, осматривать больных, беседовать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cc"/>
                </a:solidFill>
                <a:latin typeface="Times New Roman"/>
              </a:rPr>
              <a:t>                                                                                                                        </a:t>
            </a:r>
            <a:r>
              <a:rPr b="0" lang="ru-RU" sz="1400" spc="-1" strike="noStrike">
                <a:solidFill>
                  <a:srgbClr val="ffffcc"/>
                </a:solidFill>
                <a:latin typeface="Times New Roman"/>
              </a:rPr>
              <a:t>с ними, назначать леч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cc"/>
                </a:solidFill>
                <a:latin typeface="Times New Roman"/>
              </a:rPr>
              <a:t>17а</a:t>
            </a:r>
            <a:r>
              <a:rPr b="0" lang="ru-RU" sz="1400" spc="-1" strike="noStrike">
                <a:solidFill>
                  <a:srgbClr val="ffffcc"/>
                </a:solidFill>
                <a:latin typeface="Times New Roman"/>
              </a:rPr>
              <a:t>    Красить или расписывать стены помещений,    или          </a:t>
            </a:r>
            <a:r>
              <a:rPr b="1" i="1" lang="ru-RU" sz="1400" spc="-1" strike="noStrike">
                <a:solidFill>
                  <a:srgbClr val="ffffcc"/>
                </a:solidFill>
                <a:latin typeface="Times New Roman"/>
              </a:rPr>
              <a:t>17б </a:t>
            </a:r>
            <a:r>
              <a:rPr b="0" lang="ru-RU" sz="1400" spc="-1" strike="noStrike">
                <a:solidFill>
                  <a:srgbClr val="ffffcc"/>
                </a:solidFill>
                <a:latin typeface="Times New Roman"/>
              </a:rPr>
              <a:t>      Осуществлять монтаж зданий или сборку машин, поверхность изделий                                                                       прибор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cc"/>
                </a:solidFill>
                <a:latin typeface="Times New Roman"/>
              </a:rPr>
              <a:t>18а</a:t>
            </a:r>
            <a:r>
              <a:rPr b="0" lang="ru-RU" sz="1400" spc="-1" strike="noStrike">
                <a:solidFill>
                  <a:srgbClr val="ffffcc"/>
                </a:solidFill>
                <a:latin typeface="Times New Roman"/>
              </a:rPr>
              <a:t>     Организовывать культпоходы сверстников      или          </a:t>
            </a:r>
            <a:r>
              <a:rPr b="1" i="1" lang="ru-RU" sz="1400" spc="-1" strike="noStrike">
                <a:solidFill>
                  <a:srgbClr val="ffffcc"/>
                </a:solidFill>
                <a:latin typeface="Times New Roman"/>
              </a:rPr>
              <a:t>18б</a:t>
            </a:r>
            <a:r>
              <a:rPr b="0" lang="ru-RU" sz="1400" spc="-1" strike="noStrike">
                <a:solidFill>
                  <a:srgbClr val="ffffcc"/>
                </a:solidFill>
                <a:latin typeface="Times New Roman"/>
              </a:rPr>
              <a:t>       Играть на сцене, принимать участие в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ffffcc"/>
                </a:solidFill>
                <a:latin typeface="Times New Roman"/>
              </a:rPr>
              <a:t>или младших (в театры, музеи), экскурсии и т. п.                                    концерта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cc"/>
                </a:solidFill>
                <a:latin typeface="Times New Roman"/>
              </a:rPr>
              <a:t>19а</a:t>
            </a:r>
            <a:r>
              <a:rPr b="0" lang="ru-RU" sz="1400" spc="-1" strike="noStrike">
                <a:solidFill>
                  <a:srgbClr val="ffffcc"/>
                </a:solidFill>
                <a:latin typeface="Times New Roman"/>
              </a:rPr>
              <a:t>     Изготовлять по чертежам детали, изделия        или          </a:t>
            </a:r>
            <a:r>
              <a:rPr b="1" i="1" lang="ru-RU" sz="1400" spc="-1" strike="noStrike">
                <a:solidFill>
                  <a:srgbClr val="ffffcc"/>
                </a:solidFill>
                <a:latin typeface="Times New Roman"/>
              </a:rPr>
              <a:t>19б </a:t>
            </a:r>
            <a:r>
              <a:rPr b="0" lang="ru-RU" sz="1400" spc="-1" strike="noStrike">
                <a:solidFill>
                  <a:srgbClr val="ffffcc"/>
                </a:solidFill>
                <a:latin typeface="Times New Roman"/>
              </a:rPr>
              <a:t>      Заниматься черчением, копировать чертежи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ffffcc"/>
                </a:solidFill>
                <a:latin typeface="Times New Roman"/>
              </a:rPr>
              <a:t>(машины, одежду), строить здания                                                            карты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cc"/>
                </a:solidFill>
                <a:latin typeface="Times New Roman"/>
              </a:rPr>
              <a:t>20а </a:t>
            </a:r>
            <a:r>
              <a:rPr b="0" lang="ru-RU" sz="1400" spc="-1" strike="noStrike">
                <a:solidFill>
                  <a:srgbClr val="ffffcc"/>
                </a:solidFill>
                <a:latin typeface="Times New Roman"/>
              </a:rPr>
              <a:t>    Вести борьбу с болезнями растений, с вре-      или           </a:t>
            </a:r>
            <a:r>
              <a:rPr b="1" i="1" lang="ru-RU" sz="1400" spc="-1" strike="noStrike">
                <a:solidFill>
                  <a:srgbClr val="ffffcc"/>
                </a:solidFill>
                <a:latin typeface="Times New Roman"/>
              </a:rPr>
              <a:t>20б </a:t>
            </a:r>
            <a:r>
              <a:rPr b="0" lang="ru-RU" sz="1400" spc="-1" strike="noStrike">
                <a:solidFill>
                  <a:srgbClr val="ffffcc"/>
                </a:solidFill>
                <a:latin typeface="Times New Roman"/>
              </a:rPr>
              <a:t>      Работать на клавишных машинах (пишуще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ffffcc"/>
                </a:solidFill>
                <a:latin typeface="Times New Roman"/>
              </a:rPr>
              <a:t>дителями леса, сада                                                                                      машинке, телетайпе, наборной машине и др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cc"/>
                </a:solidFill>
                <a:latin typeface="Times New Roman"/>
              </a:rPr>
              <a:t>А ТЕПЕРЬ ПЕРЕЙДЕМ К ОБРАБОТКЕ РЕЗУЛЬТАТ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0" y="6500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>
            <a:hlinkClick r:id="" action="ppaction://hlinkshowjump?jump=previousslide"/>
          </p:cNvPr>
          <p:cNvSpPr/>
          <p:nvPr/>
        </p:nvSpPr>
        <p:spPr>
          <a:xfrm>
            <a:off x="539640" y="6021360"/>
            <a:ext cx="216000" cy="21600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8a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>
            <a:hlinkClick r:id="" action="ppaction://hlinkshowjump?jump=lastslide"/>
          </p:cNvPr>
          <p:cNvSpPr/>
          <p:nvPr/>
        </p:nvSpPr>
        <p:spPr>
          <a:xfrm>
            <a:off x="826920" y="6021360"/>
            <a:ext cx="216000" cy="21600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4299" y="10800"/>
                </a:moveTo>
                <a:lnTo>
                  <a:pt x="3794" y="17806"/>
                </a:lnTo>
                <a:lnTo>
                  <a:pt x="3794" y="3794"/>
                </a:lnTo>
                <a:close/>
              </a:path>
              <a:path fill="darken" w="21600" h="21600">
                <a:moveTo>
                  <a:pt x="16144" y="3794"/>
                </a:moveTo>
                <a:lnTo>
                  <a:pt x="16144" y="17806"/>
                </a:lnTo>
                <a:lnTo>
                  <a:pt x="17806" y="17806"/>
                </a:lnTo>
                <a:lnTo>
                  <a:pt x="17806" y="3794"/>
                </a:lnTo>
                <a:close/>
              </a:path>
            </a:pathLst>
          </a:custGeom>
          <a:solidFill>
            <a:srgbClr val="f8a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1116000" y="6021360"/>
            <a:ext cx="1225440" cy="216000"/>
          </a:xfrm>
          <a:custGeom>
            <a:avLst/>
            <a:gdLst>
              <a:gd name="textAreaLeft" fmla="*/ 13680 w 1225440"/>
              <a:gd name="textAreaRight" fmla="*/ 1211760 w 12254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122376" h="21600">
                <a:moveTo>
                  <a:pt x="0" y="0"/>
                </a:moveTo>
                <a:lnTo>
                  <a:pt x="122376" y="0"/>
                </a:lnTo>
                <a:lnTo>
                  <a:pt x="122376" y="21600"/>
                </a:lnTo>
                <a:lnTo>
                  <a:pt x="0" y="21600"/>
                </a:lnTo>
                <a:close/>
              </a:path>
              <a:path fill="lightenLess" w="122376" h="21600">
                <a:moveTo>
                  <a:pt x="0" y="0"/>
                </a:moveTo>
                <a:lnTo>
                  <a:pt x="122376" y="0"/>
                </a:lnTo>
                <a:lnTo>
                  <a:pt x="120976" y="1400"/>
                </a:lnTo>
                <a:lnTo>
                  <a:pt x="1400" y="1400"/>
                </a:lnTo>
                <a:close/>
              </a:path>
              <a:path fill="darken" w="122376" h="21600">
                <a:moveTo>
                  <a:pt x="122376" y="0"/>
                </a:moveTo>
                <a:lnTo>
                  <a:pt x="122376" y="21600"/>
                </a:lnTo>
                <a:lnTo>
                  <a:pt x="120976" y="20200"/>
                </a:lnTo>
                <a:lnTo>
                  <a:pt x="120976" y="1400"/>
                </a:lnTo>
                <a:close/>
              </a:path>
              <a:path fill="darkenLess" w="122376" h="21600">
                <a:moveTo>
                  <a:pt x="1223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0976" y="20200"/>
                </a:lnTo>
                <a:close/>
              </a:path>
              <a:path fill="lighten" w="1223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8a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к содержани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2" name=""/>
          <p:cNvGraphicFramePr/>
          <p:nvPr/>
        </p:nvGraphicFramePr>
        <p:xfrm>
          <a:off x="250920" y="907920"/>
          <a:ext cx="8569080" cy="5443560"/>
        </p:xfrm>
        <a:graphic>
          <a:graphicData uri="http://schemas.openxmlformats.org/drawingml/2006/table">
            <a:tbl>
              <a:tblPr/>
              <a:tblGrid>
                <a:gridCol w="1577880"/>
                <a:gridCol w="1827360"/>
                <a:gridCol w="1828800"/>
                <a:gridCol w="1830240"/>
                <a:gridCol w="15048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Человек-приро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Человек-техни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Человек-челове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Человек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зна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Человек-худ. обра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93" name=""/>
          <p:cNvSpPr/>
          <p:nvPr/>
        </p:nvSpPr>
        <p:spPr>
          <a:xfrm>
            <a:off x="0" y="2602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ЛИСТ ОТВЕ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>
            <a:hlinkClick r:id="" action="ppaction://hlinkshowjump?jump=previousslide"/>
          </p:cNvPr>
          <p:cNvSpPr/>
          <p:nvPr/>
        </p:nvSpPr>
        <p:spPr>
          <a:xfrm>
            <a:off x="1474920" y="6453360"/>
            <a:ext cx="215640" cy="215640"/>
          </a:xfrm>
          <a:custGeom>
            <a:avLst/>
            <a:gdLst>
              <a:gd name="textAreaLeft" fmla="*/ 13680 w 215640"/>
              <a:gd name="textAreaRight" fmla="*/ 201960 w 21564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>
            <a:hlinkClick r:id="" action="ppaction://hlinkshowjump?jump=lastslide"/>
          </p:cNvPr>
          <p:cNvSpPr/>
          <p:nvPr/>
        </p:nvSpPr>
        <p:spPr>
          <a:xfrm>
            <a:off x="1762200" y="6453360"/>
            <a:ext cx="216000" cy="21564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21636" h="21600">
                <a:moveTo>
                  <a:pt x="0" y="0"/>
                </a:moveTo>
                <a:lnTo>
                  <a:pt x="21636" y="0"/>
                </a:lnTo>
                <a:lnTo>
                  <a:pt x="21636" y="21600"/>
                </a:lnTo>
                <a:lnTo>
                  <a:pt x="0" y="21600"/>
                </a:lnTo>
                <a:close/>
              </a:path>
              <a:path fill="lightenLess" w="21636" h="21600">
                <a:moveTo>
                  <a:pt x="0" y="0"/>
                </a:moveTo>
                <a:lnTo>
                  <a:pt x="21636" y="0"/>
                </a:lnTo>
                <a:lnTo>
                  <a:pt x="20236" y="1400"/>
                </a:lnTo>
                <a:lnTo>
                  <a:pt x="1400" y="1400"/>
                </a:lnTo>
                <a:close/>
              </a:path>
              <a:path fill="darken" w="21636" h="21600">
                <a:moveTo>
                  <a:pt x="21636" y="0"/>
                </a:moveTo>
                <a:lnTo>
                  <a:pt x="21636" y="21600"/>
                </a:lnTo>
                <a:lnTo>
                  <a:pt x="20236" y="20200"/>
                </a:lnTo>
                <a:lnTo>
                  <a:pt x="20236" y="1400"/>
                </a:lnTo>
                <a:close/>
              </a:path>
              <a:path fill="darkenLess" w="21636" h="21600">
                <a:moveTo>
                  <a:pt x="216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36" y="20200"/>
                </a:lnTo>
                <a:close/>
              </a:path>
              <a:path fill="lighten" w="216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36" h="21600">
                <a:moveTo>
                  <a:pt x="14317" y="10800"/>
                </a:moveTo>
                <a:lnTo>
                  <a:pt x="3812" y="17806"/>
                </a:lnTo>
                <a:lnTo>
                  <a:pt x="3812" y="3794"/>
                </a:lnTo>
                <a:close/>
              </a:path>
              <a:path fill="darken" w="21636" h="21600">
                <a:moveTo>
                  <a:pt x="16162" y="3794"/>
                </a:moveTo>
                <a:lnTo>
                  <a:pt x="16162" y="17806"/>
                </a:lnTo>
                <a:lnTo>
                  <a:pt x="17824" y="17806"/>
                </a:lnTo>
                <a:lnTo>
                  <a:pt x="17824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2050920" y="6453360"/>
            <a:ext cx="1225800" cy="215640"/>
          </a:xfrm>
          <a:custGeom>
            <a:avLst/>
            <a:gdLst>
              <a:gd name="textAreaLeft" fmla="*/ 13680 w 1225800"/>
              <a:gd name="textAreaRight" fmla="*/ 1212120 w 122580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122616" h="21600">
                <a:moveTo>
                  <a:pt x="0" y="0"/>
                </a:moveTo>
                <a:lnTo>
                  <a:pt x="122616" y="0"/>
                </a:lnTo>
                <a:lnTo>
                  <a:pt x="122616" y="21600"/>
                </a:lnTo>
                <a:lnTo>
                  <a:pt x="0" y="21600"/>
                </a:lnTo>
                <a:close/>
              </a:path>
              <a:path fill="lightenLess" w="122616" h="21600">
                <a:moveTo>
                  <a:pt x="0" y="0"/>
                </a:moveTo>
                <a:lnTo>
                  <a:pt x="122616" y="0"/>
                </a:lnTo>
                <a:lnTo>
                  <a:pt x="121216" y="1400"/>
                </a:lnTo>
                <a:lnTo>
                  <a:pt x="1400" y="1400"/>
                </a:lnTo>
                <a:close/>
              </a:path>
              <a:path fill="darken" w="122616" h="21600">
                <a:moveTo>
                  <a:pt x="122616" y="0"/>
                </a:moveTo>
                <a:lnTo>
                  <a:pt x="122616" y="21600"/>
                </a:lnTo>
                <a:lnTo>
                  <a:pt x="121216" y="20200"/>
                </a:lnTo>
                <a:lnTo>
                  <a:pt x="121216" y="1400"/>
                </a:lnTo>
                <a:close/>
              </a:path>
              <a:path fill="darkenLess" w="122616" h="21600">
                <a:moveTo>
                  <a:pt x="1226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1216" y="20200"/>
                </a:lnTo>
                <a:close/>
              </a:path>
              <a:path fill="lighten" w="1226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к содержани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 txBox="1"/>
          <p:nvPr/>
        </p:nvSpPr>
        <p:spPr>
          <a:xfrm>
            <a:off x="2484360" y="692280"/>
            <a:ext cx="431964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ЗАКЛЮЧЕНИЕ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0" y="1125360"/>
            <a:ext cx="9144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0" y="1268280"/>
            <a:ext cx="9144000" cy="46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Каждому человеку свойственны определенные способности. По тому, насколько они соответствуют требованиям, предъявляемым конкретной профессией к человеку, обычно и судят о его профессиональной пригодности. Высший уровень профессиональной пригодности подразумевает наличие у человека явных признаков определенных качеств, необходимых для избираемой деятельности. Тогда говорят о призвании.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В том случае, если у человека нет необходимых для избираемой деятельности способностей, он может пойти по одному из двух путей: либо отказаться от своего выбора и переключиться на что-то другое, близкое, либо вспомнить о замечательном свойстве психики человека – компенсации.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Профессиональная пригодность – формируемое качество и во многом находится в руках самого человека.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Каждому выбирающему профессию важно попробовать себя в разнообразных видах деятельности и научиться выявлять и развивать свои способности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>
            <a:hlinkClick r:id="" action="ppaction://hlinkshowjump?jump=previousslide"/>
          </p:cNvPr>
          <p:cNvSpPr/>
          <p:nvPr/>
        </p:nvSpPr>
        <p:spPr>
          <a:xfrm>
            <a:off x="2700360" y="6308640"/>
            <a:ext cx="216000" cy="21600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2987640" y="6308640"/>
            <a:ext cx="1225440" cy="216000"/>
          </a:xfrm>
          <a:custGeom>
            <a:avLst/>
            <a:gdLst>
              <a:gd name="textAreaLeft" fmla="*/ 13680 w 1225440"/>
              <a:gd name="textAreaRight" fmla="*/ 1211760 w 12254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122376" h="21600">
                <a:moveTo>
                  <a:pt x="0" y="0"/>
                </a:moveTo>
                <a:lnTo>
                  <a:pt x="122376" y="0"/>
                </a:lnTo>
                <a:lnTo>
                  <a:pt x="122376" y="21600"/>
                </a:lnTo>
                <a:lnTo>
                  <a:pt x="0" y="21600"/>
                </a:lnTo>
                <a:close/>
              </a:path>
              <a:path fill="lightenLess" w="122376" h="21600">
                <a:moveTo>
                  <a:pt x="0" y="0"/>
                </a:moveTo>
                <a:lnTo>
                  <a:pt x="122376" y="0"/>
                </a:lnTo>
                <a:lnTo>
                  <a:pt x="120976" y="1400"/>
                </a:lnTo>
                <a:lnTo>
                  <a:pt x="1400" y="1400"/>
                </a:lnTo>
                <a:close/>
              </a:path>
              <a:path fill="darken" w="122376" h="21600">
                <a:moveTo>
                  <a:pt x="122376" y="0"/>
                </a:moveTo>
                <a:lnTo>
                  <a:pt x="122376" y="21600"/>
                </a:lnTo>
                <a:lnTo>
                  <a:pt x="120976" y="20200"/>
                </a:lnTo>
                <a:lnTo>
                  <a:pt x="120976" y="1400"/>
                </a:lnTo>
                <a:close/>
              </a:path>
              <a:path fill="darkenLess" w="122376" h="21600">
                <a:moveTo>
                  <a:pt x="1223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0976" y="20200"/>
                </a:lnTo>
                <a:close/>
              </a:path>
              <a:path fill="lighten" w="1223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к содержани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6" name=""/>
          <p:cNvSpPr/>
          <p:nvPr/>
        </p:nvSpPr>
        <p:spPr>
          <a:xfrm>
            <a:off x="0" y="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0" y="0"/>
            <a:ext cx="9144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Когда ты подрастешь и станешь почти взрослым, придет время выбирать профессию. Перед тобой откроется множество дорог, ведущих во взрослый мир, где ты сможешь найти свое место. Но не забывай, что у каждого в жизни – своя дорога, своя судьба. Не старайся искать легких дорог, путь к успеху – это всегда работа до седьмого пота. И не забывай, что в каждой профессии самое главное – труд, который ты в нее вкладываешь. Выбирая будущую профессию, подумай о том, чем тебе нравится заниматься, к чему у тебя есть наклонности. Вспомни очень актуальную во все времена поговорку: «Дело мастера боится». Может мои исследования помогут тебе в выборе дальнейшего пут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611280" y="4384800"/>
            <a:ext cx="74977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66"/>
                </a:solidFill>
                <a:uFillTx/>
                <a:latin typeface="Arial"/>
              </a:rPr>
              <a:t>Цель работ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66"/>
              </a:buClr>
              <a:buFont typeface="Wingdings" charset="2"/>
              <a:buChar char="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Изучение спроса на профессии, связанные с информатикой и ИКТ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66"/>
              </a:buClr>
              <a:buFont typeface="Wingdings" charset="2"/>
              <a:buChar char="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Знакомство с профессиями прошлого, настоящего и будущего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66"/>
              </a:buClr>
              <a:buFont typeface="Wingdings" charset="2"/>
              <a:buChar char="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Анализ анкетирования и выбор професс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99ff"/>
              </a:buClr>
              <a:buFont typeface="Wingdings" charset="2"/>
              <a:buChar char="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9" name="" descr=""/>
          <p:cNvPicPr/>
          <p:nvPr/>
        </p:nvPicPr>
        <p:blipFill>
          <a:blip r:embed="rId2"/>
          <a:stretch/>
        </p:blipFill>
        <p:spPr>
          <a:xfrm>
            <a:off x="4140360" y="1341360"/>
            <a:ext cx="4284360" cy="3213000"/>
          </a:xfrm>
          <a:prstGeom prst="rect">
            <a:avLst/>
          </a:prstGeom>
          <a:ln w="0">
            <a:noFill/>
          </a:ln>
        </p:spPr>
      </p:pic>
      <p:sp>
        <p:nvSpPr>
          <p:cNvPr id="520" name=""/>
          <p:cNvSpPr/>
          <p:nvPr/>
        </p:nvSpPr>
        <p:spPr>
          <a:xfrm>
            <a:off x="684360" y="476280"/>
            <a:ext cx="7272360" cy="66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СОДЕРЖ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cff"/>
                </a:solidFill>
                <a:uFillTx/>
                <a:latin typeface="Times New Roman"/>
                <a:hlinkClick r:id="rId3" action="ppaction://hlinksldjump"/>
              </a:rPr>
              <a:t>Спро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Професс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Прошл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800" spc="-1" strike="noStrike" u="sng">
                <a:solidFill>
                  <a:srgbClr val="00ccff"/>
                </a:solidFill>
                <a:uFillTx/>
                <a:latin typeface="Times New Roman"/>
                <a:hlinkClick r:id="rId4" action="ppaction://hlinksldjump"/>
              </a:rPr>
              <a:t>писе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800" spc="-1" strike="noStrike" u="sng">
                <a:solidFill>
                  <a:srgbClr val="00ccff"/>
                </a:solidFill>
                <a:uFillTx/>
                <a:latin typeface="Times New Roman"/>
                <a:hlinkClick r:id="rId5" action="ppaction://hlinksldjump"/>
              </a:rPr>
              <a:t>переписч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Настояще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800" spc="-1" strike="noStrike" u="sng">
                <a:solidFill>
                  <a:srgbClr val="00ccff"/>
                </a:solidFill>
                <a:uFillTx/>
                <a:latin typeface="Times New Roman"/>
                <a:hlinkClick r:id="rId6" action="ppaction://hlinksldjump"/>
              </a:rPr>
              <a:t>программис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800" spc="-1" strike="noStrike" u="sng">
                <a:solidFill>
                  <a:srgbClr val="00ccff"/>
                </a:solidFill>
                <a:uFillTx/>
                <a:latin typeface="Times New Roman"/>
                <a:hlinkClick r:id="rId7" action="ppaction://hlinksldjump"/>
              </a:rPr>
              <a:t>оператор ЭВ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Будуще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800" spc="-1" strike="noStrike" u="sng">
                <a:solidFill>
                  <a:srgbClr val="00ccff"/>
                </a:solidFill>
                <a:uFillTx/>
                <a:latin typeface="Times New Roman"/>
                <a:hlinkClick r:id="rId8" action="ppaction://hlinksldjump"/>
              </a:rPr>
              <a:t>интернет -трейдер</a:t>
            </a:r>
            <a:r>
              <a:rPr b="0" lang="en-US" sz="1800" spc="-1" strike="noStrike" u="sng">
                <a:solidFill>
                  <a:srgbClr val="00ccff"/>
                </a:solidFill>
                <a:uFillTx/>
                <a:latin typeface="Times New Roman"/>
                <a:hlinkClick r:id="rId9" action="ppaction://hlinksldjump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800" spc="-1" strike="noStrike" u="sng">
                <a:solidFill>
                  <a:srgbClr val="00ccff"/>
                </a:solidFill>
                <a:uFillTx/>
                <a:latin typeface="Times New Roman"/>
                <a:hlinkClick r:id="rId10" action="ppaction://hlinksldjump"/>
              </a:rPr>
              <a:t>тестер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0" lang="en-US" sz="1800" spc="-1" strike="noStrike" u="sng">
                <a:solidFill>
                  <a:srgbClr val="00ccff"/>
                </a:solidFill>
                <a:uFillTx/>
                <a:latin typeface="Times New Roman"/>
                <a:hlinkClick r:id="rId11" action="ppaction://hlinksldjump"/>
              </a:rPr>
              <a:t>Анализ анк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0" lang="en-US" sz="1800" spc="-1" strike="noStrike" u="sng">
                <a:solidFill>
                  <a:srgbClr val="00ccff"/>
                </a:solidFill>
                <a:uFillTx/>
                <a:latin typeface="Times New Roman"/>
                <a:hlinkClick r:id="rId12" action="ppaction://hlinksldjump"/>
              </a:rPr>
              <a:t>Тес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0" lang="en-US" sz="1800" spc="-1" strike="noStrike" u="sng">
                <a:solidFill>
                  <a:srgbClr val="00ccff"/>
                </a:solidFill>
                <a:uFillTx/>
                <a:latin typeface="Times New Roman"/>
                <a:hlinkClick r:id="rId13" action="ppaction://hlinksldjump"/>
              </a:rPr>
              <a:t>Заключ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2000" fill="hold"/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2000" fill="hold"/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" dur="2000" fill="hold"/>
                                        <p:tgtEl>
                                          <p:spTgt spid="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8" dur="2000" fill="hold"/>
                                        <p:tgtEl>
                                          <p:spTgt spid="5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2" dur="2000" fill="hold"/>
                                        <p:tgtEl>
                                          <p:spTgt spid="52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2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2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2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2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"/>
          <p:cNvSpPr/>
          <p:nvPr/>
        </p:nvSpPr>
        <p:spPr>
          <a:xfrm>
            <a:off x="324000" y="549360"/>
            <a:ext cx="446544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66"/>
                </a:solidFill>
                <a:latin typeface="Times New Roman"/>
              </a:rPr>
              <a:t>Список профессий, имеющих </a:t>
            </a:r>
            <a:r>
              <a:rPr b="1" lang="ru-RU" sz="1800" spc="-1" strike="noStrike">
                <a:solidFill>
                  <a:srgbClr val="ff0066"/>
                </a:solidFill>
                <a:latin typeface="Times New Roman"/>
              </a:rPr>
              <a:t>позитивную динамику развития</a:t>
            </a:r>
            <a:r>
              <a:rPr b="0" lang="ru-RU" sz="1800" spc="-1" strike="noStrike">
                <a:solidFill>
                  <a:srgbClr val="ff0066"/>
                </a:solidFill>
                <a:latin typeface="Times New Roman"/>
              </a:rPr>
              <a:t>, то есть таких, где принимается на работу каждый раз больше работник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66"/>
                </a:solidFill>
                <a:latin typeface="Times New Roman"/>
              </a:rPr>
              <a:t>администратор баз данны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66"/>
                </a:solidFill>
                <a:latin typeface="Times New Roman"/>
              </a:rPr>
              <a:t>администратор се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66"/>
                </a:solidFill>
                <a:latin typeface="Times New Roman"/>
              </a:rPr>
              <a:t>аналитик компьютерных систе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66"/>
                </a:solidFill>
                <a:latin typeface="Times New Roman"/>
              </a:rPr>
              <a:t>инвестиционный советни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66"/>
                </a:solidFill>
                <a:latin typeface="Times New Roman"/>
              </a:rPr>
              <a:t>налоговый советни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66"/>
                </a:solidFill>
                <a:latin typeface="Times New Roman"/>
              </a:rPr>
              <a:t>экономис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66"/>
                </a:solidFill>
                <a:latin typeface="Times New Roman"/>
              </a:rPr>
              <a:t>торговый информато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66"/>
                </a:solidFill>
                <a:latin typeface="Times New Roman"/>
              </a:rPr>
              <a:t>оператор компьютерного оборудова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66"/>
                </a:solidFill>
                <a:latin typeface="Times New Roman"/>
              </a:rPr>
              <a:t>организатор туристического обслужива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66"/>
                </a:solidFill>
                <a:latin typeface="Times New Roman"/>
              </a:rPr>
              <a:t>организатор гостиничных услуг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66"/>
                </a:solidFill>
                <a:latin typeface="Times New Roman"/>
              </a:rPr>
              <a:t>экскурсовод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66"/>
                </a:solidFill>
                <a:latin typeface="Times New Roman"/>
              </a:rPr>
              <a:t>программис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66"/>
                </a:solidFill>
                <a:latin typeface="Times New Roman"/>
              </a:rPr>
              <a:t>проектант компьютерных систе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66"/>
                </a:solidFill>
                <a:latin typeface="Times New Roman"/>
              </a:rPr>
              <a:t>специалист по анализу рын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66"/>
                </a:solidFill>
                <a:latin typeface="Times New Roman"/>
              </a:rPr>
              <a:t>специалист по банкингу и кредита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66"/>
                </a:solidFill>
                <a:latin typeface="Times New Roman"/>
              </a:rPr>
              <a:t>специалист по финанса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2" name="" descr=""/>
          <p:cNvPicPr/>
          <p:nvPr/>
        </p:nvPicPr>
        <p:blipFill>
          <a:blip r:embed="rId1"/>
          <a:stretch/>
        </p:blipFill>
        <p:spPr>
          <a:xfrm>
            <a:off x="5867280" y="4653000"/>
            <a:ext cx="2484720" cy="155736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4335480" y="-7920"/>
            <a:ext cx="4268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4643280" y="549360"/>
            <a:ext cx="4284720" cy="407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место этого спад рабочих мест прогнозируется в следующих профессиональных группах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аботники сельского хозяйства и фермерств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иржевые маклер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ртны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дминистративные служащ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аботники почт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ператоры компьютер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екретар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3135240" y="260280"/>
            <a:ext cx="281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РЕЙТИНГ ПРОФЕСС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>
            <a:hlinkClick r:id="" action="ppaction://hlinkshowjump?jump=previousslide"/>
          </p:cNvPr>
          <p:cNvSpPr/>
          <p:nvPr/>
        </p:nvSpPr>
        <p:spPr>
          <a:xfrm>
            <a:off x="3274920" y="6381720"/>
            <a:ext cx="216000" cy="21600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>
            <a:hlinkClick r:id="" action="ppaction://hlinkshowjump?jump=lastslide"/>
          </p:cNvPr>
          <p:cNvSpPr/>
          <p:nvPr/>
        </p:nvSpPr>
        <p:spPr>
          <a:xfrm>
            <a:off x="3562200" y="6381720"/>
            <a:ext cx="216000" cy="21600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4299" y="10800"/>
                </a:moveTo>
                <a:lnTo>
                  <a:pt x="3794" y="17806"/>
                </a:lnTo>
                <a:lnTo>
                  <a:pt x="3794" y="3794"/>
                </a:lnTo>
                <a:close/>
              </a:path>
              <a:path fill="darken" w="21600" h="21600">
                <a:moveTo>
                  <a:pt x="16144" y="3794"/>
                </a:moveTo>
                <a:lnTo>
                  <a:pt x="16144" y="17806"/>
                </a:lnTo>
                <a:lnTo>
                  <a:pt x="17806" y="17806"/>
                </a:lnTo>
                <a:lnTo>
                  <a:pt x="17806" y="3794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>
            <a:hlinkClick r:id="rId2" action="ppaction://hlinksldjump"/>
          </p:cNvPr>
          <p:cNvSpPr/>
          <p:nvPr/>
        </p:nvSpPr>
        <p:spPr>
          <a:xfrm>
            <a:off x="3851280" y="6381720"/>
            <a:ext cx="1225440" cy="216000"/>
          </a:xfrm>
          <a:custGeom>
            <a:avLst/>
            <a:gdLst>
              <a:gd name="textAreaLeft" fmla="*/ 13680 w 1225440"/>
              <a:gd name="textAreaRight" fmla="*/ 1211760 w 12254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122376" h="21600">
                <a:moveTo>
                  <a:pt x="0" y="0"/>
                </a:moveTo>
                <a:lnTo>
                  <a:pt x="122376" y="0"/>
                </a:lnTo>
                <a:lnTo>
                  <a:pt x="122376" y="21600"/>
                </a:lnTo>
                <a:lnTo>
                  <a:pt x="0" y="21600"/>
                </a:lnTo>
                <a:close/>
              </a:path>
              <a:path fill="lightenLess" w="122376" h="21600">
                <a:moveTo>
                  <a:pt x="0" y="0"/>
                </a:moveTo>
                <a:lnTo>
                  <a:pt x="122376" y="0"/>
                </a:lnTo>
                <a:lnTo>
                  <a:pt x="120976" y="1400"/>
                </a:lnTo>
                <a:lnTo>
                  <a:pt x="1400" y="1400"/>
                </a:lnTo>
                <a:close/>
              </a:path>
              <a:path fill="darken" w="122376" h="21600">
                <a:moveTo>
                  <a:pt x="122376" y="0"/>
                </a:moveTo>
                <a:lnTo>
                  <a:pt x="122376" y="21600"/>
                </a:lnTo>
                <a:lnTo>
                  <a:pt x="120976" y="20200"/>
                </a:lnTo>
                <a:lnTo>
                  <a:pt x="120976" y="1400"/>
                </a:lnTo>
                <a:close/>
              </a:path>
              <a:path fill="darkenLess" w="122376" h="21600">
                <a:moveTo>
                  <a:pt x="1223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0976" y="20200"/>
                </a:lnTo>
                <a:close/>
              </a:path>
              <a:path fill="lighten" w="1223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к содержани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"/>
          <p:cNvSpPr/>
          <p:nvPr/>
        </p:nvSpPr>
        <p:spPr>
          <a:xfrm>
            <a:off x="0" y="0"/>
            <a:ext cx="9144000" cy="65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imes New Roman"/>
              </a:rPr>
              <a:t>Самые популярные отрасли (прогноз на 2010 год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нформатика, Интернет и компьютерные технолог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Биотехнология и ее примен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храна сред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Эксплуатация моря и морского д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овременные финансовые операции, электронный банкинг, электронная торговл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Здравоохранение, профилактика, домашняя опека над престарелым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нформация, поп-культура, развлеч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Профессиями, пользующимися наибольшей популярностью в информатике, являютс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дминистратор компьютерных систе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пециалист компьютерных сете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ограммис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омпьютерный дизайне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налитик систем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оветник компьютерных систе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требность в специалистах этих отраслей вызывает новые процессы и явления, появляющиеся в информатике, телефонии, Интернете и компьютерных технологиях. Сюда относятс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нформатизация производственных процессов и услуг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омпьютеризация публичных услуг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омпьютеризация домашних хозяйст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азвитие мобильной связ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0" name="" descr=""/>
          <p:cNvPicPr/>
          <p:nvPr/>
        </p:nvPicPr>
        <p:blipFill>
          <a:blip r:embed="rId2"/>
          <a:stretch/>
        </p:blipFill>
        <p:spPr>
          <a:xfrm>
            <a:off x="6659640" y="4941720"/>
            <a:ext cx="2124000" cy="1594080"/>
          </a:xfrm>
          <a:prstGeom prst="rect">
            <a:avLst/>
          </a:prstGeom>
          <a:ln w="0">
            <a:noFill/>
          </a:ln>
        </p:spPr>
      </p:pic>
      <p:sp>
        <p:nvSpPr>
          <p:cNvPr id="531" name="">
            <a:hlinkClick r:id="" action="ppaction://hlinkshowjump?jump=previousslide"/>
          </p:cNvPr>
          <p:cNvSpPr/>
          <p:nvPr/>
        </p:nvSpPr>
        <p:spPr>
          <a:xfrm>
            <a:off x="539640" y="6237360"/>
            <a:ext cx="216000" cy="21600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>
            <a:hlinkClick r:id="" action="ppaction://hlinkshowjump?jump=lastslide"/>
          </p:cNvPr>
          <p:cNvSpPr/>
          <p:nvPr/>
        </p:nvSpPr>
        <p:spPr>
          <a:xfrm>
            <a:off x="826920" y="6237360"/>
            <a:ext cx="216000" cy="21600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4299" y="10800"/>
                </a:moveTo>
                <a:lnTo>
                  <a:pt x="3794" y="17806"/>
                </a:lnTo>
                <a:lnTo>
                  <a:pt x="3794" y="3794"/>
                </a:lnTo>
                <a:close/>
              </a:path>
              <a:path fill="darken" w="21600" h="21600">
                <a:moveTo>
                  <a:pt x="16144" y="3794"/>
                </a:moveTo>
                <a:lnTo>
                  <a:pt x="16144" y="17806"/>
                </a:lnTo>
                <a:lnTo>
                  <a:pt x="17806" y="17806"/>
                </a:lnTo>
                <a:lnTo>
                  <a:pt x="17806" y="3794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>
            <a:hlinkClick r:id="rId3" action="ppaction://hlinksldjump"/>
          </p:cNvPr>
          <p:cNvSpPr/>
          <p:nvPr/>
        </p:nvSpPr>
        <p:spPr>
          <a:xfrm>
            <a:off x="1116000" y="6237360"/>
            <a:ext cx="1225440" cy="216000"/>
          </a:xfrm>
          <a:custGeom>
            <a:avLst/>
            <a:gdLst>
              <a:gd name="textAreaLeft" fmla="*/ 13680 w 1225440"/>
              <a:gd name="textAreaRight" fmla="*/ 1211760 w 12254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122376" h="21600">
                <a:moveTo>
                  <a:pt x="0" y="0"/>
                </a:moveTo>
                <a:lnTo>
                  <a:pt x="122376" y="0"/>
                </a:lnTo>
                <a:lnTo>
                  <a:pt x="122376" y="21600"/>
                </a:lnTo>
                <a:lnTo>
                  <a:pt x="0" y="21600"/>
                </a:lnTo>
                <a:close/>
              </a:path>
              <a:path fill="lightenLess" w="122376" h="21600">
                <a:moveTo>
                  <a:pt x="0" y="0"/>
                </a:moveTo>
                <a:lnTo>
                  <a:pt x="122376" y="0"/>
                </a:lnTo>
                <a:lnTo>
                  <a:pt x="120976" y="1400"/>
                </a:lnTo>
                <a:lnTo>
                  <a:pt x="1400" y="1400"/>
                </a:lnTo>
                <a:close/>
              </a:path>
              <a:path fill="darken" w="122376" h="21600">
                <a:moveTo>
                  <a:pt x="122376" y="0"/>
                </a:moveTo>
                <a:lnTo>
                  <a:pt x="122376" y="21600"/>
                </a:lnTo>
                <a:lnTo>
                  <a:pt x="120976" y="20200"/>
                </a:lnTo>
                <a:lnTo>
                  <a:pt x="120976" y="1400"/>
                </a:lnTo>
                <a:close/>
              </a:path>
              <a:path fill="darkenLess" w="122376" h="21600">
                <a:moveTo>
                  <a:pt x="1223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0976" y="20200"/>
                </a:lnTo>
                <a:close/>
              </a:path>
              <a:path fill="lighten" w="1223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к содержани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"/>
          <p:cNvSpPr/>
          <p:nvPr/>
        </p:nvSpPr>
        <p:spPr>
          <a:xfrm>
            <a:off x="0" y="0"/>
            <a:ext cx="9144000" cy="526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ПИСЕ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На практике писец Древнего Египта исполнял те же функции, что и современный управляющий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 Основной его обязанностью было распределение работы (как говорили в те времена — «уроков») между земледельцами и ремесленниками, проживавшими на вверенной ему территории. Кроме того, писец наблюдал за тем, как эти задания выполняются, и осуществлял сбор готовой продукции. Он же налагал взыскания на не справившихся с работой и поощрял тех, кто добился заметных успехов. Как правило, сам писец не занимался делопроизводством – эта обязанность лежала на его помощник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ля того, чтобы стать писцом требовалось выдержать нешуточный экзамен - подтвердить знание более пяти тысяч иероглифов и умение считать в уме немногим хуже современного калькулятора. Одной из причин высокой популярности профессии писца было то, что его усилия очень хорошо оплачива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лись. Писец получал примерно столько же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колько жрец процветающего храм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офессия писца не передавалась по наследств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5" name="" descr=""/>
          <p:cNvPicPr/>
          <p:nvPr/>
        </p:nvPicPr>
        <p:blipFill>
          <a:blip r:embed="rId2"/>
          <a:stretch/>
        </p:blipFill>
        <p:spPr>
          <a:xfrm>
            <a:off x="4932360" y="3740040"/>
            <a:ext cx="3679920" cy="2613240"/>
          </a:xfrm>
          <a:prstGeom prst="rect">
            <a:avLst/>
          </a:prstGeom>
          <a:ln w="0">
            <a:noFill/>
          </a:ln>
        </p:spPr>
      </p:pic>
      <p:sp>
        <p:nvSpPr>
          <p:cNvPr id="536" name="">
            <a:hlinkClick r:id="" action="ppaction://hlinkshowjump?jump=previousslide"/>
          </p:cNvPr>
          <p:cNvSpPr/>
          <p:nvPr/>
        </p:nvSpPr>
        <p:spPr>
          <a:xfrm>
            <a:off x="539640" y="6021360"/>
            <a:ext cx="216000" cy="21600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>
            <a:hlinkClick r:id="" action="ppaction://hlinkshowjump?jump=lastslide"/>
          </p:cNvPr>
          <p:cNvSpPr/>
          <p:nvPr/>
        </p:nvSpPr>
        <p:spPr>
          <a:xfrm>
            <a:off x="826920" y="6021360"/>
            <a:ext cx="216000" cy="21600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4299" y="10800"/>
                </a:moveTo>
                <a:lnTo>
                  <a:pt x="3794" y="17806"/>
                </a:lnTo>
                <a:lnTo>
                  <a:pt x="3794" y="3794"/>
                </a:lnTo>
                <a:close/>
              </a:path>
              <a:path fill="darken" w="21600" h="21600">
                <a:moveTo>
                  <a:pt x="16144" y="3794"/>
                </a:moveTo>
                <a:lnTo>
                  <a:pt x="16144" y="17806"/>
                </a:lnTo>
                <a:lnTo>
                  <a:pt x="17806" y="17806"/>
                </a:lnTo>
                <a:lnTo>
                  <a:pt x="1780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>
            <a:hlinkClick r:id="rId3" action="ppaction://hlinksldjump"/>
          </p:cNvPr>
          <p:cNvSpPr/>
          <p:nvPr/>
        </p:nvSpPr>
        <p:spPr>
          <a:xfrm>
            <a:off x="1116000" y="6021360"/>
            <a:ext cx="1225440" cy="216000"/>
          </a:xfrm>
          <a:custGeom>
            <a:avLst/>
            <a:gdLst>
              <a:gd name="textAreaLeft" fmla="*/ 13680 w 1225440"/>
              <a:gd name="textAreaRight" fmla="*/ 1211760 w 12254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122376" h="21600">
                <a:moveTo>
                  <a:pt x="0" y="0"/>
                </a:moveTo>
                <a:lnTo>
                  <a:pt x="122376" y="0"/>
                </a:lnTo>
                <a:lnTo>
                  <a:pt x="122376" y="21600"/>
                </a:lnTo>
                <a:lnTo>
                  <a:pt x="0" y="21600"/>
                </a:lnTo>
                <a:close/>
              </a:path>
              <a:path fill="lightenLess" w="122376" h="21600">
                <a:moveTo>
                  <a:pt x="0" y="0"/>
                </a:moveTo>
                <a:lnTo>
                  <a:pt x="122376" y="0"/>
                </a:lnTo>
                <a:lnTo>
                  <a:pt x="120976" y="1400"/>
                </a:lnTo>
                <a:lnTo>
                  <a:pt x="1400" y="1400"/>
                </a:lnTo>
                <a:close/>
              </a:path>
              <a:path fill="darken" w="122376" h="21600">
                <a:moveTo>
                  <a:pt x="122376" y="0"/>
                </a:moveTo>
                <a:lnTo>
                  <a:pt x="122376" y="21600"/>
                </a:lnTo>
                <a:lnTo>
                  <a:pt x="120976" y="20200"/>
                </a:lnTo>
                <a:lnTo>
                  <a:pt x="120976" y="1400"/>
                </a:lnTo>
                <a:close/>
              </a:path>
              <a:path fill="darkenLess" w="122376" h="21600">
                <a:moveTo>
                  <a:pt x="1223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0976" y="20200"/>
                </a:lnTo>
                <a:close/>
              </a:path>
              <a:path fill="lighten" w="1223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к содержани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">
            <a:hlinkClick r:id="" action="ppaction://hlinkshowjump?jump=previousslide"/>
          </p:cNvPr>
          <p:cNvSpPr/>
          <p:nvPr/>
        </p:nvSpPr>
        <p:spPr>
          <a:xfrm>
            <a:off x="539640" y="6021360"/>
            <a:ext cx="216000" cy="21600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>
            <a:hlinkClick r:id="" action="ppaction://hlinkshowjump?jump=lastslide"/>
          </p:cNvPr>
          <p:cNvSpPr/>
          <p:nvPr/>
        </p:nvSpPr>
        <p:spPr>
          <a:xfrm>
            <a:off x="826920" y="6021360"/>
            <a:ext cx="216000" cy="21600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4299" y="10800"/>
                </a:moveTo>
                <a:lnTo>
                  <a:pt x="3794" y="17806"/>
                </a:lnTo>
                <a:lnTo>
                  <a:pt x="3794" y="3794"/>
                </a:lnTo>
                <a:close/>
              </a:path>
              <a:path fill="darken" w="21600" h="21600">
                <a:moveTo>
                  <a:pt x="16144" y="3794"/>
                </a:moveTo>
                <a:lnTo>
                  <a:pt x="16144" y="17806"/>
                </a:lnTo>
                <a:lnTo>
                  <a:pt x="17806" y="17806"/>
                </a:lnTo>
                <a:lnTo>
                  <a:pt x="17806" y="3794"/>
                </a:lnTo>
                <a:close/>
              </a:path>
            </a:pathLst>
          </a:cu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0" y="0"/>
            <a:ext cx="9144000" cy="46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 </a:t>
            </a:r>
            <a:r>
              <a:rPr b="1" lang="en-US" sz="2000" spc="-1" strike="noStrike">
                <a:solidFill>
                  <a:srgbClr val="800000"/>
                </a:solidFill>
                <a:latin typeface="Times New Roman"/>
              </a:rPr>
              <a:t>ПЕРЕПИСЧИ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 Древнем Египте все образованные люди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зывались переписчиками и занима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азные чиновнические должности: от самых низких - переписчиков документов, до самых высоких - первых визирей фараона. Эти должности не передавались по наследству, переписчиков на них назначали в соответствии с их деловыми способностями и образованностью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ереписчик в Египте был довольно уважаем. Переписчики учились в школах при храмах. Профессия переписчика имела статус одной из наиболее престижных в тогдашнем обществе. Переписчик - это мудрец Древнего Египта, они составляли интеллектуальную элиту древнеегипетского общест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" descr=""/>
          <p:cNvPicPr/>
          <p:nvPr/>
        </p:nvPicPr>
        <p:blipFill>
          <a:blip r:embed="rId2"/>
          <a:stretch/>
        </p:blipFill>
        <p:spPr>
          <a:xfrm>
            <a:off x="6372360" y="4149720"/>
            <a:ext cx="1792080" cy="2519280"/>
          </a:xfrm>
          <a:prstGeom prst="rect">
            <a:avLst/>
          </a:prstGeom>
          <a:ln w="0">
            <a:noFill/>
          </a:ln>
        </p:spPr>
      </p:pic>
      <p:pic>
        <p:nvPicPr>
          <p:cNvPr id="543" name="" descr=""/>
          <p:cNvPicPr/>
          <p:nvPr/>
        </p:nvPicPr>
        <p:blipFill>
          <a:blip r:embed="rId3"/>
          <a:stretch/>
        </p:blipFill>
        <p:spPr>
          <a:xfrm>
            <a:off x="324000" y="260280"/>
            <a:ext cx="2592360" cy="1917720"/>
          </a:xfrm>
          <a:prstGeom prst="rect">
            <a:avLst/>
          </a:prstGeom>
          <a:ln w="0">
            <a:noFill/>
          </a:ln>
        </p:spPr>
      </p:pic>
      <p:sp>
        <p:nvSpPr>
          <p:cNvPr id="544" name="">
            <a:hlinkClick r:id="rId4" action="ppaction://hlinksldjump"/>
          </p:cNvPr>
          <p:cNvSpPr/>
          <p:nvPr/>
        </p:nvSpPr>
        <p:spPr>
          <a:xfrm>
            <a:off x="1116000" y="6021360"/>
            <a:ext cx="1225440" cy="216000"/>
          </a:xfrm>
          <a:custGeom>
            <a:avLst/>
            <a:gdLst>
              <a:gd name="textAreaLeft" fmla="*/ 13680 w 1225440"/>
              <a:gd name="textAreaRight" fmla="*/ 1211760 w 12254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122376" h="21600">
                <a:moveTo>
                  <a:pt x="0" y="0"/>
                </a:moveTo>
                <a:lnTo>
                  <a:pt x="122376" y="0"/>
                </a:lnTo>
                <a:lnTo>
                  <a:pt x="122376" y="21600"/>
                </a:lnTo>
                <a:lnTo>
                  <a:pt x="0" y="21600"/>
                </a:lnTo>
                <a:close/>
              </a:path>
              <a:path fill="lightenLess" w="122376" h="21600">
                <a:moveTo>
                  <a:pt x="0" y="0"/>
                </a:moveTo>
                <a:lnTo>
                  <a:pt x="122376" y="0"/>
                </a:lnTo>
                <a:lnTo>
                  <a:pt x="120976" y="1400"/>
                </a:lnTo>
                <a:lnTo>
                  <a:pt x="1400" y="1400"/>
                </a:lnTo>
                <a:close/>
              </a:path>
              <a:path fill="darken" w="122376" h="21600">
                <a:moveTo>
                  <a:pt x="122376" y="0"/>
                </a:moveTo>
                <a:lnTo>
                  <a:pt x="122376" y="21600"/>
                </a:lnTo>
                <a:lnTo>
                  <a:pt x="120976" y="20200"/>
                </a:lnTo>
                <a:lnTo>
                  <a:pt x="120976" y="1400"/>
                </a:lnTo>
                <a:close/>
              </a:path>
              <a:path fill="darkenLess" w="122376" h="21600">
                <a:moveTo>
                  <a:pt x="1223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0976" y="20200"/>
                </a:lnTo>
                <a:close/>
              </a:path>
              <a:path fill="lighten" w="1223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к содержани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"/>
          <p:cNvSpPr/>
          <p:nvPr/>
        </p:nvSpPr>
        <p:spPr>
          <a:xfrm>
            <a:off x="0" y="0"/>
            <a:ext cx="8964720" cy="515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ПРОГРАММИС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Одним из обязательных профессиональных качеств программиста является его нестандартный подход к решению задачи. Между обычными людьми этот подход называется гениальностью. Это люди, фанатично преданные своей профессии, а самые перспективные «кадры» активно переманивают к себе западные компании.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            </a:t>
            </a:r>
            <a:r>
              <a:rPr b="1" lang="ru-RU" sz="1300" spc="-1" strike="noStrike">
                <a:solidFill>
                  <a:srgbClr val="0000cc"/>
                </a:solidFill>
                <a:latin typeface="Times New Roman"/>
              </a:rPr>
              <a:t>Web-программист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      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Красивый, логично выстроенный и интересный web-сайт — непременный атрибут каждой уважающей себя компании. Для того чтобы их создавать, и требуются web-программисты. Единственный серьезный недостаток — сведение обязанностей только к технической поддержке web-сайта (обновление контента, исправление ошибок и тому подобное) — может привести к однообразию в работе, что станет стимулом искать новое место.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cc"/>
                </a:solidFill>
                <a:latin typeface="Times New Roman"/>
              </a:rPr>
              <a:t>            </a:t>
            </a:r>
            <a:r>
              <a:rPr b="1" lang="ru-RU" sz="1300" spc="-1" strike="noStrike">
                <a:solidFill>
                  <a:srgbClr val="0000cc"/>
                </a:solidFill>
                <a:latin typeface="Times New Roman"/>
              </a:rPr>
              <a:t>Прикладной программист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      </a:t>
            </a:r>
            <a:r>
              <a:rPr b="0" lang="ru-RU" sz="1300" spc="-1" strike="noStrike">
                <a:solidFill>
                  <a:srgbClr val="000000"/>
                </a:solidFill>
                <a:latin typeface="Bookman Old Style"/>
              </a:rPr>
              <a:t>Эти программисты занимаются разработкой программного обеспечения прикладного характера — игры, бухгалтерские программы, редакторы, мессенджеры и т. п. К области их работы также можно отнести создание программного обеспечения для систем видео- и аудионаблюдения, СКД, систем пожаротушения или пожарной сигнализации и т. п. Также в их обязанности входит адаптация уже существующих программ под нужды отдельно взятой организации или пользователя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            </a:t>
            </a:r>
            <a:r>
              <a:rPr b="1" lang="ru-RU" sz="1300" spc="-1" strike="noStrike">
                <a:solidFill>
                  <a:srgbClr val="0000cc"/>
                </a:solidFill>
                <a:latin typeface="Times New Roman"/>
              </a:rPr>
              <a:t>Системный программист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      </a:t>
            </a:r>
            <a:r>
              <a:rPr b="0" lang="ru-RU" sz="1400" spc="-1" strike="noStrike">
                <a:solidFill>
                  <a:srgbClr val="000000"/>
                </a:solidFill>
                <a:latin typeface="Latha"/>
              </a:rPr>
              <a:t>Эта категория программистов — самая высокооплачиваемая и редкая. Их задача состоит в том, чтобы разработать системы программного обеспечения (сервисы), которые, в свою очередь, управляют вычислительной системой (куда входит процессор, коммуникационны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Latha"/>
              </a:rPr>
              <a:t>и периферийные устройства). Также в список задач входит обеспече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Latha"/>
              </a:rPr>
              <a:t>ние функционирования и работы созданных систем (драйвер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Latha"/>
              </a:rPr>
              <a:t>устройств, загрузчики и т. д.)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6" name="" descr=""/>
          <p:cNvPicPr/>
          <p:nvPr/>
        </p:nvPicPr>
        <p:blipFill>
          <a:blip r:embed="rId2"/>
          <a:stretch/>
        </p:blipFill>
        <p:spPr>
          <a:xfrm>
            <a:off x="6012000" y="4365720"/>
            <a:ext cx="2625480" cy="1706400"/>
          </a:xfrm>
          <a:prstGeom prst="rect">
            <a:avLst/>
          </a:prstGeom>
          <a:ln w="0">
            <a:noFill/>
          </a:ln>
        </p:spPr>
      </p:pic>
      <p:sp>
        <p:nvSpPr>
          <p:cNvPr id="547" name="">
            <a:hlinkClick r:id="" action="ppaction://hlinkshowjump?jump=previousslide"/>
          </p:cNvPr>
          <p:cNvSpPr/>
          <p:nvPr/>
        </p:nvSpPr>
        <p:spPr>
          <a:xfrm>
            <a:off x="539640" y="6021360"/>
            <a:ext cx="216000" cy="21600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>
            <a:hlinkClick r:id="" action="ppaction://hlinkshowjump?jump=lastslide"/>
          </p:cNvPr>
          <p:cNvSpPr/>
          <p:nvPr/>
        </p:nvSpPr>
        <p:spPr>
          <a:xfrm>
            <a:off x="826920" y="6021360"/>
            <a:ext cx="216000" cy="21600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4299" y="10800"/>
                </a:moveTo>
                <a:lnTo>
                  <a:pt x="3794" y="17806"/>
                </a:lnTo>
                <a:lnTo>
                  <a:pt x="3794" y="3794"/>
                </a:lnTo>
                <a:close/>
              </a:path>
              <a:path fill="darken" w="21600" h="21600">
                <a:moveTo>
                  <a:pt x="16144" y="3794"/>
                </a:moveTo>
                <a:lnTo>
                  <a:pt x="16144" y="17806"/>
                </a:lnTo>
                <a:lnTo>
                  <a:pt x="17806" y="17806"/>
                </a:lnTo>
                <a:lnTo>
                  <a:pt x="1780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>
            <a:hlinkClick r:id="rId3" action="ppaction://hlinksldjump"/>
          </p:cNvPr>
          <p:cNvSpPr/>
          <p:nvPr/>
        </p:nvSpPr>
        <p:spPr>
          <a:xfrm>
            <a:off x="1116000" y="6021360"/>
            <a:ext cx="1225440" cy="216000"/>
          </a:xfrm>
          <a:custGeom>
            <a:avLst/>
            <a:gdLst>
              <a:gd name="textAreaLeft" fmla="*/ 13680 w 1225440"/>
              <a:gd name="textAreaRight" fmla="*/ 1211760 w 12254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122376" h="21600">
                <a:moveTo>
                  <a:pt x="0" y="0"/>
                </a:moveTo>
                <a:lnTo>
                  <a:pt x="122376" y="0"/>
                </a:lnTo>
                <a:lnTo>
                  <a:pt x="122376" y="21600"/>
                </a:lnTo>
                <a:lnTo>
                  <a:pt x="0" y="21600"/>
                </a:lnTo>
                <a:close/>
              </a:path>
              <a:path fill="lightenLess" w="122376" h="21600">
                <a:moveTo>
                  <a:pt x="0" y="0"/>
                </a:moveTo>
                <a:lnTo>
                  <a:pt x="122376" y="0"/>
                </a:lnTo>
                <a:lnTo>
                  <a:pt x="120976" y="1400"/>
                </a:lnTo>
                <a:lnTo>
                  <a:pt x="1400" y="1400"/>
                </a:lnTo>
                <a:close/>
              </a:path>
              <a:path fill="darken" w="122376" h="21600">
                <a:moveTo>
                  <a:pt x="122376" y="0"/>
                </a:moveTo>
                <a:lnTo>
                  <a:pt x="122376" y="21600"/>
                </a:lnTo>
                <a:lnTo>
                  <a:pt x="120976" y="20200"/>
                </a:lnTo>
                <a:lnTo>
                  <a:pt x="120976" y="1400"/>
                </a:lnTo>
                <a:close/>
              </a:path>
              <a:path fill="darkenLess" w="122376" h="21600">
                <a:moveTo>
                  <a:pt x="1223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0976" y="20200"/>
                </a:lnTo>
                <a:close/>
              </a:path>
              <a:path fill="lighten" w="1223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к содержани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"/>
          <p:cNvSpPr/>
          <p:nvPr/>
        </p:nvSpPr>
        <p:spPr>
          <a:xfrm>
            <a:off x="0" y="0"/>
            <a:ext cx="9144000" cy="517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imes New Roman"/>
              </a:rPr>
              <a:t>ОПЕРАТОР  ЭВ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Это специалист, отвечающий за подготовку данных на различных электронных носителях. Занимается набором и обработкой информации, расчетами и составлением таблиц для отчетов, обрабатывает документацию с целью внесения её в компьютерные базы данных. Отвечает за состояние используемого оборудования: ПК, сканеров, копиров, принтеров. Оператор ЭВМ должен быть усидчив, исполнителен, коммуникабелен. Должен иметь хорошее зрение и высокую его устойчивость. Должен иметь хорошую память, умение оперировать информацией и навыки её систематизации. Должен требовательно относится к самому себе и качеству своей работы, быть терпимым к критике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3366"/>
                </a:solidFill>
                <a:latin typeface="Times New Roman"/>
              </a:rPr>
              <a:t>Должен уметь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пользоваться разными операционными системами и программными продукта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высокую скорость набора текстов, желательно умение печатать «вслепую»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знать основы документоведения, бухгалтерского учета, кадровой работы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следить за новыми технологиями и уметь пользоватьс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всем офисным оборудованием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иметь навыки поиска информации в сети Интернет 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знать принципы работы по локальной се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уметь самостоятельно проводить несложные регулировк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и отладку офисной техник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1" name="" descr=""/>
          <p:cNvPicPr/>
          <p:nvPr/>
        </p:nvPicPr>
        <p:blipFill>
          <a:blip r:embed="rId2"/>
          <a:stretch/>
        </p:blipFill>
        <p:spPr>
          <a:xfrm>
            <a:off x="5364000" y="3860640"/>
            <a:ext cx="3149640" cy="2373480"/>
          </a:xfrm>
          <a:prstGeom prst="rect">
            <a:avLst/>
          </a:prstGeom>
          <a:ln w="0">
            <a:noFill/>
          </a:ln>
        </p:spPr>
      </p:pic>
      <p:sp>
        <p:nvSpPr>
          <p:cNvPr id="552" name="">
            <a:hlinkClick r:id="" action="ppaction://hlinkshowjump?jump=previousslide"/>
          </p:cNvPr>
          <p:cNvSpPr/>
          <p:nvPr/>
        </p:nvSpPr>
        <p:spPr>
          <a:xfrm>
            <a:off x="539640" y="6021360"/>
            <a:ext cx="216000" cy="21600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>
            <a:hlinkClick r:id="" action="ppaction://hlinkshowjump?jump=lastslide"/>
          </p:cNvPr>
          <p:cNvSpPr/>
          <p:nvPr/>
        </p:nvSpPr>
        <p:spPr>
          <a:xfrm>
            <a:off x="826920" y="6021360"/>
            <a:ext cx="216000" cy="21600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4299" y="10800"/>
                </a:moveTo>
                <a:lnTo>
                  <a:pt x="3794" y="17806"/>
                </a:lnTo>
                <a:lnTo>
                  <a:pt x="3794" y="3794"/>
                </a:lnTo>
                <a:close/>
              </a:path>
              <a:path fill="darken" w="21600" h="21600">
                <a:moveTo>
                  <a:pt x="16144" y="3794"/>
                </a:moveTo>
                <a:lnTo>
                  <a:pt x="16144" y="17806"/>
                </a:lnTo>
                <a:lnTo>
                  <a:pt x="17806" y="17806"/>
                </a:lnTo>
                <a:lnTo>
                  <a:pt x="1780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>
            <a:hlinkClick r:id="rId3" action="ppaction://hlinksldjump"/>
          </p:cNvPr>
          <p:cNvSpPr/>
          <p:nvPr/>
        </p:nvSpPr>
        <p:spPr>
          <a:xfrm>
            <a:off x="1116000" y="6021360"/>
            <a:ext cx="1225440" cy="216000"/>
          </a:xfrm>
          <a:custGeom>
            <a:avLst/>
            <a:gdLst>
              <a:gd name="textAreaLeft" fmla="*/ 13680 w 1225440"/>
              <a:gd name="textAreaRight" fmla="*/ 1211760 w 12254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122376" h="21600">
                <a:moveTo>
                  <a:pt x="0" y="0"/>
                </a:moveTo>
                <a:lnTo>
                  <a:pt x="122376" y="0"/>
                </a:lnTo>
                <a:lnTo>
                  <a:pt x="122376" y="21600"/>
                </a:lnTo>
                <a:lnTo>
                  <a:pt x="0" y="21600"/>
                </a:lnTo>
                <a:close/>
              </a:path>
              <a:path fill="lightenLess" w="122376" h="21600">
                <a:moveTo>
                  <a:pt x="0" y="0"/>
                </a:moveTo>
                <a:lnTo>
                  <a:pt x="122376" y="0"/>
                </a:lnTo>
                <a:lnTo>
                  <a:pt x="120976" y="1400"/>
                </a:lnTo>
                <a:lnTo>
                  <a:pt x="1400" y="1400"/>
                </a:lnTo>
                <a:close/>
              </a:path>
              <a:path fill="darken" w="122376" h="21600">
                <a:moveTo>
                  <a:pt x="122376" y="0"/>
                </a:moveTo>
                <a:lnTo>
                  <a:pt x="122376" y="21600"/>
                </a:lnTo>
                <a:lnTo>
                  <a:pt x="120976" y="20200"/>
                </a:lnTo>
                <a:lnTo>
                  <a:pt x="120976" y="1400"/>
                </a:lnTo>
                <a:close/>
              </a:path>
              <a:path fill="darkenLess" w="122376" h="21600">
                <a:moveTo>
                  <a:pt x="1223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0976" y="20200"/>
                </a:lnTo>
                <a:close/>
              </a:path>
              <a:path fill="lighten" w="1223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к содержани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5T14:15:23Z</dcterms:created>
  <dc:creator>User</dc:creator>
  <dc:description/>
  <dc:language>en-US</dc:language>
  <cp:lastModifiedBy>oem</cp:lastModifiedBy>
  <dcterms:modified xsi:type="dcterms:W3CDTF">2009-01-21T07:21:19Z</dcterms:modified>
  <cp:revision>23</cp:revision>
  <dc:subject/>
  <dc:title>Слайд 1</dc:title>
</cp:coreProperties>
</file>