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692-2D62-4B6F-96EF-72899515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E8A-BE19-4FCB-AAE3-09FE884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3CD-93CC-4F0F-8124-B55F654A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ED1-AE42-4045-85D9-5D04B39F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C3B-7E62-4EB8-8AF0-A97B88B0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77A-0269-4E2D-B7DC-C37B7DF6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D3D-6B45-4DAA-B36F-E3D1BC23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EDF-21FF-46E3-85C7-7922857C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304-5298-4273-952C-FAECA5A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78E-F4F5-482B-8381-133F00C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079-976A-4653-B906-5827473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DD2-7401-47E0-BF0F-058DB6C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825-A3CE-49B7-AA69-DFBA043808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8153280" cy="3657600"/>
          </a:xfrm>
          <a:prstGeom prst="roundRect">
            <a:avLst>
              <a:gd name="adj" fmla="val 16667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447920"/>
            <a:ext cx="7467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Comic Sans MS"/>
              </a:rPr>
              <a:t>ИССЛЕДОВАН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Comic Sans MS"/>
              </a:rPr>
              <a:t>ПРОДУКТОВ ПИТАНИЯ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Comic Sans MS"/>
              </a:rPr>
              <a:t>НА ПИЩЕВЫЕ ДОБАВК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2286000" cy="153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685800"/>
            <a:ext cx="4038480" cy="1828800"/>
          </a:xfrm>
          <a:prstGeom prst="downArrowCallout">
            <a:avLst>
              <a:gd name="adj1" fmla="val 55212"/>
              <a:gd name="adj2" fmla="val 55207"/>
              <a:gd name="adj3" fmla="val 16667"/>
              <a:gd name="adj4" fmla="val 66667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евательные резинки «Орбит» и «Стиморол» </a:t>
            </a: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опасн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здоров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3809880" cy="1447920"/>
          </a:xfrm>
          <a:prstGeom prst="rect">
            <a:avLst/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71, 321, 3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воцируют болезн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чени и поч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762120"/>
            <a:ext cx="2819520" cy="3276360"/>
          </a:xfrm>
          <a:prstGeom prst="wedgeRoundRectCallout">
            <a:avLst>
              <a:gd name="adj1" fmla="val -81138"/>
              <a:gd name="adj2" fmla="val 61143"/>
              <a:gd name="adj3" fmla="val 16667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762120"/>
            <a:ext cx="2895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тям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не желатель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спользовать в пищу лапшу быстрого приготовления и утолять голод сухари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800600"/>
            <a:ext cx="3200400" cy="1523880"/>
          </a:xfrm>
          <a:prstGeom prst="rect">
            <a:avLst/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6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запреще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использ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етском пита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9106" t="0" r="0" b="0"/>
          <a:stretch/>
        </p:blipFill>
        <p:spPr>
          <a:xfrm>
            <a:off x="3048120" y="4495680"/>
            <a:ext cx="1858680" cy="1994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371600"/>
            <a:ext cx="3505320" cy="3048120"/>
          </a:xfrm>
          <a:prstGeom prst="foldedCorner">
            <a:avLst>
              <a:gd name="adj" fmla="val 1250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матная паст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йонез, йогурт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дкий творожо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держат пищевую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бавку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Е 14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дифицирован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ахм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733920"/>
            <a:ext cx="4038480" cy="2514600"/>
          </a:xfrm>
          <a:prstGeom prst="foldedCorner">
            <a:avLst>
              <a:gd name="adj" fmla="val 1250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азированные напитк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роженое, конфет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учше покупат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естественны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цве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избегать продук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ярк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цве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498" t="0" r="0" b="15000"/>
          <a:stretch/>
        </p:blipFill>
        <p:spPr>
          <a:xfrm>
            <a:off x="4267080" y="457200"/>
            <a:ext cx="434340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езультаты опро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иболее «знающими» о пищевых добавках являются взрослые в возрасте до 40 лет (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91,6 %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интересованы данной проблемой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73%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публикациями по данной проблеме знакомы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45 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маркировку обращают внимание лишь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54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ою информированность считают недостаточной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70%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433800">
            <a:off x="445680" y="4036680"/>
            <a:ext cx="3276720" cy="2438280"/>
          </a:xfrm>
          <a:prstGeom prst="rect">
            <a:avLst/>
          </a:prstGeom>
          <a:solidFill>
            <a:srgbClr val="91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 rot="433800">
            <a:off x="3278160" y="2133360"/>
            <a:ext cx="2782800" cy="3208320"/>
          </a:xfrm>
          <a:prstGeom prst="rect">
            <a:avLst/>
          </a:prstGeom>
          <a:solidFill>
            <a:srgbClr val="91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 rot="433800">
            <a:off x="5595480" y="458640"/>
            <a:ext cx="3276720" cy="2590920"/>
          </a:xfrm>
          <a:prstGeom prst="rect">
            <a:avLst/>
          </a:prstGeom>
          <a:solidFill>
            <a:srgbClr val="91d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3420" r="5130" b="4277"/>
          <a:stretch/>
        </p:blipFill>
        <p:spPr>
          <a:xfrm>
            <a:off x="609480" y="4267080"/>
            <a:ext cx="2971800" cy="216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14635" r="0" b="0"/>
          <a:stretch/>
        </p:blipFill>
        <p:spPr>
          <a:xfrm>
            <a:off x="3581280" y="2286000"/>
            <a:ext cx="224964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38680" y="685800"/>
            <a:ext cx="3048120" cy="2022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0880" y="1676520"/>
            <a:ext cx="76964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omic Sans MS"/>
              </a:rPr>
              <a:t>БУДЬТЕ ЗДОРОВ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</p:spTree>
  </p:cSld>
  <p:transition spd="med"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10080" y="1295280"/>
            <a:ext cx="3505320" cy="2286000"/>
          </a:xfrm>
          <a:prstGeom prst="rect">
            <a:avLst/>
          </a:prstGeom>
          <a:solidFill>
            <a:srgbClr val="58c8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09880"/>
            <a:ext cx="3505320" cy="2286000"/>
          </a:xfrm>
          <a:prstGeom prst="rect">
            <a:avLst/>
          </a:prstGeom>
          <a:solidFill>
            <a:srgbClr val="58c8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685800"/>
            <a:ext cx="3581640" cy="1981080"/>
          </a:xfrm>
          <a:prstGeom prst="wedgeRectCallout">
            <a:avLst>
              <a:gd name="adj1" fmla="val 62722"/>
              <a:gd name="adj2" fmla="val 74597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1953 году введено обозначение пищевых добавок в виде буквы «Е» с цифровым код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572000"/>
            <a:ext cx="3886200" cy="1447920"/>
          </a:xfrm>
          <a:prstGeom prst="flowChartPunchedCard">
            <a:avLst/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1978 году эта систем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законена в ССС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3429000" cy="229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73392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609480"/>
            <a:ext cx="4114800" cy="685800"/>
          </a:xfrm>
          <a:prstGeom prst="rect">
            <a:avLst/>
          </a:prstGeom>
          <a:solidFill>
            <a:srgbClr val="58c8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ЦЕЛЬ РАБО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сследование продуктов питания на наличие в них пищевых добав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20040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609480"/>
            <a:ext cx="2667240" cy="685800"/>
          </a:xfrm>
          <a:prstGeom prst="rect">
            <a:avLst/>
          </a:prstGeom>
          <a:solidFill>
            <a:srgbClr val="58c8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8040" indent="0"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Изучить литературу по теме исслед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Изучить по этикеткам состав продуктов   питания и влияние, содержащихся в  них   пищевых добавок на здоровье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С помощью социологического опроса выяснить уровень информированности  населения о пищевых добавка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7924680" cy="4572000"/>
          </a:xfrm>
          <a:prstGeom prst="foldedCorner">
            <a:avLst>
              <a:gd name="adj" fmla="val 1250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ищевые добавк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 это природные или синтетические вещества, вводимые в пищевые продукты для придания им заданных свойств и не употребляемые сами по себе в качестве пищевых продуктов или обычных компонентов пищ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541008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762120"/>
            <a:ext cx="1523880" cy="5257800"/>
          </a:xfrm>
          <a:prstGeom prst="rightArrowCallout">
            <a:avLst>
              <a:gd name="adj1" fmla="val 88150"/>
              <a:gd name="adj2" fmla="val 81257"/>
              <a:gd name="adj3" fmla="val 37866"/>
              <a:gd name="adj4" fmla="val 52574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485720" y="30096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ИЩЕВЫЕ ДОБА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33520"/>
            <a:ext cx="4191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красител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Е 100 – Е 18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638680"/>
            <a:ext cx="5486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лазирующие вещества, подсластите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Е 1000 и вы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981080"/>
            <a:ext cx="4267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нтиокислители Е 300 – Е 3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219320"/>
            <a:ext cx="4267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консерванты Е 200 – Е 2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743200"/>
            <a:ext cx="4267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табилизаторы Е 400 – Е 499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505320"/>
            <a:ext cx="4267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эмульгаторы Е 500 – Е 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91120"/>
            <a:ext cx="5562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усилители вкуса и аромата Е 600 – Е 6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4876920"/>
            <a:ext cx="4343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еногасители; Е 900 – Е 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" name=""/>
          <p:cNvCxnSpPr>
            <a:stCxn id="60" idx="0"/>
            <a:endCxn id="62" idx="1"/>
          </p:cNvCxnSpPr>
          <p:nvPr/>
        </p:nvCxnSpPr>
        <p:spPr>
          <a:xfrm flipV="1">
            <a:off x="2209320" y="761760"/>
            <a:ext cx="1143720" cy="262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0" idx="1"/>
            <a:endCxn id="65" idx="1"/>
          </p:cNvCxnSpPr>
          <p:nvPr/>
        </p:nvCxnSpPr>
        <p:spPr>
          <a:xfrm flipV="1">
            <a:off x="2209320" y="1447200"/>
            <a:ext cx="1143720" cy="1943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0" idx="2"/>
            <a:endCxn id="64" idx="1"/>
          </p:cNvCxnSpPr>
          <p:nvPr/>
        </p:nvCxnSpPr>
        <p:spPr>
          <a:xfrm flipV="1">
            <a:off x="2209320" y="2208960"/>
            <a:ext cx="1143720" cy="1181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0" idx="3"/>
            <a:endCxn id="66" idx="1"/>
          </p:cNvCxnSpPr>
          <p:nvPr/>
        </p:nvCxnSpPr>
        <p:spPr>
          <a:xfrm flipV="1">
            <a:off x="2209320" y="2971440"/>
            <a:ext cx="114372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0" idx="4"/>
            <a:endCxn id="67" idx="1"/>
          </p:cNvCxnSpPr>
          <p:nvPr/>
        </p:nvCxnSpPr>
        <p:spPr>
          <a:xfrm>
            <a:off x="2209320" y="3390480"/>
            <a:ext cx="11437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0" idx="5"/>
            <a:endCxn id="68" idx="1"/>
          </p:cNvCxnSpPr>
          <p:nvPr/>
        </p:nvCxnSpPr>
        <p:spPr>
          <a:xfrm>
            <a:off x="2209320" y="3390840"/>
            <a:ext cx="114372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0" idx="6"/>
            <a:endCxn id="69" idx="1"/>
          </p:cNvCxnSpPr>
          <p:nvPr/>
        </p:nvCxnSpPr>
        <p:spPr>
          <a:xfrm>
            <a:off x="2209320" y="3390480"/>
            <a:ext cx="1143720" cy="171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7"/>
            <a:endCxn id="63" idx="1"/>
          </p:cNvCxnSpPr>
          <p:nvPr/>
        </p:nvCxnSpPr>
        <p:spPr>
          <a:xfrm>
            <a:off x="2209320" y="3390480"/>
            <a:ext cx="1143720" cy="262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1034400">
            <a:off x="6168960" y="4098960"/>
            <a:ext cx="2589120" cy="2367000"/>
          </a:xfrm>
          <a:prstGeom prst="hexagon">
            <a:avLst>
              <a:gd name="adj" fmla="val 28703"/>
              <a:gd name="vf" fmla="val 11547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33520"/>
            <a:ext cx="5105520" cy="838080"/>
          </a:xfrm>
          <a:prstGeom prst="flowChartOffpageConnector">
            <a:avLst/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рещены в Ро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21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краситель красный цитрусовый 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12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краситель амаран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24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консервант формальдегид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128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краситель Красный 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14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краситель гуаровая камедь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33920" y="380880"/>
            <a:ext cx="5029200" cy="2133720"/>
          </a:xfrm>
          <a:prstGeom prst="wedgeRoundRectCallout">
            <a:avLst>
              <a:gd name="adj1" fmla="val 1231"/>
              <a:gd name="adj2" fmla="val 93601"/>
              <a:gd name="adj3" fmla="val 16667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895480"/>
            <a:ext cx="4343400" cy="2819520"/>
          </a:xfrm>
          <a:prstGeom prst="foldedCorner">
            <a:avLst>
              <a:gd name="adj" fmla="val 1250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76360" y="609480"/>
            <a:ext cx="5562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е употреблять бутилированную питьевую воду, она не содержит никаких добав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048120"/>
            <a:ext cx="3962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азированные напитки содержа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аллерг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21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95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95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развитие злокачественных опухо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101" t="0" r="5905" b="5676"/>
          <a:stretch/>
        </p:blipFill>
        <p:spPr>
          <a:xfrm>
            <a:off x="4876920" y="3581280"/>
            <a:ext cx="38098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80880"/>
            <a:ext cx="4800600" cy="3353040"/>
          </a:xfrm>
          <a:prstGeom prst="downArrowCallout">
            <a:avLst>
              <a:gd name="adj1" fmla="val 32707"/>
              <a:gd name="adj2" fmla="val 46683"/>
              <a:gd name="adj3" fmla="val 10588"/>
              <a:gd name="adj4" fmla="val 83898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04960" y="380880"/>
            <a:ext cx="51051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актически вся шоколадная продукция как российских, так и зарубежных фирм содержит пищевые добавки, которые не всегда безопасны для здоров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7911" t="0" r="20853" b="0"/>
          <a:stretch/>
        </p:blipFill>
        <p:spPr>
          <a:xfrm>
            <a:off x="457200" y="1447920"/>
            <a:ext cx="2971800" cy="29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4267080"/>
            <a:ext cx="3429000" cy="1828800"/>
          </a:xfrm>
          <a:prstGeom prst="foldedCorner">
            <a:avLst>
              <a:gd name="adj" fmla="val 12500"/>
            </a:avLst>
          </a:prstGeom>
          <a:solidFill>
            <a:srgbClr val="91d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заболева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чени и поче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47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запрещена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сс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иП</cp:lastModifiedBy>
  <dcterms:modified xsi:type="dcterms:W3CDTF">2008-04-27T16:14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