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E775-84DF-4A7C-9DFA-4427A6B0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54E4-4BC7-4E00-AC33-6D07719C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1F2C-D09F-4609-A93A-E9DFE5B4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FB0C-719E-4A8A-B52C-68A329DE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F2F3-0C28-446F-A0B5-F96F7AB0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0F66-AA62-48FA-A8E2-C768A182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39E2-D1C0-419E-846C-AE4AD118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2CA8-F435-48CE-918A-9EE4FEE4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4132-DFE8-4B3D-9344-5089A940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CD10-D33B-4009-BF39-BD902AA6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F0BC-57FE-47AE-88FB-66622B56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A14D-AC33-4AC6-83DF-D9EAA3E6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C08E-8F90-47B1-9D93-95563EFE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AE9C-5064-429A-8541-09CC6FAB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E9FD-4235-4E32-94DE-052E3DA6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E9BE-1B82-4470-A70D-29CD2265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B522-ED64-4EC3-856F-D3E84274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C8CF-F742-4D25-9F02-11B04E02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B26AF-5F12-4EB5-88F8-63216162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214C-DFE9-4504-8C4F-FF838340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93CF-B461-48F6-9D83-4035B7BE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B844-6D1B-480C-8D93-11AC2080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FCA5-0C27-41DF-B4C0-5BD56458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A9B7-26D1-4A5D-B55E-FABF693E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DB85-C8A4-49D4-87FE-013982C5CF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B0A6-297A-4100-B937-7394DC1AB3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4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586560" y="4149720"/>
            <a:ext cx="255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ту выполнял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к 11-го кла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менской СОШ №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мидов 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ководител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менской СОШ №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ртемова С. 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252360" y="692280"/>
            <a:ext cx="8964720" cy="53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лияние деятельност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ловека на природу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807552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чиной многих таких изменений является не природа, а сам человек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вые технологии новые уровни развития… Польза и вред, процветание и жертвы…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к же остро встала проблема экологии в крупных городах, где большое скопление машин, различных заводов, комбинатов приводящих к выбросу в атмосферу вредных веществ и образованию СМОГА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Смог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404640"/>
            <a:ext cx="1871640" cy="63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онд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708000" y="1413000"/>
            <a:ext cx="54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Смог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— один из видов загрязнения воздуха в крупных городах. Первоначально под смогом подразумевался дым, образованный сжиганием большого количества угля. В 1950-х гг. был впервые описан новый тип смога — фотохимический, который является результатом смешения следующих загрязнителей воздуха: паров́ бензина, красок, растворителей, пестицидов и других химикатов; перекиси нитратов. Все перечисленные химикаты обычно обладают высокой химической активностью и легко окисляются, поэтому фотохимический смог считается одной из основных проблем современной цивилизаци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92436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4508640"/>
            <a:ext cx="3924360" cy="2349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43280" y="404640"/>
            <a:ext cx="41054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 вот и они- источники загрязнений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4356000" cy="3573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настоящее время появилась положительная тенденция со стороны множества государств мира направленная не только на прекращение уничтожения окружающей среды, а так же ее восстановление и защиту. Создается огромное количество фондов, общественных организаций решающих этот вопро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64000" y="54900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ножество зеленых насаждений покрывают ранее опустошенные земли, человек понял, что нельзя до бесконечности пользоваться богатствами природы, нужно учится отдавать что-то взаме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5443560" cy="666900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148360" y="1054080"/>
            <a:ext cx="374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йдены новые источники энергии, которые значительно меньше загрязняют окружающую среду. Например, ТЭС, которые раньше применяли в качестве топлива уголь теперь используют более экологически чистый природный газ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148360" cy="4868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356000" y="-360"/>
            <a:ext cx="4788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шли широкое применения такие виды Электроэнергетики как: ветреная, приливная, геотермическая, солнечная, водородная и д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500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4356000" cy="3357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356000" y="3478320"/>
            <a:ext cx="4788000" cy="3379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24591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aramond"/>
              </a:rPr>
              <a:t>Транспорт на биогазе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932360" cy="5256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32000" y="907920"/>
            <a:ext cx="42116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ряду с водородной энергией также используется так называемый БИОГАЗ - газ, получаемый метановым брожением биомассы. Разложение биомассы происходит под воздействием бактерий класса метаногенов. Этот вид энергии нашел свое применение в транспортной сфер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82342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cfc0a"/>
                </a:solidFill>
                <a:latin typeface="Garamond"/>
              </a:rPr>
              <a:t>Считается, что виды новой энергии могут встать на ряду со старой, но они не могут полностью заменить ее, ведь например чтобы добывать солнечную энергию нужно занимать большое количество площади фотоэлементами и в своем применение ее кпд меньше, чем у того же бензина…</a:t>
            </a: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Цель работ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fc0a"/>
                </a:solidFill>
                <a:latin typeface="Garamond"/>
              </a:rPr>
              <a:t>Показать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fc0a"/>
                </a:solidFill>
                <a:latin typeface="Garamond"/>
              </a:rPr>
              <a:t>- влияние деятельности человека на природ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fc0a"/>
                </a:solidFill>
                <a:latin typeface="Garamond"/>
              </a:rPr>
              <a:t>- изменения привносимые технологиями в окружающую сред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касается моих предложений на счет того, как спасти окружающую среду, я считаю, что в первую очередь надо повысить культурный уровень человека, к примеру если, мы уже в детстве привыкнем бросать пластик и другой мусор на улицах, что остановит нас потом от уничтожения природы…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309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ы - люди, часто создаем себе проблемы которые самим же приходиться решать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ытаемся вознести себя над природой, хотя являемся лишь частью ее. Природа сможет существовать без человека, а человек без нее нет.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Garamond"/>
              </a:rPr>
              <a:t>Уничтожая природу мы медленно, но уверено, убиваем себ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точники информаци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убинин Н.П., Молекулярная генетика и действие излучений на наследствен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огаз. Теория и практика. В. Баадер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СЭНЕРГОАТОМ: Библиотека, описание реактор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5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ДЕРЖ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рицательное воздейств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Вред атомной энерг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Мутац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Проблемы крупных гор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ложительное воздейств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Решение некоторых пробл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Размышлен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Выво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355640" y="549000"/>
            <a:ext cx="44578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месте со своим развитием человек все больше и больше вносит новых изменений в окружающую его среду и часто эти изменения не приносят пользы не природе ни самому человеку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08440" cy="652464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томная энергетика</a:t>
            </a: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Польза или вред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8000" y="1916280"/>
            <a:ext cx="3809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томная электростанц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комплекс технических сооружений, предназначенных для выработки электрической энергии путём использования энергии, выделяемой при контролируемой ядерной реакции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5435640" cy="47530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003280" y="836640"/>
            <a:ext cx="3954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ногие из нас слышали историю про Чернобыльскую АЭС… Выдвинуто много версий из-за чего произошла авария, но проблема сейчас не в том из-за чего это случилось… проблема в том, что невозможно до конца устранить последствия взрыва. Мы прекрасно видим, что новшество приносит не только пользу, но и вре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967280" cy="54723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5e5ff"/>
                </a:solidFill>
                <a:latin typeface="Garamond"/>
              </a:rPr>
              <a:t>Одна проблема порождает другую.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16000" y="1557360"/>
            <a:ext cx="4427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рашные последствия взрыва… обожженная земля, заброшенные населенные пункты, погибшие люди… Это только верхушка айсберга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176720" cy="279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4019400"/>
            <a:ext cx="4249800" cy="283860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ут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56000" y="1052640"/>
            <a:ext cx="47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Мутация — это изменения генотипа, происходящие под влиянием внешней или внутренней среды. Процесс возникновения мутации получил название мутагенеза. Естественный темп появления мутаций часто очень мал, поэтому обычно мутация происходит в одной клетке и затрагивает один ген. Многие мутации относительно безопасны, потому что совсем не затрагивают фенотип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960720" cy="525636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2920" y="764640"/>
            <a:ext cx="403884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Многие, но ведь не все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527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4284720" cy="3357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3129120"/>
            <a:ext cx="4680000" cy="372888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усик</cp:lastModifiedBy>
  <dcterms:modified xsi:type="dcterms:W3CDTF">2009-01-24T18:42:27Z</dcterms:modified>
  <cp:revision>138</cp:revision>
  <dc:subject/>
  <dc:title>PowerPoint Presentation</dc:title>
</cp:coreProperties>
</file>