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8.png" ContentType="image/png"/>
  <Override PartName="/ppt/media/image1.wmf" ContentType="image/x-wmf"/>
  <Override PartName="/ppt/media/image3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32.gif" ContentType="image/gif"/>
  <Override PartName="/ppt/media/image25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5F-2E1D-4F3F-854D-6DC25327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1D0-52E0-42FA-9486-6611B099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A68-AF58-40E1-BB0B-1724EFE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776-35E0-43F2-A984-D5F1DEEE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9E3-F42A-4D64-ACF2-B959E37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B22-81B6-4666-9599-8213AEC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D0-0989-46A7-90D9-210D81B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9F7-B1AE-4AA7-BE8E-1F9969D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FF1-2243-4E82-BCAC-AD56E45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3D7-AF12-4C4B-B220-2ECBCE0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8CD-9717-43E5-9B58-08DD099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FA5-E6DD-4B97-979A-DC2D6F3D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AC81-D6D5-436D-8668-95EC09F3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ru.wikipedia.org/wiki/&#1060;&#1072;&#1081;&#1083;:Albrecht_D&#252;rer_-_Melencolia_I_(detail)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lbrecht_D&#252;rer_-_Melencolia_I_(detail)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agic_square_Lo_Shu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lbrecht_D&#252;rer_-_Melencolia_I_(detail)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elix Titling"/>
              </a:rPr>
              <a:t>Роль магического квадрата              в понимании символики гравюры     А. Дюрера «Меланхолия»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elix Titling"/>
              </a:rPr>
              <a:t>(1514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4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Презентацию подгото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Бочихин Игорь, Меркушева Виктор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ученики 7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Руковод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Лыткина Елена Никола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учитель матема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Булдакова Юлия Вячеслав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учитель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Felix Titling"/>
              </a:rPr>
              <a:t>МОУ СОШ №5 г. Ки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592440" cy="35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уализм (двойственность) –это основа понимания гравю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гел и путти – главные герои произведения. Их символическое значение сложно: взрослый и ребёнок, женское (если мы понимаем центральную фигуру как женщину) и мужское, духовное и телес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160992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ета и радуга – главные источники света в художественном пространстве гравюры – эти образы символизируют противоположные понятия: несчастье (комета) и надежду (радуга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457360" cy="20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гранник -  центровой элемент у Дюрера. По всей видимости, это было первоначально кубом, из которого вырезали треугольник, пирамиду. Если блок вырезать дальше, то получится восьмигранник, который будет подвижен как шар. Чтобы достичь сего, нужно работать сверху и сни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ар – ритмика, 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447640" cy="230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2305080" cy="20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4920" y="333000"/>
            <a:ext cx="506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48000" y="155736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льничный жернов и венок – сопоставляются с кругом и окружностью – проекциями на плоскости многогранника и ш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нок в европейской культуре – символ бессмертия, неслучайно он надет на анг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390680" cy="2552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1619280" cy="10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ака и летучая мышь – д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240360" cy="2290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635280" cy="204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игель и спиртовка – предметы, связанные со стихией огня и алхи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87344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195588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6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угольная грань многогран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ображаемая треугольная пирамида из веревок в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448000" cy="230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137160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ы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площением символики числа 4 в произведении становятся:  количество ребер грани параллелепипеда (башня, ступень), число сторон магического квадрата как геометрической фигуры, гвозди, клю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168720" cy="204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4869000"/>
            <a:ext cx="2521080" cy="150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627280" y="2781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5280" y="274680"/>
            <a:ext cx="505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ёршись головой на руку, ангел образует цифру 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гранник, по всей видимости,  был первоначально кубом, у которого шесть гр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91304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194472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цветов ра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ет 7 ступеней познания для обычного смертного, на что намекает лестница, прислонённая к башне с аналогичным числом ступенек. Это Путь к высотам познания, поэтому наклонена вправо, в отличие от летучей мыши, летящей в ночь, где беда, тьм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457360" cy="2085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1155960" cy="32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elix Titling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Felix Titling"/>
              </a:rPr>
              <a:t>Альбрехт Дюрер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elix Titling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Felix Titling"/>
              </a:rPr>
              <a:t>( 1471-1528 г.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elix Titling"/>
              </a:rPr>
              <a:t>Немецкий живописец, рисовальщик, гравёр, теоретик искусства. Крупнейший художник немецкого Возрождения. Родился в семье нюрнберских ювелиров, выходец из Венгрии. Нюрнберг, один из центров немецкого гуманизма, сыграл главную роль в развитии мировоззрения худож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дальнейшем посещение Италии и Нидерландов, усилило стремление Дюрера к научно обоснованным методам художественного познания мира. Он всё углублённее изучал натуру, размышлял над проблемами природы искусства, законами красоты и гармонии, разрабатывал учение о пропорциях. Многосторонность устремлений, неутомимость исканий Дюрера проявились  в его картинах, акварелях, рисунках, гравюрах,  теоретических трудах ("Руководство к измерению...", 1525; "Наставление к укреплению городов...", 1527; "Четыре книги о пропорциях человека", 15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вюры и живописные работы Дюрера поражают идеальной четкостью. Он вошел в историю живописи как творец, выверивший радугу красок и четкость линий циркулем и математической формул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2872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предметов          рем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1324080" cy="790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1905120" cy="1000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47640" y="4076640"/>
            <a:ext cx="879480" cy="140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809640" cy="1057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24000" y="5589720"/>
            <a:ext cx="1409400" cy="108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язано с часами и  чашами в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1285920" cy="224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137160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ое изображение цифр 6 и 9 также связано с идеей двойственности (их можно соотнести с фигурами ангела и пут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атривалось как “число окончания” и служило символом мирового порядка, если в фигуре сидящего ангела видеть очертания цифры 5, то и фигура путти напоминает эти же очер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изирует избыточность. Гравюра Дюрера совершенна по выполнению мельчайших 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гел и путти – главные герои произведения, каждый из них символизирует цифру 1, вместе одиннад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0" y="404640"/>
            <a:ext cx="41860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узная фигура ангела и есть воплощение числа 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 за пределы (лестница, пейзаж в перспективе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089080" cy="259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1155960" cy="32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0" y="1341000"/>
            <a:ext cx="4114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5 и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числа (в нижнем ряду, по центру) означают  дату создания гравюры «Меланхол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597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 - век, в который жил и твор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 Дюрер, век перехода от эпохи Возрождения к эпохе барокко, когда символы приобрели ещё более важную роль. Все, что изображалось в произведениях, несло некий иносказательный смыс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ми установлена связь между символами гравюры и числами магического квадрата Дюр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ено значение математических аллегорий гравю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а и проанализирована символика чисел с разных точек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252108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гический квадра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вораживает, притягивает внимание не только учёных, но и всех остальных. И в настоящее время создаются программы по их составлению. С помощью магического квадрата можно предугадать судьбу (правда это или ложь – решать В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65744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вюра А. Дюрера «Меланхолия» 1514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89308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elix Titling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Felix Titling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Felix Titling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Felix Titling"/>
              </a:rPr>
              <a:t>Есть, пожалуй, лишь одно изображение духа познания, в каком ученый не может себя не узнать, — «Меланхолия» Дюрера.»</a:t>
            </a:r>
            <a:r>
              <a:rPr b="1" lang="en-US" sz="2000" spc="-1" strike="noStrike">
                <a:solidFill>
                  <a:srgbClr val="000000"/>
                </a:solidFill>
                <a:latin typeface="Felix Titl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Felix Titling"/>
              </a:rPr>
              <a:t>Гравюра изображает грузное окрыленное существо, погруженное в глубокое раздумье, с раскрытым циркулем и захлопнутой книгой на коленях. Циркуль, равно как треугольник с линейкой, служат атрибутами Геометрии — одного из семи «свободных искусств» Средневековья и первого из божественных искусств Ренессанса. Впрочем, дух геометрии опознается в гравюре вне всяких аллегорий — в самой ее образной форме. Рядом с Меланхолией на мельничном жернове примостился путти — угрюмый ангелочек с записной книжкой. У ног свернулась дремлющая собака. Это символ Сатурна. Еще одно живое существо — летучая мышь, осеняющая и именующая всю картину, скорее с собачьей, чем с мышиной мордой и змеевидным тельцем маленького дракона. Все остальное безжизн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еланхол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ttp://img65.imageshack.us/img65/3152/451pxmelencoliaiss2.jpg"/>
          <p:cNvPicPr/>
          <p:nvPr/>
        </p:nvPicPr>
        <p:blipFill>
          <a:blip r:embed="rId1"/>
          <a:stretch/>
        </p:blipFill>
        <p:spPr>
          <a:xfrm>
            <a:off x="1805040" y="0"/>
            <a:ext cx="5164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-1341360"/>
            <a:ext cx="9144000" cy="36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" y="7422480"/>
            <a:ext cx="180720" cy="82548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ический квадр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ический квадрат - квадрат, разделенный на равное чис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олбцов и строк, со вписанными в полученные клетки первым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туральными числами, которые дают  в сумме по каждому столбцу, каждой строке и двум большим диагоналям одно и тоже число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ические квадр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адрат, изображённый на рисунках (древнее обозначение цифр при помощи точек и кружков; ниже – современный вид квадрата), известен как древний китайский магический квадрат Ло 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бражение квадрата найдено на черепаховом панцире и  датируется 2200г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867280" y="3716280"/>
          <a:ext cx="2521080" cy="2521080"/>
        </p:xfrm>
        <a:graphic>
          <a:graphicData uri="http://schemas.openxmlformats.org/drawingml/2006/table">
            <a:tbl>
              <a:tblPr/>
              <a:tblGrid>
                <a:gridCol w="839880"/>
                <a:gridCol w="841320"/>
                <a:gridCol w="839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9f0"/>
                    </a:solidFill>
                  </a:tcPr>
                </a:tc>
              </a:tr>
            </a:tbl>
          </a:graphicData>
        </a:graphic>
      </p:graphicFrame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68280"/>
            <a:ext cx="2360880" cy="23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вадрат Альбрехта Дюр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гический квадрат 4×4 (четвертого порядка), изображённый на гравюре Альбрехта Дюрера «Меланхолия», считается самым ранним в европейском искусстве. Два средних числа в нижнем ряду указывают дату создания картины (1514 год). Квадрат расположен в правом верхнем углу листа, под колоколом. Такой квадрат исследователи Дюрера называют «квадратом Юпите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933720"/>
            <a:ext cx="235116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http://img77.imageshack.us/img77/5148/magquadratkn7.jpg"/>
          <p:cNvPicPr/>
          <p:nvPr/>
        </p:nvPicPr>
        <p:blipFill>
          <a:blip r:embed="rId3"/>
          <a:stretch/>
        </p:blipFill>
        <p:spPr>
          <a:xfrm>
            <a:off x="5148360" y="3933720"/>
            <a:ext cx="266364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вадрат Альбрехта Дюр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92000" y="1413000"/>
            <a:ext cx="5118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мма чисел на любой горизонтали, вертикали и диагонали равна 3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сумма также встречается во всех угловых квадратах 2×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центральном квадрате (10+11+6+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вадрате из угловых клеток (16+13+4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вадратах, построенных «ходом коня» (2+8+9+15 и 3+5+12+1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ямоугольниках, образованных парами средних клеток на противоположных сторонах (3+2+15+14 и 5+8+9+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628640"/>
          <a:ext cx="2664000" cy="2520720"/>
        </p:xfrm>
        <a:graphic>
          <a:graphicData uri="http://schemas.openxmlformats.org/drawingml/2006/table">
            <a:tbl>
              <a:tblPr/>
              <a:tblGrid>
                <a:gridCol w="665640"/>
                <a:gridCol w="666720"/>
                <a:gridCol w="665640"/>
                <a:gridCol w="666000"/>
              </a:tblGrid>
              <a:tr h="62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</a:tr>
              <a:tr h="62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aaaa"/>
                    </a:solidFill>
                  </a:tcPr>
                </a:tc>
              </a:tr>
            </a:tbl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7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инство дополнительных симметрий связано с тем, что су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ых двух центрально симметрично расположенных чисел равна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4400"/>
            </a:gs>
            <a:gs pos="100000">
              <a:srgbClr val="fa7d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5280" y="1628280"/>
            <a:ext cx="5329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вная фигура: её трактовки неоднозначны. Некоторые  исследователи работ Дюрера полагают, что это женщина, кто-то считает что это мужчина, третьи видят в главном герое – некое грузное существо, либо анг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а есть и в названии гравюры, помещенном на крыльях летучей мыш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08944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780920" cy="100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04:54Z</dcterms:created>
  <dc:creator>k10</dc:creator>
  <dc:description/>
  <dc:language>en-US</dc:language>
  <cp:lastModifiedBy>User</cp:lastModifiedBy>
  <dcterms:modified xsi:type="dcterms:W3CDTF">2009-01-25T18:08:17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