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44.jpeg" ContentType="image/jpeg"/>
  <Override PartName="/ppt/media/image36.png" ContentType="image/png"/>
  <Override PartName="/ppt/media/image37.wmf" ContentType="image/x-wmf"/>
  <Override PartName="/ppt/media/image46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0.wmf" ContentType="image/x-wmf"/>
  <Override PartName="/ppt/media/image6.jpeg" ContentType="image/jpe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1.gif" ContentType="image/gi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E32-7003-4F39-A252-16B45E01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9F3-61C6-4F18-96AE-190B5F38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6D1-35F9-4EFA-BC28-1CB46CA2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AA5-BDA3-45E7-8EB8-0FADD018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7E1-144B-4162-8339-DFAB00A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E4F-8D51-487D-B186-32569BC1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BD6-D6D6-4795-BDBB-81AF4510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10B-EA96-4DA6-B2A6-FEDE45C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803-74B9-463B-A306-A81B7160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9B3-D9E3-479A-8FCF-B8D9006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8FF-3313-4DC7-94B5-25557F6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FBF-5CC5-4FA7-BBE2-0A7D809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4346-5BEC-468E-AB93-26572AF2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jpe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29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914400"/>
            <a:ext cx="800100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оследствия нарушения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ологической цепи".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1055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втор проекта: Маргиани Анастасия, ученица 4 «В» класса МОУ «Гимназия» г.Черн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04920"/>
            <a:ext cx="81532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Исчезновение лесов </a:t>
            </a:r>
            <a:endParaRPr b="1" lang="en-US" sz="2000" spc="1" strike="noStrike">
              <a:ln w="19080">
                <a:solidFill>
                  <a:srgbClr val="ffffff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а из самых</a:t>
            </a:r>
            <a:endParaRPr b="1" lang="en-US" sz="2000" spc="1" strike="noStrike">
              <a:ln w="19080">
                <a:solidFill>
                  <a:srgbClr val="ffffff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рьёзных </a:t>
            </a:r>
            <a:endParaRPr b="1" lang="en-US" sz="2000" spc="1" strike="noStrike">
              <a:ln w="19080">
                <a:solidFill>
                  <a:srgbClr val="ffffff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их проблем"</a:t>
            </a:r>
            <a:endParaRPr b="1" lang="en-US" sz="2000" spc="1" strike="noStrike">
              <a:ln w="19080">
                <a:solidFill>
                  <a:srgbClr val="ffffff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25040" cy="421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800600" y="2438280"/>
            <a:ext cx="0" cy="4114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733920"/>
            <a:ext cx="7925040" cy="75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181480"/>
            <a:ext cx="7925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99cc00"/>
            </a:gs>
            <a:gs pos="100000">
              <a:srgbClr val="00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733920" cy="2743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733560" cy="2743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0948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чины исчезновения насекомых</a:t>
            </a:r>
            <a:endParaRPr b="1" lang="en-US" sz="3200" spc="1" strike="noStrike">
              <a:ln w="12600">
                <a:solidFill>
                  <a:srgbClr val="003300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rot="19555200">
            <a:off x="7238520" y="5714640"/>
            <a:ext cx="1314720" cy="67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715400">
            <a:off x="6172200" y="5486400"/>
            <a:ext cx="792000" cy="45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rot="20223600">
            <a:off x="2590920" y="4952880"/>
            <a:ext cx="1314360" cy="89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19639800">
            <a:off x="4038120" y="4495320"/>
            <a:ext cx="23148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41 -0.01203 -0.03368 -0.01874 -0.05069 -0.02244 C -0.07465 -0.0384 -0.10434 -0.03632 -0.13021 -0.0384 C -0.14115 -0.04326 -0.1526 -0.04395 -0.16389 -0.0465 C -0.16788 -0.04742 -0.17604 -0.04974 -0.17604 -0.04974 C -0.18247 -0.0539 -0.18854 -0.05621 -0.19531 -0.05922 C -0.20174 -0.06523 -0.19687 -0.06153 -0.20851 -0.0657 C -0.20972 -0.06616 -0.21094 -0.06662 -0.21215 -0.06732 C -0.21354 -0.06824 -0.21441 -0.06986 -0.2158 -0.07055 C -0.22292 -0.07379 -0.23038 -0.07495 -0.2375 -0.07865 C -0.25799 -0.08883 -0.27847 -0.09854 -0.29878 -0.10895 C -0.30747 -0.11335 -0.3151 -0.11983 -0.32413 -0.12191 C -0.33524 -0.13301 -0.32986 -0.13024 -0.33872 -0.13324 C -0.35 -0.14296 -0.35226 -0.1536 -0.35903 -0.1684 C -0.36024 -0.17673 -0.36233 -0.18436 -0.36389 -0.19246 C -0.36562 -0.22577 -0.36788 -0.25931 -0.35903 -0.29054 C -0.35608 -0.30095 -0.35538 -0.31344 -0.35069 -0.32246 C -0.35 -0.37173 -0.3533 -0.39834 -0.3434 -0.43812 C -0.34236 -0.44761 -0.34167 -0.45524 -0.33872 -0.4638 C -0.33854 -0.46542 -0.33733 -0.47421 -0.33628 -0.47675 C -0.33455 -0.48069 -0.33021 -0.48786 -0.33021 -0.48786 C -0.32743 -0.50659 -0.31024 -0.53412 -0.2941 -0.53435 C -0.17396 -0.53528 -0.05399 -0.53551 0.06615 -0.53597 C 0.08333 -0.54361 0.10139 -0.54291 0.11927 -0.54407 C 0.18507 -0.56211 0.11094 -0.54222 0.30712 -0.54731 C 0.32726 -0.54777 0.35104 -0.55286 0.37101 -0.55378 C 0.37969 -0.5561 0.38785 -0.5598 0.39635 -0.56165 C 0.40365 -0.57622 0.42292 -0.57368 0.43368 -0.5746 C 0.44045 -0.57599 0.44392 -0.57923 0.45052 -0.58108 C 0.45729 -0.58709 0.46771 -0.59033 0.47587 -0.59218 C 0.48212 -0.59635 0.48958 -0.59959 0.49635 -0.6019 C 0.49861 -0.60398 0.50122 -0.60467 0.50347 -0.60676 C 0.50903 -0.61185 0.51389 -0.61809 0.52049 -0.6211 C 0.52483 -0.62549 0.52951 -0.62943 0.53368 -0.63405 C 0.5375 -0.63822 0.53941 -0.644 0.54323 -0.64839 C 0.54688 -0.65256 0.5474 -0.65117 0.55174 -0.65487 C 0.55642 -0.6588 0.56076 -0.66459 0.56493 -0.66921 C 0.57135 -0.67638 0.57604 -0.6824 0.58073 -0.69188 C 0.58264 -0.69558 0.58785 -0.70137 0.58785 -0.70137 C 0.5901 -0.71039 0.59896 -0.7127 0.60347 -0.72057 C 0.60625 -0.72566 0.60816 -0.73144 0.61076 -0.73653 C 0.61215 -0.73953 0.61319 -0.74624 0.61319 -0.74624 C 0.61441 -0.76058 0.61563 -0.77539 0.62049 -0.78811 C 0.62188 -0.80292 0.62431 -0.81772 0.63247 -0.82813 C 0.63455 -0.83669 0.63299 -0.8316 0.63854 -0.8427 C 0.63941 -0.84409 0.64097 -0.84756 0.64097 -0.84756 C 0.64132 -0.84895 0.64132 -0.85103 0.64201 -0.85242 C 0.64306 -0.85473 0.64497 -0.85612 0.64566 -0.85866 C 0.64826 -0.86699 0.64774 -0.87509 0.65174 -0.88272 C 0.65486 -0.89915 0.65903 -0.91395 0.65903 -0.93107 E">
                                      <p:cBhvr>
                                        <p:cTn id="20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41 -0.01203 -0.03368 -0.01874 -0.05069 -0.02244 C -0.07465 -0.0384 -0.10434 -0.03632 -0.13021 -0.0384 C -0.14115 -0.04326 -0.1526 -0.04395 -0.16389 -0.0465 C -0.16788 -0.04742 -0.17604 -0.04974 -0.17604 -0.04974 C -0.18247 -0.0539 -0.18854 -0.05621 -0.19531 -0.05922 C -0.20174 -0.06523 -0.19687 -0.06153 -0.20851 -0.0657 C -0.20972 -0.06616 -0.21094 -0.06662 -0.21215 -0.06732 C -0.21354 -0.06824 -0.21441 -0.06986 -0.2158 -0.07055 C -0.22292 -0.07379 -0.23038 -0.07495 -0.2375 -0.07865 C -0.25799 -0.08883 -0.27847 -0.09854 -0.29878 -0.10895 C -0.30747 -0.11335 -0.3151 -0.11983 -0.32413 -0.12191 C -0.33524 -0.13301 -0.32986 -0.13024 -0.33872 -0.13324 C -0.35 -0.14296 -0.35226 -0.1536 -0.35903 -0.1684 C -0.36024 -0.17673 -0.36233 -0.18436 -0.36389 -0.19246 C -0.36562 -0.22577 -0.36788 -0.25931 -0.35903 -0.29054 C -0.35608 -0.30095 -0.35538 -0.31344 -0.35069 -0.32246 C -0.35 -0.37173 -0.3533 -0.39834 -0.3434 -0.43812 C -0.34236 -0.44761 -0.34167 -0.45524 -0.33872 -0.4638 C -0.33854 -0.46542 -0.33733 -0.47421 -0.33628 -0.47675 C -0.33455 -0.48069 -0.33021 -0.48786 -0.33021 -0.48786 C -0.32743 -0.50659 -0.31024 -0.53412 -0.2941 -0.53435 C -0.17396 -0.53528 -0.05399 -0.53551 0.06615 -0.53597 C 0.08333 -0.54361 0.10139 -0.54291 0.11927 -0.54407 C 0.18507 -0.56211 0.11094 -0.54222 0.30712 -0.54731 C 0.32726 -0.54777 0.35104 -0.55286 0.37101 -0.55378 C 0.37969 -0.5561 0.38785 -0.5598 0.39635 -0.56165 C 0.40365 -0.57622 0.42292 -0.57368 0.43368 -0.5746 C 0.44045 -0.57599 0.44392 -0.57923 0.45052 -0.58108 C 0.45729 -0.58709 0.46771 -0.59033 0.47587 -0.59218 C 0.48212 -0.59635 0.48958 -0.59959 0.49635 -0.6019 C 0.49861 -0.60398 0.50122 -0.60467 0.50347 -0.60676 C 0.50903 -0.61185 0.51389 -0.61809 0.52049 -0.6211 C 0.52483 -0.62549 0.52951 -0.62943 0.53368 -0.63405 C 0.5375 -0.63822 0.53941 -0.644 0.54323 -0.64839 C 0.54688 -0.65256 0.5474 -0.65117 0.55174 -0.65487 C 0.55642 -0.6588 0.56076 -0.66459 0.56493 -0.66921 C 0.57135 -0.67638 0.57604 -0.6824 0.58073 -0.69188 C 0.58264 -0.69558 0.58785 -0.70137 0.58785 -0.70137 C 0.5901 -0.71039 0.59896 -0.7127 0.60347 -0.72057 C 0.60625 -0.72566 0.60816 -0.73144 0.61076 -0.73653 C 0.61215 -0.73953 0.61319 -0.74624 0.61319 -0.74624 C 0.61441 -0.76058 0.61563 -0.77539 0.62049 -0.78811 C 0.62188 -0.80292 0.62431 -0.81772 0.63247 -0.82813 C 0.63455 -0.83669 0.63299 -0.8316 0.63854 -0.8427 C 0.63941 -0.84409 0.64097 -0.84756 0.64097 -0.84756 C 0.64132 -0.84895 0.64132 -0.85103 0.64201 -0.85242 C 0.64306 -0.85473 0.64497 -0.85612 0.64566 -0.85866 C 0.64826 -0.86699 0.64774 -0.87509 0.65174 -0.88272 C 0.65486 -0.89915 0.65903 -0.91395 0.65903 -0.93107 E">
                                      <p:cBhvr>
                                        <p:cTn id="21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41 -0.01203 -0.03368 -0.01874 -0.05069 -0.02244 C -0.07465 -0.0384 -0.10434 -0.03632 -0.13021 -0.0384 C -0.14115 -0.04326 -0.1526 -0.04395 -0.16389 -0.0465 C -0.16788 -0.04742 -0.17604 -0.04974 -0.17604 -0.04974 C -0.18247 -0.0539 -0.18854 -0.05621 -0.19531 -0.05922 C -0.20174 -0.06523 -0.19687 -0.06153 -0.20851 -0.0657 C -0.20972 -0.06616 -0.21094 -0.06662 -0.21215 -0.06732 C -0.21354 -0.06824 -0.21441 -0.06986 -0.2158 -0.07055 C -0.22292 -0.07379 -0.23038 -0.07495 -0.2375 -0.07865 C -0.25799 -0.08883 -0.27847 -0.09854 -0.29878 -0.10895 C -0.30747 -0.11335 -0.3151 -0.11983 -0.32413 -0.12191 C -0.33524 -0.13301 -0.32986 -0.13024 -0.33872 -0.13324 C -0.35 -0.14296 -0.35226 -0.1536 -0.35903 -0.1684 C -0.36024 -0.17673 -0.36233 -0.18436 -0.36389 -0.19246 C -0.36562 -0.22577 -0.36788 -0.25931 -0.35903 -0.29054 C -0.35608 -0.30095 -0.35538 -0.31344 -0.35069 -0.32246 C -0.35 -0.37173 -0.3533 -0.39834 -0.3434 -0.43812 C -0.34236 -0.44761 -0.34167 -0.45524 -0.33872 -0.4638 C -0.33854 -0.46542 -0.33733 -0.47421 -0.33628 -0.47675 C -0.33455 -0.48069 -0.33021 -0.48786 -0.33021 -0.48786 C -0.32743 -0.50659 -0.31024 -0.53412 -0.2941 -0.53435 C -0.17396 -0.53528 -0.05399 -0.53551 0.06615 -0.53597 C 0.08333 -0.54361 0.10139 -0.54291 0.11927 -0.54407 C 0.18507 -0.56211 0.11094 -0.54222 0.30712 -0.54731 C 0.32726 -0.54777 0.35104 -0.55286 0.37101 -0.55378 C 0.37969 -0.5561 0.38785 -0.5598 0.39635 -0.56165 C 0.40365 -0.57622 0.42292 -0.57368 0.43368 -0.5746 C 0.44045 -0.57599 0.44392 -0.57923 0.45052 -0.58108 C 0.45729 -0.58709 0.46771 -0.59033 0.47587 -0.59218 C 0.48212 -0.59635 0.48958 -0.59959 0.49635 -0.6019 C 0.49861 -0.60398 0.50122 -0.60467 0.50347 -0.60676 C 0.50903 -0.61185 0.51389 -0.61809 0.52049 -0.6211 C 0.52483 -0.62549 0.52951 -0.62943 0.53368 -0.63405 C 0.5375 -0.63822 0.53941 -0.644 0.54323 -0.64839 C 0.54688 -0.65256 0.5474 -0.65117 0.55174 -0.65487 C 0.55642 -0.6588 0.56076 -0.66459 0.56493 -0.66921 C 0.57135 -0.67638 0.57604 -0.6824 0.58073 -0.69188 C 0.58264 -0.69558 0.58785 -0.70137 0.58785 -0.70137 C 0.5901 -0.71039 0.59896 -0.7127 0.60347 -0.72057 C 0.60625 -0.72566 0.60816 -0.73144 0.61076 -0.73653 C 0.61215 -0.73953 0.61319 -0.74624 0.61319 -0.74624 C 0.61441 -0.76058 0.61563 -0.77539 0.62049 -0.78811 C 0.62188 -0.80292 0.62431 -0.81772 0.63247 -0.82813 C 0.63455 -0.83669 0.63299 -0.8316 0.63854 -0.8427 C 0.63941 -0.84409 0.64097 -0.84756 0.64097 -0.84756 C 0.64132 -0.84895 0.64132 -0.85103 0.64201 -0.85242 C 0.64306 -0.85473 0.64497 -0.85612 0.64566 -0.85866 C 0.64826 -0.86699 0.64774 -0.87509 0.65174 -0.88272 C 0.65486 -0.89915 0.65903 -0.91395 0.65903 -0.93107 E">
                                      <p:cBhvr>
                                        <p:cTn id="21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41 -0.01203 -0.03368 -0.01874 -0.05069 -0.02244 C -0.07465 -0.0384 -0.10434 -0.03632 -0.13021 -0.0384 C -0.14115 -0.04326 -0.1526 -0.04395 -0.16389 -0.0465 C -0.16788 -0.04742 -0.17604 -0.04974 -0.17604 -0.04974 C -0.18247 -0.0539 -0.18854 -0.05621 -0.19531 -0.05922 C -0.20174 -0.06523 -0.19687 -0.06153 -0.20851 -0.0657 C -0.20972 -0.06616 -0.21094 -0.06662 -0.21215 -0.06732 C -0.21354 -0.06824 -0.21441 -0.06986 -0.2158 -0.07055 C -0.22292 -0.07379 -0.23038 -0.07495 -0.2375 -0.07865 C -0.25799 -0.08883 -0.27847 -0.09854 -0.29878 -0.10895 C -0.30747 -0.11335 -0.3151 -0.11983 -0.32413 -0.12191 C -0.33524 -0.13301 -0.32986 -0.13024 -0.33872 -0.13324 C -0.35 -0.14296 -0.35226 -0.1536 -0.35903 -0.1684 C -0.36024 -0.17673 -0.36233 -0.18436 -0.36389 -0.19246 C -0.36562 -0.22577 -0.36788 -0.25931 -0.35903 -0.29054 C -0.35608 -0.30095 -0.35538 -0.31344 -0.35069 -0.32246 C -0.35 -0.37173 -0.3533 -0.39834 -0.3434 -0.43812 C -0.34236 -0.44761 -0.34167 -0.45524 -0.33872 -0.4638 C -0.33854 -0.46542 -0.33733 -0.47421 -0.33628 -0.47675 C -0.33455 -0.48069 -0.33021 -0.48786 -0.33021 -0.48786 C -0.32743 -0.50659 -0.31024 -0.53412 -0.2941 -0.53435 C -0.17396 -0.53528 -0.05399 -0.53551 0.06615 -0.53597 C 0.08333 -0.54361 0.10139 -0.54291 0.11927 -0.54407 C 0.18507 -0.56211 0.11094 -0.54222 0.30712 -0.54731 C 0.32726 -0.54777 0.35104 -0.55286 0.37101 -0.55378 C 0.37969 -0.5561 0.38785 -0.5598 0.39635 -0.56165 C 0.40365 -0.57622 0.42292 -0.57368 0.43368 -0.5746 C 0.44045 -0.57599 0.44392 -0.57923 0.45052 -0.58108 C 0.45729 -0.58709 0.46771 -0.59033 0.47587 -0.59218 C 0.48212 -0.59635 0.48958 -0.59959 0.49635 -0.6019 C 0.49861 -0.60398 0.50122 -0.60467 0.50347 -0.60676 C 0.50903 -0.61185 0.51389 -0.61809 0.52049 -0.6211 C 0.52483 -0.62549 0.52951 -0.62943 0.53368 -0.63405 C 0.5375 -0.63822 0.53941 -0.644 0.54323 -0.64839 C 0.54688 -0.65256 0.5474 -0.65117 0.55174 -0.65487 C 0.55642 -0.6588 0.56076 -0.66459 0.56493 -0.66921 C 0.57135 -0.67638 0.57604 -0.6824 0.58073 -0.69188 C 0.58264 -0.69558 0.58785 -0.70137 0.58785 -0.70137 C 0.5901 -0.71039 0.59896 -0.7127 0.60347 -0.72057 C 0.60625 -0.72566 0.60816 -0.73144 0.61076 -0.73653 C 0.61215 -0.73953 0.61319 -0.74624 0.61319 -0.74624 C 0.61441 -0.76058 0.61563 -0.77539 0.62049 -0.78811 C 0.62188 -0.80292 0.62431 -0.81772 0.63247 -0.82813 C 0.63455 -0.83669 0.63299 -0.8316 0.63854 -0.8427 C 0.63941 -0.84409 0.64097 -0.84756 0.64097 -0.84756 C 0.64132 -0.84895 0.64132 -0.85103 0.64201 -0.85242 C 0.64306 -0.85473 0.64497 -0.85612 0.64566 -0.85866 C 0.64826 -0.86699 0.64774 -0.87509 0.65174 -0.88272 C 0.65486 -0.89915 0.65903 -0.91395 0.65903 -0.93107 E">
                                      <p:cBhvr>
                                        <p:cTn id="21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0099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5400000">
            <a:off x="-2362320" y="289548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663300"/>
                </a:solidFill>
                <a:latin typeface="Impact"/>
              </a:rPr>
              <a:t>Расселение растений</a:t>
            </a:r>
            <a:endParaRPr b="1" lang="en-US" sz="32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143000" y="1447920"/>
            <a:ext cx="12952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143000" y="4648320"/>
            <a:ext cx="12952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121932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434340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учас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067360" y="7999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105520" y="213336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3352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остра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9810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остра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током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7533000">
            <a:off x="2753640" y="10177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3081600">
            <a:off x="5344560" y="998280"/>
            <a:ext cx="6444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676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генофонд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5120" y="380880"/>
            <a:ext cx="518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еря леса влияет на: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9966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676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гено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560680" cy="21333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743200"/>
            <a:ext cx="2743200" cy="2438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905120" y="4267080"/>
            <a:ext cx="1962000" cy="24386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952880" y="4343400"/>
            <a:ext cx="2308320" cy="23749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781680" y="3276720"/>
            <a:ext cx="2133720" cy="2438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16" name=""/>
          <p:cNvSpPr/>
          <p:nvPr/>
        </p:nvSpPr>
        <p:spPr>
          <a:xfrm rot="16200000">
            <a:off x="4495680" y="-1295280"/>
            <a:ext cx="380880" cy="7543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6560 h 7543800"/>
              <a:gd name="textAreaBottom" fmla="*/ 7347240 h 754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4343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пустын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819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грязнение водоё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00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зменение 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419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загрязнение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3276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Arial"/>
              </a:rPr>
              <a:t>нехватка продоволь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008000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533520"/>
            <a:ext cx="807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Соблюдаете ли вы правила разведения и тушения костра в лесу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95280" y="1905120"/>
          <a:ext cx="7086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7086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95280" y="304920"/>
            <a:ext cx="6477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505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Ваше отношение к окружающей сред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505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1371600"/>
          <a:ext cx="69339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933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0099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990720"/>
            <a:ext cx="899172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Будьте предельно осторожны с огнём на природе, чтобы ваша неаккуратность не стала причиной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Никогда не поджигайте сухую траву. Если вы увидите, как это делают другие, постарайтесь остановить их и объяснить, что травяные палы очень опа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Никогда не разводите костёр в сухом лесу. Прежде чем развести костёр, сгребите сухую подстилку в радиусе одного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Перед уходом залейте костёр водой. После этого разгребите золу и убедитесь, что под ней не осталось тлеющих углей, если сохранились – то залейте ещё раз. Не уходите от залитого костра пока от него идёт дым или пар. О том, чем заливать костёр, позаботьтесь зара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Никогда не бросайте непотушенные спички и сигареты, не пользуйтесь в лесу различными пиротехническими издел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Не заезжайте в лес на автомобилях и мотоциклах. Искры из глушителя могут вызвать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Постарайтесь объяснить вашим друзьям и знакомым, что их неосторожность может послужить причиной пожаров.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19520" y="228600"/>
            <a:ext cx="3276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505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Памятк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505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22860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996633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Знаки, отображающие экологическую проблему лес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996633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1238400" cy="175572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219320" cy="169704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1219320" cy="167616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219320" cy="167616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62120" y="4267080"/>
            <a:ext cx="1218960" cy="177336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819520" y="4267080"/>
            <a:ext cx="1218960" cy="175284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105520" y="4267080"/>
            <a:ext cx="1190520" cy="175284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1828800" y="2819520"/>
            <a:ext cx="1195560" cy="167616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7086600" y="4267080"/>
            <a:ext cx="1219320" cy="175284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6019920" y="2819520"/>
            <a:ext cx="1218960" cy="1676160"/>
          </a:xfrm>
          <a:prstGeom prst="rect">
            <a:avLst/>
          </a:prstGeom>
          <a:ln w="5724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8080" y="533520"/>
            <a:ext cx="746784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2844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шение:</a:t>
            </a:r>
            <a:endParaRPr b="1" lang="en-US" sz="2800" spc="1" strike="noStrike">
              <a:ln cap="rnd" w="2844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2844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.Не ломать ветки.</a:t>
            </a:r>
            <a:endParaRPr b="1" lang="en-US" sz="2800" spc="1" strike="noStrike">
              <a:ln cap="rnd" w="2844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2844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.Не срывать цветы.</a:t>
            </a:r>
            <a:endParaRPr b="1" lang="en-US" sz="2800" spc="1" strike="noStrike">
              <a:ln cap="rnd" w="2844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2844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.Не разводить костры.</a:t>
            </a:r>
            <a:endParaRPr b="1" lang="en-US" sz="2800" spc="1" strike="noStrike">
              <a:ln cap="rnd" w="2844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2844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.Не устраивать свалки мусора.</a:t>
            </a:r>
            <a:endParaRPr b="1" lang="en-US" sz="2800" spc="1" strike="noStrike">
              <a:ln cap="rnd" w="2844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28440">
                  <a:solidFill>
                    <a:srgbClr val="66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endParaRPr b="1" lang="en-US" sz="2800" spc="1" strike="noStrike">
              <a:ln cap="rnd" w="28440">
                <a:solidFill>
                  <a:srgbClr val="66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838080"/>
            <a:ext cx="4419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работ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438280"/>
            <a:ext cx="792468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Monotype Corsiva"/>
              </a:rPr>
              <a:t>Показать на конкретных примерах отрицательное воздействие человека на окружающую сред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581280" cy="4572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228600" y="228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рнобыльская атомная электростанци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8380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 Припять - город мёртвых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886200" cy="4419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cc00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505320" cy="2592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505320" cy="2517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65760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Влияние человека на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952880" y="1066680"/>
            <a:ext cx="3581640" cy="2590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0080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66040"/>
          </a:xfrm>
          <a:prstGeom prst="rect">
            <a:avLst/>
          </a:prstGeom>
          <a:ln w="76320">
            <a:solidFill>
              <a:srgbClr val="3366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19520" y="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Пищевая цеп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-1676520"/>
            <a:ext cx="34290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29200" y="-762120"/>
            <a:ext cx="89856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-914400"/>
            <a:ext cx="11430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5 0.08333 L 0.4875 0.46111 E">
                                      <p:cBhvr>
                                        <p:cTn id="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25834 0.26666 E">
                                      <p:cBhvr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-0.30833 0.25556 E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0080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80773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улкан Кихпиныч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Камчатк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81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743200" cy="19335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33680" cy="1905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1676520"/>
            <a:ext cx="2590560" cy="194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5880" y="4419720"/>
            <a:ext cx="2667240" cy="1981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33520" y="3581280"/>
            <a:ext cx="2514600" cy="1905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276720" y="4114800"/>
            <a:ext cx="2590560" cy="19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1066680" y="304920"/>
            <a:ext cx="7315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Вырубка ле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cc00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38680" y="914400"/>
            <a:ext cx="3124440" cy="16765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38680" y="4952880"/>
            <a:ext cx="3200400" cy="16765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114800" y="144792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35812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5638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380880" y="0"/>
            <a:ext cx="84582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Times New Roman"/>
              </a:rPr>
              <a:t>К чему ведёт гибель дерева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638680" y="2971800"/>
            <a:ext cx="3124440" cy="16765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25146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2438640" cy="25146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2438640" cy="251604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362320" cy="25146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066680" y="3733920"/>
            <a:ext cx="10670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733920"/>
            <a:ext cx="10670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733920"/>
            <a:ext cx="10666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15228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0000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апы восстановления растительности </a:t>
            </a:r>
            <a:endParaRPr b="1" lang="en-US" sz="2800" spc="1" strike="noStrike">
              <a:ln w="12600">
                <a:solidFill>
                  <a:srgbClr val="ff0000"/>
                </a:solidFill>
                <a:prstDash val="sysDot"/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1-21T10:39:4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