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0B95-3F68-4126-B5F8-7D1BA8A0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FA28-F800-4977-BA2D-CECD7DD0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D993E-6ED9-408F-AA9D-30F09DC6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E90C-0303-480A-B8BD-9D2002E3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A4D0-CE36-47D6-ABB2-CFE205EF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24F7-1916-4902-9DC8-6553125A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DCBA-9799-4805-80C7-10CFD1B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49D7-B8F6-4F40-A772-9E5264DD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7794-044A-4441-B918-FB97344C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F587-F915-4FD9-861E-2F8AD09A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0468-0191-4169-A83A-A3D218FC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796E-2ADB-45F7-9579-1D1BF53A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F0FA-49AB-4A1C-BD47-479F96B8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554E-3171-4311-9A60-6C0A1F04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850E-6399-49C6-A745-426F5A18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B158-DF4E-4D9F-96FB-D1BEC70C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9471-733B-4B95-8524-D7F6A476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9DB8D-F99D-448E-B56E-19E1A4F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90FF-B944-4BF1-ADA2-A166C177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EFFA-9386-4591-9B32-AD7A4753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F33D7-E75A-4F9A-BDF1-D2D7D0B5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2491-0A5E-444E-91AA-CDC532A5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7156-6C3A-436F-93AD-51CC373B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0DE5-B174-46FE-B9FB-03F619A1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C75B-54FB-4036-8B6B-BC747BA335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DE75-5842-4756-923E-0381D60FB4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Исследовательская работа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Химические средства в быту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мыло и синтетические моющие средств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305320"/>
            <a:ext cx="5222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Выполнила ученица 9 класса «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МОУ СОШ № 6 г.о. Орехово-Зуе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Климова Юлия Александ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2400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48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─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R ─ COOH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R ─ COO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+ C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─ H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R ─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R ─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─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R ─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H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R ─ O ─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492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3645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3645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48290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6720" y="4797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интетические моющие сред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идролиз мы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3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ONa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        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3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OH + NaO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306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Щелочность мы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86040" y="1603440"/>
            <a:ext cx="1009800" cy="581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44840" y="2305080"/>
            <a:ext cx="1447560" cy="743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562120" y="3133800"/>
            <a:ext cx="1514520" cy="799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544840" y="4043520"/>
            <a:ext cx="152388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2511360" y="4700520"/>
            <a:ext cx="1524240" cy="685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2597040" y="5467320"/>
            <a:ext cx="1352520" cy="73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1619280" y="1268280"/>
          <a:ext cx="6078600" cy="4969080"/>
        </p:xfrm>
        <a:graphic>
          <a:graphicData uri="http://schemas.openxmlformats.org/drawingml/2006/table">
            <a:tbl>
              <a:tblPr/>
              <a:tblGrid>
                <a:gridCol w="754200"/>
                <a:gridCol w="1774800"/>
                <a:gridCol w="1774800"/>
                <a:gridCol w="1774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мы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р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кция раств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абощелоч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абощелоч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абощелоч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абокис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l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5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378720"/>
            <a:ext cx="69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Times New Roman"/>
              </a:rPr>
              <a:t>Свойства СМ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11280" y="1773360"/>
          <a:ext cx="7993080" cy="4143240"/>
        </p:xfrm>
        <a:graphic>
          <a:graphicData uri="http://schemas.openxmlformats.org/drawingml/2006/table">
            <a:tbl>
              <a:tblPr/>
              <a:tblGrid>
                <a:gridCol w="3744720"/>
                <a:gridCol w="2016360"/>
                <a:gridCol w="2232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Вид СМ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Значение р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енообра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тиральный порош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Ariel automat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тиральный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орош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Bingo automat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Моющий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орош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Mister Proper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тиральный порош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Миф – универсал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редство для мытья посу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«АОС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Шампунь «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Sansilk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Шампунь «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imotei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5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Значите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Значите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Значите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Значите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Значите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41920" y="1557360"/>
            <a:ext cx="4402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СМС, попадая в водоёмы, оказывают вредное воздействие на живые организмы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3699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38560" y="2060640"/>
            <a:ext cx="500544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ыло – символ чистоты, здоровья, культур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098960" cy="3770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7280" y="2205000"/>
            <a:ext cx="454644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Мыло в течение нескольких столетий было предметом роскош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887640" cy="3600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651800" cy="5475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50403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Формула жир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879640" cy="3600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4360" y="5300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щая формула жи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133720"/>
            <a:ext cx="432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ры – кислородосодержащие природные органические соединения, которые представляют собой сложные эфиры высших карбоновых кислот и глицерина (триглицерид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лучение мыла реакцией омыления жи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601040" cy="285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остав мы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─       CH      ─  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│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│                 │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O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OCO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OCO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OH                                       KO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вердые мыла                       Жидкие мы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ONa                        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уалетное         Хозяйственно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ыло                      мыло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 = 9 - 15             x = 16 - 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042920" y="2997360"/>
            <a:ext cx="50472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2997360"/>
            <a:ext cx="64800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479736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186920" y="479736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360" y="364500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651640" y="4797360"/>
            <a:ext cx="1514160" cy="151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лучение мы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119160" y="1800360"/>
            <a:ext cx="194292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ры или мас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62080" y="2371680"/>
            <a:ext cx="1257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19560" y="1800360"/>
            <a:ext cx="194292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льный кле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9960" y="1800360"/>
            <a:ext cx="194292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дровое мы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62480" y="2371680"/>
            <a:ext cx="1257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62880" y="2371680"/>
            <a:ext cx="571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3480" y="3857760"/>
            <a:ext cx="21718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уалетное мы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0480" y="44290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62080" y="1800360"/>
            <a:ext cx="125748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щелоч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идроли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62480" y="1800360"/>
            <a:ext cx="13716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ысали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6360" y="3857760"/>
            <a:ext cx="13716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тбели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крас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100"/>
                            </p:stCondLst>
                            <p:childTnLst>
                              <p:par>
                                <p:cTn id="2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10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10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10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10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10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10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1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1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1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оющее действие мы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33564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132000" y="47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Гр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27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Молекула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563640" y="2637000"/>
            <a:ext cx="2016360" cy="720720"/>
            <a:chOff x="3563640" y="2637000"/>
            <a:chExt cx="2016360" cy="720720"/>
          </a:xfrm>
        </p:grpSpPr>
        <p:sp>
          <p:nvSpPr>
            <p:cNvPr id="140" name=""/>
            <p:cNvSpPr/>
            <p:nvPr/>
          </p:nvSpPr>
          <p:spPr>
            <a:xfrm flipH="1">
              <a:off x="4500720" y="3068640"/>
              <a:ext cx="288720" cy="289080"/>
            </a:xfrm>
            <a:prstGeom prst="line">
              <a:avLst/>
            </a:prstGeom>
            <a:ln w="936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219640" y="2852640"/>
              <a:ext cx="360360" cy="144720"/>
            </a:xfrm>
            <a:prstGeom prst="line">
              <a:avLst/>
            </a:prstGeom>
            <a:ln w="936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3563640" y="2637000"/>
              <a:ext cx="863640" cy="287280"/>
            </a:xfrm>
            <a:prstGeom prst="line">
              <a:avLst/>
            </a:prstGeom>
            <a:ln w="936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500720" y="4869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Гидрофобный «хвост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355640" y="4797000"/>
            <a:ext cx="1368360" cy="1443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3716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Гидрофильная «голов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932000" y="4005360"/>
            <a:ext cx="863640" cy="1443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501336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Молекула моющих средств (детергент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268360" y="4797000"/>
            <a:ext cx="287640" cy="3603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5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0:31:11Z</dcterms:created>
  <dc:creator>Diman</dc:creator>
  <dc:description/>
  <dc:language>en-US</dc:language>
  <cp:lastModifiedBy>Марина</cp:lastModifiedBy>
  <dcterms:modified xsi:type="dcterms:W3CDTF">2002-01-02T07:35:08Z</dcterms:modified>
  <cp:revision>81</cp:revision>
  <dc:subject>Химические средства в быту</dc:subject>
  <dc:title>Исследовательская работа.</dc:title>
</cp:coreProperties>
</file>