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4.png" ContentType="image/png"/>
  <Override PartName="/ppt/media/image9.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12.jpeg" ContentType="image/jpeg"/>
  <Override PartName="/ppt/media/image1.jpeg" ContentType="image/jpeg"/>
  <Override PartName="/ppt/media/image7.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26D165-CD58-4C8F-96B2-A17B14FD8E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917FE-E311-411C-B18B-AB17E2745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D6DE9D-9A8C-4F76-AD81-ADBB7720AF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8D8D4C-DB84-417B-BD46-9DB46E2CBB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B989D66-1086-4BED-9B39-7E5108B2635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65CF8F-7CE3-46E4-962E-6688FF91E92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1105B4-6B36-4547-8702-B71B4265E21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909F19-252A-4CF8-A77C-DF8168B153B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EA8C77-1B21-4F7D-9AC7-55A6BE22940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BA5258-9955-49EB-AD41-D9DCDA711EF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F986DF-3C52-401D-A24C-457B4536F0A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B6AEC-0682-416A-962F-97E8CCC06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DA1317-50D8-4A36-841C-EE3D4CFD305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1717C5-CB14-4837-9607-C7417CF1DF5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74E217-118B-466B-B886-00F93651915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7C62BBB-8744-454C-A6FD-37C75A103EA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C829BF-C1D3-49C6-A3C6-9CE05ABDADD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A1D27-7BDF-4FED-AC4C-754721A79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BCE1C-8BF0-41F6-A595-1300F4611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AF2188-2945-49FE-BCE3-45E1AEDCD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8125C-0A1F-4D62-8151-30DBF6CDD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FA350-7998-4F37-8592-73DF632EB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15490-4352-46B3-9A89-697BE44E1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704F8-4B8C-46FB-9C66-5DAE16D7DB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92FAD-416D-41F1-955F-61E602421D8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5FF7C-C6AC-4E23-A023-C85B340C1F2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orest.ru/rus/basics/atlas/ra11d.html"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600"/>
                </a:solidFill>
                <a:latin typeface="Tahoma"/>
              </a:rPr>
              <a:t>«</a:t>
            </a:r>
            <a:r>
              <a:rPr b="1" i="1" lang="en-US" sz="4400" spc="-1" strike="noStrike" u="sng">
                <a:solidFill>
                  <a:srgbClr val="00c600"/>
                </a:solidFill>
                <a:uFillTx/>
                <a:latin typeface="Tahoma"/>
              </a:rPr>
              <a:t>Взаимосвязь природы и общества».</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240" y="3573000"/>
            <a:ext cx="6800760" cy="3024360"/>
          </a:xfrm>
          <a:prstGeom prst="rect">
            <a:avLst/>
          </a:prstGeom>
          <a:noFill/>
          <a:ln w="0">
            <a:noFill/>
          </a:ln>
        </p:spPr>
        <p:txBody>
          <a:bodyPr lIns="90000" rIns="90000" tIns="46800" bIns="46800"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Tahoma"/>
              </a:rPr>
              <a:t>План.</a:t>
            </a:r>
            <a:endParaRPr b="0" lang="en-US" sz="14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1. Введение.</a:t>
            </a:r>
            <a:r>
              <a:rPr b="0" lang="en-US" sz="1600" spc="-1" strike="noStrike">
                <a:solidFill>
                  <a:srgbClr val="ffcc00"/>
                </a:solidFill>
                <a:latin typeface="Tahoma"/>
              </a:rPr>
              <a:t>	</a:t>
            </a:r>
            <a:r>
              <a:rPr b="0" lang="en-US" sz="1600" spc="-1" strike="noStrike">
                <a:solidFill>
                  <a:srgbClr val="ffcc00"/>
                </a:solidFill>
                <a:latin typeface="Tahoma"/>
              </a:rPr>
              <a:t>	</a:t>
            </a:r>
            <a:r>
              <a:rPr b="0" lang="en-US" sz="1600" spc="-1" strike="noStrike">
                <a:solidFill>
                  <a:srgbClr val="ffcc00"/>
                </a:solidFill>
                <a:latin typeface="Tahoma"/>
              </a:rPr>
              <a:t>	</a:t>
            </a:r>
            <a:r>
              <a:rPr b="0" lang="en-US" sz="1600" spc="-1" strike="noStrike">
                <a:solidFill>
                  <a:srgbClr val="ffcc00"/>
                </a:solidFill>
                <a:latin typeface="Tahoma"/>
              </a:rPr>
              <a:t>	</a:t>
            </a:r>
            <a:r>
              <a:rPr b="0" lang="en-US" sz="1600" spc="-1" strike="noStrike">
                <a:solidFill>
                  <a:srgbClr val="ffcc00"/>
                </a:solidFill>
                <a:latin typeface="Tahoma"/>
              </a:rPr>
              <a:t>	</a:t>
            </a:r>
            <a:r>
              <a:rPr b="0" lang="en-US" sz="1600" spc="-1" strike="noStrike">
                <a:solidFill>
                  <a:srgbClr val="ffcc00"/>
                </a:solidFill>
                <a:latin typeface="Tahoma"/>
              </a:rPr>
              <a:t>	</a:t>
            </a:r>
            <a:r>
              <a:rPr b="0" lang="en-US" sz="1600" spc="-1" strike="noStrike">
                <a:solidFill>
                  <a:srgbClr val="ffcc00"/>
                </a:solidFill>
                <a:latin typeface="Tahoma"/>
              </a:rPr>
              <a:t>	</a:t>
            </a:r>
            <a:r>
              <a:rPr b="0" lang="en-US" sz="1600" spc="-1" strike="noStrike">
                <a:solidFill>
                  <a:srgbClr val="ffcc00"/>
                </a:solidFill>
                <a:latin typeface="Tahoma"/>
              </a:rPr>
              <a:t>	</a:t>
            </a:r>
            <a:r>
              <a:rPr b="0" lang="en-US" sz="1600" spc="-1" strike="noStrike">
                <a:solidFill>
                  <a:srgbClr val="ffcc00"/>
                </a:solidFill>
                <a:latin typeface="Tahoma"/>
              </a:rPr>
              <a:t>	</a:t>
            </a:r>
            <a:r>
              <a:rPr b="0" lang="en-US" sz="1600" spc="-1" strike="noStrike">
                <a:solidFill>
                  <a:srgbClr val="ffcc00"/>
                </a:solidFill>
                <a:latin typeface="Tahoma"/>
              </a:rPr>
              <a:t>	</a:t>
            </a:r>
            <a:r>
              <a:rPr b="0" lang="en-US" sz="1600" spc="-1" strike="noStrike">
                <a:solidFill>
                  <a:srgbClr val="ffcc00"/>
                </a:solidFill>
                <a:latin typeface="Tahoma"/>
              </a:rPr>
              <a:t>	</a:t>
            </a:r>
            <a:endParaRPr b="0" lang="en-US" sz="16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2. Основные формы взаимодействия общества и природы.</a:t>
            </a:r>
            <a:r>
              <a:rPr b="0" lang="en-US" sz="1600" spc="-1" strike="noStrike">
                <a:solidFill>
                  <a:srgbClr val="ffcc00"/>
                </a:solidFill>
                <a:latin typeface="Tahoma"/>
              </a:rPr>
              <a:t>	</a:t>
            </a:r>
            <a:r>
              <a:rPr b="0" lang="en-US" sz="1600" spc="-1" strike="noStrike">
                <a:solidFill>
                  <a:srgbClr val="ffcc00"/>
                </a:solidFill>
                <a:latin typeface="Tahoma"/>
              </a:rPr>
              <a:t>	</a:t>
            </a:r>
            <a:r>
              <a:rPr b="0" lang="en-US" sz="1600" spc="-1" strike="noStrike">
                <a:solidFill>
                  <a:srgbClr val="ffcc00"/>
                </a:solidFill>
                <a:latin typeface="Tahoma"/>
              </a:rPr>
              <a:t>	</a:t>
            </a:r>
            <a:r>
              <a:rPr b="0" lang="en-US" sz="1600" spc="-1" strike="noStrike">
                <a:solidFill>
                  <a:srgbClr val="ffcc00"/>
                </a:solidFill>
                <a:latin typeface="Tahoma"/>
              </a:rPr>
              <a:t>	</a:t>
            </a:r>
            <a:endParaRPr b="0" lang="en-US" sz="16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3. Экологические функции государства.</a:t>
            </a:r>
            <a:r>
              <a:rPr b="0" lang="en-US" sz="1600" spc="-1" strike="noStrike">
                <a:solidFill>
                  <a:srgbClr val="ffcc00"/>
                </a:solidFill>
                <a:latin typeface="Tahoma"/>
              </a:rPr>
              <a:t>	</a:t>
            </a:r>
            <a:r>
              <a:rPr b="0" lang="en-US" sz="1600" spc="-1" strike="noStrike">
                <a:solidFill>
                  <a:srgbClr val="ffcc00"/>
                </a:solidFill>
                <a:latin typeface="Tahoma"/>
              </a:rPr>
              <a:t>	</a:t>
            </a:r>
            <a:r>
              <a:rPr b="0" lang="en-US" sz="1600" spc="-1" strike="noStrike">
                <a:solidFill>
                  <a:srgbClr val="ffcc00"/>
                </a:solidFill>
                <a:latin typeface="Tahoma"/>
              </a:rPr>
              <a:t>	</a:t>
            </a:r>
            <a:r>
              <a:rPr b="0" lang="en-US" sz="1600" spc="-1" strike="noStrike">
                <a:solidFill>
                  <a:srgbClr val="ffcc00"/>
                </a:solidFill>
                <a:latin typeface="Tahoma"/>
              </a:rPr>
              <a:t>	</a:t>
            </a:r>
            <a:r>
              <a:rPr b="0" lang="en-US" sz="1600" spc="-1" strike="noStrike">
                <a:solidFill>
                  <a:srgbClr val="ffcc00"/>
                </a:solidFill>
                <a:latin typeface="Tahoma"/>
              </a:rPr>
              <a:t>	</a:t>
            </a:r>
            <a:r>
              <a:rPr b="0" lang="en-US" sz="1600" spc="-1" strike="noStrike">
                <a:solidFill>
                  <a:srgbClr val="ffcc00"/>
                </a:solidFill>
                <a:latin typeface="Tahoma"/>
              </a:rPr>
              <a:t>	</a:t>
            </a:r>
            <a:r>
              <a:rPr b="0" lang="en-US" sz="1600" spc="-1" strike="noStrike">
                <a:solidFill>
                  <a:srgbClr val="ffcc00"/>
                </a:solidFill>
                <a:latin typeface="Tahoma"/>
              </a:rPr>
              <a:t>	</a:t>
            </a:r>
            <a:endParaRPr b="0" lang="en-US" sz="16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4. Нормы экологического права</a:t>
            </a:r>
            <a:r>
              <a:rPr b="0" lang="en-US" sz="1600" spc="-1" strike="noStrike">
                <a:solidFill>
                  <a:srgbClr val="ffcc00"/>
                </a:solidFill>
                <a:latin typeface="Tahoma"/>
              </a:rPr>
              <a:t>	</a:t>
            </a:r>
            <a:r>
              <a:rPr b="0" lang="en-US" sz="1600" spc="-1" strike="noStrike">
                <a:solidFill>
                  <a:srgbClr val="ffcc00"/>
                </a:solidFill>
                <a:latin typeface="Tahoma"/>
              </a:rPr>
              <a:t>	</a:t>
            </a:r>
            <a:r>
              <a:rPr b="0" lang="en-US" sz="1600" spc="-1" strike="noStrike">
                <a:solidFill>
                  <a:srgbClr val="ffcc00"/>
                </a:solidFill>
                <a:latin typeface="Tahoma"/>
              </a:rPr>
              <a:t>	</a:t>
            </a:r>
            <a:r>
              <a:rPr b="0" lang="en-US" sz="1600" spc="-1" strike="noStrike">
                <a:solidFill>
                  <a:srgbClr val="ffcc00"/>
                </a:solidFill>
                <a:latin typeface="Tahoma"/>
              </a:rPr>
              <a:t>	</a:t>
            </a:r>
            <a:r>
              <a:rPr b="0" lang="en-US" sz="1600" spc="-1" strike="noStrike">
                <a:solidFill>
                  <a:srgbClr val="ffcc00"/>
                </a:solidFill>
                <a:latin typeface="Tahoma"/>
              </a:rPr>
              <a:t>	</a:t>
            </a:r>
            <a:r>
              <a:rPr b="0" lang="en-US" sz="1600" spc="-1" strike="noStrike">
                <a:solidFill>
                  <a:srgbClr val="ffcc00"/>
                </a:solidFill>
                <a:latin typeface="Tahoma"/>
              </a:rPr>
              <a:t>	</a:t>
            </a:r>
            <a:r>
              <a:rPr b="0" lang="en-US" sz="1600" spc="-1" strike="noStrike">
                <a:solidFill>
                  <a:srgbClr val="ffcc00"/>
                </a:solidFill>
                <a:latin typeface="Tahoma"/>
              </a:rPr>
              <a:t>	</a:t>
            </a:r>
            <a:r>
              <a:rPr b="0" lang="en-US" sz="1600" spc="-1" strike="noStrike">
                <a:solidFill>
                  <a:srgbClr val="ffcc00"/>
                </a:solidFill>
                <a:latin typeface="Tahoma"/>
              </a:rPr>
              <a:t>	</a:t>
            </a:r>
            <a:endParaRPr b="0" lang="en-US" sz="16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5. Человек и природа</a:t>
            </a:r>
            <a:r>
              <a:rPr b="0" lang="en-US" sz="1600" spc="-1" strike="noStrike">
                <a:solidFill>
                  <a:srgbClr val="ffcc00"/>
                </a:solidFill>
                <a:latin typeface="Tahoma"/>
              </a:rPr>
              <a:t>	</a:t>
            </a:r>
            <a:r>
              <a:rPr b="0" lang="en-US" sz="1600" spc="-1" strike="noStrike">
                <a:solidFill>
                  <a:srgbClr val="ffcc00"/>
                </a:solidFill>
                <a:latin typeface="Tahoma"/>
              </a:rPr>
              <a:t>	</a:t>
            </a:r>
            <a:r>
              <a:rPr b="0" lang="en-US" sz="1600" spc="-1" strike="noStrike">
                <a:solidFill>
                  <a:srgbClr val="ffcc00"/>
                </a:solidFill>
                <a:latin typeface="Tahoma"/>
              </a:rPr>
              <a:t>	</a:t>
            </a:r>
            <a:r>
              <a:rPr b="0" lang="en-US" sz="1600" spc="-1" strike="noStrike">
                <a:solidFill>
                  <a:srgbClr val="ffcc00"/>
                </a:solidFill>
                <a:latin typeface="Tahoma"/>
              </a:rPr>
              <a:t>	</a:t>
            </a:r>
            <a:r>
              <a:rPr b="0" lang="en-US" sz="1600" spc="-1" strike="noStrike">
                <a:solidFill>
                  <a:srgbClr val="ffcc00"/>
                </a:solidFill>
                <a:latin typeface="Tahoma"/>
              </a:rPr>
              <a:t>	</a:t>
            </a:r>
            <a:r>
              <a:rPr b="0" lang="en-US" sz="1600" spc="-1" strike="noStrike">
                <a:solidFill>
                  <a:srgbClr val="ffcc00"/>
                </a:solidFill>
                <a:latin typeface="Tahoma"/>
              </a:rPr>
              <a:t>	</a:t>
            </a:r>
            <a:r>
              <a:rPr b="0" lang="en-US" sz="1600" spc="-1" strike="noStrike">
                <a:solidFill>
                  <a:srgbClr val="ffcc00"/>
                </a:solidFill>
                <a:latin typeface="Tahoma"/>
              </a:rPr>
              <a:t>	</a:t>
            </a:r>
            <a:r>
              <a:rPr b="0" lang="en-US" sz="1600" spc="-1" strike="noStrike">
                <a:solidFill>
                  <a:srgbClr val="ffcc00"/>
                </a:solidFill>
                <a:latin typeface="Tahoma"/>
              </a:rPr>
              <a:t>	</a:t>
            </a:r>
            <a:r>
              <a:rPr b="0" lang="en-US" sz="1600" spc="-1" strike="noStrike">
                <a:solidFill>
                  <a:srgbClr val="ffcc00"/>
                </a:solidFill>
                <a:latin typeface="Tahoma"/>
              </a:rPr>
              <a:t>	</a:t>
            </a:r>
            <a:r>
              <a:rPr b="0" lang="en-US" sz="1600" spc="-1" strike="noStrike">
                <a:solidFill>
                  <a:srgbClr val="ffcc00"/>
                </a:solidFill>
                <a:latin typeface="Tahoma"/>
              </a:rPr>
              <a:t>        </a:t>
            </a:r>
            <a:endParaRPr b="0" lang="en-US" sz="16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6. Заключение.</a:t>
            </a:r>
            <a:endParaRPr b="0" lang="en-US" sz="16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7. Список использованной литературы.</a:t>
            </a:r>
            <a:endParaRPr b="0" lang="en-US" sz="16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8.Приложения 1 и 2.</a:t>
            </a:r>
            <a:r>
              <a:rPr b="0" lang="en-US" sz="1600" spc="-1" strike="noStrike">
                <a:solidFill>
                  <a:srgbClr val="ffcc00"/>
                </a:solidFill>
                <a:latin typeface="Tahoma"/>
              </a:rPr>
              <a:t>	</a:t>
            </a:r>
            <a:r>
              <a:rPr b="0" lang="en-US" sz="1600" spc="-1" strike="noStrike">
                <a:solidFill>
                  <a:srgbClr val="ffcc00"/>
                </a:solidFill>
                <a:latin typeface="Tahoma"/>
              </a:rPr>
              <a:t>	</a:t>
            </a:r>
            <a:r>
              <a:rPr b="0" lang="en-US" sz="1600" spc="-1" strike="noStrike">
                <a:solidFill>
                  <a:srgbClr val="ffcc00"/>
                </a:solidFill>
                <a:latin typeface="Tahoma"/>
              </a:rPr>
              <a:t>	</a:t>
            </a:r>
            <a:r>
              <a:rPr b="0" lang="en-US" sz="1600" spc="-1" strike="noStrike">
                <a:solidFill>
                  <a:srgbClr val="ffcc00"/>
                </a:solidFill>
                <a:latin typeface="Tahoma"/>
              </a:rPr>
              <a:t>	</a:t>
            </a:r>
            <a:r>
              <a:rPr b="0" lang="en-US" sz="1600" spc="-1" strike="noStrike">
                <a:solidFill>
                  <a:srgbClr val="ffcc00"/>
                </a:solidFill>
                <a:latin typeface="Tahoma"/>
              </a:rPr>
              <a:t>	</a:t>
            </a:r>
            <a:r>
              <a:rPr b="0" lang="en-US" sz="1600" spc="-1" strike="noStrike">
                <a:solidFill>
                  <a:srgbClr val="ffcc00"/>
                </a:solidFill>
                <a:latin typeface="Tahoma"/>
              </a:rPr>
              <a:t>	</a:t>
            </a:r>
            <a:r>
              <a:rPr b="0" lang="en-US" sz="1600" spc="-1" strike="noStrike">
                <a:solidFill>
                  <a:srgbClr val="ffcc00"/>
                </a:solidFill>
                <a:latin typeface="Tahoma"/>
              </a:rPr>
              <a:t>	</a:t>
            </a:r>
            <a:r>
              <a:rPr b="0" lang="en-US" sz="1600" spc="-1" strike="noStrike">
                <a:solidFill>
                  <a:srgbClr val="ffcc00"/>
                </a:solidFill>
                <a:latin typeface="Tahoma"/>
              </a:rPr>
              <a:t>	</a:t>
            </a:r>
            <a:r>
              <a:rPr b="0" lang="en-US" sz="1600" spc="-1" strike="noStrike">
                <a:solidFill>
                  <a:srgbClr val="ffcc00"/>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endParaRPr b="0" lang="en-US" sz="16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ahoma"/>
              </a:rPr>
              <a:t>5. Человек и природа</a:t>
            </a:r>
            <a:r>
              <a:rPr b="0" lang="en-US" sz="4400" spc="-1" strike="noStrike">
                <a:solidFill>
                  <a:srgbClr val="ffffff"/>
                </a:solidFill>
                <a:latin typeface="Tahoma"/>
              </a:rPr>
              <a:t> </a:t>
            </a:r>
            <a:endParaRPr b="0" lang="en-US" sz="4400" spc="-1" strike="noStrike">
              <a:solidFill>
                <a:srgbClr val="ffffff"/>
              </a:solidFill>
              <a:latin typeface="Tahoma"/>
            </a:endParaRPr>
          </a:p>
        </p:txBody>
      </p:sp>
      <p:pic>
        <p:nvPicPr>
          <p:cNvPr id="98" name="" descr=""/>
          <p:cNvPicPr/>
          <p:nvPr/>
        </p:nvPicPr>
        <p:blipFill>
          <a:blip r:embed="rId2"/>
          <a:stretch/>
        </p:blipFill>
        <p:spPr>
          <a:xfrm>
            <a:off x="1763640" y="1484280"/>
            <a:ext cx="6050160" cy="4392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85800" y="333000"/>
            <a:ext cx="7772400" cy="576252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Все в мире взаимосвязано, поэтому нельзя использовать одно, не нанося повреждения другому. Так, например, газообразные соединения среды всегда присутствовали в атмосфере, но сегодня почти половина ее общего количества привносится промышленностью. В воздухе индустриальных районов объем сернистых выбросов промышленного происхождения во много раз превосходит количество ее природных соединений. Сернистый газ, образующийся от сгорания угля и некоторых видов нефти, - важнейший загрязнитель окружающей среды. Во влажном воздухе сернистый антигидрид, соединяясь с водой, образует серную кислоту. Кислотные дожди, выпадая на землю, губят все живое. Выпадая с дождем или плавая в атмосфере с капельками тумана, серная кислота разъедает не только легкие людей, но и металлы, краски, камни, вызывая порчу скульптур.</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5800" y="620280"/>
            <a:ext cx="7772400" cy="547524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Особенно опасно загрязнение атмосферы окисью углерода или угарным газом. Всего в атмосфере содержится 2,3 *1012 тонн этого газа, из которого почти половина падает на газ антропогенного происхождения, образующего при сжигании топлива. Окись углерода опасна для человека тем, что попадая при дыхании в кровь, она соединяется с гемоглобином в 300 раз быстрее, чем с кислородом, что может вызвать тяжелые отравления, даже со смертельным исходом.</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Смытые с полей азотные удобрения попадают в водоемы, вызывая бурное развитие водорослей, затрудняя водоснабжение. Азот, попадая в организм человека,  после ряда реакций связывается с гемоглобином крови и резко снижает его способность переносить кислород.</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Самое опасное загрязнение окружающей среды – радиоактивное. Контейнеры захороненных радиоактивных отходов постепенно разрушаются и радиация выходит наружу. Радиация, при ее появлении в воздухе, быстро накапливается организмами, постепенно убивая человека и искажая его ДНК.</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Казалось бы, безобидное загрязнение атмосферы – шумовое. Но особенно часто завышенный уровень шума (начиная с 60-70 децибел) вызывает расстройство слуха, возникающие у детей уже при уровне 45 децибел. Шум в 80 децибел снижает умственную работоспособность, увеличивает размах колебаний артериального давления, резко ухудшает восприятие происходящего. Длительное время шума вызывает устойчивые сдвиги в вегетативной нервной системе, расстройство периферического кровообращения, гипертонию. Шум свыше 90 децибел повреждает среднее ухо, а около 120 децибел вызывает глухоту. Поэтому шум представляет собой существенную угрозу живому.</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Загрязнения такие как копоть, дым, сажа могут проникать в легкие человека и осаждаться на поверхности альвеол. В результате возникают или обостряются легочные заболевания: хронический бронхит, эмфизема, астма, рак. Все эти болезни может иметь каждый человек имеющий машину, работающий на нефтяной фабрике, да и просто прохожий. Еще опаснее выбросы свинца в выхлопных газах. При хроническом воздействии они угнетающе действуют на эритроциты крови и нервную систему, вызывая бессонницу и ночные кошмары.</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В настоящее время проблема загрязнения водных объектов (рек, озер, морей, грунтовых вод и т.д.) является наиболее актуальной, т.к. всем известно – выражение "вода - это жизнь". Без воды человек не может прожить более трех суток, но даже понимая всю важность роли воды в его жизни, он все равно продолжает жестко эксплуатировать водные объекты, безвозвратно изменяя их естественный режим сбросами и отходами.</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476280"/>
            <a:ext cx="7772400" cy="561960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Воды на Земле много, но 97% - это солёная вода океанов и морей, и лишь 3% - пресная. Из этих три четверти почти недоступны живым организмам, так как эта вода "законсервирована" в ледниках гор и полярных шапках (ледники Арктики и Антарктики). Это резерв пресной воды. Из воды, доступной живым организмам, основная часть заключена в их тканях. Потребность в воде у организмов очень велика. Например, для образования 1 кг биомассы дерева расходуется до 500 кг воды. И поэтому её нужно расходовать и не загрязнять. Цикл воды в биосфере до развития цивилизации был равновесным, океан получал от рек столько воды, сколько расходовал при её испарении. Если не менялся климат, то не мелели реки и не снижался уровень воды в озёрах. С развитием цивилизации этот цикл стал нарушаться, в результате полива сельскохозяйственных культур увеличилось испарение с суши. Реки южных районов обмелели, загрязнение океанов и появление на его поверхности нефтяной плёнки уменьшило количество воды, испаряемой океаном. Всё это ухудшает водоснабжение биосферы. Более частыми становятся засухи, возникают очаги экологических бедствий, например, многолетняя катастрофическая засуха в зоне Сахары.</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4360" y="620640"/>
            <a:ext cx="7772400" cy="554688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Кроме того, и сама пресная вода, которая возвращается в океан и другие водоёмы с суши, часто загрязнена. Практически не пригодной для питья стала вода многих рек.</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Прежде неисчерпаемый ресурс - пресная чистая вода - становиться исчерпаемым. Сегодня воды, пригодной для питья, промышленного производства и орошения, не хватает во многих районах мира. Уже сейчас из-за диоксинового загрязнения водоемов  ежегодно погибают тысячи человек. Вследствие проживания в опасно отравленной среде обитания распространяются раковые и другие экологически зависимые заболевания различных органов. У половины новорожденных получивших даже незначительное дополнительное облучение на определенном этапе формирования плода в теле матери, обнаруживаются задержки умственного развития. </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Так же как мы нуждаемся в воде, воздухе, еде, мы нуждаемся в почве, особенно в верхнем слое. На земле растут растения, через почву фильтруется вода. Именно из почвы человек получил материалы для нашей сегодняшней жизни. Почвенные бактерии разлагают выброшенный нами мусор. Все дома, предприятия построены на почве. Почва – такой же необходимый компонент нашей жизни, поэтому следует заботиться и о её сохранении.</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189000"/>
            <a:ext cx="7772400" cy="59068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С момента зарождения землевладения мы злоупотребляем этим жизненно важным ресурсом. Конечно, почву можно восстанавливать, но на этот процесс уйдут сотни лет. Например, для возобновления 3 см. почвы потребуется от 200 до 1000 лет в зависимости от климата и почвы. В настоящее время злоупотребление почвой достигло небывалых размеров.</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Первая проблема, которая, кстати, касается не только почвы, это кислотность. Кислотность почвы определяет наличие той или иной растительности, так как ее величина влияет на усвоение растениями питательных веществ. А, как уже всем известно, в наше время количество кислотных дождей заметно усилилось. Чтобы нейтрализовать кислотность в почву добавляют известь. Однако добавка извести ускоряет процесс разложения органического вещества в почве, поэтому для поддержания плодородия вместе с известью добавляют навоз и другие органические удобрения.</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179280" y="333360"/>
            <a:ext cx="8785440" cy="6524640"/>
          </a:xfrm>
          <a:prstGeom prst="rect">
            <a:avLst/>
          </a:prstGeom>
          <a:noFill/>
          <a:ln w="0">
            <a:noFill/>
          </a:ln>
        </p:spPr>
        <p:txBody>
          <a:bodyPr lIns="90000" rIns="90000" tIns="46800" bIns="46800" anchor="t">
            <a:normAutofit/>
          </a:bodyPr>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Во-вторых, из-за неправильного использования почвенных ресурсов, а так же от разрушения почвы водой и ветром, происходит эрозия почв. Эрозия почвы представляет собой процесс перемещения почвы, главным образом ее верхних наиболее плодородных горизонтов. В естественных условиях корни растений обычно защищают почву от чрезмерного разрушения. Но из-за уничтожения растительного покрова человеком: распашки земель, вырубки лесов, строительства, темпы эрозии усиливаются. </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Почвоведы различают три типа водной эрозии: плоскостную, струйчатую и овражную. Плоскостная эрозия имеет место тогда, когда поверхностные воды стекают по склону или по полю сплошным потоком. Так как смыв верхнего слоя при этом происходит равномерно, то последствия обнаруживаются, когда уже причинен значительный ущерб. При струйчатой эрозии образуются ручейки, текущие с огромной скоростью по миниатюрным долинам. При  развитии овражной эрозии ручейки сливаются воедино, формируются достаточно мощные водотоки.</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Из-за эрозии почв происходит не только снижение плодородия почв, но и снижается влагоудерживающая способность почв. Продукты разрушения загрязняют воду. А в случае, если средние темпы эрозии превышают темпы почвообразования, происходят необратимые изменения, и почвы на этом участке переходят в разряд невозобновимых ресурсов. До сих пор наибольших размеров эрозия достигала в местах строительства. После того как бульдозерами уничтожается вся или почти вся растительность, строители, как правило, не предпринимают никаких мер для предотвращения эрозии на оголенных территориях.  Из-за уничтожения растительного покрова, почвы опустыниваются. </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Но нельзя говорить лишь о последствиях загрязнения окружающей среды лишь на человека. Например для растений наиболее ядовит сернистый газ, фтористый водород, озон, хлор, свинец, ртуть - длинный перечень всех выбросов человечества. А ведь некоторые виды растений реагируют даже на слабые концентрации загрязнителей. Так же отмечены случаи массового падежа домашнего скота и птицы во время смогов. И самое опасное загрязнение для птиц и животных –  крушение нефтяных танкеров. </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Итак, попробуем соединить все пункты воедино:</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ahoma"/>
              </a:rPr>
              <a:t>.Почвы</a:t>
            </a:r>
            <a:r>
              <a:rPr b="0" lang="en-US" sz="4400" spc="-1" strike="noStrike">
                <a:solidFill>
                  <a:srgbClr val="ffffff"/>
                </a:solidFill>
                <a:latin typeface="Tahoma"/>
              </a:rPr>
              <a:t> </a:t>
            </a:r>
            <a:endParaRPr b="0" lang="en-US" sz="4400" spc="-1" strike="noStrike">
              <a:solidFill>
                <a:srgbClr val="ffffff"/>
              </a:solidFill>
              <a:latin typeface="Tahoma"/>
            </a:endParaRPr>
          </a:p>
        </p:txBody>
      </p:sp>
      <p:pic>
        <p:nvPicPr>
          <p:cNvPr id="107" name="" descr=""/>
          <p:cNvPicPr/>
          <p:nvPr/>
        </p:nvPicPr>
        <p:blipFill>
          <a:blip r:embed="rId2"/>
          <a:stretch/>
        </p:blipFill>
        <p:spPr>
          <a:xfrm>
            <a:off x="1042920" y="1268280"/>
            <a:ext cx="7416720" cy="48974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800" y="476280"/>
            <a:ext cx="7772400" cy="56196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Не менее важной проблемой является экстенсивное использование пастбищ, превращающее в пустыни огромные участки земли. Так, в Сирии нагрузка на пастбища в 3 раза превышает предел, выше которого возможна дегенерация ландшафта. Не лучше положение и во многих других странах. Ирригация, повышая эффективность сельского хозяйства, способствует при этом размыванию почв и их засолению.</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Российская экономика всегда держалась на основе массового экспорта природных ресурсов. В разное время ведущую роль играли разные ресурсы (например, до XVIII в. - пушнина, в XVIII в. - продукция горной промышленности, в XIX - хлеб, в ХХ в. до 60-х гг. - хлеб и лес, позже - углеводороды). Кроме пушного промысла все виды экспортной продукции были сопряжены со значительным сводом лесов. Динамика лесистости четко коррелировала с </a:t>
            </a:r>
            <a:r>
              <a:rPr b="0" lang="en-US" sz="1600" spc="-1" strike="noStrike" u="sng">
                <a:solidFill>
                  <a:srgbClr val="ffcc00"/>
                </a:solidFill>
                <a:uFillTx/>
                <a:latin typeface="Tahoma"/>
                <a:hlinkClick r:id="rId2"/>
              </a:rPr>
              <a:t>этапами хозяйственного освоения</a:t>
            </a:r>
            <a:r>
              <a:rPr b="0" lang="en-US" sz="1600" spc="-1" strike="noStrike" u="sng">
                <a:solidFill>
                  <a:srgbClr val="ffffff"/>
                </a:solidFill>
                <a:uFillTx/>
                <a:latin typeface="Tahoma"/>
              </a:rPr>
              <a:t> территории России. Леса вырубались как источник древесного угля для металлургии и поташа, сводились под пашни крестьянами после отмены крепостного права и, особенно, в период Столыпинских реформ. Нефтяники получали на отведенных им территориях безраздельное право распоряжаться лесом и рубили его не только для нужд строительства, но и сверх всякой нужды. </a:t>
            </a:r>
            <a:endParaRPr b="0" lang="en-US" sz="16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1. Введение. </a:t>
            </a:r>
            <a:br>
              <a:rPr sz="3200"/>
            </a:br>
            <a:br>
              <a:rPr sz="3200"/>
            </a:br>
            <a:endParaRPr b="0" lang="en-US" sz="32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Проблема защиты окружающей среды встала перед человечеством сравнительно недавно. В наше время происходит огромное количество вредных выбросов в атмосферу и океан, уничтожение лесов. Все это значительно приближает мир к самоуничтожению. Озоновые дыры, потепление климата, вымирание многих видов животных наглядно свидетельствует о том, что наша среда обитания истощена до предела. От дальнейшей активности людей будет зависеть жизнь планеты и ее обитателей. </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В данный момент с этой экологической проблемой столкнулись все страны мира. Считается, что наиболее подвержены проблеме загрязнения окружающей среды индустриальные страны Америки и Европы, но пройдет совсем немного времени, когда эта же проблема охватит и развивающиеся страны, поэтому уже сейчас следует предпринимать серьезные меры, так как известно: беду легче предотвратить, чем потом устранять ее последствия.</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Под термином «охрана окружающей среды» понимаются все экономические, правовые, социально – политические и организационно – хозяйственные механизмы, которые подводят окружающую среду к «пределу прочности». Но нельзя же ждать пока загрязнение не достигнет высшей степени. Нужно предотвратить угрозу уничтожения мира.</a:t>
            </a:r>
            <a:endParaRPr b="0" lang="en-US" sz="16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Особую роль играл экспорт леса в довоенный и послевоенный период развития России. Соотношение хлеба и леса как источника валюты в середине ХХ в. быстро менялось в пользу леса. “Победы колхозно-совхозного строя” вели к постоянному нарастанию дефицита хлеба в стране, а “нарастание классовой борьбы по мере построения социализма” - к не менее постоянному притоку в лесные районы огромных контингентов дармовой рабочей силы ГУЛАГа. Следует отметить, что в советское время объемы рубок определялись не возможностями лесов, а “плановой потребностью в лесоматериалах”. </a:t>
            </a:r>
            <a:endParaRPr b="0" lang="en-US" sz="20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1116000" y="1557360"/>
            <a:ext cx="7128000" cy="4321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Рубки леса в России делятся на три категории - рубки главного пользования, рубки ухода и прочие. Официально рубки главного пользования - это производственные товарные рубки. На диаграмме показана динамика объемов рубок разного типа рассчитанная по пятилетиям послевоенного периода . Объем рубок главного пользования, на долю которых приходится 80-95% общего объема рубок в стране, бурно увеличивался в послевоенное десятилетие. После краха ГУЛАГа, во второй половине 50-х гг. темпы прироста несколько снижаются, а с 60-х гг., когда лес уступает место основного источника валюты углеводородам, объемы рубок стабилизируются. Во второй половине 70-х гг. начинается спад, связанный с кризисом производства конца 70-х гг.</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1042920" y="1484280"/>
            <a:ext cx="7145280" cy="3889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5800" y="333000"/>
            <a:ext cx="7772400" cy="5762520"/>
          </a:xfrm>
          <a:prstGeom prst="rect">
            <a:avLst/>
          </a:prstGeom>
          <a:noFill/>
          <a:ln w="0">
            <a:noFill/>
          </a:ln>
        </p:spPr>
        <p:txBody>
          <a:bodyPr lIns="90000" rIns="90000" tIns="46800" bIns="46800" anchor="t">
            <a:normAutofit/>
          </a:bodyPr>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Потребности афганской войны несколько замедляют процесс спада объемов рубок в первой половине 80-х гг., после чего спад продолжается, принимая обвальный характер в 90-х гг. Более детальная картина 90-х гг., приводимая на второй диаграмме, показывает, что обвальный спад объемов рубок шел в 1990 - 1993 гг., затем ситуация несколько стабилизировалась. Самую любопытную динамику имеет категория прочих рубок. В эту группу, как в “корзину с обрезками”, попадает все, почему-либо не отнесенное к основным категориям, это - мера бесхозяйственности или управленческой дезорганизации в системе лесозаготовок. На первой диаграмме хорошо видно, что максимумы этой группы совпадают с переломами кривой рубок главного пользования, то есть наблюдаются в те периоды, когда что-то в этой системе существенно меняется. Интересно, что в кризисный период, при замене плановых отношений рыночными, эта категория начинает повторять схему динамики рубок главного пользования. Такое сходство может быть связано с общей зависимостью от уровня экономической активности, которая определяет и рубки главного пользования и значительную часть прочих (вырубка леса на землеотводах под строительство, трубопроводы, ЛЭП, дороги). </a:t>
            </a: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Особую тревогу вызывает наличие существенной “невязки” в данных по площади лесов между показателями лесного и земельного учета. Лесники приводят данные о площади лесов в России, которые более чем на </a:t>
            </a:r>
            <a:r>
              <a:rPr b="1" lang="en-US" sz="1200" spc="-1" strike="noStrike">
                <a:solidFill>
                  <a:srgbClr val="ffffff"/>
                </a:solidFill>
                <a:latin typeface="Tahoma"/>
              </a:rPr>
              <a:t>100 млн. га</a:t>
            </a:r>
            <a:r>
              <a:rPr b="0" lang="en-US" sz="1200" spc="-1" strike="noStrike">
                <a:solidFill>
                  <a:srgbClr val="ffffff"/>
                </a:solidFill>
                <a:latin typeface="Tahoma"/>
              </a:rPr>
              <a:t> превышают показатели, фиксируемые при земельном учете. Весьма вероятно, что имеет место двойной счет, когда отведенные для строительства, дач или иных целей площади лесниками считаются как леса, а земельным комитетом фиксируется их реальный нелесной статус. Характерно, что за 5 лет с 1992 по 1996 год устойчиво росла площадь земель у некоей группы землепользователей, занимающихся сельскохозяйственным производством, но не относимых официальной статистикой ни к сельхозпредприятиям (колхозы, совхозы, АО), ни к фермерам, ни к хозяйствам населения (во всех этих группах площадь земель снижалась). При этом быстрее всего у невыделяемой статистикой группы юридических лиц прирастала площадь не пашни или сенокосов, а земель, не являющихся сельхозугодиями, но используемых для ведения сельского хозяйства (с 27 до 85 млн. га). Не здесь ли сидит львиная доля невязки лесников и аграриев по площади лесов? </a:t>
            </a: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Огромный вред почвам наносит вырубка лесов. Так, если под влажными тропическими лесами вследствие эрозии теряется ежегодно 1 кг почвы с гектара, то после вырубки этот показатель увеличивается в 34 раза. В Индии более 50% территории подвержено эрозии, и нуждается в срочных мерах. защиты.</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 descr=""/>
          <p:cNvPicPr/>
          <p:nvPr/>
        </p:nvPicPr>
        <p:blipFill>
          <a:blip r:embed="rId2"/>
          <a:stretch/>
        </p:blipFill>
        <p:spPr>
          <a:xfrm>
            <a:off x="1116000" y="620640"/>
            <a:ext cx="7777080" cy="5113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ahoma"/>
              </a:rPr>
              <a:t> </a:t>
            </a:r>
            <a:r>
              <a:rPr b="1" i="1" lang="en-US" sz="4400" spc="-1" strike="noStrike">
                <a:solidFill>
                  <a:srgbClr val="ffffff"/>
                </a:solidFill>
                <a:latin typeface="Tahoma"/>
              </a:rPr>
              <a:t>Опустынивание</a:t>
            </a:r>
            <a:r>
              <a:rPr b="0" lang="en-US" sz="4400" spc="-1" strike="noStrike">
                <a:solidFill>
                  <a:srgbClr val="ffffff"/>
                </a:solidFill>
                <a:latin typeface="Tahoma"/>
              </a:rPr>
              <a:t> </a:t>
            </a:r>
            <a:endParaRPr b="0" lang="en-US" sz="4400" spc="-1" strike="noStrike">
              <a:solidFill>
                <a:srgbClr val="ffffff"/>
              </a:solidFill>
              <a:latin typeface="Tahoma"/>
            </a:endParaRPr>
          </a:p>
        </p:txBody>
      </p:sp>
      <p:pic>
        <p:nvPicPr>
          <p:cNvPr id="116" name="" descr=""/>
          <p:cNvPicPr/>
          <p:nvPr/>
        </p:nvPicPr>
        <p:blipFill>
          <a:blip r:embed="rId2"/>
          <a:stretch/>
        </p:blipFill>
        <p:spPr>
          <a:xfrm>
            <a:off x="1547640" y="1484280"/>
            <a:ext cx="5977080" cy="424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800" y="765000"/>
            <a:ext cx="7772400" cy="53308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С вырубкой лесов, а также с крайне неэффективными методами ведения сельского хозяйства связано такое угрожающее явление как опустынивание. В Африке наступление пустыни составляет порядка 100 тыс. га в год, на границе Индии и Пакистана полупустыня Тар надвигается со скоростью 1 км в год. Актуальна эта проблема и для аргентинской Пампы, и для значительной части территории Мексики. Из 45 выявленных причин опустынивания 87% являются результатом хищнического использования ресурсов.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ahoma"/>
              </a:rPr>
              <a:t>Фауна</a:t>
            </a:r>
            <a:r>
              <a:rPr b="0" lang="en-US" sz="4400" spc="-1" strike="noStrike">
                <a:solidFill>
                  <a:srgbClr val="ffffff"/>
                </a:solidFill>
                <a:latin typeface="Tahoma"/>
              </a:rPr>
              <a:t> </a:t>
            </a:r>
            <a:endParaRPr b="0" lang="en-US" sz="4400" spc="-1" strike="noStrike">
              <a:solidFill>
                <a:srgbClr val="ffffff"/>
              </a:solidFill>
              <a:latin typeface="Tahoma"/>
            </a:endParaRPr>
          </a:p>
        </p:txBody>
      </p:sp>
      <p:pic>
        <p:nvPicPr>
          <p:cNvPr id="119" name="" descr=""/>
          <p:cNvPicPr/>
          <p:nvPr/>
        </p:nvPicPr>
        <p:blipFill>
          <a:blip r:embed="rId2"/>
          <a:stretch/>
        </p:blipFill>
        <p:spPr>
          <a:xfrm>
            <a:off x="2340000" y="2192400"/>
            <a:ext cx="4105080" cy="3165480"/>
          </a:xfrm>
          <a:prstGeom prst="rect">
            <a:avLst/>
          </a:prstGeom>
          <a:ln w="76320">
            <a:solidFill>
              <a:srgbClr val="000000"/>
            </a:solidFill>
            <a:miter/>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85800" y="333360"/>
            <a:ext cx="7772400" cy="6191280"/>
          </a:xfrm>
          <a:prstGeom prst="rect">
            <a:avLst/>
          </a:prstGeom>
          <a:noFill/>
          <a:ln w="0">
            <a:noFill/>
          </a:ln>
        </p:spPr>
        <p:txBody>
          <a:bodyPr lIns="90000" rIns="90000" tIns="46800" bIns="46800" anchor="t">
            <a:normAutofit/>
          </a:bodyPr>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Влажные тропические леса сосредотачивают не менее 50% все видов флоры и фауны земли. Сокращение мест обитания диких животных привело к исчезновению многих распространенных ранее видов, многие другие виды стоят на грани вымирания. Так, в Пакистане из-за расширения сельскохозяйственных земель резко сократилось количество травоядных. Вырубка лесов привела к полному исчезновению в Иране короткогривого тигра и поставило перед серьезной угрозой каспийского тигра. Уменьшение объема воды в низовьях Инда повлекло сокращение рыбных ресурсов, и разрушение цепей питания поставило перед угрозой исчезновения выдру, дикую кошку, некоторых других животных.</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Огромную опасность для животного мира несет постоянно повышающаяся химизация сельского хозяйства, и особенно применение такого вредного препарата как ДДТ, который очень популярен в развивающихся странах из-за своей дешевизны. Смыв пестицидов с полей в озеро Рова-Пенинг (Индонезия) привел к тому, что с 1972 по 1978 г. вылов рыбы в нем сократился с 275 до 18 кг/га.</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Неэффективность законодательства, а также элементарная бедность государств Востока привели к небывалому размаху нелегальной охоты. Любовь богатых европейцев к острым ощущениям и красивая шкура едва не погубили бенгальского тигра. Крокодила поставила на грань исчезновения его кожа, которую так ценят в Европе. Самым страшным врагом слона являются его бивни, а для носорога - рог, имеющий якобы целебную силу. Многих животных убивают заезжие туристы, а многих - местные жители, чтобы достать хоть немного денег на еду. Дошло до того, что многие страны, чтобы восстановить популяцию, завозят животных из зоопарков Европы и Америки </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ahoma"/>
              </a:rPr>
              <a:t>2. Основные формы взаимодействия общества и природы.</a:t>
            </a:r>
            <a:endParaRPr b="0" lang="en-US" sz="4000" spc="-1" strike="noStrike">
              <a:solidFill>
                <a:srgbClr val="ffffff"/>
              </a:solidFill>
              <a:latin typeface="Tahoma"/>
            </a:endParaRPr>
          </a:p>
        </p:txBody>
      </p:sp>
      <p:pic>
        <p:nvPicPr>
          <p:cNvPr id="88" name="" descr=""/>
          <p:cNvPicPr/>
          <p:nvPr/>
        </p:nvPicPr>
        <p:blipFill>
          <a:blip r:embed="rId2"/>
          <a:stretch/>
        </p:blipFill>
        <p:spPr>
          <a:xfrm>
            <a:off x="1908000" y="1995480"/>
            <a:ext cx="5616720" cy="37591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1" i="1" lang="en-US" sz="4400" spc="-1" strike="noStrike">
                <a:solidFill>
                  <a:srgbClr val="ffffff"/>
                </a:solidFill>
                <a:latin typeface="Tahoma"/>
              </a:rPr>
              <a:t>5. Твердые отходы.</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Большую роль в жизни востока играет туризм, и засорение твердыми отходами (консервными банками, полиэтиленом и др.) стало насущной проблемой Гималаев и других популярных мест туризма. Чрезвычайно актуальной является и проблема захоронения вредных отходов. Многие бедные страны за мизерную плату соглашаются принимать отходы (иногда даже ядовитые и радиоактивные) европейских государств, ставя под угрозу собственную экологическую безопасность.</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ahoma"/>
              </a:rPr>
              <a:t>Вода</a:t>
            </a:r>
            <a:r>
              <a:rPr b="0" lang="en-US" sz="4400" spc="-1" strike="noStrike">
                <a:solidFill>
                  <a:srgbClr val="ffffff"/>
                </a:solidFill>
                <a:latin typeface="Tahoma"/>
              </a:rPr>
              <a:t> </a:t>
            </a:r>
            <a:endParaRPr b="0" lang="en-US" sz="4400" spc="-1" strike="noStrike">
              <a:solidFill>
                <a:srgbClr val="ffffff"/>
              </a:solidFill>
              <a:latin typeface="Tahoma"/>
            </a:endParaRPr>
          </a:p>
        </p:txBody>
      </p:sp>
      <p:pic>
        <p:nvPicPr>
          <p:cNvPr id="124" name="" descr=""/>
          <p:cNvPicPr/>
          <p:nvPr/>
        </p:nvPicPr>
        <p:blipFill>
          <a:blip r:embed="rId2"/>
          <a:stretch/>
        </p:blipFill>
        <p:spPr>
          <a:xfrm>
            <a:off x="1574640" y="1905120"/>
            <a:ext cx="5994720" cy="4114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85800" y="907560"/>
            <a:ext cx="7772400" cy="518796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Усиленная эксплуатация лесов привела к нарушению водного баланса, и если учесть, что большая часть Азии и Африки находятся в зоне недостаточного выпадения осадков, последствия могут быть самыми неблагоприятными: уже сейчас около миллиарда человек испытывают нехватку воды. Нерационально используется вода и при орошении: так, при транспортировке к месту поливки теряется 30 - 40% влаги, а еще 20 - 40% теряется из-за поверхностного испарения, неравномерного распределения воды по участку и т.д. Резко увеличившаяся в последние годы урбанизация поставила ребром проблему водоснабжения городов.</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Смывание продуктов эрозии в реки приводит к их быстрому заилению, а уменьшение вследствие этого емкости водохранилищ усиливает опасность наводнений. Заиливанию рек способствует и снос в них огромного количества пустой породы, образовавшейся при промывке оловянных руд.</a:t>
            </a:r>
            <a:br>
              <a:rPr sz="1800"/>
            </a:br>
            <a:br>
              <a:rPr sz="1800"/>
            </a:br>
            <a:r>
              <a:rPr b="0" lang="en-U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ahoma"/>
              </a:rPr>
              <a:t>Воздух</a:t>
            </a:r>
            <a:r>
              <a:rPr b="0" lang="en-US" sz="4400" spc="-1" strike="noStrike">
                <a:solidFill>
                  <a:srgbClr val="ffffff"/>
                </a:solidFill>
                <a:latin typeface="Tahoma"/>
              </a:rPr>
              <a:t> </a:t>
            </a:r>
            <a:endParaRPr b="0" lang="en-US" sz="4400" spc="-1" strike="noStrike">
              <a:solidFill>
                <a:srgbClr val="ffffff"/>
              </a:solidFill>
              <a:latin typeface="Tahoma"/>
            </a:endParaRPr>
          </a:p>
        </p:txBody>
      </p:sp>
      <p:pic>
        <p:nvPicPr>
          <p:cNvPr id="127" name="" descr=""/>
          <p:cNvPicPr/>
          <p:nvPr/>
        </p:nvPicPr>
        <p:blipFill>
          <a:blip r:embed="rId2"/>
          <a:stretch/>
        </p:blipFill>
        <p:spPr>
          <a:xfrm>
            <a:off x="1619280" y="2063880"/>
            <a:ext cx="5545080" cy="30970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85800" y="620280"/>
            <a:ext cx="7772400" cy="5475240"/>
          </a:xfrm>
          <a:prstGeom prst="rect">
            <a:avLst/>
          </a:prstGeom>
          <a:noFill/>
          <a:ln w="0">
            <a:noFill/>
          </a:ln>
        </p:spPr>
        <p:txBody>
          <a:bodyPr lIns="90000" rIns="90000" tIns="46800" bIns="46800" anchor="t">
            <a:normAutofit/>
          </a:bodyPr>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a:t>
            </a:r>
            <a:r>
              <a:rPr b="1" i="1" lang="en-US" sz="1200" spc="-1" strike="noStrike">
                <a:solidFill>
                  <a:srgbClr val="ffffff"/>
                </a:solidFill>
                <a:latin typeface="Tahoma"/>
              </a:rPr>
              <a:t>c</a:t>
            </a:r>
            <a:r>
              <a:rPr b="1" i="1" lang="ru-RU" sz="1200" spc="-1" strike="noStrike">
                <a:solidFill>
                  <a:srgbClr val="ffffff"/>
                </a:solidFill>
                <a:latin typeface="Tahoma"/>
              </a:rPr>
              <a:t>м. Прил.</a:t>
            </a:r>
            <a:r>
              <a:rPr b="1" i="1" lang="en-US" sz="1200" spc="-1" strike="noStrike">
                <a:solidFill>
                  <a:srgbClr val="ffffff"/>
                </a:solidFill>
                <a:latin typeface="Tahoma"/>
              </a:rPr>
              <a:t>I</a:t>
            </a:r>
            <a:r>
              <a:rPr b="1" i="1" lang="ru-RU" sz="1200" spc="-1" strike="noStrike">
                <a:solidFill>
                  <a:srgbClr val="ffffff"/>
                </a:solidFill>
                <a:latin typeface="Tahoma"/>
              </a:rPr>
              <a:t> и Прил.</a:t>
            </a:r>
            <a:r>
              <a:rPr b="1" i="1" lang="en-US" sz="1200" spc="-1" strike="noStrike">
                <a:solidFill>
                  <a:srgbClr val="ffffff"/>
                </a:solidFill>
                <a:latin typeface="Tahoma"/>
              </a:rPr>
              <a:t>II</a:t>
            </a:r>
            <a:r>
              <a:rPr b="1" i="1" lang="ru-RU" sz="1200" spc="-1" strike="noStrike">
                <a:solidFill>
                  <a:srgbClr val="ffffff"/>
                </a:solidFill>
                <a:latin typeface="Tahoma"/>
              </a:rPr>
              <a:t>.)</a:t>
            </a:r>
            <a:r>
              <a:rPr b="0" lang="ru-RU" sz="1200" spc="-1" strike="noStrike">
                <a:solidFill>
                  <a:srgbClr val="ffffff"/>
                </a:solidFill>
                <a:latin typeface="Tahoma"/>
              </a:rPr>
              <a:t> Развитие промышленности в развивающихся странах сопровождается резким повышением загрязненности воздуха. Низкий уровень технологии приводит к большому количеству выбросов, а отсутствие средств не позволяет устанавливать современные очистные сооружения. Важной причиной промышленных загрязнений является использование низкокачественных видов топлива. Так, в Бомбее, Дели, Калькутте концентрация пыли в 70-е годы превышала аналогичный показатель Западной Европы и США в 25 раз. В Пакистане наибольший объем выбросов приходится на промышленные предприятия Карачи, Хайдарабада, Лапора. Как я уже говорила, особенностью Востока является концентрация населения в сравнительно небольшом количестве очень крупных городов, что крайне негативно сказывается на экологической ситуации в городских районах.</a:t>
            </a: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0" lang="ru-RU" sz="1200" spc="-1" strike="noStrike">
                <a:solidFill>
                  <a:srgbClr val="ffffff"/>
                </a:solidFill>
                <a:latin typeface="Tahoma"/>
              </a:rPr>
              <a:t>Некоторое повышение уровня жизни и появление прослойки богатых привело к увеличению числа автомобилей, поставив перед Азией и Африкой такую совсем еще недавно неизвестную проблему как выхлопные газы. Ситуация усугубляется и тем, что из-за невозможности для подавляющего большинства жителей развивающихся стран приобрести современные модели основу автомобильного парка составляют подержанные машины, потребляющие много топлива и выделяющие огромное количество выхлопных газов (в скобках замечу, что еще более остро эта проблема стоит в Восточной Европе и в частности в Эстонии). В Нигерии, где уровень индустриализации весьма низок, 90% всех загрязнений атмосферы производят автомобили. И масштабы этой проблемы будут только расти по крайней мере в течение 10 - 20 лет. С использованием технически устаревших автомобилей связано и такое крайне неблагоприятное явление как шумовое загрязнение.</a:t>
            </a: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0" lang="ru-RU" sz="1200" spc="-1" strike="noStrike">
                <a:solidFill>
                  <a:srgbClr val="ffffff"/>
                </a:solidFill>
                <a:latin typeface="Tahoma"/>
              </a:rPr>
              <a:t>Из-за устаревшей технологии и некачественного оборудования в развивающихся странах загрязнение экосистемы на единицу продукции в полтора раза выше, чем в Европе и Америке.</a:t>
            </a:r>
            <a:br>
              <a:rPr sz="1200"/>
            </a:br>
            <a:r>
              <a:rPr b="0" lang="ru-RU" sz="1200" spc="-1" strike="noStrike">
                <a:solidFill>
                  <a:srgbClr val="ffffff"/>
                </a:solidFill>
                <a:latin typeface="Tahoma"/>
              </a:rPr>
              <a:t>       Отсутствие воздухоочистных сооружений привели к выпадению кислотных дождей, которые еще совсем недавно считались "привилегией" промышленно развитых государств.</a:t>
            </a:r>
            <a:br>
              <a:rPr sz="1200"/>
            </a:br>
            <a:br>
              <a:rPr sz="1200"/>
            </a:br>
            <a:r>
              <a:rPr b="0" lang="ru-RU" sz="1200" spc="-1" strike="noStrike">
                <a:solidFill>
                  <a:srgbClr val="ffffff"/>
                </a:solidFill>
                <a:latin typeface="Tahoma"/>
              </a:rPr>
              <a:t> </a:t>
            </a:r>
            <a:endParaRPr b="0" lang="en-US" sz="1200" spc="-1" strike="noStrike">
              <a:solidFill>
                <a:srgbClr val="ffffff"/>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a:t>
            </a:r>
            <a:r>
              <a:rPr b="1" i="1" lang="en-US" sz="4400" spc="-1" strike="noStrike">
                <a:solidFill>
                  <a:srgbClr val="ffffff"/>
                </a:solidFill>
                <a:latin typeface="Tahoma"/>
              </a:rPr>
              <a:t>. Полезные ископаемые</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30" name="PlaceHolder 2"/>
          <p:cNvSpPr>
            <a:spLocks noGrp="1"/>
          </p:cNvSpPr>
          <p:nvPr>
            <p:ph/>
          </p:nvPr>
        </p:nvSpPr>
        <p:spPr>
          <a:xfrm>
            <a:off x="685800" y="1980720"/>
            <a:ext cx="7772400" cy="4543560"/>
          </a:xfrm>
          <a:prstGeom prst="rect">
            <a:avLst/>
          </a:prstGeom>
          <a:noFill/>
          <a:ln w="0">
            <a:noFill/>
          </a:ln>
        </p:spPr>
        <p:txBody>
          <a:bodyPr lIns="90000" rIns="90000" tIns="46800" bIns="46800" anchor="t">
            <a:normAutofit/>
          </a:bodyPr>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Хотелось бы выделить такую проблему как использование полезных ископаемых, и особенно нефти. Ближний Восток является основным ее поставщиком в индустриальные страны Запада, его доля в мировой нефтедобыче составляет 60% и с каждым годом все увеличивается. Именно нефть заложила основу относительного благополучия Кувейта, Саудовской Аравии и других стран - членов ОПЕК. В этих странах процветает не только верхушка общества - огромный объем нефтяного экспорта позволил обеспечить нормальную жизнь всем гражданам этих государств. Однако, настораживает другое: нефть- невосполнимый ресурс, рано или поздно ее запасы подойдут к концу. Конечно, на начальном этапе развития нефтеэкспорт может заложить основу будущего процветания, позволив приобрести передовые технологии и современное оборудование, наладить инфраструктуру и покончить с бедностью. И хотя сейчас на Ближнем Востоке строятся суперсовременные города, создается густая сеть дорог, происходят и другие позитивные изменения, но промышленность и сельское хозяйство развиваются довольно медленно. Если ситуация координальным образом не изменится, через несколько десятилетий последствия могут быть самыми неблагоприятными. </a:t>
            </a:r>
            <a:br>
              <a:rPr sz="1200"/>
            </a:br>
            <a:r>
              <a:rPr b="0" lang="en-US" sz="1200" spc="-1" strike="noStrike">
                <a:solidFill>
                  <a:srgbClr val="ffffff"/>
                </a:solidFill>
                <a:latin typeface="Tahoma"/>
              </a:rPr>
              <a:t>         Однако, не только истощение месторождений является проблемой стран-экспортеров нефти: велик и ущерб, наносимый экосистеме. Нефтяная пленка, убивающая все живое, во многих местах покрывает прибрежные воды Персидского залива, сжигание попутного газа (в Кувейте сжигают более 60 % этого ресурса) наносит огромный ущерб атмосфере. Растущие потребности самих развивающихся стран (темп увеличения потребления энергоресурсов там в 2.5 раза выше, чем на западе) грозят существенно усугубить эту проблему.</a:t>
            </a: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Добыча каменного угля, способного послужить отличным источником тепла для жилищ, дешевым и весьма эффективным энергоресурсом для промышленности, вследствие устаревшей технологии выводит из хозяйственного оборота значительную часть земли, чем способствует ее опустыниванию.</a:t>
            </a:r>
            <a:endParaRPr b="0" lang="en-US" sz="1200" spc="-1" strike="noStrike">
              <a:solidFill>
                <a:srgbClr val="ffffff"/>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ffffff"/>
                </a:solidFill>
                <a:latin typeface="Tahoma"/>
              </a:rPr>
              <a:t>Приложение I</a:t>
            </a:r>
            <a:br>
              <a:rPr sz="2400"/>
            </a:br>
            <a:r>
              <a:rPr b="0" lang="en-US" sz="2400" spc="-1" strike="noStrike">
                <a:solidFill>
                  <a:srgbClr val="ffffff"/>
                </a:solidFill>
                <a:latin typeface="Tahoma"/>
              </a:rPr>
              <a:t>Выбросы загрязняющих веществ в атмосферный воздух от стационарных и передвижных источников загрязнения за 1998 год составили 787,621 тыс. тонн, в том числе:</a:t>
            </a:r>
            <a:endParaRPr b="0" lang="en-US" sz="2400" spc="-1" strike="noStrike">
              <a:solidFill>
                <a:srgbClr val="ffffff"/>
              </a:solidFill>
              <a:latin typeface="Tahoma"/>
            </a:endParaRPr>
          </a:p>
        </p:txBody>
      </p:sp>
      <p:graphicFrame>
        <p:nvGraphicFramePr>
          <p:cNvPr id="132" name=""/>
          <p:cNvGraphicFramePr/>
          <p:nvPr/>
        </p:nvGraphicFramePr>
        <p:xfrm>
          <a:off x="324000" y="2349360"/>
          <a:ext cx="8280360" cy="4619880"/>
        </p:xfrm>
        <a:graphic>
          <a:graphicData uri="http://schemas.openxmlformats.org/drawingml/2006/table">
            <a:tbl>
              <a:tblPr/>
              <a:tblGrid>
                <a:gridCol w="4248000"/>
                <a:gridCol w="4032360"/>
              </a:tblGrid>
              <a:tr h="4644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твердые вещества</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диоксид</a:t>
                      </a:r>
                      <a:r>
                        <a:rPr b="0" lang="en-US" sz="2800" spc="-1" strike="noStrike">
                          <a:solidFill>
                            <a:srgbClr val="ffffff"/>
                          </a:solidFill>
                          <a:latin typeface="Tahoma"/>
                        </a:rPr>
                        <a:t> </a:t>
                      </a:r>
                      <a:r>
                        <a:rPr b="0" lang="ru-RU" sz="2800" spc="-1" strike="noStrike">
                          <a:solidFill>
                            <a:srgbClr val="ffffff"/>
                          </a:solidFill>
                          <a:latin typeface="Tahoma"/>
                        </a:rPr>
                        <a:t>серы</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оксид углерода</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оксиды азота</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углеводороды </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ЛОС</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Прочие</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57,653 тыс. тонн</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92,547 тыс. Тонн</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448,674 тыс. тонн</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98,756 тыс. тонн</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85,502 тыс. тонн</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3,163 тыс. тонн</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1,326 тыс. тонн</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Добыча и запасы нефти в основных нефтедобывающих странах в 1984 г.</a:t>
            </a:r>
            <a:endParaRPr b="0" lang="en-US" sz="2400" spc="-1" strike="noStrike">
              <a:solidFill>
                <a:srgbClr val="ffffff"/>
              </a:solidFill>
              <a:latin typeface="Tahoma"/>
            </a:endParaRPr>
          </a:p>
        </p:txBody>
      </p:sp>
      <p:sp>
        <p:nvSpPr>
          <p:cNvPr id="134" name=""/>
          <p:cNvSpPr/>
          <p:nvPr/>
        </p:nvSpPr>
        <p:spPr>
          <a:xfrm>
            <a:off x="5867280" y="37893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graphicFrame>
        <p:nvGraphicFramePr>
          <p:cNvPr id="135" name=""/>
          <p:cNvGraphicFramePr/>
          <p:nvPr/>
        </p:nvGraphicFramePr>
        <p:xfrm>
          <a:off x="1258920" y="1413000"/>
          <a:ext cx="6192720" cy="5330880"/>
        </p:xfrm>
        <a:graphic>
          <a:graphicData uri="http://schemas.openxmlformats.org/drawingml/2006/table">
            <a:tbl>
              <a:tblPr/>
              <a:tblGrid>
                <a:gridCol w="1434960"/>
                <a:gridCol w="1360440"/>
                <a:gridCol w="1811520"/>
                <a:gridCol w="1585800"/>
              </a:tblGrid>
              <a:tr h="1191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Страна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Годовая добыча, </a:t>
                      </a:r>
                      <a:br>
                        <a:rPr sz="1600"/>
                      </a:br>
                      <a:r>
                        <a:rPr b="0" lang="en-US" sz="1600" spc="-1" strike="noStrike">
                          <a:solidFill>
                            <a:srgbClr val="ffffff"/>
                          </a:solidFill>
                          <a:latin typeface="Tahoma"/>
                        </a:rPr>
                        <a:t>млрд. баррелей</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Запасы, </a:t>
                      </a:r>
                      <a:br>
                        <a:rPr sz="1800"/>
                      </a:br>
                      <a:r>
                        <a:rPr b="0" lang="en-US" sz="1800" spc="-1" strike="noStrike">
                          <a:solidFill>
                            <a:srgbClr val="ffffff"/>
                          </a:solidFill>
                          <a:latin typeface="Tahoma"/>
                        </a:rPr>
                        <a:t>млрд. баррелей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Отношение:</a:t>
                      </a:r>
                      <a:br>
                        <a:rPr sz="1800"/>
                      </a:br>
                      <a:r>
                        <a:rPr b="0" lang="en-US" sz="1800" spc="-1" strike="noStrike">
                          <a:solidFill>
                            <a:srgbClr val="ffffff"/>
                          </a:solidFill>
                          <a:latin typeface="Tahoma"/>
                        </a:rPr>
                        <a:t>запасы/добыча (лет)</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Сауд. Аравия</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7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69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9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Кувейт</a:t>
                      </a:r>
                      <a:r>
                        <a:rPr b="0" lang="en-US" sz="2800" spc="-1" strike="noStrike">
                          <a:solidFill>
                            <a:srgbClr val="ffffff"/>
                          </a:solidFill>
                          <a:latin typeface="Tahoma"/>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3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9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5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СССР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5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Мексика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1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8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5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Иран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8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Ирак</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4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4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США</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7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4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ОАЭ</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4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7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Приложение  II</a:t>
            </a:r>
            <a:br>
              <a:rPr sz="2400"/>
            </a:br>
            <a:r>
              <a:rPr b="0" lang="en-US" sz="2400" spc="-1" strike="noStrike">
                <a:solidFill>
                  <a:srgbClr val="ffffff"/>
                </a:solidFill>
                <a:latin typeface="Tahoma"/>
              </a:rPr>
              <a:t>В 1998 году автотранспортом области выброшено 567,498 тыс.тонн загрязняющих веществ, в том числе:</a:t>
            </a:r>
            <a:endParaRPr b="0" lang="en-US" sz="2400" spc="-1" strike="noStrike">
              <a:solidFill>
                <a:srgbClr val="ffffff"/>
              </a:solidFill>
              <a:latin typeface="Tahoma"/>
            </a:endParaRPr>
          </a:p>
        </p:txBody>
      </p:sp>
      <p:graphicFrame>
        <p:nvGraphicFramePr>
          <p:cNvPr id="137" name=""/>
          <p:cNvGraphicFramePr/>
          <p:nvPr/>
        </p:nvGraphicFramePr>
        <p:xfrm>
          <a:off x="755640" y="1773360"/>
          <a:ext cx="7993080" cy="5141880"/>
        </p:xfrm>
        <a:graphic>
          <a:graphicData uri="http://schemas.openxmlformats.org/drawingml/2006/table">
            <a:tbl>
              <a:tblPr/>
              <a:tblGrid>
                <a:gridCol w="1332000"/>
                <a:gridCol w="1332000"/>
                <a:gridCol w="1333440"/>
                <a:gridCol w="1331640"/>
                <a:gridCol w="1332000"/>
                <a:gridCol w="1332000"/>
              </a:tblGrid>
              <a:tr h="4392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1994 г.</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1995 г.</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1996 г.</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1997г.</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1998 г.</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оксида углерода</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411,55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418,03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421,25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422,46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423,087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оксидов азота</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32,59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46,27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50,73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58,302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64,034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4320">
                <a:tc>
                  <a:txBody>
                    <a:bodyPr lIns="90000" rIns="90000" tIns="46800" bIns="46800" anchor="t">
                      <a:noAutofit/>
                    </a:bodyPr>
                    <a:p>
                      <a:pPr>
                        <a:lnSpc>
                          <a:spcPct val="100000"/>
                        </a:lnSpc>
                        <a:spcBef>
                          <a:spcPts val="4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Углеводородов</a:t>
                      </a:r>
                      <a:endParaRPr b="0" lang="en-US" sz="1600" spc="-1" strike="noStrike">
                        <a:solidFill>
                          <a:srgbClr val="ffffff"/>
                        </a:solidFill>
                        <a:latin typeface="Arial"/>
                      </a:endParaRPr>
                    </a:p>
                    <a:p>
                      <a:pPr>
                        <a:lnSpc>
                          <a:spcPct val="100000"/>
                        </a:lnSpc>
                        <a:spcBef>
                          <a:spcPts val="4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69,35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72,17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73,4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73,657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73,784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4320">
                <a:tc>
                  <a:txBody>
                    <a:bodyPr lIns="90000" rIns="90000" tIns="46800" bIns="46800" anchor="t">
                      <a:noAutofit/>
                    </a:bodyPr>
                    <a:p>
                      <a:pPr>
                        <a:lnSpc>
                          <a:spcPct val="100000"/>
                        </a:lnSpc>
                        <a:spcBef>
                          <a:spcPts val="4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диоксида серы</a:t>
                      </a:r>
                      <a:endParaRPr b="0" lang="en-US" sz="1600" spc="-1" strike="noStrike">
                        <a:solidFill>
                          <a:srgbClr val="ffffff"/>
                        </a:solidFill>
                        <a:latin typeface="Arial"/>
                      </a:endParaRPr>
                    </a:p>
                    <a:p>
                      <a:pPr>
                        <a:lnSpc>
                          <a:spcPct val="100000"/>
                        </a:lnSpc>
                        <a:spcBef>
                          <a:spcPts val="4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04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75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3,09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3,014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3,039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сажи</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4,41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3,45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3,581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3,492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3,462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68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 свинца</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0,736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0,786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0,786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0,105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0,092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539640" y="333360"/>
            <a:ext cx="8209080" cy="652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68360" y="260280"/>
            <a:ext cx="8229600" cy="6858000"/>
          </a:xfrm>
          <a:prstGeom prst="rect">
            <a:avLst/>
          </a:prstGeom>
          <a:noFill/>
          <a:ln w="0">
            <a:noFill/>
          </a:ln>
        </p:spPr>
        <p:txBody>
          <a:bodyPr lIns="90000" rIns="90000" tIns="46800" bIns="46800" anchor="t">
            <a:normAutofit/>
          </a:bodyPr>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Tahoma"/>
              </a:rPr>
              <a:t>Окружающая природная среда является условием существования человека и других живых организмов, участок территории, на которой он проживает, пространственный предел существующей государственной власти, место размещения экономического хозяйственного комплекса. Окружающая природная среда представляет собой сложное понятие, в состав которого входят взаимодействие общества (человека) и природы, состоящее из двух форм. </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Tahoma"/>
              </a:rPr>
              <a:t> </a:t>
            </a:r>
            <a:r>
              <a:rPr b="0" lang="en-US" sz="1400" spc="-1" strike="noStrike">
                <a:solidFill>
                  <a:srgbClr val="ffcc00"/>
                </a:solidFill>
                <a:latin typeface="Tahoma"/>
              </a:rPr>
              <a:t>Первая форма - потребление природы человеком,                    использование для удовлетворения материальных и духовных потребностей - экономическая форма взаимодействия. Вторая форма взаимодействия - охрана окружающей среды, с целью обеспечения сохранения жизни на земле, естественной среды обитания - экологическая форма. Человек воздействует на окружающую природную среду не только потребляя ресурсы, но и изменяя природную среду для своих конкретных практических и хозяйственных целей. В связи с этим хозяйственная деятельность оказывает большое влияние на природу, подвергая ее изменениям, которые в свою очередь влияют на самого человека. В настоящее время из недр земли ежегодно извлекается 100 млрд. т руды, топлива, строительных материалов, в том числе 4 млрд. т нефти и природного газа, 2 млрд. т угля. На поля рассеивается 92 млн.т минеральных удобрений и 2 млн. т ядохимикатов. В атмосферу выбрасывается более 200 млн. т окиси углерода, 50 млн. т углеводородов, 146 млн. т диоксида серы, 53 млн. т оксидов азота, 250 млн. т пыли. В водоемы сбрасывается 32 млрд. м3 неочищенных вод. В Мировой океан ежегодно попадает до 10 млн. т нефти. Ежегодно становится непригодным для земледелия 6-7 млн. га почвы.  Отрицательное воздействие человека на окружающую среду при экономическом воздействии проявляется в трех формах:  загрязнение окружающей среды; истощение природных ресурсов;  разрушение (уничтожение) природной среды. </a:t>
            </a:r>
            <a:br>
              <a:rPr sz="1400"/>
            </a:br>
            <a:r>
              <a:rPr b="0" lang="en-US" sz="1400" spc="-1" strike="noStrike">
                <a:solidFill>
                  <a:srgbClr val="ffcc00"/>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ahoma"/>
              </a:rPr>
              <a:t>6. Заключение.</a:t>
            </a:r>
            <a:endParaRPr b="0" lang="en-US" sz="4400" spc="-1" strike="noStrike">
              <a:solidFill>
                <a:srgbClr val="ffffff"/>
              </a:solidFill>
              <a:latin typeface="Tahoma"/>
            </a:endParaRPr>
          </a:p>
        </p:txBody>
      </p:sp>
      <p:sp>
        <p:nvSpPr>
          <p:cNvPr id="14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Скоро природа будет находится на краю выбора: или она или человек. Я читала рассказ о подобной планете. Писатель наделяет природу душой. Ради других своих питомцев, природа уничтожает все сделанное человечеством и ставит выбор перед человеком: или он живет по правилам природы или умирает. Мне кажется, что с нами произойдет то же самое. Но у нас есть выбор: стоит ли доводить ситуацию в мире до катастрофического состояния? Я думаю, что не стоит доводить её до такого состояния.</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Список используемой литературы.:</a:t>
            </a:r>
            <a:endParaRPr b="0" lang="en-US" sz="4400" spc="-1" strike="noStrike">
              <a:solidFill>
                <a:srgbClr val="ffffff"/>
              </a:solidFill>
              <a:latin typeface="Tahoma"/>
            </a:endParaRPr>
          </a:p>
        </p:txBody>
      </p:sp>
      <p:sp>
        <p:nvSpPr>
          <p:cNvPr id="14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Протасов В.Ф., Молчанов А.В. Экология, здравоохранение.</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Закон и право ЮНИТИ, 1997.</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природопользование в России – М.: Финансы и статистика., 1995 г.</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Нестеров А.П. Экономика природопользования и рынок: Учебник для вузов. – М.:, Пыльнева Т.Г. Природопользование: Учебное пособие / ВЗФЭИ – М.: Финстатинформ, 1997.</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Бобылев С.Н., Ходжаев А.И. Экономика природопользования, уч.пособие – М.: ТЕИС, 1997.</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68000" y="189000"/>
            <a:ext cx="8351640" cy="6480000"/>
          </a:xfrm>
          <a:prstGeom prst="rect">
            <a:avLst/>
          </a:prstGeom>
          <a:noFill/>
          <a:ln w="0">
            <a:noFill/>
          </a:ln>
        </p:spPr>
        <p:txBody>
          <a:bodyPr lIns="90000" rIns="90000" tIns="46800" bIns="46800" anchor="t">
            <a:normAutofit/>
          </a:bodyPr>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Загрязнение окружающей среды - это физико-химическое изменение состава природного вещества (почвы, воздуха, воды), которое угрожает нормальному функционированию жизни, живых организмов, сообществ, в том числе и человека. Загрязнение бывает космическое -естественное, получаемое из космоса и в вулканической деятельности и антропогенное - совершаемое в результате хозяйственной деятельности человека. </a:t>
            </a:r>
            <a:br>
              <a:rPr sz="1400"/>
            </a:br>
            <a:r>
              <a:rPr b="0" lang="en-US" sz="1400" spc="-1" strike="noStrike">
                <a:solidFill>
                  <a:srgbClr val="ffffff"/>
                </a:solidFill>
                <a:latin typeface="Tahoma"/>
              </a:rPr>
              <a:t>          Антропогенное загрязнение - любое загрязнение природной среды, вызванное деятельностью человека - это прямое или опосредованное влияние человека на природу, приводящее к точечным, локальным, региональным или генерализованным ее изменениям. Антропогенное загрязнение природы подразделяется на несколько видов - пылевое, газовое, химическое, ароматическое, тепловое (изменение температуры воды). В городах наибольший удельный вес в загрязнении дает транспорт, примерно 70-80%. В промышленности наиболее "агрессивной" считается металлургия и машиностроение, затем идет энергетика, химическая, нефтяная и газовая отрасли. </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С загрязнением атмосферы связано состояние озонового слоя земли, основная функция которого состоит в охране жизни человека и других живых существ земли от губительного воздействия космического ультрафиолетового излучения. Не менее важным объектом загрязнения являются воды республики, водоемы, реки, озера, подземные воды. Неблагоприятная обстановка складывается с подземными водами, большая их часть загрязняется в районах промышленных предприятий, крупных животноводческих комплексов, активного применения минеральных удобрений и ядохимикатов. Активно влияющим источником на изменение окружающей природной среды является сельское хозяйство, в частности применение минеральных удобрений и ядохимикатов, стимуляторов роста. Истощение и разрушение окружающей среды В процессе хозяйственной деятельности происходит постепенное истощение природной среды, расход тех природных ресурсов, которые являются для человека источником его экономической деятельности. </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ahoma"/>
              </a:rPr>
              <a:t>3.Экологические функции государства.</a:t>
            </a:r>
            <a:endParaRPr b="0" lang="en-US" sz="4000" spc="-1" strike="noStrike">
              <a:solidFill>
                <a:srgbClr val="ffffff"/>
              </a:solidFill>
              <a:latin typeface="Tahoma"/>
            </a:endParaRPr>
          </a:p>
        </p:txBody>
      </p:sp>
      <p:pic>
        <p:nvPicPr>
          <p:cNvPr id="92" name="" descr=""/>
          <p:cNvPicPr/>
          <p:nvPr/>
        </p:nvPicPr>
        <p:blipFill>
          <a:blip r:embed="rId2">
            <a:lum contrast="12000"/>
          </a:blip>
          <a:stretch/>
        </p:blipFill>
        <p:spPr>
          <a:xfrm>
            <a:off x="2556000" y="1557360"/>
            <a:ext cx="4752720" cy="4464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57200" y="333360"/>
            <a:ext cx="8229600" cy="652464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Экологические функции государства выполняются через соответствующие экономические, организационные. правовые механизмы. Правовой механизм экологической функции государства служит средством реализации экологической функции права.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Цель экологической функции права состоит в обеспечении качества окружающей природной Среды в условиях хозяйственного развития общества средствами правового регулирования. Такая цель достигается путем разработки, принятия и применения норм права, отображающих требования экологических закономерностей во взаимодействии общества и природы, закрепляющих научно обоснованные нормативы хозяйственного взаимодействия на естественную среду обитания.</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Государственная экологическая стратегия РФ: обеспечение экологической безопасности, охрана Среды обитания, оздоровление (восстановление) нарушенных экосистем в экологически неблагоприятных районах, участие в решении международных и глобальных экологических проблем.</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71640" y="33300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ahoma"/>
              </a:rPr>
              <a:t>4. Нормы экологического права.</a:t>
            </a:r>
            <a:endParaRPr b="0" lang="en-US" sz="4000" spc="-1" strike="noStrike">
              <a:solidFill>
                <a:srgbClr val="ffffff"/>
              </a:solidFill>
              <a:latin typeface="Tahoma"/>
            </a:endParaRPr>
          </a:p>
        </p:txBody>
      </p:sp>
      <p:pic>
        <p:nvPicPr>
          <p:cNvPr id="95" name="" descr=""/>
          <p:cNvPicPr/>
          <p:nvPr/>
        </p:nvPicPr>
        <p:blipFill>
          <a:blip r:embed="rId2"/>
          <a:stretch/>
        </p:blipFill>
        <p:spPr>
          <a:xfrm>
            <a:off x="900000" y="2492280"/>
            <a:ext cx="6408720" cy="388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23640" y="189000"/>
            <a:ext cx="8459640" cy="6480000"/>
          </a:xfrm>
          <a:prstGeom prst="rect">
            <a:avLst/>
          </a:prstGeom>
          <a:noFill/>
          <a:ln w="0">
            <a:noFill/>
          </a:ln>
        </p:spPr>
        <p:txBody>
          <a:bodyPr lIns="90000" rIns="90000" tIns="46800" bIns="46800" anchor="t">
            <a:normAutofit/>
          </a:bodyPr>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00c600"/>
                </a:solidFill>
                <a:latin typeface="Tahoma"/>
              </a:rPr>
              <a:t>Нормами экологического права следует считать правила поведения, регулирующие отношения людей по поводу охраны и использования окружающей природной среды. Они подразделяются на три группы: отраслевые ( охрана и использование отдельных природных объектов - земли, недр, вод, лесов и т.д.), комплексные ( охрана и использование природных комплексов, природной среды в целом), экологизированные ( нормы других отраслей права - административного, уголовного, хозяйственного и т.д. отражающие требования охраны природной среды).</a:t>
            </a:r>
            <a:r>
              <a:rPr b="0" lang="ru-RU" sz="1400" spc="-1" strike="noStrike">
                <a:solidFill>
                  <a:srgbClr val="00c600"/>
                </a:solidFill>
                <a:latin typeface="Tahoma"/>
              </a:rPr>
              <a:t>	</a:t>
            </a:r>
            <a:r>
              <a:rPr b="0" lang="ru-RU" sz="1400" spc="-1" strike="noStrike">
                <a:solidFill>
                  <a:srgbClr val="00c600"/>
                </a:solidFill>
                <a:latin typeface="Tahoma"/>
              </a:rPr>
              <a:t>Эколого-правовые нормы подразделяются на нормы - принципы, нормы- приоритеты, нормы -правила.</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c600"/>
                </a:solidFill>
                <a:latin typeface="Tahoma"/>
              </a:rPr>
              <a:t>Нормы - принципы закрепляют основополагающие начала охраны окружающей природной среды ( ст.3 Закона об охране окружающей природной среды).</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c600"/>
                </a:solidFill>
                <a:latin typeface="Tahoma"/>
              </a:rPr>
              <a:t>Нормы - приоритеты  устанавливают правовые преимущества в охране и использовании одних объектов перед другими в интересах обеспечения качества природной среды.</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c600"/>
                </a:solidFill>
                <a:latin typeface="Tahoma"/>
              </a:rPr>
              <a:t>	</a:t>
            </a:r>
            <a:r>
              <a:rPr b="0" lang="ru-RU" sz="1400" spc="-1" strike="noStrike">
                <a:solidFill>
                  <a:srgbClr val="00c600"/>
                </a:solidFill>
                <a:latin typeface="Tahoma"/>
              </a:rPr>
              <a:t>Различают эколого-правовые нормы -приоритеты трех уровней: отраслевого, межотраслевого и общего экологического уровня.</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c600"/>
                </a:solidFill>
                <a:latin typeface="Tahoma"/>
              </a:rPr>
              <a:t>Нормы -  правила - содержат экологические требования применительно к конкретной сфере экологических отношений. По содержания они подразделяются на : предупредительные, запретительные, восстановительные , карательные, поощрительные, управомочивающие, разрешительные и обзывающие. </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c600"/>
                </a:solidFill>
                <a:latin typeface="Tahoma"/>
              </a:rPr>
              <a:t>	</a:t>
            </a:r>
            <a:r>
              <a:rPr b="0" lang="ru-RU" sz="1400" spc="-1" strike="noStrike">
                <a:solidFill>
                  <a:srgbClr val="00c600"/>
                </a:solidFill>
                <a:latin typeface="Tahoma"/>
              </a:rPr>
              <a:t>Экологическими правоотношениями следует считать общественные отношения, возникающие в сфере взаимодействия общества и природы и урегулированные нормами экологического права.</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c600"/>
                </a:solidFill>
                <a:latin typeface="Tahoma"/>
              </a:rPr>
              <a:t>	</a:t>
            </a:r>
            <a:r>
              <a:rPr b="0" lang="ru-RU" sz="1400" spc="-1" strike="noStrike">
                <a:solidFill>
                  <a:srgbClr val="00c600"/>
                </a:solidFill>
                <a:latin typeface="Tahoma"/>
              </a:rPr>
              <a:t>Основаниями возникновения экологических правоотношений служат юридические факты. В экологии - события и действия.</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c600"/>
                </a:solidFill>
                <a:latin typeface="Tahoma"/>
              </a:rPr>
              <a:t>Событие возникает и порождает эколого- правовые отношения помимо воли человека. Это стихийные бедствия, лесные пожары, извержения вулканов и т.д.</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c600"/>
                </a:solidFill>
                <a:latin typeface="Tahoma"/>
              </a:rPr>
              <a:t>	</a:t>
            </a:r>
            <a:r>
              <a:rPr b="0" lang="ru-RU" sz="1400" spc="-1" strike="noStrike">
                <a:solidFill>
                  <a:srgbClr val="00c600"/>
                </a:solidFill>
                <a:latin typeface="Tahoma"/>
              </a:rPr>
              <a:t>Действия проявляются через поступки человека. Которые подразделяются на позитивные и негативные. </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c600"/>
                </a:solidFill>
                <a:latin typeface="Tahoma"/>
              </a:rPr>
              <a:t>	</a:t>
            </a:r>
            <a:r>
              <a:rPr b="0" lang="ru-RU" sz="1400" spc="-1" strike="noStrike">
                <a:solidFill>
                  <a:srgbClr val="00c600"/>
                </a:solidFill>
                <a:latin typeface="Tahoma"/>
              </a:rPr>
              <a:t>Позитивное поведение человека - использование природных ресурсов</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c600"/>
                </a:solidFill>
                <a:latin typeface="Tahoma"/>
              </a:rPr>
              <a:t>- охрану окружающей природной среды т.е на экономические действия, оказывающие влияние на природную среду, экологические - нейтрализующие вредные последствия деятельности.</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c600"/>
                </a:solidFill>
                <a:latin typeface="Tahoma"/>
              </a:rPr>
              <a:t>	</a:t>
            </a:r>
            <a:r>
              <a:rPr b="0" lang="ru-RU" sz="1400" spc="-1" strike="noStrike">
                <a:solidFill>
                  <a:srgbClr val="00c600"/>
                </a:solidFill>
                <a:latin typeface="Tahoma"/>
              </a:rPr>
              <a:t>Негативное экологическое правоотношение имеет место тогда. когда нарушаются экологические предписания, причиняется вред природной среде и здоровью человека.</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8T00:24:54Z</dcterms:created>
  <dc:creator>Гость</dc:creator>
  <dc:description/>
  <dc:language>en-US</dc:language>
  <cp:lastModifiedBy>1</cp:lastModifiedBy>
  <dcterms:modified xsi:type="dcterms:W3CDTF">2009-01-29T13:07:12Z</dcterms:modified>
  <cp:revision>7</cp:revision>
  <dc:subject/>
  <dc:title>«Взаимосвязь природы и общества».</dc:title>
</cp:coreProperties>
</file>