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83186-EEF8-4269-AC44-52602D77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5A0DD-9835-4BF4-9393-92AD62FB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EEE3-732A-4E30-BD2B-04EAA8B42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361F-F5FF-4C3B-932D-E5C73443B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55F4-5A4F-4DAB-823A-D11A794D1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47DA-F7B8-4D75-A430-55883F27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D2C8F-77F4-4E70-A00E-6E8A05A4B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A2EA5-009B-4368-91E9-6BF22B10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6333-B2C2-4E38-85FC-0D74B0A6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29BC8-2298-4690-99F7-938DD845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5A2DD-AF30-4A82-90AE-F90DFFC5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B0D7D-875A-45A1-9F18-BD61B0F31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8742-9321-49DC-9066-F23B098F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78FB-46D6-41BF-AE7F-99492BB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3298-453F-4FF1-A220-127096007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8E0A-3DC9-4EF6-BCB9-4170984B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1B2B-9B2F-4E27-A97A-613DE439B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A3B6-CB8D-47AF-9A46-762BA9018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ECED2-173E-4F2A-9B72-5533914E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AFA43-70B0-4CDC-A84C-EAD3DAB4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D4C55-E789-43AA-9252-1107AE2F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E3313-566B-46CE-A165-DCCF7631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B4C2B-EBA8-4CEF-9D6D-EEDAB17B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C9C75-9236-4061-9A43-81660394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5C9B0-F856-48C2-8806-A81B7F89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62188-DD55-4A48-9CC2-12C957BD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B24DA-E26E-454D-83A6-C7A171C3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96EA4-34F1-4E14-9332-89F5CCF4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21BF3-94BF-4FC1-AD63-1354C8B9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7ACDF-447D-4032-A403-17EFC13A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28458-BF85-46BC-B32A-4A009DAB7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38469-E363-4983-B264-EB0EDE22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AA9E3-CB89-4AE3-ABFA-F446DF30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A7C4B-0380-42E9-B983-A68F650F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AED26-EEC4-49DE-B9C2-BD704B72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43617-98E7-449F-A12B-2601E526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88DE2-0511-4F73-8A3D-993D704D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EE6E2-36F8-4049-87C3-6159506D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458C2-2324-48F9-9D29-558BC33FB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3143-E1DC-4C7B-9278-4880A295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E8422-D9E5-4531-ADF7-4123500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75C40-295A-47BE-B827-2B6DD9EA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DF961-DD8E-4251-A921-98049AFB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01596-BB82-439D-8E56-5036D48C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1CEA-5459-443D-BB9B-1E580988D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A096C9-1DD1-45EB-AA7C-4CCB72BF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B77D-FD15-4475-B027-BF248B97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EFA7B-368C-4543-A357-C3D04C7F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B99E2-D8AA-4858-B02D-EAC3E0DD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1C0D2-E366-4CF8-8DF6-DC90AC0E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3431C-97E8-4687-BF26-D8FDCA7E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FF450D-07C6-475C-A8C3-EFA398B2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B965C-ACBC-46B1-8DA2-5F3A1BB90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E6D57-D816-4435-B7A2-626549A3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329FE-3C34-48DE-A9AA-04B35EEE1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5F61-A0E2-4887-92BD-4FCDA22A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B1DEC-A4EB-4F33-AF91-529E787C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57C5C-B742-417E-AB49-871D55D5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F3949-7205-4FFE-9741-39FBD17F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B99EA-5540-4815-AF49-898DFCE5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6AE8B-7263-4057-89EA-36CD35B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CED6D-05F3-4425-BA99-7927D6BC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3BEBCE-69FA-49CF-881F-E538C397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01DE-D96E-4CCB-AE60-B0EC5D27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2A081-88BC-4A6A-85B3-4F228FBDD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07160-FCBF-4416-A96A-81A62BD5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9BFF-EBA4-42DB-BEC3-B7DA0BF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28861-7AEC-476C-BF33-BA57F7C2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9F2A2-AD27-4952-BACB-713CAE04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F9F4-2E96-4C4C-BD28-1A1D8693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0CEB2-2C0B-461C-9A16-753173FF7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31975B-5019-4FB4-A264-BD4E9CF5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7A97782-D5E6-4151-A427-3EAAA2F7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FECC7-19F1-4379-A0BC-B4A58406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5B9DF1-A4FB-415D-9D7F-9873417D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4EF16E-3FCB-4E82-B87E-9D990A1B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C05BAC-A19A-4170-BDF8-7485B99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EE24E-2B0F-4341-B488-945DABEE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A8AFA8-1E64-45F2-BE6C-1C29F246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7F93C4A-E10F-4CBB-A8FE-60E347FA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F0C9EA-963E-48E1-9FF3-BCD29D873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F64442-31A6-42DC-A8C5-D8E00A612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64A1E-3EDE-4931-8F04-D23124B88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938A2-1A81-4CE1-AA8F-2594BAF8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0BDF3-7B13-4BBD-B153-9CB3B4E6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94FED-79DF-4B51-818A-9903E51B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ABCA-092F-4E3A-919B-D5D59222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3EDA9-345C-4D3E-BC4E-48D7BF057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91C36-B2E3-4E39-9BBA-820B44BF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AB62E-E5DB-4B88-ACB0-4E935B15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F167B-00E9-4A64-A176-80CE96F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06813-793C-40A9-98C9-71D0E70B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BFA36-57CC-4608-8DA4-2486C0B8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9D67D-9294-42D6-B671-9C6B6F458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EEAA3-BBBB-4DF2-A520-8F5F3162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5017B-1A44-434B-B20A-47262029B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2C4D-AB98-4A2D-9989-26DB9260C55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49A4-EAB9-49AA-B29B-97489EC53364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7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E7EC-0C77-4D79-B18C-D10C1EFCE2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71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3487B-7C4F-465B-90E7-80618C4E2D8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DE88-1337-47CE-927F-9BF11CAD65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2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3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3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5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5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5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CDC4F-0E80-4C46-B72D-654D2830DFF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1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2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dt" idx="19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A14E-D7B7-4967-98E8-4B335E26B6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6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1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6600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1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1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7e7e7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0d0d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dfdf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7d7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3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4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27FF-A1AC-4944-9EDA-33DA50E1DD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50000">
              <a:srgbClr val="005cbf"/>
            </a:gs>
            <a:gs pos="100000">
              <a:srgbClr val="03d4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1763640" y="1989000"/>
            <a:ext cx="612144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алерея великих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strips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Аль-Хорезми (787 - ок. 85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4248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Свойства сложени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ложение обладает следующими свойствами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e70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ммутативностью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+ b = b + 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ссоциативностью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 + b) + c = a + (b + c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истрибутивностью относительно умноже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· (b + c) = a·b + a·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5219640" y="1484280"/>
            <a:ext cx="3510000" cy="46785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рл Гаусс (1777-1855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538440" cy="449568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95640" y="1262880"/>
            <a:ext cx="4932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Знаменитый немецкий математик. С 1807 профессор и директор обсерватории в Геттингене. Ему принадлежат классические работы по теории чисел, теория двучленных уравнений, изобретение способа наименьших квадратов, теория биквадратных вычетов; работы по небесной механике: способы вычисления орбит, работы по геодезии, изобретение инструмента гелиотропа, работы по земному магнетизм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рл Гаусс (1777-1855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4608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тематический талант Гаусса проявился ещё в детстве. По легенде, школьный учитель математики, чтобы занять детей на долгое время, предложил им сосчитать сумму чисел от 1 до 100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Юный Гаусс заметил, что попарные суммы с противоположных концов одинаковы: 1+100=101, 2+99=101 и т. д., и мгновенно получил результат 50×101=5050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46392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Андрей Николаевич Колмогоров (1903-1937)</a:t>
            </a:r>
            <a:r>
              <a:rPr b="0" lang="en-US" sz="4000" spc="-1" strike="noStrike">
                <a:solidFill>
                  <a:srgbClr val="d1d1d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4140360" cy="43243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/>
          <p:nvPr/>
        </p:nvSpPr>
        <p:spPr>
          <a:xfrm>
            <a:off x="5076720" y="1419120"/>
            <a:ext cx="3167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"Вам дан высокий дух, и я хочу, чтобы Вы его силы берегли для веще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торые под силу очень немногим..."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убочайше уважающий В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. Луз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Андрей Николаевич Колмогоров (1903-1937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5148360" y="1700280"/>
            <a:ext cx="3666960" cy="424980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79280" y="1487160"/>
            <a:ext cx="482616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ыдающийся советский математик академик Андрей Николаевич Колмогоров решил много сложнейших задач, совершил не одно открытие в различных разделах современной математики. Андрей Николаевич рассказывал, что еще до поступления в гимназию в возрасте 5-6 лет он любил придумывать задачи, подмечал интересные свойства чисел. Эти «открытия» публиковались в домашнем журнале. Вот одно из «открытий» шестилетнего Колмогорова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н заметил, что 1</a:t>
            </a:r>
            <a:r>
              <a:rPr b="1" lang="en-US" sz="2000" spc="-1" strike="noStrike" baseline="48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, 2</a:t>
            </a:r>
            <a:r>
              <a:rPr b="1" lang="en-US" sz="2000" spc="-1" strike="noStrike" baseline="48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+3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en-US" sz="2000" spc="-1" strike="noStrike" baseline="48000">
                <a:solidFill>
                  <a:srgbClr val="ffffff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= 1+3+5, 4</a:t>
            </a:r>
            <a:r>
              <a:rPr b="1" lang="en-US" sz="2000" spc="-1" strike="noStrike" baseline="48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1+3+5+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e5e8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ahoma"/>
              </a:rPr>
              <a:t>Андрей Николаевич Колмогоров (1903-1937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4038480" cy="338436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356000" y="1267920"/>
            <a:ext cx="4788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последние десятилетия жизни Колмогорова основной целью его жизни стало воспитание школьников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 его учебнику до сих пор учатся ребята 10-х,11-х классов. В Москве он создал знаменитый интернат для того , чтобы наиболее способные и заинтересованные школьники из небольших городков и поселков могли получить физико-математическое образование на столичном уровн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Garamond"/>
              </a:rPr>
              <a:t>Заключение</a:t>
            </a: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1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Данная работа имеет образовательную задачу не только для меня, как автора, но и для тех, кто ей воспользуется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Эта презентация может быть использована учителями для проведения уроков, для внеклассного мероприятия, связанного с математикой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strips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одготови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Бредихина Ан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ченица 6-А класса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МОУ-СОШ №35, г. Белгород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4500720" y="333360"/>
            <a:ext cx="3197160" cy="2733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aramond"/>
              </a:rPr>
              <a:t>Содержание:</a:t>
            </a:r>
            <a:endParaRPr b="1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2915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Цель работы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Пифагор Самосский (ок. 570-490 до н.э.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Евклид (ок. 365-300 до н.э.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Аль-Хорезми (787-850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Карл Гаусс (1777-1855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А.Н. Колмогоров (1903-1937)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-318960">
              <a:spcBef>
                <a:spcPts val="901"/>
              </a:spcBef>
              <a:buClr>
                <a:srgbClr val="6600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Garamond"/>
              </a:rPr>
              <a:t>Цель работы:</a:t>
            </a:r>
            <a:endParaRPr b="1" lang="en-US" sz="4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Расширить знания о великих ученых математиках разных времен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Связать их имена с учебным материалом 5 и 6 классов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marL="609480" indent="-609480">
              <a:spcBef>
                <a:spcPts val="799"/>
              </a:spcBef>
              <a:buClr>
                <a:srgbClr val="6600ff"/>
              </a:buClr>
              <a:buSzPct val="85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Изучить некоторые факты « за страницами учебника»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 spd="slow">
    <p:strips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Пифагор Самосский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570—490 гг. до н. э.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0864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сторию жизни Пифагора трудно отделить от легенд, представляющих его в качестве совершенного мудреца и великого посвящённого во все таинства греков и варваров. Ещё Геродот называл его «величайшим эллинским мудрецом». В честь Пифагора назван кратер на Луне.       Также в Кротоне Пифагор организовал свою школу, которая действовала почти 30 лет. Школа Пифагора или пифагорейский союз была одновременно и философской школой, и политической партией, и религиозным братство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В современном мире Пифагор считается великим математиком и космологистом древности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5292720" y="1557360"/>
            <a:ext cx="3594240" cy="46814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Пифагор Самосский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570—490 гг. до н. э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24000" y="2565360"/>
            <a:ext cx="5219640" cy="40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ифагоровы штаны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(школьн., устар.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— шуточное название теоремы Пифагора, возникшее в силу того, что раньше в школьных учебниках эта теорема доказывалась через доказательство равенства суммы площадей квадратов, построенных на катетах прямоугольного треугольника, площади квадрата, построенного на гипотенузе этого треугольника. Построенные на сторонах треугольника и расходящиеся в разные стороны квадраты напоминали школьникам покрой мужских штанов, что породило следующее стихотворение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ифагоровы штаны — на все стороны равны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Чтобы это доказать, нужно снять и показа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395280" y="2852640"/>
            <a:ext cx="3348000" cy="331632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1268280"/>
            <a:ext cx="9144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 математике Пифагор создал теорию пропорций, доказал знаменитую теорему о сумме квадратов катетов треугольника ("теорему Пифагора"); развил теорию четных и нечетных чисел, и в целом стал основоположником теоретической арифметики; развил теорию пропорций, нашел численное выражение для гармоничных интервалов (кварты, квинты и октавы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Tahoma"/>
              </a:rPr>
              <a:t>Пифагор Самосский</a:t>
            </a: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Tahoma"/>
              </a:rPr>
              <a:t>570—490 гг. до н. э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 Золотых стихах Пифагор описал самые главные моральные правила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пренебрегай здоровьем своего тела. Давай ему своевременно пищу, питье и упражнения, в которых оно нуждае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учайся жить прост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Делай только то, что в будущем не огорчит теб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икогда не делай того, что не знаешь. Но учи всему, что нужно знать, и тогда будешь вести спокойную жиз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е затворяй глаз, когда хочешь спать, не рассмотрев все свои поступки за прошедший ден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Евклид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(ок. 365-300 до н.э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140360" y="1052640"/>
            <a:ext cx="4752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иографические данные о Евклиде крайне скудны. К наиболее достоверным сведениям о жизни Евклида принято относить то немногое, что приводится в Комментариях Прокла к первой книге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Нача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Евклида. По Проклу,»Этот ученый муж» жил в эпоху царствования Птолемея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олнительные штрихи к портрету Евклида можно почерпнуть у Паппа и Стобея. Папп сообщает, что Евклид был мягок и любезен со всеми, кто мог хотя в малейшей степени способствовать развитию математических наук, а Стобей передаёт ещё один анекдот об Евклиде. Приступив к изучению геометрии и разобрав первую теорему, один юноша спросил у Евклида: «А какая мне будет выгода от этой науки?» Евклид подозвал раба и сказал: «Дай ему три обола, раз он хочет извлекать прибыль из учёбы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82140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Евклид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(ок. 365-300 до н.э.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576108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Евклид древнегреческий математик, известный прежде всего как автор Начал, самого знаменитого учебника в истор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чал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Евклида превзошли сочинения его предшественников и на протяжении более двух тысячелетий оставались основным трудом по элементарной математике. В 13 частях, или книгах,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Начал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содержится большая часть знаний по геометрии и арифметике эпохи Евклида. Его личный вклад сводился к такому расположению материала, при котором каждая теорема логически следовала бы из предыдущих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5626080" y="1700280"/>
            <a:ext cx="351792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Аль-Хорезми (787 - ок. 850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00720" y="1557360"/>
            <a:ext cx="446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джикский (узбекский) математик. От его имени происходит "алгоритм". Сформулировал первые правила выполнения основных 4 арифметических действ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3510000" cy="46782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30T10:56:36Z</dcterms:created>
  <dc:creator>user</dc:creator>
  <dc:description/>
  <dc:language>en-US</dc:language>
  <cp:lastModifiedBy>Маша</cp:lastModifiedBy>
  <dcterms:modified xsi:type="dcterms:W3CDTF">2009-01-29T10:10:06Z</dcterms:modified>
  <cp:revision>14</cp:revision>
  <dc:subject/>
  <dc:title>Галерея великих</dc:title>
</cp:coreProperties>
</file>