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2.jpeg" ContentType="image/jpeg"/>
  <Override PartName="/ppt/media/image11.png" ContentType="image/png"/>
  <Override PartName="/ppt/media/image7.jpeg" ContentType="image/jpeg"/>
  <Override PartName="/ppt/media/image15.gif" ContentType="image/gif"/>
  <Override PartName="/ppt/media/image20.png" ContentType="image/png"/>
  <Override PartName="/ppt/media/image6.png" ContentType="image/png"/>
  <Override PartName="/ppt/media/image13.jpeg" ContentType="image/jpeg"/>
  <Override PartName="/ppt/media/image23.wmf" ContentType="image/x-wmf"/>
  <Override PartName="/ppt/media/image21.gif" ContentType="image/gif"/>
  <Override PartName="/ppt/media/image19.wmf" ContentType="image/x-wmf"/>
  <Override PartName="/ppt/media/image18.wmf" ContentType="image/x-wmf"/>
  <Override PartName="/ppt/media/image16.jpeg" ContentType="image/jpeg"/>
  <Override PartName="/ppt/media/image14.gif" ContentType="image/gif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D975-DCF2-431F-81D8-15A869EE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8EED-5D0F-4F70-AEC3-E8E157AA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CC7AF-F417-43FC-95D8-BE44113A0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130B5-5138-4E66-870D-E5CA05D4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FF687-4E9C-4FBE-960E-FB3EE0DB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D72D1F-F836-42FB-9B1B-6DC9E46A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8B192-8024-42A2-9314-DF97BC3D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400CC-6950-47F0-8F87-C4039DA2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18C24C-E7F0-412E-B101-A377ABD1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376A8C-5097-489F-AE83-F0FD042B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B6FFB-3778-4873-B5BD-4044A390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21EF4B-AA2D-4297-A546-1F3068E4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267B-8AA0-4237-A10E-DD725ACA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4A36A6-930A-42E4-BB47-1EA540C1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C1F8BB-EAA0-4680-8DEE-C6C58DF7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DC6367-205A-40EF-93E9-9F1F6DC9F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E642A6-E47F-4138-A68F-A4EC8FE2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D99F7-96CB-4F75-A820-2A3B73CB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314417-E284-406A-95BC-17E224B8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D8FE4F-92CD-4CB0-BFFD-E1297C23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1C4B6C-5036-4114-9F6A-14AB3662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42DE74-6B02-4615-B5DE-B2D65195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714C4-B782-45E3-8696-8AE09D37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3C5F-11E4-48EB-92EF-D3DC6FDD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F40D5B-8359-4373-9BA9-D365AEA27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AC37B-1CD1-44B0-A947-C30C0B97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BF1D-83D5-414C-9EEC-7C42304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B1D38-805D-4CE9-96ED-B998B9D96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8CBA7E-3E3C-46BB-8E77-7D3BA40B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5B9B57-7366-474C-B1B1-3DE1AC1D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AC1A-9E6C-4DD5-94EB-F6E95A06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91A95-FB6A-4423-AD2D-A6670CEA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411F2-9478-4E65-B501-E399E1D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C0141-58EE-4953-A06A-F0AE091E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BEC8-9003-48A1-A9FE-A9D2F327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B248-689C-4737-9400-9D554E4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F2E60-609B-4BE5-92DB-3C3883A4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B651CA-91C0-41EF-AA9D-7A02970C2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4D746-D0AF-4620-B795-93770F32B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2ABEC-902E-4D89-A71B-A8571F59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1DC4A-B512-4B20-B6D9-FFBEEDD2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EF008-EF37-4874-A821-7BE7F6C2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D366B0-A799-4894-9D84-A4A57B6D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255A5-6A49-4E20-8757-8B53BB2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B7E67-2F49-4340-B63D-ECFC56DB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7A0B-81F2-42C8-8044-75B3CADE9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70C14-C719-4E2F-8FD1-906E8A64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0B3C24-1695-4ABE-AAB8-D2663546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6B6A6-164C-4847-88CA-00DE08A7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5B40D5-92F9-4BB8-8C54-BC3C1E8CD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59525D-A1F2-4EDE-A8FE-D137902B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1CEC50-4FFD-465D-A8F1-53EDAB49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D19672F-3080-4353-A1DA-8C16CA43A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42328F-BEBE-4E33-9A5E-5CF469EF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CB2A41-9822-43F4-99B3-A23B2042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6B301F8-D99A-4F21-92F6-78D0A895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1349-31BC-407F-859B-2D92ED59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92C665-34C5-43B7-99AC-5A1025EFE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357411-56C6-4DA3-A68F-8990D102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AF2E879-3A3A-45E6-B608-44AD8CA2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F181F9-B74D-4697-A110-A353605F7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8C4C3E4-91BE-45BF-803B-0515542E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E0BE15-B9CA-4966-8BC4-661BAF65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3BD94F-7333-479C-B11D-A82DEA173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AEA24-D861-4EFA-9EC7-D2A86A09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4448DB-6221-45B2-9E29-3A021766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5519C2-465D-40F6-9BD1-63348E1E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7D3B-D882-4153-960D-67A1D364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45A7E-C2B0-4383-A60E-093DC3D8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6F05D-D283-46B7-AA61-F3CF3265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2D0F0-65BE-4849-884D-54CB311E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D704B-E9CC-4DD6-B637-E0CE5F9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A4B5E-394A-41D2-B084-FADB7B07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DB6DF2-ADBE-4B28-BBD7-751AE033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42B415-B3F7-43AC-92A6-C1C5FC86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0C2C5-8C6A-4285-86BB-4634011B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8418A-A238-447B-8F62-77E7F3A7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EC030-3A2B-4D6E-BA6B-25A3D834B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8809-DD37-459C-9559-611A95D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4211D-2C21-46A3-9B28-C83E8E161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B30CD-F54E-4C64-A9E8-0AD4BA6D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963248-7F50-4CED-BAFD-3CF2A10B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6A73C-F306-47DD-9112-2D95183A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784085-1AE5-42C1-935C-7DC17E83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5D688-654E-4746-81D8-18CA296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CE2430-B0A9-4477-9427-BE74DC2B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D11DA-179C-4E6F-BDD8-C6D72084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D5571-D787-423D-8401-99D11CD0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3D1252-A4DC-4659-B619-2AD168943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79F0-180A-4642-9358-BD1BDCB8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2A0D2D-3B58-4962-AE5A-5B4F1526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BB4A7-9E61-4078-B604-C51657B79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A5B7D3-AE5E-46AD-9144-2E208C23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7877F-F869-4880-AA11-B7D75860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7FB47-4647-4B9C-9344-53CE5DD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12AB49-6CD6-42D1-9ECE-AEFDD51B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0A1C5-C302-4982-A245-B6D9C612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5DCDE-280C-47DB-A12F-0C4A5143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71CA5-8E00-43EA-AD39-AAFC5525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14147B-D19E-4E1D-A8CD-FAEA5ED2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565E-62AF-4109-A667-02275FD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38BA7-380E-4FBB-92AE-C5A13D23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0F2558-B344-425B-9A0E-CA05880B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9CC37-6077-48A3-8E96-0B24897C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44D52-B0BC-4DB4-AB41-90894547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34BB7-239E-49C6-A312-34A91421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6FAD42-7AE9-49D4-8561-4FFEA032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F3E93E-201E-43DC-8397-CC907CB6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ABD9E6-6132-4A44-8576-F847A01D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4E793C-1596-4918-A40D-CE44B34F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3E1764-EAB1-4B85-923B-A3838B2E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994-9AFD-4653-A806-44F5D3A6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054-BFD0-4E79-9A39-88BE7721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8C067-00B7-4659-8540-15F89E42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9226D9-89EA-498D-A893-8CFA62B4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33D956-3F78-472D-9E1B-9A7257B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ADAFF5-53D1-4DEF-B23B-3A82E2B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81EC4-2BE4-40CD-8AEC-43B58A4F3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1ADCB-B680-4243-8905-22D6BB47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3E5C07-92C9-4457-9465-A04EA5E2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8C8F0-133E-4AB0-957D-88D5AE0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A3CCEE-9550-43D8-A636-5E1EAB98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42FCC6-98B3-4FC9-9D9C-B695A65E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36B1-9FF6-4094-AD56-0C3DF9C8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22991F-5280-4B2B-897F-F823CCFA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24B3C3-AC97-44AF-BEC0-7A10473A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BA9B7-8E2D-4DDB-8C9E-0D30B23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23473-4BB7-4584-A1EB-65F8657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64278F-CE54-4C41-82F3-FD8D594E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8CC6A-D398-43A9-A350-863D2963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E25215-387E-4C71-8770-8A676A8C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8EA3A6-1E0B-48B8-9071-07355A70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DB37C-9A94-450F-9E67-A66486DF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A95BC-43DC-4B73-BB4A-D0B32C25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78B2-82DE-42F0-8417-6DE06D00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A8CFBE-1144-4443-8279-546C04B0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C802FD-44DC-477E-AE10-439DF3B2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D5CEF2-4F5C-46CD-864F-C96DC3456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1F8F23-D397-4E64-A8A9-E7D4AB69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22FEF9-50B1-4642-AF01-18437D35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12A61-A2C7-407C-AFE2-EF83D41D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842BC-AFFB-4B5E-A7DF-318E9D06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9E1AB-6BAC-45F4-B65F-4335D616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F58324-B765-4796-87DE-DEF54BC4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1D4E59-F609-4255-99F7-3CB7B9A2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F686-D339-4A05-A83C-033D46FC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2889C2-C2FD-44E2-9C65-CD8C21B9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CCD7C-0038-436C-AFA7-E29BB7C7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42296-FC26-479C-B2FE-C71C4340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14D54F-F1D6-465F-8A62-EB6DFAC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C24E6E-24E8-4CB0-875D-F478CA68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F644D7-AA91-42CB-9751-B46DE21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C525F3-1FAE-4C1A-8C61-61A7AFF8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5D5ADC-61EB-4CA3-AC26-B3A9D8E6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CBAA2A-1C0D-4D9C-B307-FA543BC2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72CE0-8CE2-4233-AAAC-A409680D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5F49-54EF-439D-84A4-10EC4FBD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1C3F9A-EBC5-4201-BD7D-D23E4D36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75A02-3048-4EB9-896A-F3D5274C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9E3BC-EAFA-47A3-A62D-858B8823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8783A-30B1-4A24-A50C-EE9F875C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A69D8-9E79-4053-87F8-32292F02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3C6B7-2E22-4CFC-A20E-6E09790B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5CEBFB-66D0-44CF-A5CF-F8ECD907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38C089-42B0-45B6-9621-B5E88ADF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D2F45-B3E5-46CB-8592-3139CC55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CB95B-F843-4343-A211-9C7B7B14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CD30-AAFF-4947-A8EB-F95B770BF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36AE2A-1668-44E5-A04F-1D7A92D4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96430D-6D18-402E-A307-B0284D94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6385DB-E65F-4E25-9314-72598C81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D30C16-E011-4AB8-8400-CFC2D6E8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535A4D-4855-4A5F-B2F8-66FDBB7A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B69525-DBC8-4284-A7ED-4E3B5321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206F5-D8CA-4EBC-9915-374881D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B35A9-3AFC-402C-B843-6D929B9C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953A77-182A-406B-9C10-0C71E422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C61C58-8795-425C-AA36-4FD77C4F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9692B-D0D1-4506-A035-FE83C9FBE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27EADE-0677-42E2-A226-AD216D32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1C6F0-CE59-4FCA-8A5C-3B29EB45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8C93B-F7FE-4B10-BE6F-3AE38988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75807F-4FC7-4CFA-BC6B-128BCFE3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7F8532-29B8-438F-8E99-982663474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0EDE662-8D87-46C7-8317-77E9BC00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06D9C04-2A3E-463B-B9EC-4289F6BC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6D81ABC2-574E-4927-B012-F503FB62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8CCF4C0F-D53D-4EFB-824F-3E454CE4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4D2CACEB-5F4F-412A-9A14-DBAD0D53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CC7E-E17B-4CD8-B71D-DF226B98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F6E468E-678B-40EA-A621-D1C232BF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5299A79-D403-4AD6-A6BF-1D73BDC1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A4F54AF6-B3F6-457D-A461-93214D5A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095BB4EE-A907-4BF8-B0C8-2077FD63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1F27C987-CAE8-4042-8BE2-348E9922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9D98BDC7-9D40-4159-A02F-5CF8A8756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8"/>
          </p:nvPr>
        </p:nvSpPr>
        <p:spPr/>
        <p:txBody>
          <a:bodyPr/>
          <a:p>
            <a:fld id="{B6D473E2-9604-4B4C-AE26-509E95E48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4AF9D7-0902-4E23-A24C-EC84D7C2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5AF76B-8CE9-4929-A376-C7804669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B2CB53-659E-4301-BF38-AC13B1E4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7C677-834E-4075-9A6C-605AB889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A1C99-DA0F-438B-A0BF-7C68A06F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810A7B-C58D-4201-BBC0-3B77E939E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656E93-60E7-4F39-BD9E-9ACBB3EE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B615E6-A5A7-419B-A65B-53E8D2E4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890F47-F11F-453D-976A-85655A5F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EE24DA-D2D9-4E82-AFA8-B05AE93D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B9A4EF-2E78-454F-9485-8830B2BA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362F59-C92E-4A5B-AE53-67F04084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0D6DCF-93F4-4D04-A431-6BE1CE7C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380DB-10F6-49BF-89AF-39B4F00D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E118-C06C-49AD-B729-BA3C416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DABCC1-58FD-42FB-9227-393466D5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A76218-B536-4951-BF20-60618F5B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168B15-6CA2-416C-BDAB-73DC88E8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5D525C-65C2-4428-B212-9FDD41FE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2C3CD5-B112-470D-936B-ECDE60B9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8D713E-FEFC-4D73-A9AA-BEDE1DBD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DAEE2D-550A-4833-94D4-34C66D92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2FA002-06D7-4594-AE59-C36B5E41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90EA8F-F9F6-4341-9D65-034C40AF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AF5208-2622-4483-A9EE-3113159F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5D38-7C1A-465E-A4D4-CB90837F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83DF-5C29-432F-8B6B-3F9FC011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C5094B-80DD-47F2-8730-CA5B4EF92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E942-D2CD-4D5C-96FD-B528D385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5D80-9C31-4171-AFED-273A162D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3C540-7473-458C-85BA-034BD4E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51385-DA3D-4733-B882-2C144844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1CC37-5505-4FF5-BB8F-5C8108B8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B470-3D18-4D7F-80D4-5439F9EF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99F3-241B-4311-A519-86CD56FA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DDED4-AB4E-4540-8B27-46686BA2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2213F-A446-496E-BBB7-40CC1AC7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0E20-DF23-4C12-B074-036E0F2B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5D09E-D15A-4A96-8C63-92EEA47C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7606-2C10-4EEA-9EEF-0DBDDA4D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1C65-2A0B-40DC-AF1E-B87FC1EE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290F-BB6D-4071-BBA4-9133DF7B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54F77-FC35-41B1-9227-28CEDB0A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E1D13-F67A-46D2-8963-E8DD7940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ED73C-0827-41F5-ADAE-AE5FDAFB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C1304-71BD-4F5C-BFC2-963026099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9D604-7F68-4016-8BFD-EFB9BB1E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060D8-CA8A-45E6-8747-66F2542EF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813-E0FA-4BEB-95A4-D84B81C5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A27A6-CAED-4E76-8DAE-8A10652B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62130-6581-41F7-9147-E590BA31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CB0BD-929E-4041-A30E-3029C094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459E4-BC5E-4250-BAD4-62E1B226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57094-2E52-4E0E-8D40-F3C67781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76656-AC36-4483-A4B5-DB899157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0DC2-6B2A-4770-8A41-64786EF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C568E-BD41-4D74-8576-710341D0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BCF86-BC25-49C9-B333-016237D1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B0A5E-B198-4D87-893A-6CEEEC89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934-EE00-44FA-A36F-DBAB6690E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B1090-34F8-48B6-9B40-E2F087E8F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610C9-BFB8-4C55-98FA-30986D9E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7E195-577D-4496-8F10-8DEFACA6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3A00-85B1-4431-8C62-AE35D128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2917B-899D-44D5-9842-1B40FF633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09677-5757-4658-ACE6-51B111A99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92D99-E089-4C3A-B050-051854EF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11B47-AC27-4F92-8445-5219714F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D0D8E-DA11-427A-BE0E-1A93190F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067DB-E2AE-486D-AC1F-31061837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DAD-AB2E-42CE-988E-DE9AFC14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1D921-DBF0-453A-A8A2-9111CE31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526F1-7C88-4EF3-9CA8-13EFCBC3C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BDE4-F7DA-4DAE-95EB-0590F9C4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12046-A023-4DFC-B09A-C61349DED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B786C-6EA7-41F4-842E-3FF40B49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AA322-F013-41FC-9163-E2458F36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3FFE2-B406-416A-8966-9C90C710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695C7-EA4D-453C-B4F1-D47808E3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DCF60-1B85-4915-AF90-19A3F702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4C55-68DA-4881-9F7B-BB6E737F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9791-DA47-4B94-A468-B1F2A803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31386-87AA-40C8-84C7-B3AF845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A2E01-C374-4ED0-A6E9-A9F27093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7DBD-DDD0-45C6-81B4-AA8ECBBF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DF4E6-5B69-4B15-9D3D-9A43AB59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6BB67-D71F-4872-96BC-B6F1CEA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9CB01-C3B8-4E5D-A07A-74F3E10A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9C1BD-5E65-4BCF-BE9E-9D275FAF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3F7CC6-DAE2-440C-AA81-66858B7F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E6973-CC05-43AC-A49E-45DCC326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9920-CD89-4AFC-BCAB-1C82A5A2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E913-22D6-495E-8C68-B828C80E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BFE5C-01D8-4CD5-8C8F-0329E721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B8FA0-6C3B-44B8-9C54-E391DAE6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60BC5-00D9-4F09-BCCD-6AAE43BE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CC5D2-0E86-41F6-9A1C-7AE418F0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83C2C-0872-4F12-8BB9-20FE3EF0B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7E542-6C89-4EB2-9542-FB9B36298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1BB9C9-13C1-42A4-B210-7F047DD9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B4214-FE80-4D49-B870-08E643AF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B3391-85A2-43AA-80AB-2F3C63BB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973D8-BDDA-42F8-98C2-71A37D4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41.xml"/><Relationship Id="rId35" Type="http://schemas.openxmlformats.org/officeDocument/2006/relationships/slideLayout" Target="../slideLayouts/slideLayout242.xml"/><Relationship Id="rId36" Type="http://schemas.openxmlformats.org/officeDocument/2006/relationships/slideLayout" Target="../slideLayouts/slideLayout243.xml"/><Relationship Id="rId37" Type="http://schemas.openxmlformats.org/officeDocument/2006/relationships/slideLayout" Target="../slideLayouts/slideLayout244.xml"/><Relationship Id="rId38" Type="http://schemas.openxmlformats.org/officeDocument/2006/relationships/slideLayout" Target="../slideLayouts/slideLayout245.xml"/><Relationship Id="rId39" Type="http://schemas.openxmlformats.org/officeDocument/2006/relationships/slideLayout" Target="../slideLayouts/slideLayout246.xml"/><Relationship Id="rId40" Type="http://schemas.openxmlformats.org/officeDocument/2006/relationships/slideLayout" Target="../slideLayouts/slideLayout247.xml"/><Relationship Id="rId41" Type="http://schemas.openxmlformats.org/officeDocument/2006/relationships/slideLayout" Target="../slideLayouts/slideLayout248.xml"/><Relationship Id="rId42" Type="http://schemas.openxmlformats.org/officeDocument/2006/relationships/slideLayout" Target="../slideLayouts/slideLayout249.xml"/><Relationship Id="rId43" Type="http://schemas.openxmlformats.org/officeDocument/2006/relationships/slideLayout" Target="../slideLayouts/slideLayout250.xml"/><Relationship Id="rId44" Type="http://schemas.openxmlformats.org/officeDocument/2006/relationships/slideLayout" Target="../slideLayouts/slideLayout251.xml"/><Relationship Id="rId4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89.xml"/><Relationship Id="rId8" Type="http://schemas.openxmlformats.org/officeDocument/2006/relationships/slideLayout" Target="../slideLayouts/slideLayout290.xml"/><Relationship Id="rId9" Type="http://schemas.openxmlformats.org/officeDocument/2006/relationships/slideLayout" Target="../slideLayouts/slideLayout291.xml"/><Relationship Id="rId10" Type="http://schemas.openxmlformats.org/officeDocument/2006/relationships/slideLayout" Target="../slideLayouts/slideLayout292.xml"/><Relationship Id="rId11" Type="http://schemas.openxmlformats.org/officeDocument/2006/relationships/slideLayout" Target="../slideLayouts/slideLayout293.xml"/><Relationship Id="rId12" Type="http://schemas.openxmlformats.org/officeDocument/2006/relationships/slideLayout" Target="../slideLayouts/slideLayout294.xml"/><Relationship Id="rId13" Type="http://schemas.openxmlformats.org/officeDocument/2006/relationships/slideLayout" Target="../slideLayouts/slideLayout295.xml"/><Relationship Id="rId14" Type="http://schemas.openxmlformats.org/officeDocument/2006/relationships/slideLayout" Target="../slideLayouts/slideLayout296.xml"/><Relationship Id="rId15" Type="http://schemas.openxmlformats.org/officeDocument/2006/relationships/slideLayout" Target="../slideLayouts/slideLayout297.xml"/><Relationship Id="rId16" Type="http://schemas.openxmlformats.org/officeDocument/2006/relationships/slideLayout" Target="../slideLayouts/slideLayout298.xml"/><Relationship Id="rId17" Type="http://schemas.openxmlformats.org/officeDocument/2006/relationships/slideLayout" Target="../slideLayouts/slideLayout299.xml"/><Relationship Id="rId18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85.xml"/><Relationship Id="rId35" Type="http://schemas.openxmlformats.org/officeDocument/2006/relationships/slideLayout" Target="../slideLayouts/slideLayout86.xml"/><Relationship Id="rId36" Type="http://schemas.openxmlformats.org/officeDocument/2006/relationships/slideLayout" Target="../slideLayouts/slideLayout87.xml"/><Relationship Id="rId37" Type="http://schemas.openxmlformats.org/officeDocument/2006/relationships/slideLayout" Target="../slideLayouts/slideLayout88.xml"/><Relationship Id="rId38" Type="http://schemas.openxmlformats.org/officeDocument/2006/relationships/slideLayout" Target="../slideLayouts/slideLayout89.xml"/><Relationship Id="rId39" Type="http://schemas.openxmlformats.org/officeDocument/2006/relationships/slideLayout" Target="../slideLayouts/slideLayout90.xml"/><Relationship Id="rId40" Type="http://schemas.openxmlformats.org/officeDocument/2006/relationships/slideLayout" Target="../slideLayouts/slideLayout91.xml"/><Relationship Id="rId41" Type="http://schemas.openxmlformats.org/officeDocument/2006/relationships/slideLayout" Target="../slideLayouts/slideLayout92.xml"/><Relationship Id="rId42" Type="http://schemas.openxmlformats.org/officeDocument/2006/relationships/slideLayout" Target="../slideLayouts/slideLayout93.xml"/><Relationship Id="rId43" Type="http://schemas.openxmlformats.org/officeDocument/2006/relationships/slideLayout" Target="../slideLayouts/slideLayout94.xml"/><Relationship Id="rId44" Type="http://schemas.openxmlformats.org/officeDocument/2006/relationships/slideLayout" Target="../slideLayouts/slideLayout95.xml"/><Relationship Id="rId4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2B12-4075-4C4A-9170-7C2B89FE42A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63C1-8611-4CDE-9554-8FD7A52954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0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4BC6-C7E3-4EC4-A6E3-EC47D42767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2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8228-F7B3-4481-A76D-E247BA2D1F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68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9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0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1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2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3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4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6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7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8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9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sldNum" idx="3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C930-AE76-4D48-9749-B142C01521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3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4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4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4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4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4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E3C5-689B-49FB-B293-EF385641F23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98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8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8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9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99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6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7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8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9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0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0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0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8636-A389-4665-84D2-C91B3A69AC9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 type="dt" idx="46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 type="sldNum" idx="4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8AC2-892F-472C-A611-2F167B61450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091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1092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3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94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1095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96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9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49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5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5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56CF-C4C8-4660-BA4C-D8391B7EA78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1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142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4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5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7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4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A560-D87F-403B-9E25-BEB8686920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19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9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0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1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2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2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C8AD-597B-47FC-8EE7-9625C2BD0E7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59A-63EE-491A-9BC5-C5011577ECE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6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7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66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7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8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74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5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3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4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5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87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88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89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90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CFB3-991E-4F4B-BD70-21BCCCCC92C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7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130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0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1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311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1312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1313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314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315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6" name="Freeform 11"/>
                    <p:cNvSpPr/>
                    <p:nvPr/>
                  </p:nvSpPr>
                  <p:spPr>
                    <a:xfrm rot="16200000">
                      <a:off x="8755200" y="9216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7" name="Oval 12"/>
                  <p:cNvSpPr/>
                  <p:nvPr/>
                </p:nvSpPr>
                <p:spPr>
                  <a:xfrm rot="16200000">
                    <a:off x="8826840" y="12888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Freeform 15"/>
                  <p:cNvSpPr/>
                  <p:nvPr/>
                </p:nvSpPr>
                <p:spPr>
                  <a:xfrm rot="16200000">
                    <a:off x="8901000" y="10908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32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33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33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351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2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3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4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5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6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7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8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5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0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6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6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6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6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54F8-7047-4783-8D06-666AEEC911B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4"/>
    <p:sldLayoutId id="2147483910" r:id="rId35"/>
    <p:sldLayoutId id="2147483911" r:id="rId36"/>
    <p:sldLayoutId id="2147483912" r:id="rId37"/>
    <p:sldLayoutId id="2147483913" r:id="rId38"/>
    <p:sldLayoutId id="2147483914" r:id="rId39"/>
    <p:sldLayoutId id="2147483915" r:id="rId40"/>
    <p:sldLayoutId id="2147483916" r:id="rId41"/>
    <p:sldLayoutId id="2147483917" r:id="rId42"/>
    <p:sldLayoutId id="2147483918" r:id="rId43"/>
    <p:sldLayoutId id="2147483919" r:id="rId44"/>
    <p:sldLayoutId id="2147483920" r:id="rId4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4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B8F6-B457-48A7-A4EA-B22BD66E04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ftr" idx="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sldNum" idx="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007F-5E75-4AAA-978F-9349095104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dt" idx="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0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27C6-CF01-4420-A670-602540987B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0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1561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2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3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4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5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6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7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8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9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0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1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2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3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4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5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6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7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8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9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0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1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2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3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4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5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6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7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8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9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0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1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2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3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4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5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6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7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8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9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0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1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2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3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4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5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6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7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8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9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0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1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2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3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4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5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6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7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8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9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0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1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2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3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4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5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6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7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8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9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0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1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2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3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4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5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6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7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8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9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0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1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2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3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4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5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6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7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8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9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0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1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2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3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4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5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6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7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8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9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0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1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2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3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4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5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6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7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8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9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0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1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2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3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4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5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6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7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8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9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0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1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2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3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4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5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6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7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8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9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0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1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2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3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4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5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6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7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8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9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0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1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2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3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4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5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6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7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8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09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0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1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2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3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4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5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6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7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8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19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0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1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2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3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4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5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6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7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8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29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0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1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2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3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4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5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6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7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8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39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0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1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2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3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4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5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6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7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8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49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0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1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2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3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4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5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6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7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8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9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0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1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2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3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4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5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6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7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8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9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0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1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2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3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4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5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776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E15A-80AA-4A9A-ACDB-A313D198BC6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7"/>
    <p:sldLayoutId id="2147483962" r:id="rId8"/>
    <p:sldLayoutId id="2147483963" r:id="rId9"/>
    <p:sldLayoutId id="2147483964" r:id="rId10"/>
    <p:sldLayoutId id="2147483965" r:id="rId11"/>
    <p:sldLayoutId id="2147483966" r:id="rId12"/>
    <p:sldLayoutId id="2147483967" r:id="rId13"/>
    <p:sldLayoutId id="2147483968" r:id="rId14"/>
    <p:sldLayoutId id="2147483969" r:id="rId15"/>
    <p:sldLayoutId id="2147483970" r:id="rId16"/>
    <p:sldLayoutId id="2147483971" r:id="rId17"/>
    <p:sldLayoutId id="2147483972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36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137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7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9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15E-B70C-4EF3-B7A2-06B2BF070E6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3145-FA4B-4C7A-8753-9279596EABA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22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179-BA23-43C0-9102-4E069C9E23A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A916-BF8E-43FA-81C5-65053C24AE7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7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8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0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2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9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0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5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6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8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9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1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25C3-0A21-46D3-91A9-DE5F0AAC49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92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95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96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97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98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99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1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07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15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16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1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2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3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4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5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6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7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8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9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0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1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2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3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4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35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22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23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24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642E-F4D4-466F-89E7-B095FDE93FC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4"/>
    <p:sldLayoutId id="2147483741" r:id="rId35"/>
    <p:sldLayoutId id="2147483742" r:id="rId36"/>
    <p:sldLayoutId id="2147483743" r:id="rId37"/>
    <p:sldLayoutId id="2147483744" r:id="rId38"/>
    <p:sldLayoutId id="2147483745" r:id="rId39"/>
    <p:sldLayoutId id="2147483746" r:id="rId40"/>
    <p:sldLayoutId id="2147483747" r:id="rId41"/>
    <p:sldLayoutId id="2147483748" r:id="rId42"/>
    <p:sldLayoutId id="2147483749" r:id="rId43"/>
    <p:sldLayoutId id="2147483750" r:id="rId44"/>
    <p:sldLayoutId id="2147483751" r:id="rId4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0769-2763-442C-8AF4-CAED1BD7662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Text Box 4"/>
          <p:cNvSpPr/>
          <p:nvPr/>
        </p:nvSpPr>
        <p:spPr>
          <a:xfrm>
            <a:off x="1187280" y="40464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Arial"/>
              </a:rPr>
              <a:t>Занимательная математика</a:t>
            </a:r>
            <a:endParaRPr b="0" i="1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8" name="Text Box 5"/>
          <p:cNvSpPr/>
          <p:nvPr/>
        </p:nvSpPr>
        <p:spPr>
          <a:xfrm>
            <a:off x="4643280" y="2997360"/>
            <a:ext cx="432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аботу выполнила 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Басаргина Наталья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ученица 8 класса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МОУ «Большеатлымская СНОШ»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Руководитель: учитель математики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Arial"/>
              </a:rPr>
              <a:t>Дедовец Н. А.</a:t>
            </a:r>
            <a:endParaRPr b="0" i="1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9" name="Рисунок 3" descr="DSC021161.JPG"/>
          <p:cNvPicPr/>
          <p:nvPr/>
        </p:nvPicPr>
        <p:blipFill>
          <a:blip r:embed="rId1"/>
          <a:stretch/>
        </p:blipFill>
        <p:spPr>
          <a:xfrm>
            <a:off x="677880" y="2643120"/>
            <a:ext cx="260820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/>
          </p:nvPr>
        </p:nvSpPr>
        <p:spPr>
          <a:xfrm>
            <a:off x="263520" y="260280"/>
            <a:ext cx="73864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Математический софизм – удивительное утверждение, в доказательстве которого кроются незаметные, а подчас и довольно тонкие ошиб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Особенно часто в математических софизмах выполняются «запрещённые» действия или не учитываются условия применимости теорем, формул и правил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Как приятно бывает обнаружить ошибку в математических рассуждениях, восстановив истину в ее правах!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8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8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5" name="Picture 4" descr="j0088978[1]"/>
          <p:cNvPicPr/>
          <p:nvPr/>
        </p:nvPicPr>
        <p:blipFill>
          <a:blip r:embed="rId1"/>
          <a:stretch/>
        </p:blipFill>
        <p:spPr>
          <a:xfrm>
            <a:off x="6724800" y="3357720"/>
            <a:ext cx="2419200" cy="3105000"/>
          </a:xfrm>
          <a:prstGeom prst="rect">
            <a:avLst/>
          </a:prstGeom>
          <a:ln w="0">
            <a:noFill/>
          </a:ln>
        </p:spPr>
      </p:pic>
      <p:sp>
        <p:nvSpPr>
          <p:cNvPr id="1836" name="PlaceHolder 1"/>
          <p:cNvSpPr>
            <a:spLocks noGrp="1"/>
          </p:cNvSpPr>
          <p:nvPr>
            <p:ph/>
          </p:nvPr>
        </p:nvSpPr>
        <p:spPr>
          <a:xfrm>
            <a:off x="394920" y="0"/>
            <a:ext cx="7056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Я могу доказать, что Муха равна Слону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усть М – это Муха, а С – это Слон. Тогда М – М = С – С – верное равенств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Вынесем за скобку общий множитель в обеих частях. Получим: М·(1 - 1) = С·(1 - 1). Разделив обе части на одинаковое выражение 1-1, получим, М = С     т. е. Муха равна Слону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Где ошиб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6" dur="2000"/>
                                        <p:tgtEl>
                                          <p:spTgt spid="18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1" dur="2000"/>
                                        <p:tgtEl>
                                          <p:spTgt spid="18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/>
          </p:nvPr>
        </p:nvSpPr>
        <p:spPr>
          <a:xfrm>
            <a:off x="1182600" y="260280"/>
            <a:ext cx="7772400" cy="587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Tahoma"/>
              </a:rPr>
              <a:t>Ребус-это загадка, состоящая в том, что вместо слов в нём поставлены знаки, фигуры, нарисованы предметы, название которых надо отгад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9966"/>
                </a:solidFill>
                <a:latin typeface="Tahoma"/>
              </a:rPr>
              <a:t>Например: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КОЛОБ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99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8" name="Рисунок 2" descr=""/>
          <p:cNvPicPr/>
          <p:nvPr/>
        </p:nvPicPr>
        <p:blipFill>
          <a:blip r:embed="rId1"/>
          <a:stretch/>
        </p:blipFill>
        <p:spPr>
          <a:xfrm>
            <a:off x="1908000" y="3500280"/>
            <a:ext cx="6840720" cy="24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3" dur="500"/>
                                        <p:tgtEl>
                                          <p:spTgt spid="18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8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3" dur="20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9" name="Picture 4" descr="j0283551[1]"/>
          <p:cNvPicPr/>
          <p:nvPr/>
        </p:nvPicPr>
        <p:blipFill>
          <a:blip r:embed="rId1"/>
          <a:stretch/>
        </p:blipFill>
        <p:spPr>
          <a:xfrm>
            <a:off x="5796000" y="3213000"/>
            <a:ext cx="2952720" cy="2890800"/>
          </a:xfrm>
          <a:prstGeom prst="rect">
            <a:avLst/>
          </a:prstGeom>
          <a:ln w="0">
            <a:noFill/>
          </a:ln>
        </p:spPr>
      </p:pic>
      <p:sp>
        <p:nvSpPr>
          <p:cNvPr id="184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568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россворд- переплетение слов. Для того чтобы разгадать кроссворд, надо в каждой белой клетке фигуры поставить по одной букве, начиная с занумерованной клетки и до заштрихованной клетки или  до края фигу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Если постоянно составлять математические кроссворды, то понятия, определения, свойства запоминаются  намного быстрее и    прочне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8" dur="500"/>
                                        <p:tgtEl>
                                          <p:spTgt spid="1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3" dur="500"/>
                                        <p:tgtEl>
                                          <p:spTgt spid="1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При подготовке математических викторин, игр, вечеров, различных турниров требуется большое количество материала. В этом случае пригодятся шарады, метаграммы, логогрифы, игровые зада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С «в» - отрезок не простой –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С направлением, с длин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С «с» же станет частью круг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    </a:t>
            </a: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Что дуга стянула туг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                             </a:t>
            </a:r>
            <a:r>
              <a:rPr b="1" i="1" lang="ru-RU" sz="3200" spc="-1" strike="noStrike">
                <a:solidFill>
                  <a:srgbClr val="ff00ff"/>
                </a:solidFill>
                <a:latin typeface="Tahoma"/>
              </a:rPr>
              <a:t>(вектор - секто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8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2000"/>
                                        <p:tgtEl>
                                          <p:spTgt spid="1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 fill="hold"/>
                                        <p:tgtEl>
                                          <p:spTgt spid="1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8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1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Первая буква есть в слове «урюк»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Но нет этой буквы в слове «крюк»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За буквой же слово тотчас зазвучит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Лишь только в ворота вдруг шайба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влети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А в целом – фигуру найдешь средь  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                                              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других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Где сходится в точке лишь пара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                                            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прямых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                                                        </a:t>
            </a:r>
            <a:r>
              <a:rPr b="1" lang="ru-RU" sz="3200" spc="-1" strike="noStrike">
                <a:solidFill>
                  <a:srgbClr val="99ff66"/>
                </a:solidFill>
                <a:latin typeface="Times New Roman"/>
              </a:rPr>
              <a:t>(у - гол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8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8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8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Пользуясь подсказками в скобках, нужно отгадать сами слова и названия геометрических фигур, которые в них «вписалис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За_ _ _ _ _ (процесс заострения предмет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Вы _ _ _ _ _ (конструктивный элемент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                       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одежды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Фор _ _ _ _ _ (часть окн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Лас _ _ _ _ _ (птиц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ис _ _ _ _ _ (инструмент художника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ар _ _ _ _ _ (желтая, электронная,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телефонная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                                              </a:t>
            </a: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(Точк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1" dur="500"/>
                                        <p:tgtEl>
                                          <p:spTgt spid="18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6" dur="500"/>
                                        <p:tgtEl>
                                          <p:spTgt spid="18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18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18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18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500"/>
                                        <p:tgtEl>
                                          <p:spTgt spid="18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8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8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1" dur="500"/>
                                        <p:tgtEl>
                                          <p:spTgt spid="18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6" dur="500"/>
                                        <p:tgtEl>
                                          <p:spTgt spid="18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mic Sans MS"/>
              </a:rPr>
              <a:t>Увлекательным заданием является такое, когда нужно вспомнить, узнать или отгадать, какие цифры, числа, числительные, единицы измерения, а также другие математические термины и понятия встречаются в русских пословицах.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От … гнилого яблока весь воз загнивает.                                                                  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                                        </a:t>
            </a: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(одного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Друг в беде - … друг. (дважды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… </a:t>
            </a: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голова хорошо, а … лучше.(одна, две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ff"/>
                </a:solidFill>
                <a:latin typeface="Comic Sans MS"/>
              </a:rPr>
              <a:t>За … верст киселя хлебать. (семь)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8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1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/>
          </p:nvPr>
        </p:nvSpPr>
        <p:spPr>
          <a:xfrm>
            <a:off x="468000" y="1557360"/>
            <a:ext cx="8496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Математика вошла в мою жизнь практически с рождения. Я росла и постоянно узнавала что-то новое для себя: обозначение количества, название величин, единицы измерения разных величин, названия  различных геометрических фигур и их свойства и много другой математической информации. Но в школе математика показалась  мне скучной и никогда не вызывала особых положительных эмо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       </a:t>
            </a:r>
            <a:r>
              <a:rPr b="1" i="1" lang="ru-RU" sz="2400" spc="-1" strike="noStrike">
                <a:solidFill>
                  <a:srgbClr val="006699"/>
                </a:solidFill>
                <a:latin typeface="Arial"/>
              </a:rPr>
              <a:t>Выбрав тему проекта, я окунулась в мир той математики, которая не является неинтересной, далекой от жизни детей. Работа над  темой проекта позволила мне познать что-то новое, необычно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6" name="Picture 5" descr="smile00006"/>
          <p:cNvPicPr/>
          <p:nvPr/>
        </p:nvPicPr>
        <p:blipFill>
          <a:blip r:embed="rId1"/>
          <a:stretch/>
        </p:blipFill>
        <p:spPr>
          <a:xfrm>
            <a:off x="324000" y="239760"/>
            <a:ext cx="7632720" cy="5976720"/>
          </a:xfrm>
          <a:prstGeom prst="rect">
            <a:avLst/>
          </a:prstGeom>
          <a:ln w="0">
            <a:noFill/>
          </a:ln>
        </p:spPr>
      </p:pic>
      <p:sp>
        <p:nvSpPr>
          <p:cNvPr id="1847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6923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знала, что понимается под занимательностью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Узнала виды занимательных элементов и научилась создавать и оформлять их с помощью разнообразного прикладного программного обеспечения компьютер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Могу помочь учителям в организации и проведении внеклассных мероприят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Смогу убедить друзей, что математика интересная и многогранная наука, постигать ее можно весело и с желани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Цел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ширение знаний о занимательных элементах, специфике того или иного элемен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вышение интереса к математи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паганда занимательных материал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иться создавать и оформлять занимательные элементы с использованием разнообразного прикладного программного обеспечени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711360" indent="-7113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читься подавать занимательную математику окружающи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1000"/>
                                        <p:tgtEl>
                                          <p:spTgt spid="1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" dur="1000"/>
                                        <p:tgtEl>
                                          <p:spTgt spid="1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1000"/>
                                        <p:tgtEl>
                                          <p:spTgt spid="1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1000"/>
                                        <p:tgtEl>
                                          <p:spTgt spid="1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1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1000"/>
                                        <p:tgtEl>
                                          <p:spTgt spid="1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1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/>
          </p:nvPr>
        </p:nvSpPr>
        <p:spPr>
          <a:xfrm>
            <a:off x="685440" y="188640"/>
            <a:ext cx="56149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                     </a:t>
            </a: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О математике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Говорят математика очень сух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Говорят математика неодолима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Но каждый признается в том без греха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Что математику знать необходим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О сухости скажет плохой учени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О трудности парень ленивы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Но кто в математику глубже проник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Тот будет довольно счастливы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Без арифметики алгебры нет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Без геометрии шагу не ступиш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Ни в море, ни в небо, ни к миру планет –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Без счета билета не купиш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И пусть ты не думал в науку ходи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В селе остаешься, иль будешь рабочи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Чтоб всюду достойную лепту вносить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d60093"/>
                </a:solidFill>
                <a:latin typeface="Arial"/>
              </a:rPr>
              <a:t>Математику знать советую очень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9" name="Picture 4" descr="MATH"/>
          <p:cNvPicPr/>
          <p:nvPr/>
        </p:nvPicPr>
        <p:blipFill>
          <a:blip r:embed="rId1"/>
          <a:stretch/>
        </p:blipFill>
        <p:spPr>
          <a:xfrm>
            <a:off x="5940360" y="836640"/>
            <a:ext cx="2952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23" dur="1000"/>
                                        <p:tgtEl>
                                          <p:spTgt spid="1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8" dur="500"/>
                                        <p:tgtEl>
                                          <p:spTgt spid="1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3" dur="500"/>
                                        <p:tgtEl>
                                          <p:spTgt spid="1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8" dur="500"/>
                                        <p:tgtEl>
                                          <p:spTgt spid="1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3" dur="500"/>
                                        <p:tgtEl>
                                          <p:spTgt spid="18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8" dur="500"/>
                                        <p:tgtEl>
                                          <p:spTgt spid="18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3" dur="500"/>
                                        <p:tgtEl>
                                          <p:spTgt spid="1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8" dur="500"/>
                                        <p:tgtEl>
                                          <p:spTgt spid="18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18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8" dur="500"/>
                                        <p:tgtEl>
                                          <p:spTgt spid="18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3" dur="500"/>
                                        <p:tgtEl>
                                          <p:spTgt spid="18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8" dur="500"/>
                                        <p:tgtEl>
                                          <p:spTgt spid="18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3" dur="500"/>
                                        <p:tgtEl>
                                          <p:spTgt spid="18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8" dur="500"/>
                                        <p:tgtEl>
                                          <p:spTgt spid="18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3" dur="500"/>
                                        <p:tgtEl>
                                          <p:spTgt spid="18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18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3" dur="500"/>
                                        <p:tgtEl>
                                          <p:spTgt spid="18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8" dur="500"/>
                                        <p:tgtEl>
                                          <p:spTgt spid="184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3" dur="500"/>
                                        <p:tgtEl>
                                          <p:spTgt spid="18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WordArt 4"/>
          <p:cNvSpPr txBox="1"/>
          <p:nvPr/>
        </p:nvSpPr>
        <p:spPr>
          <a:xfrm>
            <a:off x="685800" y="1052640"/>
            <a:ext cx="7696080" cy="443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504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из проекта: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0504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504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Учение через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0504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0504d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влечение"</a:t>
            </a:r>
            <a:endParaRPr b="1" i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0504d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/>
          </p:nvPr>
        </p:nvSpPr>
        <p:spPr>
          <a:xfrm>
            <a:off x="2411280" y="259920"/>
            <a:ext cx="640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одержание работы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а) Математические сказ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б) Математика и поэз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в) Математические софиз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г) Ребус как способ шифровки рисунк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д) Кроссвор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е) Словесные шарады, метаграммы, логогриф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9999"/>
                </a:solidFill>
                <a:latin typeface="Arial"/>
              </a:rPr>
              <a:t>ж)Игровые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8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3" name="Picture 4" descr="comp2"/>
          <p:cNvPicPr/>
          <p:nvPr/>
        </p:nvPicPr>
        <p:blipFill>
          <a:blip r:embed="rId1"/>
          <a:stretch/>
        </p:blipFill>
        <p:spPr>
          <a:xfrm>
            <a:off x="324000" y="2708280"/>
            <a:ext cx="4038480" cy="3699000"/>
          </a:xfrm>
          <a:prstGeom prst="rect">
            <a:avLst/>
          </a:prstGeom>
          <a:ln w="0">
            <a:noFill/>
          </a:ln>
        </p:spPr>
      </p:pic>
      <p:sp>
        <p:nvSpPr>
          <p:cNvPr id="1824" name="PlaceHolder 1"/>
          <p:cNvSpPr>
            <a:spLocks noGrp="1"/>
          </p:cNvSpPr>
          <p:nvPr>
            <p:ph/>
          </p:nvPr>
        </p:nvSpPr>
        <p:spPr>
          <a:xfrm>
            <a:off x="3708000" y="333360"/>
            <a:ext cx="511164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Как подружиться с математикой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Что необходимо, чтобы формул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казались жителями волшебной страны, в которой не терпится побывать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Чтобы математическое знание не выглядело сухим, требующим слепого запоминания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Как научиться видеть красоту в удивительном здании науки, каждый кирпичик которой – образ вселенской  гармонии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Tahoma"/>
              </a:rPr>
              <a:t>Ответы на все эти вопросы нашлись через добрые математические сказки, веселые игры, занимательные задачи. Математику надо поглощать весело, через игры, кроссворды, мудрые задачи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5" name="Picture 4" descr="graduation"/>
          <p:cNvPicPr/>
          <p:nvPr/>
        </p:nvPicPr>
        <p:blipFill>
          <a:blip r:embed="rId1"/>
          <a:stretch/>
        </p:blipFill>
        <p:spPr>
          <a:xfrm>
            <a:off x="5867280" y="3429000"/>
            <a:ext cx="2733840" cy="2373480"/>
          </a:xfrm>
          <a:prstGeom prst="rect">
            <a:avLst/>
          </a:prstGeom>
          <a:ln w="0">
            <a:noFill/>
          </a:ln>
        </p:spPr>
      </p:pic>
      <p:sp>
        <p:nvSpPr>
          <p:cNvPr id="182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5483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Занимательные задачи по математике публикуются уже много веков. Однако большинство задач не теряют своей актуальности и побуждают к математическим раздумьям. Решение нестандартных старинных задач, задач-шуток вызывает заинтересованность математикой. Решив самостоятельно трудную, необычную задачу, чувствуешь, что совершил небольшое открытие.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8" name="Picture 4" descr="08-icon"/>
          <p:cNvPicPr/>
          <p:nvPr/>
        </p:nvPicPr>
        <p:blipFill>
          <a:blip r:embed="rId1"/>
          <a:stretch/>
        </p:blipFill>
        <p:spPr>
          <a:xfrm>
            <a:off x="468360" y="270000"/>
            <a:ext cx="8207280" cy="6318000"/>
          </a:xfrm>
          <a:prstGeom prst="rect">
            <a:avLst/>
          </a:prstGeom>
          <a:ln w="0">
            <a:noFill/>
          </a:ln>
        </p:spPr>
      </p:pic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99"/>
                </a:solidFill>
                <a:latin typeface="Arial"/>
              </a:rPr>
              <a:t>Конкурс выявил лучшие сказки, придуманные одноклассниками</a:t>
            </a:r>
            <a:r>
              <a:rPr b="0" lang="ru-RU" sz="2600" spc="-1" strike="noStrike">
                <a:solidFill>
                  <a:srgbClr val="cc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c3399"/>
                </a:solidFill>
                <a:latin typeface="Arial"/>
              </a:rPr>
              <a:t>Герои сказок знакомят с удивительными законами страны Математики, прививают чувство прекрасного.</a:t>
            </a:r>
            <a:r>
              <a:rPr b="0" lang="ru-RU" sz="2600" spc="-1" strike="noStrike">
                <a:solidFill>
                  <a:srgbClr val="cc3399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cc3399"/>
                </a:solidFill>
                <a:latin typeface="Arial"/>
              </a:rPr>
              <a:t>В них не только отражены математические понятия, но и существующие связи между элементами, определения и свойства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0" name="Picture 4" descr="BOOKS"/>
          <p:cNvPicPr/>
          <p:nvPr/>
        </p:nvPicPr>
        <p:blipFill>
          <a:blip r:embed="rId1"/>
          <a:stretch/>
        </p:blipFill>
        <p:spPr>
          <a:xfrm>
            <a:off x="5792760" y="3068640"/>
            <a:ext cx="3171960" cy="2952720"/>
          </a:xfrm>
          <a:prstGeom prst="rect">
            <a:avLst/>
          </a:prstGeom>
          <a:ln w="0">
            <a:noFill/>
          </a:ln>
        </p:spPr>
      </p:pic>
      <p:sp>
        <p:nvSpPr>
          <p:cNvPr id="1831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5699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Могущество и красота математической мысли – в предельной четкости ее логики, изяществе ее конструкций, искусном построении абстракций. И вместе с тем математические высказывания – определения, теоремы, формулы – сопоставимы с поэзией по силе воздействия на вообра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Классик венгерской поэзии Лайош Кашшак признается: «…поскольку я поэт, я хотел бы так же четко и ясно говорить на языке слов, как математики говорят на языке чисел».</a:t>
            </a:r>
            <a:r>
              <a:rPr b="0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Picture 4" descr="34"/>
          <p:cNvPicPr/>
          <p:nvPr/>
        </p:nvPicPr>
        <p:blipFill>
          <a:blip r:embed="rId1"/>
          <a:stretch/>
        </p:blipFill>
        <p:spPr>
          <a:xfrm>
            <a:off x="5357880" y="2349360"/>
            <a:ext cx="3822480" cy="4319640"/>
          </a:xfrm>
          <a:prstGeom prst="rect">
            <a:avLst/>
          </a:prstGeom>
          <a:ln w="0">
            <a:noFill/>
          </a:ln>
        </p:spPr>
      </p:pic>
      <p:sp>
        <p:nvSpPr>
          <p:cNvPr id="1833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6048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С. В. Ковалевская писала: «Математик должен быть поэтом в  душе»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А как проникновенно описывает квадрат Эжен Гильвик в книге «Евклидовы мотивы»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Любая из твоих сторон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На трех соседок глядя,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Себя в них видит и собой любует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Но кто же с кем подружиться из них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Те, что пересекаются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Иль те, что параллельны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А тут еще угл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И в них сердито тычется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пространство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     </a:t>
            </a:r>
            <a:r>
              <a:rPr b="1" lang="ru-RU" sz="2100" spc="-1" strike="noStrike">
                <a:solidFill>
                  <a:srgbClr val="990033"/>
                </a:solidFill>
                <a:latin typeface="Arial"/>
              </a:rPr>
              <a:t>А у тебя своих забот хватает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1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18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18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8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8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8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18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8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8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18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18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8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7:41:30Z</dcterms:created>
  <dc:creator>Анастасия</dc:creator>
  <dc:description/>
  <dc:language>en-US</dc:language>
  <cp:lastModifiedBy>Дом</cp:lastModifiedBy>
  <dcterms:modified xsi:type="dcterms:W3CDTF">2009-01-21T06:53:26Z</dcterms:modified>
  <cp:revision>13</cp:revision>
  <dc:subject/>
  <dc:title>Слайд 1</dc:title>
</cp:coreProperties>
</file>