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dt" idx="15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9E31E-4F41-4CB4-9195-F5883A97BCB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9791D2-A004-44C8-8D05-0A4426D24DA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4B814E-F620-4F65-B278-D1375000004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FF14F3-0955-4188-BD6D-B73C5D8FBE6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6D2E7E-23DD-42EB-94C2-69D44454D82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A06EE3-4F7B-4E83-AEE7-8F62F19BC67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14A79B-E119-4A22-8A0A-808290BEFE8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AC4BA5-CB77-4166-B2D8-E98B54E6A28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906A69-2B5A-4627-92DD-D4905DB7A4F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DEE758-2CFA-46A6-84E0-20DC301B9D4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C9BEC0-F35E-4308-85B3-5D9D1ED50DE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231259-57DD-4974-9B56-7E6B0565C08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9BAEFF-5D0B-446B-9508-683E5133AEA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F9F063-6512-4C84-84F4-3275C6A2A7F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6402A5-A8D1-4969-9445-5CA161C4F04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320207-E814-4A16-9744-3D16508F100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02E679-ABCE-42AB-96DA-C25EFC20EC2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96E44A-3331-4001-8FF5-2CA1558235F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101AE4-4BCB-4AC0-85F9-71257FF5020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884B3D-AA50-421D-9808-2ED5C3B64BC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3338BD-D44D-4A04-8707-591F7C106E0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B44720-AA82-4BBC-ADFF-1E633EFD1E0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EC0A6B-AE1E-4F15-A8D7-66A6A658694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C0A3C0-6599-4D48-B04A-B6D96D15234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C1AF58-FFD9-469B-B043-E6405F24333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6841C3-528F-4F0B-82E6-2E141841DE2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A19134-4814-45AC-808A-C65CFFCE16C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C05077-9184-479B-B77B-07CAFEA622C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4301F8-D039-4EB0-878F-BA0AEDFE6BC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AB167-93BF-4FDF-8E1E-2583FA0B65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1784D-579E-47D3-9E91-0621234B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66C85-FEC2-401E-B4BA-9D54F269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04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6932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04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6932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57E75-45F8-4DAA-A978-85E484DBAB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3A07A-CA32-4683-9604-883FBB6D3F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660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497D8-AFCF-45F7-B962-8126DDA2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E3331-4A18-449B-ADE8-4940DD71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59BCE-3B05-4953-9940-267BBA9D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256C7-25AB-40A6-ADA8-46C4A4FD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280"/>
            <a:ext cx="77709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660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10434-A003-4879-AF81-0FC1EC93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2B00F-3976-4746-A526-5219AD38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660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E14AD-9F37-47DC-B552-B31E53F1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EFA4C-CA43-457F-9AF1-81A5592E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AF197-167D-46F6-9D68-2C215F4C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B105A-DB66-4164-A537-58DD62C2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3C267-1E2B-441E-B2F0-4129AD54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04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6932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04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6932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09737-F944-4643-A165-32AB4D8344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D149-8D25-40CF-BE90-512335E6C5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660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7B0A-DC03-4EE5-B6AD-F66CB21D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07E2-FA60-48A1-8A39-3BB19A63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3346-3762-433C-9565-D1227156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A8BC-6406-4065-B233-EE2BEA0A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B0348-639E-4583-ADB3-35274C11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280"/>
            <a:ext cx="77709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660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C5B5-9E86-4812-ADCE-A5C4FC6D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1AF6-0DFD-40B0-88B4-7FBFE401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0212-FF23-4AAB-ABAC-EFB8A526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B540-C683-4376-8843-6D3045D2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5629-2005-40D5-BB51-83D165A5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1EEF-13A2-4A40-83F4-5CC8E2D3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04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6932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04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6932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4BF8-A391-425C-B3DB-9706C36453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30A2D6-F268-4A51-BF3F-037F1AAEAD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660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AE3D1-A423-405C-A451-D43E14D3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4C88D1-9CE6-4B45-8DF0-CFB259D2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1680D-7F60-4282-95B4-25A2D2DC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957482-12C9-4CC7-A7E9-57FFC2DD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194973-C745-4CDF-94C5-A1BC1941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280"/>
            <a:ext cx="77709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660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D43A19-887A-4969-BF94-0E61EFB1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9FE523-E2F7-4E27-AFF0-713D1242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4D82B3-621E-4133-B015-72B12F08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2799C7-CE97-45E6-A62C-ED5D4171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98F235-9A1A-4665-B45B-B8AC8E53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B41C58-5E1B-4DA2-B1B2-D661EEF3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04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6932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04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6932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1CA446-97D9-497D-851F-7CC8E173C0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304B56-B5A7-4030-B67E-0ACB536AE0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295D9-6DF6-4D8D-B22C-6CC024D7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660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C76047-20F1-4985-A406-6A39BAB8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41E046-024E-4C3B-B814-3A1E1890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2B61B0-FEDA-4270-B76B-8CFD5519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52EFA2-5D20-497D-9D59-ACD19E0F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280"/>
            <a:ext cx="77709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660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49424E-8697-4A70-9ED9-70937BBC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B93230-12C8-4728-9C0F-4D5EA4B3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92B97C-21BD-498C-A49E-C270B66E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F56820-F761-40BB-8307-B9705603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5F1BF3-5996-4142-B21B-941AE3F9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203B8B-690B-402E-AFF8-B3406D30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280"/>
            <a:ext cx="77709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660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E5322-526C-4F31-8019-E4F73A3E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04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6932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04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6932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ED28E5-8D11-4740-9F10-5409854B32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609AE-85FF-4CAB-87C3-90ADF119FE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660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D2BFE-7861-40D7-B5AE-A64170BF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A4641-78B7-43C8-A3DD-9E238C02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37FDA-3498-4E17-95C7-D9EB39C6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4FB62-B22C-4B0A-96B5-C79D5987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280"/>
            <a:ext cx="77709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660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EEBD0-82C6-425F-B0C9-C61B8B78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27C97-3D69-4189-9F8F-FA93CDA1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87F2D-8EB3-41F5-B83D-46C45CBC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EEFD7-A7E5-4921-BA99-6377B0C6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EBB8A-1EBC-41F0-80FD-E7824993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F1F8E-5732-4802-B354-69A61BA6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3AD47-EFA7-422F-989F-16AA4A93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04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6932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04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6932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21450-BCB9-41C9-AD86-B811238511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E6F0D2-D3B4-49C7-8042-655693B80C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660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9E16B4-FD83-43BE-94B0-7D44DF27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E6409D-E90F-4D85-B1FB-E453E657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935DF3-BB4C-4659-8C02-93A53AED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6473F8-231D-4BA5-BF88-0ED836FB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280"/>
            <a:ext cx="77709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660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C9984B-AC5B-4C29-A269-3BE74ECC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B51BFB-BCC5-4D85-88EA-13F67D15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76141-EB6F-40C4-928D-53BF004D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B4B384-0A9B-475B-AF23-0971B9D8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CBE4A3-4FA3-4DE8-AA3A-45B43DAA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3EAF0D-7931-46BD-9A9B-BAE6FCCD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8549ED-DCB5-4443-91C2-810F1218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04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6932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04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6932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14C87A-78C9-4332-A5FA-7439BB1580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54869-0BEA-494C-89C3-A30AAE1B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9680" indent="-3430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8360" indent="-28440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36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5892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79600" indent="-20808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79600" indent="-20808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79600" indent="-20808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14400" y="6321600"/>
            <a:ext cx="5562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2"/>
          </p:nvPr>
        </p:nvSpPr>
        <p:spPr>
          <a:xfrm>
            <a:off x="8610480" y="6416640"/>
            <a:ext cx="4557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C4E0A2-5FC0-4603-BBC3-E87289B757F2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9680" indent="-3430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8360" indent="-28440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36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5892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79600" indent="-20808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79600" indent="-20808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79600" indent="-20808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647712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6321600"/>
            <a:ext cx="5562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0480" y="6416640"/>
            <a:ext cx="4557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44A073E-EE1F-4212-AB20-B5E6BB153086}" type="slidenum">
              <a:rPr b="0" lang="ru-RU" sz="1200" spc="-1" strike="noStrike">
                <a:solidFill>
                  <a:srgbClr val="d6ec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220000">
            <a:off x="446436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9680" indent="-3430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8360" indent="-28440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36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5892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79600" indent="-20808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79600" indent="-20808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79600" indent="-20808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5"/>
          </p:nvPr>
        </p:nvSpPr>
        <p:spPr>
          <a:xfrm>
            <a:off x="647712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6321600"/>
            <a:ext cx="5562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57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8298034-1058-46D6-9E97-232699DEA8D7}" type="slidenum">
              <a:rPr b="0" lang="ru-RU" sz="1200" spc="-1" strike="noStrike">
                <a:solidFill>
                  <a:srgbClr val="d6ec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9680" indent="-3430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8360" indent="-28440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36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5892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79600" indent="-20808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79600" indent="-20808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79600" indent="-20808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6321600"/>
            <a:ext cx="5562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8"/>
          </p:nvPr>
        </p:nvSpPr>
        <p:spPr>
          <a:xfrm>
            <a:off x="8610480" y="6416640"/>
            <a:ext cx="4557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EA60722-AFC0-4995-B6F9-FF071CE79442}" type="slidenum">
              <a:rPr b="0" lang="ru-RU" sz="1200" spc="-1" strike="noStrike">
                <a:solidFill>
                  <a:srgbClr val="d6ec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9680" indent="-3430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8360" indent="-28440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36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5892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79600" indent="-20808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79600" indent="-20808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79600" indent="-20808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9"/>
          </p:nvPr>
        </p:nvSpPr>
        <p:spPr>
          <a:xfrm>
            <a:off x="647712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6321600"/>
            <a:ext cx="5562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0"/>
          </p:nvPr>
        </p:nvSpPr>
        <p:spPr>
          <a:xfrm>
            <a:off x="8610480" y="6416640"/>
            <a:ext cx="4557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B90329-7F64-4D05-8C43-7A035906CE2A}" type="slidenum">
              <a:rPr b="0" lang="ru-RU" sz="1200" spc="-1" strike="noStrike">
                <a:solidFill>
                  <a:srgbClr val="d6ec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9680" indent="-3430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8360" indent="-28440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36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5892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79600" indent="-20808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79600" indent="-20808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79600" indent="-20808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1"/>
          </p:nvPr>
        </p:nvSpPr>
        <p:spPr>
          <a:xfrm>
            <a:off x="647712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6321600"/>
            <a:ext cx="5562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57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D26659-3DEB-4D65-89A9-6E9C426E131F}" type="slidenum">
              <a:rPr b="0" lang="ru-RU" sz="1200" spc="-1" strike="noStrike">
                <a:solidFill>
                  <a:srgbClr val="d6ec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63600" y="1884240"/>
            <a:ext cx="87818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8513640" y="1220760"/>
            <a:ext cx="136800" cy="126720"/>
            <a:chOff x="8513640" y="1220760"/>
            <a:chExt cx="136800" cy="126720"/>
          </a:xfrm>
        </p:grpSpPr>
        <p:sp>
          <p:nvSpPr>
            <p:cNvPr id="316" name=""/>
            <p:cNvSpPr/>
            <p:nvPr/>
          </p:nvSpPr>
          <p:spPr>
            <a:xfrm>
              <a:off x="8577360" y="1220760"/>
              <a:ext cx="73080" cy="61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513640" y="1282680"/>
              <a:ext cx="10188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8577360" y="1280880"/>
              <a:ext cx="73080" cy="66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8666280" y="1373040"/>
            <a:ext cx="136440" cy="126720"/>
            <a:chOff x="8666280" y="1373040"/>
            <a:chExt cx="136440" cy="126720"/>
          </a:xfrm>
        </p:grpSpPr>
        <p:sp>
          <p:nvSpPr>
            <p:cNvPr id="320" name=""/>
            <p:cNvSpPr/>
            <p:nvPr/>
          </p:nvSpPr>
          <p:spPr>
            <a:xfrm>
              <a:off x="8729640" y="1373040"/>
              <a:ext cx="73080" cy="61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666280" y="1434960"/>
              <a:ext cx="101520" cy="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8729640" y="1433160"/>
              <a:ext cx="73080" cy="66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8318520" y="1476360"/>
            <a:ext cx="136440" cy="126720"/>
            <a:chOff x="8318520" y="1476360"/>
            <a:chExt cx="136440" cy="126720"/>
          </a:xfrm>
        </p:grpSpPr>
        <p:sp>
          <p:nvSpPr>
            <p:cNvPr id="324" name=""/>
            <p:cNvSpPr/>
            <p:nvPr/>
          </p:nvSpPr>
          <p:spPr>
            <a:xfrm>
              <a:off x="8381880" y="1476360"/>
              <a:ext cx="73080" cy="61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318520" y="1538280"/>
              <a:ext cx="1015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8381880" y="1536480"/>
              <a:ext cx="73080" cy="66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9680" indent="-3430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8360" indent="-28440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36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5892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79600" indent="-20808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79600" indent="-20808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79600" indent="-20808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3"/>
          </p:nvPr>
        </p:nvSpPr>
        <p:spPr>
          <a:xfrm>
            <a:off x="6477120" y="5400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" y="-39600"/>
            <a:ext cx="5562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sldNum" idx="14"/>
          </p:nvPr>
        </p:nvSpPr>
        <p:spPr>
          <a:xfrm>
            <a:off x="8610480" y="54000"/>
            <a:ext cx="4557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D503E8-AF8C-4B26-B741-2377B51E2FB7}" type="slidenum">
              <a:rPr b="0" lang="ru-RU" sz="1200" spc="-1" strike="noStrike">
                <a:solidFill>
                  <a:srgbClr val="d6ec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fotki.yandex.ru/users/nfbh/view/109454/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vkontakte.ru/photos.php?act=show&amp;id=-11_90891897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rtkavun.kherson.ua/images/gallery/big/445-tixZG3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28560" y="1390680"/>
            <a:ext cx="8008920" cy="2090880"/>
            <a:chOff x="628560" y="1390680"/>
            <a:chExt cx="8008920" cy="2090880"/>
          </a:xfrm>
        </p:grpSpPr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628560" y="1390680"/>
              <a:ext cx="800892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628560" y="1390680"/>
              <a:ext cx="8008920" cy="20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2857680" y="3197160"/>
            <a:ext cx="5967360" cy="32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4560"/>
                <a:tab algn="l" pos="1758960"/>
                <a:tab algn="l" pos="2673360"/>
                <a:tab algn="l" pos="3587760"/>
                <a:tab algn="l" pos="4502160"/>
                <a:tab algn="l" pos="5416560"/>
                <a:tab algn="l" pos="6330960"/>
                <a:tab algn="l" pos="7245360"/>
                <a:tab algn="l" pos="8159760"/>
                <a:tab algn="l" pos="9074160"/>
                <a:tab algn="l" pos="99885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44560"/>
                <a:tab algn="l" pos="1758960"/>
                <a:tab algn="l" pos="2673360"/>
                <a:tab algn="l" pos="3587760"/>
                <a:tab algn="l" pos="4502160"/>
                <a:tab algn="l" pos="5416560"/>
                <a:tab algn="l" pos="6330960"/>
                <a:tab algn="l" pos="7245360"/>
                <a:tab algn="l" pos="8159760"/>
                <a:tab algn="l" pos="9074160"/>
                <a:tab algn="l" pos="99885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44560"/>
                <a:tab algn="l" pos="1758960"/>
                <a:tab algn="l" pos="2673360"/>
                <a:tab algn="l" pos="3587760"/>
                <a:tab algn="l" pos="4502160"/>
                <a:tab algn="l" pos="5416560"/>
                <a:tab algn="l" pos="6330960"/>
                <a:tab algn="l" pos="7245360"/>
                <a:tab algn="l" pos="8159760"/>
                <a:tab algn="l" pos="9074160"/>
                <a:tab algn="l" pos="99885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44560"/>
                <a:tab algn="l" pos="1758960"/>
                <a:tab algn="l" pos="2673360"/>
                <a:tab algn="l" pos="3587760"/>
                <a:tab algn="l" pos="4502160"/>
                <a:tab algn="l" pos="5416560"/>
                <a:tab algn="l" pos="6330960"/>
                <a:tab algn="l" pos="7245360"/>
                <a:tab algn="l" pos="8159760"/>
                <a:tab algn="l" pos="9074160"/>
                <a:tab algn="l" pos="99885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44560"/>
                <a:tab algn="l" pos="1758960"/>
                <a:tab algn="l" pos="2673360"/>
                <a:tab algn="l" pos="3587760"/>
                <a:tab algn="l" pos="4502160"/>
                <a:tab algn="l" pos="5416560"/>
                <a:tab algn="l" pos="6330960"/>
                <a:tab algn="l" pos="7245360"/>
                <a:tab algn="l" pos="8159760"/>
                <a:tab algn="l" pos="9074160"/>
                <a:tab algn="l" pos="99885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44560"/>
                <a:tab algn="l" pos="1758960"/>
                <a:tab algn="l" pos="2673360"/>
                <a:tab algn="l" pos="3587760"/>
                <a:tab algn="l" pos="4502160"/>
                <a:tab algn="l" pos="5416560"/>
                <a:tab algn="l" pos="6330960"/>
                <a:tab algn="l" pos="7245360"/>
                <a:tab algn="l" pos="8159760"/>
                <a:tab algn="l" pos="9074160"/>
                <a:tab algn="l" pos="99885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44560"/>
                <a:tab algn="l" pos="1758960"/>
                <a:tab algn="l" pos="2673360"/>
                <a:tab algn="l" pos="3587760"/>
                <a:tab algn="l" pos="4502160"/>
                <a:tab algn="l" pos="5416560"/>
                <a:tab algn="l" pos="6330960"/>
                <a:tab algn="l" pos="7245360"/>
                <a:tab algn="l" pos="8159760"/>
                <a:tab algn="l" pos="9074160"/>
                <a:tab algn="l" pos="99885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44560"/>
                <a:tab algn="l" pos="1758960"/>
                <a:tab algn="l" pos="2673360"/>
                <a:tab algn="l" pos="3587760"/>
                <a:tab algn="l" pos="4502160"/>
                <a:tab algn="l" pos="5416560"/>
                <a:tab algn="l" pos="6330960"/>
                <a:tab algn="l" pos="7245360"/>
                <a:tab algn="l" pos="8159760"/>
                <a:tab algn="l" pos="9074160"/>
                <a:tab algn="l" pos="99885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 ученик  ГОУ СОШ №45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44560"/>
                <a:tab algn="l" pos="1758960"/>
                <a:tab algn="l" pos="2673360"/>
                <a:tab algn="l" pos="3587760"/>
                <a:tab algn="l" pos="4502160"/>
                <a:tab algn="l" pos="5416560"/>
                <a:tab algn="l" pos="6330960"/>
                <a:tab algn="l" pos="7245360"/>
                <a:tab algn="l" pos="8159760"/>
                <a:tab algn="l" pos="9074160"/>
                <a:tab algn="l" pos="99885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 класса «А»Булатов Богда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44560"/>
                <a:tab algn="l" pos="1758960"/>
                <a:tab algn="l" pos="2673360"/>
                <a:tab algn="l" pos="3587760"/>
                <a:tab algn="l" pos="4502160"/>
                <a:tab algn="l" pos="5416560"/>
                <a:tab algn="l" pos="6330960"/>
                <a:tab algn="l" pos="7245360"/>
                <a:tab algn="l" pos="8159760"/>
                <a:tab algn="l" pos="9074160"/>
                <a:tab algn="l" pos="99885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по биолог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44560"/>
                <a:tab algn="l" pos="1758960"/>
                <a:tab algn="l" pos="2673360"/>
                <a:tab algn="l" pos="3587760"/>
                <a:tab algn="l" pos="4502160"/>
                <a:tab algn="l" pos="5416560"/>
                <a:tab algn="l" pos="6330960"/>
                <a:tab algn="l" pos="7245360"/>
                <a:tab algn="l" pos="8159760"/>
                <a:tab algn="l" pos="9074160"/>
                <a:tab algn="l" pos="99885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нисенко. Л.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42920" y="0"/>
            <a:ext cx="3143160" cy="66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73280"/>
                <a:tab algn="l" pos="1687680"/>
                <a:tab algn="l" pos="2602080"/>
                <a:tab algn="l" pos="3516480"/>
                <a:tab algn="l" pos="4430880"/>
                <a:tab algn="l" pos="5345280"/>
                <a:tab algn="l" pos="6259680"/>
                <a:tab algn="l" pos="7174080"/>
                <a:tab algn="l" pos="8088480"/>
                <a:tab algn="l" pos="9002880"/>
                <a:tab algn="l" pos="991728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73280"/>
                <a:tab algn="l" pos="1687680"/>
                <a:tab algn="l" pos="2602080"/>
                <a:tab algn="l" pos="3516480"/>
                <a:tab algn="l" pos="4430880"/>
                <a:tab algn="l" pos="5345280"/>
                <a:tab algn="l" pos="6259680"/>
                <a:tab algn="l" pos="7174080"/>
                <a:tab algn="l" pos="8088480"/>
                <a:tab algn="l" pos="9002880"/>
                <a:tab algn="l" pos="991728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73280"/>
                <a:tab algn="l" pos="1687680"/>
                <a:tab algn="l" pos="2602080"/>
                <a:tab algn="l" pos="3516480"/>
                <a:tab algn="l" pos="4430880"/>
                <a:tab algn="l" pos="5345280"/>
                <a:tab algn="l" pos="6259680"/>
                <a:tab algn="l" pos="7174080"/>
                <a:tab algn="l" pos="8088480"/>
                <a:tab algn="l" pos="9002880"/>
                <a:tab algn="l" pos="991728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ящие болеют в 13 раз чаще стенокардией,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2 раз чаще инфарктом миокарда,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0 раз чаще язвой желудка,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30 раз чаще раком легких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е 25 заболеваний развиваются от курения,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сложняется течение практически любой болезн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урение влияет также на детородную функцию как женщин, так и мужчи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3643200" y="357120"/>
            <a:ext cx="5214960" cy="511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214280" y="5357880"/>
            <a:ext cx="66438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73280"/>
                <a:tab algn="l" pos="1687680"/>
                <a:tab algn="l" pos="2602080"/>
                <a:tab algn="l" pos="3516480"/>
                <a:tab algn="l" pos="4430880"/>
                <a:tab algn="l" pos="5345280"/>
                <a:tab algn="l" pos="6259680"/>
                <a:tab algn="l" pos="7174080"/>
                <a:tab algn="l" pos="8088480"/>
                <a:tab algn="l" pos="9002880"/>
                <a:tab algn="l" pos="991728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куренная сигарета укорачивает жизнь на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73280"/>
                <a:tab algn="l" pos="1687680"/>
                <a:tab algn="l" pos="2602080"/>
                <a:tab algn="l" pos="3516480"/>
                <a:tab algn="l" pos="4430880"/>
                <a:tab algn="l" pos="5345280"/>
                <a:tab algn="l" pos="6259680"/>
                <a:tab algn="l" pos="7174080"/>
                <a:tab algn="l" pos="8088480"/>
                <a:tab algn="l" pos="9002880"/>
                <a:tab algn="l" pos="991728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у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000080" y="297000"/>
            <a:ext cx="7344000" cy="491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3000" fill="hold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500" autoRev="1" fill="hold"/>
                                        <p:tgtEl>
                                          <p:spTgt spid="4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1000" autoRev="1" fill="hold"/>
                                        <p:tgtEl>
                                          <p:spTgt spid="4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000" fill="hold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500" autoRev="1" fill="hold"/>
                                        <p:tgtEl>
                                          <p:spTgt spid="4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 fill="hold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4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21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 fill="hold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250" autoRev="1" fill="hold"/>
                                        <p:tgtEl>
                                          <p:spTgt spid="4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 fill="hold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4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7500"/>
                            </p:stCondLst>
                            <p:childTnLst>
                              <p:par>
                                <p:cTn id="29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 fill="hold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4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4773600" y="214200"/>
            <a:ext cx="4370400" cy="3714840"/>
          </a:xfrm>
          <a:prstGeom prst="rect">
            <a:avLst/>
          </a:prstGeom>
          <a:ln w="0">
            <a:noFill/>
          </a:ln>
        </p:spPr>
      </p:pic>
      <p:grpSp>
        <p:nvGrpSpPr>
          <p:cNvPr id="407" name=""/>
          <p:cNvGrpSpPr/>
          <p:nvPr/>
        </p:nvGrpSpPr>
        <p:grpSpPr>
          <a:xfrm>
            <a:off x="1214280" y="3714840"/>
            <a:ext cx="3071880" cy="2997000"/>
            <a:chOff x="1214280" y="3714840"/>
            <a:chExt cx="3071880" cy="2997000"/>
          </a:xfrm>
        </p:grpSpPr>
        <p:pic>
          <p:nvPicPr>
            <p:cNvPr id="408" name="" descr=""/>
            <p:cNvPicPr/>
            <p:nvPr/>
          </p:nvPicPr>
          <p:blipFill>
            <a:blip r:embed="rId2"/>
            <a:stretch/>
          </p:blipFill>
          <p:spPr>
            <a:xfrm>
              <a:off x="1214280" y="3714840"/>
              <a:ext cx="3071880" cy="29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214280" y="3714840"/>
              <a:ext cx="3071880" cy="29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357120" y="214200"/>
            <a:ext cx="3429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тамин С опасен для курильщиков. Это выяснили австралийские ученые. Все дело в том, что во время курения в организм среди прочей гадости проникает тяжелый металл кадмий, в сочетании с которым безвредный витамин С может провоцировать появление раковых клет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85840" y="214200"/>
            <a:ext cx="285732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73280"/>
                <a:tab algn="l" pos="1687680"/>
                <a:tab algn="l" pos="2602080"/>
                <a:tab algn="l" pos="3516480"/>
                <a:tab algn="l" pos="4430880"/>
                <a:tab algn="l" pos="5345280"/>
                <a:tab algn="l" pos="6259680"/>
                <a:tab algn="l" pos="7174080"/>
                <a:tab algn="l" pos="8088480"/>
                <a:tab algn="l" pos="9002880"/>
                <a:tab algn="l" pos="9917280"/>
                <a:tab algn="l" pos="10333080"/>
                <a:tab algn="l" pos="1078236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ертельные дозы никотина: 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¼ капли никотина убивает кролика, 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 капли – собаку, 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ля никотина смертельна для 3 лошадей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ля человека смертельная доза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т 50 до 100 мг (2-3 капли) одномоментного поступления в организм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0-25 сигарет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214800" y="1143000"/>
            <a:ext cx="5529240" cy="414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0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214280" y="5214960"/>
            <a:ext cx="65008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096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лияние никотина на рождение ребе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2143080" y="285840"/>
            <a:ext cx="4286160" cy="46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85880" y="4714920"/>
            <a:ext cx="7715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рокопаг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- близнецы сросшиеся передними стенками грудной клетки при неправильном течении онтогене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285920" y="714240"/>
            <a:ext cx="6464160" cy="32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285920" y="4572000"/>
            <a:ext cx="647208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73280"/>
                <a:tab algn="l" pos="1687680"/>
                <a:tab algn="l" pos="2602080"/>
                <a:tab algn="l" pos="3516480"/>
                <a:tab algn="l" pos="4430880"/>
                <a:tab algn="l" pos="5345280"/>
                <a:tab algn="l" pos="6259680"/>
                <a:tab algn="l" pos="7174080"/>
                <a:tab algn="l" pos="8088480"/>
                <a:tab algn="l" pos="9002880"/>
                <a:tab algn="l" pos="991728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ниопаг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близнецы сросшиеся головами в определенных случаях имеют общий головной моз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73280"/>
                <a:tab algn="l" pos="1687680"/>
                <a:tab algn="l" pos="2602080"/>
                <a:tab algn="l" pos="3516480"/>
                <a:tab algn="l" pos="4430880"/>
                <a:tab algn="l" pos="5345280"/>
                <a:tab algn="l" pos="6259680"/>
                <a:tab algn="l" pos="7174080"/>
                <a:tab algn="l" pos="8088480"/>
                <a:tab algn="l" pos="9002880"/>
                <a:tab algn="l" pos="99172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214280" y="714240"/>
            <a:ext cx="6740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000080" y="4572000"/>
            <a:ext cx="750096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73280"/>
                <a:tab algn="l" pos="1687680"/>
                <a:tab algn="l" pos="2602080"/>
                <a:tab algn="l" pos="3516480"/>
                <a:tab algn="l" pos="4430880"/>
                <a:tab algn="l" pos="5345280"/>
                <a:tab algn="l" pos="6259680"/>
                <a:tab algn="l" pos="7174080"/>
                <a:tab algn="l" pos="8088480"/>
                <a:tab algn="l" pos="9002880"/>
                <a:tab algn="l" pos="991728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энцефал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патологические процессы возникающие в ходе развития беременности приводящие к отсутствию головного мозга у пло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73280"/>
                <a:tab algn="l" pos="1687680"/>
                <a:tab algn="l" pos="2602080"/>
                <a:tab algn="l" pos="3516480"/>
                <a:tab algn="l" pos="4430880"/>
                <a:tab algn="l" pos="5345280"/>
                <a:tab algn="l" pos="6259680"/>
                <a:tab algn="l" pos="7174080"/>
                <a:tab algn="l" pos="8088480"/>
                <a:tab algn="l" pos="9002880"/>
                <a:tab algn="l" pos="99172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285920" y="642960"/>
            <a:ext cx="5976720" cy="29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285920" y="4857840"/>
            <a:ext cx="69721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73280"/>
                <a:tab algn="l" pos="1687680"/>
                <a:tab algn="l" pos="2602080"/>
                <a:tab algn="l" pos="3516480"/>
                <a:tab algn="l" pos="4430880"/>
                <a:tab algn="l" pos="5345280"/>
                <a:tab algn="l" pos="6259680"/>
                <a:tab algn="l" pos="7174080"/>
                <a:tab algn="l" pos="8088480"/>
                <a:tab algn="l" pos="9002880"/>
                <a:tab algn="l" pos="99172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73280"/>
                <a:tab algn="l" pos="1687680"/>
                <a:tab algn="l" pos="2602080"/>
                <a:tab algn="l" pos="3516480"/>
                <a:tab algn="l" pos="4430880"/>
                <a:tab algn="l" pos="5345280"/>
                <a:tab algn="l" pos="6259680"/>
                <a:tab algn="l" pos="7174080"/>
                <a:tab algn="l" pos="8088480"/>
                <a:tab algn="l" pos="9002880"/>
                <a:tab algn="l" pos="991728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ение отцов и даже дедов может стать причиной ожирения потом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571760" y="785880"/>
            <a:ext cx="616428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85840" y="4643280"/>
            <a:ext cx="828684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емьях, где курят взрослые детей чаще наблюдаются заболе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ыхательной, пищеварительной,  нервной систем, а также аллерг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1214280" y="214200"/>
            <a:ext cx="6357960" cy="411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0" y="0"/>
            <a:ext cx="371484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73280"/>
                <a:tab algn="l" pos="1687680"/>
                <a:tab algn="l" pos="2602080"/>
                <a:tab algn="l" pos="3516480"/>
                <a:tab algn="l" pos="4430880"/>
                <a:tab algn="l" pos="5345280"/>
                <a:tab algn="l" pos="6259680"/>
                <a:tab algn="l" pos="7174080"/>
                <a:tab algn="l" pos="8088480"/>
                <a:tab algn="l" pos="9002880"/>
                <a:tab algn="l" pos="991728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73280"/>
                <a:tab algn="l" pos="1687680"/>
                <a:tab algn="l" pos="2602080"/>
                <a:tab algn="l" pos="3516480"/>
                <a:tab algn="l" pos="4430880"/>
                <a:tab algn="l" pos="5345280"/>
                <a:tab algn="l" pos="6259680"/>
                <a:tab algn="l" pos="7174080"/>
                <a:tab algn="l" pos="8088480"/>
                <a:tab algn="l" pos="9002880"/>
                <a:tab algn="l" pos="991728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ак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род растений семейства паслёнов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73280"/>
                <a:tab algn="l" pos="1687680"/>
                <a:tab algn="l" pos="2602080"/>
                <a:tab algn="l" pos="3516480"/>
                <a:tab algn="l" pos="4430880"/>
                <a:tab algn="l" pos="5345280"/>
                <a:tab algn="l" pos="6259680"/>
                <a:tab algn="l" pos="7174080"/>
                <a:tab algn="l" pos="8088480"/>
                <a:tab algn="l" pos="9002880"/>
                <a:tab algn="l" pos="991728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 XVI века табак произрастал только в Северной и Южной Америке. В настоящее время табак выращивают во многих странах мира. Всемирная организация здравоохранения признала табак наркотик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73280"/>
                <a:tab algn="l" pos="1687680"/>
                <a:tab algn="l" pos="2602080"/>
                <a:tab algn="l" pos="3516480"/>
                <a:tab algn="l" pos="4430880"/>
                <a:tab algn="l" pos="5345280"/>
                <a:tab algn="l" pos="6259680"/>
                <a:tab algn="l" pos="7174080"/>
                <a:tab algn="l" pos="8088480"/>
                <a:tab algn="l" pos="9002880"/>
                <a:tab algn="l" pos="99172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73280"/>
                <a:tab algn="l" pos="1687680"/>
                <a:tab algn="l" pos="2602080"/>
                <a:tab algn="l" pos="3516480"/>
                <a:tab algn="l" pos="4430880"/>
                <a:tab algn="l" pos="5345280"/>
                <a:tab algn="l" pos="6259680"/>
                <a:tab algn="l" pos="7174080"/>
                <a:tab algn="l" pos="8088480"/>
                <a:tab algn="l" pos="9002880"/>
                <a:tab algn="l" pos="99172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4214880" y="0"/>
            <a:ext cx="492912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571680" y="500040"/>
            <a:ext cx="79009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Влияние табакокурения на здоровье человека</a:t>
            </a:r>
            <a:r>
              <a:rPr b="0" lang="ru-RU" sz="32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28760" y="4643280"/>
            <a:ext cx="750096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  <a:ea typeface="Lucida Sans Unicode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ы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попросил курильщика набрать в рот дым, а затем выдохнуть его через белый платок. В результате на платке осталось коричневое пятно. Это и есть табачный дего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3286080" cy="24638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5143680" y="2000160"/>
            <a:ext cx="3238200" cy="24289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 fill="hold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 fill="hold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285840" y="4929120"/>
            <a:ext cx="82868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096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ение подростков – стремление доказать всем, что он уже взросл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ящие школьники становятся раздражительными, неаккуратным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алуются на плохую память и плохие оценки, у них снижается слух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образитель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357200" y="35712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285840" y="357120"/>
            <a:ext cx="2928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Латвии, ОАЭ, Британии Австралии, Канаде и во многих других странах , в том числе и России, действуют законы об ограничении курения таба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6200" y="714240"/>
            <a:ext cx="397836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357120" y="5143680"/>
            <a:ext cx="832968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мирная организация здравоохранения в 1988 году объявила 31 мая Всемирным днем без таба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2143080" y="357120"/>
            <a:ext cx="4786200" cy="44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71680" y="428760"/>
            <a:ext cx="811512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Интересные факты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4200" y="1571760"/>
            <a:ext cx="865836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-за курения человек теряет в среднем 22 года нормальной, продуктивной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и студентов медицинских вузов больше курильщиков, чем среди студентов технических вузов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явка, насосавшись крови курильщика, отпадает мёртв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годня Россия потребляет 300 000 000 000 сигар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ая масса окурков за год составляет 5520 тысяч тонн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357120" y="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Интересные факты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1680" y="1357200"/>
            <a:ext cx="8143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елок, выбивающий 96 очков из 100, после того, как выкурил несколько сигарет, смог выбить только 4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изводство сигарет в мире достигло 5 триллионов штук в г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ётр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стоятельно внедрял табак на Руси, полагая, что курение соответствует принципам западной цивилиз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бы табачный дым стал безвредным, его надо разбавить чистым воздухом в 38400 р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изводство сигарет в мире достигло 5 триллионов штук в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928800" y="571680"/>
            <a:ext cx="77724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Как воздержаться от курения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42960" y="164304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23800" indent="-4572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вывода никотина пейте 1,5л воды в сутки, употребляйте больше овощей, фруктов, хлеб с отруб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3800" indent="-4572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ймите свои руки: игра в шахматы, пасьянс, вяжите, вышивайте, собирайте пазлы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3800" indent="-4572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недели не пейте алкогольные напитки, кофе: с ними ваш шанс сорваться резко увеличива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3800" indent="-4572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ймитесь спортом, т.к. после занятий вырабатываются гормоны удовольствия, и потребность в курении отпада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3800" indent="-4572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учитесь играть на гитаре, ведь это мод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3800" indent="-4572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вы сделаете все правильно, то через 5 недель увидите, как прекрасен мир без сигаре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38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3589560" cy="478620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6160" y="1571760"/>
            <a:ext cx="4572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285840" y="214200"/>
            <a:ext cx="785808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йты в интернет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portfolio.1september.ru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zdorovja.com.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doverie-clinica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ru.wikipedia.org/wik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moking.t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vkontakte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57120" y="214200"/>
            <a:ext cx="3000600" cy="60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ачные изделия содержат около 4000 химических соедин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 табачный дым – около 5000 химических соединений, из которых примерно 60 вызывают ра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429080" y="214200"/>
            <a:ext cx="4000680" cy="636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3143160" y="142920"/>
            <a:ext cx="5857920" cy="5602320"/>
            <a:chOff x="3143160" y="142920"/>
            <a:chExt cx="5857920" cy="5602320"/>
          </a:xfrm>
        </p:grpSpPr>
        <p:pic>
          <p:nvPicPr>
            <p:cNvPr id="385" name="" descr=""/>
            <p:cNvPicPr/>
            <p:nvPr/>
          </p:nvPicPr>
          <p:blipFill>
            <a:blip r:embed="rId1"/>
            <a:stretch/>
          </p:blipFill>
          <p:spPr>
            <a:xfrm>
              <a:off x="3143160" y="142920"/>
              <a:ext cx="5857920" cy="560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3143160" y="142920"/>
              <a:ext cx="5857920" cy="56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357120" y="142920"/>
            <a:ext cx="2571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ение - один и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пространенных!               пороков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57120" y="3786120"/>
            <a:ext cx="840096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73280"/>
                <a:tab algn="l" pos="1687680"/>
                <a:tab algn="l" pos="2602080"/>
                <a:tab algn="l" pos="3516480"/>
                <a:tab algn="l" pos="4430880"/>
                <a:tab algn="l" pos="5345280"/>
                <a:tab algn="l" pos="6259680"/>
                <a:tab algn="l" pos="7174080"/>
                <a:tab algn="l" pos="8088480"/>
                <a:tab algn="l" pos="9002880"/>
                <a:tab algn="l" pos="99172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73280"/>
                <a:tab algn="l" pos="1687680"/>
                <a:tab algn="l" pos="2602080"/>
                <a:tab algn="l" pos="3516480"/>
                <a:tab algn="l" pos="4430880"/>
                <a:tab algn="l" pos="5345280"/>
                <a:tab algn="l" pos="6259680"/>
                <a:tab algn="l" pos="7174080"/>
                <a:tab algn="l" pos="8088480"/>
                <a:tab algn="l" pos="9002880"/>
                <a:tab algn="l" pos="991728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причины курения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сигарета помогает нерешительным людям легче адаптироваться в незнакомой обстановке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урение помогает уйти на время от проблем, которые слабовольный человек не в состоянии решить самостоятель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2071800" y="285840"/>
            <a:ext cx="4998960" cy="36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214280" y="5072040"/>
            <a:ext cx="5500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73280"/>
                <a:tab algn="l" pos="1687680"/>
                <a:tab algn="l" pos="2602080"/>
                <a:tab algn="l" pos="3516480"/>
                <a:tab algn="l" pos="4430880"/>
                <a:tab algn="l" pos="5345280"/>
                <a:tab algn="l" pos="6259680"/>
                <a:tab algn="l" pos="7174080"/>
                <a:tab algn="l" pos="8088480"/>
                <a:tab algn="l" pos="9002880"/>
                <a:tab algn="l" pos="991728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ловек, который выкуривает пачку сигарет в день, выпивает чашку смолы в год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85960" y="357120"/>
            <a:ext cx="5572080" cy="41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457200" y="5072040"/>
            <a:ext cx="83296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ение – это не только проблема человека с никотиновой зависимостью, но и неудобства для его окру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000080" y="500040"/>
            <a:ext cx="6357960" cy="41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457200" y="5214960"/>
            <a:ext cx="832968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из 5 человек живущих в мире умирает раньше срока от табака! В год-3 млн.человек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1285920" y="571680"/>
            <a:ext cx="6072120" cy="36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85840" y="4214880"/>
            <a:ext cx="82868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80000"/>
              </a:lnSpc>
              <a:spcBef>
                <a:spcPts val="12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773280"/>
                <a:tab algn="l" pos="1687680"/>
                <a:tab algn="l" pos="2602080"/>
                <a:tab algn="l" pos="3516480"/>
                <a:tab algn="l" pos="4430880"/>
                <a:tab algn="l" pos="5345280"/>
                <a:tab algn="l" pos="6259680"/>
                <a:tab algn="l" pos="7174080"/>
                <a:tab algn="l" pos="8088480"/>
                <a:tab algn="l" pos="9002880"/>
                <a:tab algn="l" pos="991728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3 населения Земли страдает заболеваниями от кур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12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773280"/>
                <a:tab algn="l" pos="1687680"/>
                <a:tab algn="l" pos="2602080"/>
                <a:tab algn="l" pos="3516480"/>
                <a:tab algn="l" pos="4430880"/>
                <a:tab algn="l" pos="5345280"/>
                <a:tab algn="l" pos="6259680"/>
                <a:tab algn="l" pos="7174080"/>
                <a:tab algn="l" pos="8088480"/>
                <a:tab algn="l" pos="9002880"/>
                <a:tab algn="l" pos="991728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ящие отравляют атмосферу, учащают пожары в быт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12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773280"/>
                <a:tab algn="l" pos="1687680"/>
                <a:tab algn="l" pos="2602080"/>
                <a:tab algn="l" pos="3516480"/>
                <a:tab algn="l" pos="4430880"/>
                <a:tab algn="l" pos="5345280"/>
                <a:tab algn="l" pos="6259680"/>
                <a:tab algn="l" pos="7174080"/>
                <a:tab algn="l" pos="8088480"/>
                <a:tab algn="l" pos="9002880"/>
                <a:tab algn="l" pos="991728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урящие люди вынуждены дышать «выхлопными газами» курящи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12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773280"/>
                <a:tab algn="l" pos="1687680"/>
                <a:tab algn="l" pos="2602080"/>
                <a:tab algn="l" pos="3516480"/>
                <a:tab algn="l" pos="4430880"/>
                <a:tab algn="l" pos="5345280"/>
                <a:tab algn="l" pos="6259680"/>
                <a:tab algn="l" pos="7174080"/>
                <a:tab algn="l" pos="8088480"/>
                <a:tab algn="l" pos="9002880"/>
                <a:tab algn="l" pos="991728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котин пагубно влияет на здоровье людей, как физическое так и психическое,  это сильнейший яд растительного происхожд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73280"/>
                <a:tab algn="l" pos="1687680"/>
                <a:tab algn="l" pos="2602080"/>
                <a:tab algn="l" pos="3516480"/>
                <a:tab algn="l" pos="4430880"/>
                <a:tab algn="l" pos="5345280"/>
                <a:tab algn="l" pos="6259680"/>
                <a:tab algn="l" pos="7174080"/>
                <a:tab algn="l" pos="8088480"/>
                <a:tab algn="l" pos="9002880"/>
                <a:tab algn="l" pos="99172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6720" y="396720"/>
            <a:ext cx="9144000" cy="1800"/>
          </a:xfrm>
          <a:prstGeom prst="rect">
            <a:avLst/>
          </a:prstGeom>
          <a:solidFill>
            <a:srgbClr val="cad3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6720" y="396720"/>
            <a:ext cx="9144000" cy="1800"/>
          </a:xfrm>
          <a:prstGeom prst="rect">
            <a:avLst/>
          </a:prstGeom>
          <a:solidFill>
            <a:srgbClr val="cad3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96720" y="396720"/>
            <a:ext cx="9144000" cy="1800"/>
          </a:xfrm>
          <a:prstGeom prst="rect">
            <a:avLst/>
          </a:prstGeom>
          <a:solidFill>
            <a:srgbClr val="cad3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2071800" y="214200"/>
            <a:ext cx="5333760" cy="40006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572360" y="-431640"/>
            <a:ext cx="360" cy="862920"/>
          </a:xfrm>
          <a:prstGeom prst="rect">
            <a:avLst/>
          </a:prstGeom>
          <a:solidFill>
            <a:srgbClr val="cad3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-39600" rIns="-39600" tIns="-39600" bIns="79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огдан</dc:creator>
  <dc:description/>
  <dc:language>en-US</dc:language>
  <cp:lastModifiedBy>Богдан</cp:lastModifiedBy>
  <cp:revision>0</cp:revision>
  <dc:subject/>
  <dc:title>Презентация на тему:  «Тело человека»</dc:title>
</cp:coreProperties>
</file>