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C59F-523F-42D8-B0F5-F87225FCF9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131E-0F55-4B0F-8662-5BB6B75948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3EC-DC21-4741-84F5-39D04C05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291-AF84-4F3C-9726-E9B90779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8E4-7ACA-4A5B-A5A0-D82FDEC4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C74-8B3E-4EAB-A75C-87C14194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7696-6DF2-4874-808E-D6187D29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68C9-902C-44AC-A2B4-4C0A6128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ADE6-EAEC-4B25-84B9-BE93F300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61E2-13CB-437B-8EF6-9F37BF1B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D080-C351-4E2E-A59B-B737408B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B150-4531-4B43-AF17-FE606FAD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FA21-FF1E-4856-944C-4FFB8B3E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C37-0C65-4A15-A28A-8D579A24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617E-BAB1-44FB-8CD9-7E460197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230E-659C-424C-9733-6E3DAC63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7081-55A2-42BD-B653-F3990BD3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1FB3-7C99-400B-B1B9-86003383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C2EB-0AC7-4461-9CB2-FFE86389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9845-5A8A-4F1B-A388-449D25A1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2B3A-57F4-4E52-91FE-66819C9A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EA23-759E-4F9D-8324-DDC0C521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4468-E2CB-43FB-83C7-72BDC376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BE5DC-DE9D-4441-8C75-0DF34C7B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CA6-C033-4652-B96B-C393F67F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B7B6-F1CD-4469-B78F-66E1371C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E130E-012E-42CA-AF60-7D696BBF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FF127-BD5F-4A01-979D-EBD2F7E8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3AE0F-3D54-434F-A992-866CF48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B136A-114C-4F92-BB1C-470AE86D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238D-0C5D-418F-B0B5-785980BA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65A1-464D-46A9-8396-C00D9BE5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9CD3-0645-4CF4-894F-E93348B6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2531-48B5-47E5-9C25-1D9CDFCC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79C4C-F742-4A1E-BB3D-4D8DB045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DB2-FEA2-49D6-991D-E1BF1275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AF892-2939-4983-A35E-014117A1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6029E-0E52-4B9D-BB9F-F4801295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6E25C-2271-45DB-A5D7-B5E579BD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6F19E-5AB7-4CAC-A69E-5E619A10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69358-245F-4741-92EA-3486DB3B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F411-69BC-4FBB-93B3-F528A32A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5E2E5-0A86-4C09-9535-1143AC81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8E28-5E42-46BA-BDD5-5D9168FB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9D9F5-C56F-4851-9043-C3E96D93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6A68-88B4-4C4A-A6D7-D2A13A9B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AA2-AAAE-4C52-A675-BCC0BD6C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4593E-247C-4253-BE53-383CA593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B578A-94DC-41A2-B44C-20431CCF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7EEC9-5D4F-4A3C-B916-CF37294F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878F-E61C-4C47-ADDC-F3F599C0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6844-48DE-4B21-806F-562E84E6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4AD78-0BAB-4EB5-93CA-305CDF5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3FEBA-15DA-41B2-A368-B5363F8C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861EB-A795-4C09-B723-9790364A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708A2-72FE-41AC-9256-86D63AFD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EDD72-EB09-481D-8F39-F4302D5A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08D-DAA3-4138-B951-1E249F6C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DAE88-F9B2-4260-A95B-15B7AC8A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7EB00-0A78-4F01-A795-6D867C5E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55C2D-4F84-451D-BA5E-256B94A4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D65B1-B4F1-4510-99E5-057E0A70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65F73-DDC5-4F6B-A678-17811E06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9DC3-BA17-48D1-9371-CA825F7A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6CBB2-37E3-4EF8-A669-A6CD1A78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1C9F5-1A25-4054-B5C3-8E1D1E1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ADC41-3AF6-483F-B7F3-67B316B9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6B8CA-FD3F-4E26-9304-B9C65C05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395-1FEC-4CB8-9B70-D8F9224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232F0-2FE9-4D7D-AB79-CE32C2B3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6BBCA-E328-4839-9D67-9F252183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07775-24D7-431B-9E31-A1960AE9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ECB2C-9FD4-4970-800C-32050668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6DDCB-B00A-4C99-AF33-4D713149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E4117-41D1-47D1-B0B9-6D1DAD76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5A1BF-0466-4885-8224-E5970570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EE1F0-7103-43CF-8434-E80A36B1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90DE4-7A7E-4086-BF14-269CB31E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50480-257E-4EA0-A312-25C431E4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28E-CAFE-4627-B56C-4A405885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D2EB-F009-4006-BB62-D5371B24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9D797-7DC4-4828-96B3-0A7BD131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650C3-3E41-4766-8F90-8FB95C00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3FE5C-B344-4CB8-8D93-A80C5668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77762-9BFB-4A6B-9980-D77973FE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6A201-4BF1-488C-88A6-DC862475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1601F-68C8-4FDF-93DD-8CA2EC87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E7A28-8F54-41A7-8E45-644FFB1F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9AABE-E445-4E75-BFAD-6997EC75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42095-80FC-4169-849F-83470B46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863-7622-477A-8AE1-BC861643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F0BAE-3338-482B-96F4-531D6C4E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7105B-9B02-4008-A6CD-EFA99510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4B22A-8C4D-490D-BD86-88B07248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562F6-4F40-4755-81D9-D1D8F608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72E38-956E-4F1F-8748-C986E174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2E3AD-32FC-4DDC-9F63-F41D3345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9670A-6DA7-4F45-897B-FF3E2B5A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d2d7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4428-6853-4922-BB1C-BCF1DAED637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d2d7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65D2-BEBC-4BE7-9037-3F80F01F407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d2d7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108" name="Нашивка 10" descr=""/>
          <p:cNvPicPr/>
          <p:nvPr/>
        </p:nvPicPr>
        <p:blipFill>
          <a:blip r:embed="rId4"/>
          <a:stretch/>
        </p:blipFill>
        <p:spPr>
          <a:xfrm>
            <a:off x="3571920" y="2962440"/>
            <a:ext cx="31752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Нашивка 15" descr=""/>
          <p:cNvPicPr/>
          <p:nvPr/>
        </p:nvPicPr>
        <p:blipFill>
          <a:blip r:embed="rId5"/>
          <a:stretch/>
        </p:blipFill>
        <p:spPr>
          <a:xfrm>
            <a:off x="3382920" y="2962440"/>
            <a:ext cx="317520" cy="360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1B88-9C0B-457D-B066-AF413D801C5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d2d7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97C5-0F10-4F04-BFA0-2EE6DBCF60E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d2d7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E8D3-AF3E-4283-8E29-44B657DFC3B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d2d7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3492-A438-4690-9DEB-C1D4361EBBB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d2d7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3B02-5AE5-48F8-82D3-86D022DD61D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d2d7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351" name="Нашивка 19" descr=""/>
          <p:cNvPicPr/>
          <p:nvPr/>
        </p:nvPicPr>
        <p:blipFill>
          <a:blip r:embed="rId6"/>
          <a:stretch/>
        </p:blipFill>
        <p:spPr>
          <a:xfrm>
            <a:off x="8594640" y="4943520"/>
            <a:ext cx="317520" cy="366840"/>
          </a:xfrm>
          <a:prstGeom prst="rect">
            <a:avLst/>
          </a:prstGeom>
          <a:ln w="0">
            <a:noFill/>
          </a:ln>
        </p:spPr>
      </p:pic>
      <p:pic>
        <p:nvPicPr>
          <p:cNvPr id="352" name="Нашивка 20" descr=""/>
          <p:cNvPicPr/>
          <p:nvPr/>
        </p:nvPicPr>
        <p:blipFill>
          <a:blip r:embed="rId7"/>
          <a:stretch/>
        </p:blipFill>
        <p:spPr>
          <a:xfrm>
            <a:off x="8412120" y="4943520"/>
            <a:ext cx="317520" cy="3668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01D9-AB02-4C26-AC5A-F916ED35D2A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slide" Target="slide40.xml"/><Relationship Id="rId8" Type="http://schemas.openxmlformats.org/officeDocument/2006/relationships/slide" Target="slide40.xml"/><Relationship Id="rId9" Type="http://schemas.openxmlformats.org/officeDocument/2006/relationships/slide" Target="slide40.xml"/><Relationship Id="rId10" Type="http://schemas.openxmlformats.org/officeDocument/2006/relationships/slide" Target="slide40.xml"/><Relationship Id="rId11" Type="http://schemas.openxmlformats.org/officeDocument/2006/relationships/slide" Target="slide40.xml"/><Relationship Id="rId12" Type="http://schemas.openxmlformats.org/officeDocument/2006/relationships/slide" Target="slide40.xml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" Target="slide46.xm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785000" cy="11764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440" y="1642680"/>
            <a:ext cx="752940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ыполнила:   ученица 6 класс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ОУ Шенталинская СОШ № 2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Зиновьева Наталия </a:t>
            </a:r>
            <a:r>
              <a:rPr b="0" lang="ru-RU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Руководитель:     </a:t>
            </a:r>
            <a:r>
              <a:rPr b="1" lang="ru-RU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ернова И.Г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Инструкция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еред вами итоговый тест по математике с 20 заданиями. В каждом задании 4 варианта ответа, но только один – правильный. Выбери на твой взгляд правильный ответ. Если пример решен верно, ты продвигаешься дальше, если нет, то вернешься к этому же заданию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28400" y="285480"/>
            <a:ext cx="8258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правиль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4.Выполните вычитание:  1234567890-9876543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113580245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113580345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113560355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113560345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Рисунок 2" descr="2SCH125"/>
          <p:cNvPicPr/>
          <p:nvPr/>
        </p:nvPicPr>
        <p:blipFill>
          <a:blip r:embed="rId5"/>
          <a:stretch/>
        </p:blipFill>
        <p:spPr>
          <a:xfrm>
            <a:off x="4572000" y="2500200"/>
            <a:ext cx="3143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Правильно , решай следующий пример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правиль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5.Выполните действия:  54*23*3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4347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4354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4407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4457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Рисунок 5" descr="з.jpg"/>
          <p:cNvPicPr/>
          <p:nvPr/>
        </p:nvPicPr>
        <p:blipFill>
          <a:blip r:embed="rId5"/>
          <a:stretch/>
        </p:blipFill>
        <p:spPr>
          <a:xfrm>
            <a:off x="5072040" y="2428920"/>
            <a:ext cx="2643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правиль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6.Выполните деление:  745500000:35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21300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213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213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213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Рисунок 2" descr="незн.jpg"/>
          <p:cNvPicPr/>
          <p:nvPr/>
        </p:nvPicPr>
        <p:blipFill>
          <a:blip r:embed="rId5"/>
          <a:stretch/>
        </p:blipFill>
        <p:spPr>
          <a:xfrm>
            <a:off x="4786200" y="2214720"/>
            <a:ext cx="29289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571680" y="57168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правиль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Рисунок 2" descr="znaika.gif"/>
          <p:cNvPicPr/>
          <p:nvPr/>
        </p:nvPicPr>
        <p:blipFill>
          <a:blip r:embed="rId2"/>
          <a:stretch/>
        </p:blipFill>
        <p:spPr>
          <a:xfrm>
            <a:off x="6572160" y="3571920"/>
            <a:ext cx="19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2" descr="CHLD502"/>
          <p:cNvPicPr/>
          <p:nvPr/>
        </p:nvPicPr>
        <p:blipFill>
          <a:blip r:embed="rId1"/>
          <a:srcRect l="15394" t="0" r="15394" b="0"/>
          <a:stretch/>
        </p:blipFill>
        <p:spPr>
          <a:xfrm>
            <a:off x="5143680" y="3000240"/>
            <a:ext cx="2571480" cy="3214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885600" y="500040"/>
            <a:ext cx="8258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37240" indent="-1659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1.Вычислить:  245+315-28*1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37240" indent="-1659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 а)  798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37240" indent="-1659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б)  14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37240" indent="-1659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 в)  801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37240" indent="-1659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г )  14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37240" indent="-1659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7.Выполните деление с остатком:  168627:5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3122(ост.7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3122(ост.39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3122(ост.37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3122(ост.3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Рисунок 4" descr="знай.jpg"/>
          <p:cNvPicPr/>
          <p:nvPr/>
        </p:nvPicPr>
        <p:blipFill>
          <a:blip r:embed="rId5"/>
          <a:stretch/>
        </p:blipFill>
        <p:spPr>
          <a:xfrm>
            <a:off x="5715000" y="3214800"/>
            <a:ext cx="2214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Правильно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правильно , попробуй ещё раз</a:t>
            </a: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8.Найдите значение выражения: (7</a:t>
            </a:r>
            <a:r>
              <a:rPr b="0" lang="ru-RU" sz="3600" spc="-1" strike="noStrike" baseline="30000">
                <a:solidFill>
                  <a:srgbClr val="0070c0"/>
                </a:solidFill>
                <a:latin typeface="Lucida Sans Unicode"/>
              </a:rPr>
              <a:t>3</a:t>
            </a: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-4</a:t>
            </a:r>
            <a:r>
              <a:rPr b="0" lang="ru-RU" sz="3600" spc="-1" strike="noStrike" baseline="30000">
                <a:solidFill>
                  <a:srgbClr val="0070c0"/>
                </a:solidFill>
                <a:latin typeface="Lucida Sans Unicode"/>
              </a:rPr>
              <a:t>3</a:t>
            </a: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):(7-4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1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9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1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Рисунок 2" descr="CHLD502"/>
          <p:cNvPicPr/>
          <p:nvPr/>
        </p:nvPicPr>
        <p:blipFill>
          <a:blip r:embed="rId5"/>
          <a:srcRect l="15394" t="0" r="15394" b="0"/>
          <a:stretch/>
        </p:blipFill>
        <p:spPr>
          <a:xfrm>
            <a:off x="5143680" y="3000240"/>
            <a:ext cx="2571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правиль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9.Найдите площадь прямоугольника , если его ширина 4км.300м. , а длина в 5раз бо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866450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92450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245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8664500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Рисунок 2" descr="CHLD558"/>
          <p:cNvPicPr/>
          <p:nvPr/>
        </p:nvPicPr>
        <p:blipFill>
          <a:blip r:embed="rId5"/>
          <a:stretch/>
        </p:blipFill>
        <p:spPr>
          <a:xfrm>
            <a:off x="4572000" y="2143080"/>
            <a:ext cx="3857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правиль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10.Найдите объём прямоугольного параллелепипеда, если  его измерения 48дм., 16дм. и 12д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76д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152д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18432д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9216д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Рисунок 2" descr="2SCH160"/>
          <p:cNvPicPr/>
          <p:nvPr/>
        </p:nvPicPr>
        <p:blipFill>
          <a:blip r:embed="rId5"/>
          <a:stretch/>
        </p:blipFill>
        <p:spPr>
          <a:xfrm>
            <a:off x="5572080" y="2857680"/>
            <a:ext cx="3071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правиль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11.Какая из дробей больше:  3/19 или 13/19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3⁄19&gt;13/1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13/19&gt;3/1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3/19=13/1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г)   нельзя сравни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Рисунок 2" descr="2SCH125"/>
          <p:cNvPicPr/>
          <p:nvPr/>
        </p:nvPicPr>
        <p:blipFill>
          <a:blip r:embed="rId6"/>
          <a:stretch/>
        </p:blipFill>
        <p:spPr>
          <a:xfrm>
            <a:off x="4572000" y="2500200"/>
            <a:ext cx="3143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правиль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2840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12.Подчеркни правильную дробь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1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3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6/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4/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Рисунок 5" descr="з.jpg"/>
          <p:cNvPicPr/>
          <p:nvPr/>
        </p:nvPicPr>
        <p:blipFill>
          <a:blip r:embed="rId5"/>
          <a:stretch/>
        </p:blipFill>
        <p:spPr>
          <a:xfrm>
            <a:off x="5072040" y="2428920"/>
            <a:ext cx="2643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99680" y="500040"/>
            <a:ext cx="81867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правиль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13.Выполните действие:  </a:t>
            </a:r>
            <a:r>
              <a:rPr b="0" lang="ru-RU" sz="4400" spc="-1" strike="noStrike">
                <a:solidFill>
                  <a:srgbClr val="0070c0"/>
                </a:solidFill>
                <a:latin typeface="Lucida Sans Unicode"/>
              </a:rPr>
              <a:t>5</a:t>
            </a: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3/5-4/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</a:t>
            </a:r>
            <a:r>
              <a:rPr b="0" lang="ru-RU" sz="40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4</a:t>
            </a:r>
            <a:r>
              <a:rPr b="0" lang="ru-RU" sz="40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4/5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б)   </a:t>
            </a: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3</a:t>
            </a: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6" action="ppaction://hlinksldjump"/>
              </a:rPr>
              <a:t>4/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7" action="ppaction://hlinksldjump"/>
              </a:rPr>
              <a:t>в)   </a:t>
            </a:r>
            <a:r>
              <a:rPr b="0" lang="ru-RU" sz="4000" spc="-1" strike="noStrike" u="sng">
                <a:solidFill>
                  <a:srgbClr val="ff8119"/>
                </a:solidFill>
                <a:uFillTx/>
                <a:latin typeface="Lucida Sans Unicode"/>
                <a:hlinkClick r:id="rId8" action="ppaction://hlinksldjump"/>
              </a:rPr>
              <a:t>2</a:t>
            </a:r>
            <a:r>
              <a:rPr b="0" lang="ru-RU" sz="4000" spc="-1" strike="noStrike" u="sng">
                <a:solidFill>
                  <a:srgbClr val="ff8119"/>
                </a:solidFill>
                <a:uFillTx/>
                <a:latin typeface="Lucida Sans Unicode"/>
                <a:hlinkClick r:id="rId9" action="ppaction://hlinksldjump"/>
              </a:rPr>
              <a:t>4/5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0" action="ppaction://hlinksldjump"/>
              </a:rPr>
              <a:t>г)   </a:t>
            </a:r>
            <a:r>
              <a:rPr b="0" lang="ru-RU" sz="4000" spc="-1" strike="noStrike" u="sng">
                <a:solidFill>
                  <a:srgbClr val="ff8119"/>
                </a:solidFill>
                <a:uFillTx/>
                <a:latin typeface="Lucida Sans Unicode"/>
                <a:hlinkClick r:id="rId11" action="ppaction://hlinksldjump"/>
              </a:rPr>
              <a:t>5</a:t>
            </a:r>
            <a:r>
              <a:rPr b="0" lang="ru-RU" sz="4000" spc="-1" strike="noStrike" u="sng">
                <a:solidFill>
                  <a:srgbClr val="ff8119"/>
                </a:solidFill>
                <a:uFillTx/>
                <a:latin typeface="Lucida Sans Unicode"/>
                <a:hlinkClick r:id="rId12" action="ppaction://hlinksldjump"/>
              </a:rPr>
              <a:t>4/5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Рисунок 4" descr="знай.jpg"/>
          <p:cNvPicPr/>
          <p:nvPr/>
        </p:nvPicPr>
        <p:blipFill>
          <a:blip r:embed="rId13"/>
          <a:stretch/>
        </p:blipFill>
        <p:spPr>
          <a:xfrm>
            <a:off x="5715000" y="3214800"/>
            <a:ext cx="2214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99680" y="428760"/>
            <a:ext cx="81867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е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вер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вер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14.Выполните действие:  37,2-0,0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36,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3,6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37,1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3,71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Рисунок 2" descr="CHLD502"/>
          <p:cNvPicPr/>
          <p:nvPr/>
        </p:nvPicPr>
        <p:blipFill>
          <a:blip r:embed="rId5"/>
          <a:srcRect l="15394" t="0" r="15394" b="0"/>
          <a:stretch/>
        </p:blipFill>
        <p:spPr>
          <a:xfrm>
            <a:off x="5143680" y="3000240"/>
            <a:ext cx="2571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2840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2840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вер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15.Выполните действие:  8,9021+0,68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890,8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9,582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8,908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958,2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Рисунок 2" descr="CHLD558"/>
          <p:cNvPicPr/>
          <p:nvPr/>
        </p:nvPicPr>
        <p:blipFill>
          <a:blip r:embed="rId5"/>
          <a:stretch/>
        </p:blipFill>
        <p:spPr>
          <a:xfrm>
            <a:off x="4572000" y="2143080"/>
            <a:ext cx="3857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2840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правиль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16.Округлите дробь до сотых:  1,198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1,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 1,2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1,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Рисунок 2" descr="2SCH160"/>
          <p:cNvPicPr/>
          <p:nvPr/>
        </p:nvPicPr>
        <p:blipFill>
          <a:blip r:embed="rId5"/>
          <a:stretch/>
        </p:blipFill>
        <p:spPr>
          <a:xfrm>
            <a:off x="5572080" y="2428920"/>
            <a:ext cx="3071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57120" y="642600"/>
            <a:ext cx="83296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вер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2.Выразите в метрах:  3км.300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30300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300300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3300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33000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Рисунок 2" descr="CHLD558"/>
          <p:cNvPicPr/>
          <p:nvPr/>
        </p:nvPicPr>
        <p:blipFill>
          <a:blip r:embed="rId5"/>
          <a:stretch/>
        </p:blipFill>
        <p:spPr>
          <a:xfrm>
            <a:off x="4572000" y="2143080"/>
            <a:ext cx="3857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17.Выполните умножение:  8,9*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5,3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53,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0,53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53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9" name="Рисунок 2" descr="2SCH125"/>
          <p:cNvPicPr/>
          <p:nvPr/>
        </p:nvPicPr>
        <p:blipFill>
          <a:blip r:embed="rId5"/>
          <a:stretch/>
        </p:blipFill>
        <p:spPr>
          <a:xfrm>
            <a:off x="4572000" y="2500200"/>
            <a:ext cx="3143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2840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и следующий пример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99680" y="642600"/>
            <a:ext cx="81867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верно , попытайся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57120" y="571320"/>
            <a:ext cx="83296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18. Выполните деление:  0,644:9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0,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  0,00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)   0,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)   0,0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3" name="Рисунок 5" descr="з.jpg"/>
          <p:cNvPicPr/>
          <p:nvPr/>
        </p:nvPicPr>
        <p:blipFill>
          <a:blip r:embed="rId2"/>
          <a:stretch/>
        </p:blipFill>
        <p:spPr>
          <a:xfrm>
            <a:off x="5072040" y="2428920"/>
            <a:ext cx="2643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99680" y="713880"/>
            <a:ext cx="81867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Неверно , попытайся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19.Найдите среднее арифметическое чисел:   7,384; 5,004; 6,119; 8,017 и 7,81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  68,6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  6,86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)   6,88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)   686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Рисунок 2" descr="CHLD502"/>
          <p:cNvPicPr/>
          <p:nvPr/>
        </p:nvPicPr>
        <p:blipFill>
          <a:blip r:embed="rId1"/>
          <a:srcRect l="15394" t="0" r="15394" b="0"/>
          <a:stretch/>
        </p:blipFill>
        <p:spPr>
          <a:xfrm>
            <a:off x="5143680" y="3000240"/>
            <a:ext cx="2571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Неверно , попытайся ещё раз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20.Сколько человек было в кино, если 1%всех зрителей составляет 7 человек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  7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  7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)   7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)   77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1" name="Рисунок 2" descr="CHLD558"/>
          <p:cNvPicPr/>
          <p:nvPr/>
        </p:nvPicPr>
        <p:blipFill>
          <a:blip r:embed="rId1"/>
          <a:stretch/>
        </p:blipFill>
        <p:spPr>
          <a:xfrm>
            <a:off x="4572000" y="2143080"/>
            <a:ext cx="3857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Молодец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Неверно , попытайся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d2d7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99680" y="571320"/>
            <a:ext cx="81867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Работа завершена</a:t>
            </a:r>
            <a:r>
              <a:rPr b="0" lang="en-US" sz="3600" spc="-1" strike="noStrike">
                <a:solidFill>
                  <a:srgbClr val="0070c0"/>
                </a:solidFill>
                <a:latin typeface="Lucida Sans Unicode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85840" y="214200"/>
            <a:ext cx="8400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Неверно , попробуй ещё раз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Lucida Sans Unicode"/>
              </a:rPr>
              <a:t>3.Выполните сложение:   94029547608+899768451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а)   10303733322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б)   10302723222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)   10302723212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г)   10303733322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Рисунок 2" descr="2SCH160"/>
          <p:cNvPicPr/>
          <p:nvPr/>
        </p:nvPicPr>
        <p:blipFill>
          <a:blip r:embed="rId5"/>
          <a:stretch/>
        </p:blipFill>
        <p:spPr>
          <a:xfrm>
            <a:off x="5572080" y="2428920"/>
            <a:ext cx="3071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Правильно , решай дальш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45:35Z</dcterms:created>
  <dc:creator>Елена Владимировна</dc:creator>
  <dc:description/>
  <dc:language>en-US</dc:language>
  <cp:lastModifiedBy>Чернова И.Г.</cp:lastModifiedBy>
  <dcterms:modified xsi:type="dcterms:W3CDTF">2009-01-13T10:46:33Z</dcterms:modified>
  <cp:revision>70</cp:revision>
  <dc:subject/>
  <dc:title>Слайд 1</dc:title>
</cp:coreProperties>
</file>