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5AA-64E1-4BBB-B70D-9135DCB9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7C2-C388-4F2F-8C03-86D74879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9FC-35B0-4EB9-B1C8-3FB16908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26F-CC9A-4639-9557-BBA376E8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759-A6E2-4194-84D5-FEDBD24D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9ED-0F5A-44B2-BB3E-F66728A8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CFC-42B2-4D42-80CA-60A12D6D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84E-511F-45D7-B8C3-F3EF752E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7C3-F6B8-409E-848B-95A1C944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31C-61EF-4053-8AEB-C7665976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571-4775-4A9B-93C0-3CEC6C8C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D5F-B758-4508-AC94-EC44E8BF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151F-EEDE-4C0B-88F5-CD39347DCA91}" type="slidenum">
              <a:rPr b="0" lang="en-US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mail.ru/mail/svetlana15482/531/1750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mail.ru/mail/svetlana15482/531/1156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mail.ru/mail/svetlana15482/531/480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mail.ru/mail/svetlana15482/531/133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512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 Black"/>
              </a:rPr>
              <a:t>Презентация на тему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 Black"/>
              </a:rPr>
              <a:t>«Тигры»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Автор: ученик 3 «Г» класса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                        Игнатьев Павел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          Руководитель: Савченко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                   Елена Васильевна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   учитель начальных классов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г. Старый Оскол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2008г.</a:t>
            </a:r>
            <a:endParaRPr b="1" lang="en-US" sz="2000" spc="-1" strike="noStrike">
              <a:solidFill>
                <a:srgbClr val="008000"/>
              </a:solidFill>
              <a:latin typeface="Arial Black"/>
            </a:endParaRPr>
          </a:p>
        </p:txBody>
      </p:sp>
      <p:pic>
        <p:nvPicPr>
          <p:cNvPr id="49" name="Содержимое 3" descr="07-03-08_1153.jpg"/>
          <p:cNvPicPr/>
          <p:nvPr/>
        </p:nvPicPr>
        <p:blipFill>
          <a:blip r:embed="rId2"/>
          <a:stretch/>
        </p:blipFill>
        <p:spPr>
          <a:xfrm>
            <a:off x="380880" y="1828800"/>
            <a:ext cx="2819520" cy="344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13720" cy="22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Кошачий язык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Если сталкиваются два тигра – самца, то они сразу стараются напугать друг друга: шипят, оскаливаются, выпускают когти. Обычно один из них отступает без боя. Если же тигры встречаются по-дружески, они фыркают, выпуская воздух через ноздри. В периоды спаривания тигры часто ревут и рычат.</a:t>
            </a:r>
            <a:br>
              <a:rPr sz="2000"/>
            </a:br>
            <a:endParaRPr b="1" lang="en-US" sz="2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26665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ЦИФРЫ И ФАКТЫ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МЯ: ТИГР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СЕМЕЙСТВО: КОШАЧЬИ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Из восьми подвидов тигра до сегодняшнего дня дожили только пять: тигры бенгальский, китайский, амурский, индокитайский и суматранский. Самый многочисленный подвид в наше время – это бенгальский тигр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72" name="centralImgId" descr="http://content.foto.mail.ru/mail/svetlana15482/531/i-134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2286000"/>
            <a:ext cx="3301920" cy="4191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008000"/>
                </a:solidFill>
                <a:latin typeface="Arial Black"/>
              </a:rPr>
              <a:t>БЕНГАЛЬСКИЙ ИЛИ КОРОЛЕВСКИЙ, ТИГР</a:t>
            </a:r>
            <a:br>
              <a:rPr sz="1800"/>
            </a:br>
            <a:r>
              <a:rPr b="1" i="1" lang="en-US" sz="1800" spc="-1" strike="noStrike">
                <a:solidFill>
                  <a:srgbClr val="008000"/>
                </a:solidFill>
                <a:latin typeface="Arial Black"/>
              </a:rPr>
              <a:t>Вес самца: от 160 до250кг</a:t>
            </a:r>
            <a:br>
              <a:rPr sz="1800"/>
            </a:br>
            <a:r>
              <a:rPr b="1" i="1" lang="en-US" sz="1800" spc="-1" strike="noStrike">
                <a:solidFill>
                  <a:srgbClr val="008000"/>
                </a:solidFill>
                <a:latin typeface="Arial Black"/>
              </a:rPr>
              <a:t>Вес самки: от 100 до 160 кг</a:t>
            </a:r>
            <a:br>
              <a:rPr sz="1800"/>
            </a:br>
            <a:r>
              <a:rPr b="1" i="1" lang="en-US" sz="1800" spc="-1" strike="noStrike">
                <a:solidFill>
                  <a:srgbClr val="008000"/>
                </a:solidFill>
                <a:latin typeface="Arial Black"/>
              </a:rPr>
              <a:t>Длина тела: от 1,40 до 2,80м</a:t>
            </a:r>
            <a:br>
              <a:rPr sz="1800"/>
            </a:br>
            <a:r>
              <a:rPr b="1" i="1" lang="en-US" sz="1800" spc="-1" strike="noStrike">
                <a:solidFill>
                  <a:srgbClr val="008000"/>
                </a:solidFill>
                <a:latin typeface="Arial Black"/>
              </a:rPr>
              <a:t>Шкура: окраска боков и спины – от красно-оранжевой до коричнево-жёлтой с тёмными полосами, живот ярко-белый.</a:t>
            </a:r>
            <a:br>
              <a:rPr sz="2000"/>
            </a:br>
            <a:endParaRPr b="1" lang="en-US" sz="18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0574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АМУРСКИЙ (СИБИРСКИЙ, УССУРИЙСКИЙ)ТИГР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Самый крупный из всех тигров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Вес: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от 250 до 320кг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Длина тела: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 от 2,00 до 3,80м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Шкура: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 длинный густой мех летом имеет жёлто-оранжевую окраску, зимой становится светлее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МЕСТА ОБИТАНИЯ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Леса и лесистые саванны Азии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ПРОДОЛЖИТЕЛЬНОСТЬ ЖИЗНИ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На свободе тигры живут в среднем 16 лет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75" name="centralImgId" descr="http://content.foto.mail.ru/mail/svetlana15482/531/i-51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2057400"/>
            <a:ext cx="350532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080560" cy="37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 Black"/>
              </a:rPr>
              <a:t>Угроза исчезновения   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  Тигры по-прежнему относятся к видам животных, которым грозит вымирание. Большинство тигров обитает в природных заповедниках Индии. От популяции амурского тигра, обитающего в лесах Приморья, на сегодняшний день осталось 200 особей. Многочисленнее других бенгальский тигр - примерно 5000 особей.  Однако безжалостное браконьерство и  беспощадная вырубка лесов представляют собой угрозу и для его выживания. </a:t>
            </a:r>
            <a:br>
              <a:rPr sz="2000"/>
            </a:br>
            <a:endParaRPr b="1" lang="en-US" sz="2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7720" y="4647960"/>
            <a:ext cx="8007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ПИСОК ЛИТЕРАТУРЫ.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Эндрю Лэнгли «Моя первая энциклопедия», г. Москва, 2000г.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А. Григорьев «Большая книга животных», г. Москва, 2007г. 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Н. Медведева «Удивительный мир животных». ТИГРЫ, г. Москва, 2003г.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85120" cy="51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ПЛАН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1. Живой мир.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2. Тигры.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   а) Особые приметы.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   б) Жизнь тигра.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    в) Цифры и факты.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3. Угроза исчезновения.</a:t>
            </a:r>
            <a:endParaRPr b="1" lang="en-US" sz="28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153280" cy="577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   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Ты отлично знаешь, что люди – не единственные живые существа на Земле. В окружающем нас мире живут миллионы животных и растений. Их можно обнаружить повсюду: от самых глубоких океанических впадин до вершен высочайших гор. Некоторые животные и растения огромны. А некоторые малы, что и рассмотреть–то  их можно только в микроскоп. Животный и растительный мир соединены друг с другом сложной связью, называемой природным равновесием, или балансом. И каждый в этой цепочке зависит от  другого.</a:t>
            </a:r>
            <a:endParaRPr b="1" lang="en-US" sz="24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44080"/>
            <a:ext cx="815652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Все знают эту красивую полосатую дикую кошку. Это тигр. Этот страшный хищник со свирепым оскалом  живёт в тропических лесах.</a:t>
            </a:r>
            <a:br>
              <a:rPr sz="1800"/>
            </a:br>
            <a:br>
              <a:rPr sz="1800"/>
            </a:br>
            <a:endParaRPr b="1" lang="en-US" sz="2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У огромной кошки – тигра –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В детстве на уме лишь игры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В зоопарке тигры в клетке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А на воле  тигры редки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Тигров в джунглях берегись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В лапы к ним не попадись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Ловят тигры всех; тогда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То, что поймано, -  еда!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" name="Содержимое 4" descr="http://content.foto.mail.ru/mail/svetlana15482/531/i-1392.jpg"/>
          <p:cNvPicPr/>
          <p:nvPr/>
        </p:nvPicPr>
        <p:blipFill>
          <a:blip r:embed="rId2"/>
          <a:stretch/>
        </p:blipFill>
        <p:spPr>
          <a:xfrm>
            <a:off x="4917960" y="2492280"/>
            <a:ext cx="3927600" cy="3016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Глаза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Тигры отлично видят в темноте и выходят на охоту ночью. В глазах этих кошек за сетчаткой имеется особый слой, как зеркало отражающий падающий свет.</a:t>
            </a:r>
            <a:endParaRPr b="1" lang="en-US" sz="2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904760"/>
            <a:ext cx="3927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Когти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Как почти все кошки, тигры тоже могут втягивать в подушечки свои серповидные когти. Поэтому когти не снашиваются и всегда остаются отточенными для охоты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Шкура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Каждый тигр носит красивейшую, единственную в своём роде шубу: рисунок полос никогда не повторяется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800240" y="1752120"/>
            <a:ext cx="4197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асть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При помощи мощных челюстей и огромных клыков тигр убивает свою жертву. Затем он тащит мёртвое животное, которое порой бывает величиной с него самого, в укрытие, зачастую удалённое на несколько сотен метров, чтобы там спокойно полакомится в своё удовольствие. Под конец он шершавым языком соскребёт с костей последние остатки мяса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44440"/>
            <a:ext cx="80042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Уши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Тигр находит свою добычу благодаря исключительно тонкому слуху. Нападая, он выпрямляет уши и направляет их вперёд. Защищаясь, отводит уши назад. 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904760"/>
            <a:ext cx="392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Лапы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Одним-единственным ударом передней лапы тигр может отправить свою жертву в нокаут или даже сразу убить. Пружинистая мощь мускулистых задних лап приходится как нельзя, кстати, в тот момент, когда тигр несколькими  гигантскими прыжками внезапно обрушиваясь из укрытия на свою добычу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0" name="centralImgId" descr="http://content.foto.mail.ru/mail/svetlana15482/531/i-114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2514600"/>
            <a:ext cx="4191120" cy="327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Black"/>
              </a:rPr>
              <a:t>Пир для тигров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Arial Black"/>
              </a:rPr>
              <a:t>В течение первых восьми недель тигрята питаются исключительно материнским молоком. Потом тигрица притаскивает мелкую добычу, и тигрята постепенно привыкают к своей будущей повседневной пище – мясу. Правда, до шести месяцев, а иногда и дольше, мать  продолжает подкармливать  их молоком. В два месяца тигрята  впервые выходят из своего убежища.</a:t>
            </a:r>
            <a:br>
              <a:rPr sz="1800"/>
            </a:br>
            <a:endParaRPr b="1" lang="en-US" sz="16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560" y="1980720"/>
            <a:ext cx="446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Тайное логово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В хорошо защищённой пещере или в густых зарослях кустарника самка производит на свет двух-трёх детёнышей. Беспомощные, уже наряженные в полосатые шубки на манер родительских, весят около одного килограмма. Через десять дней они открывают глаза. Тигрица растит своё потомство в одиночку. Самец не несёт никаких отцовских обязанностей и живёт сам по себе.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95320" y="2133360"/>
            <a:ext cx="442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Всегда начеку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Пантеры, шакалы, медведи, а порой и какой-нибудь питон – все они представляют собой угрозу для маленьких тигрят. В первые месяцы тигрица ревностно следит за тем, чтобы к ним никто не приближался. При малейшем намёке на опасность она бережно берёт малышей за шкирку и переносит в другое убежище. Логово тигрица покидает только на время охоты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1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Одинокий охотник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Обычно тигр охотится по ночам и в одиночку. Как все кошки, он определяет местонахождение своей жертвы при помощи слуха. Пригнувшись, он бесшумно крадётся в высокой траве, пока не настигнет животное одним мощным ловким прыжком. Острые когти впиваются в спину жертвы, клыки перекусывают ей глотку.</a:t>
            </a:r>
            <a:endParaRPr b="1" lang="en-US" sz="18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560" y="213336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Увлекательная учёба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Когда тигрята перестают сосать молоко, они начинают приобретать первые охотничьи навыки: гоняются за птицами, играя, перекусывают ветки и сучья. Позднее они сопровождают мать в её рейдах по окрестностям и от неё перенимают все приёмы охоты. В два года молодые тигры уходят от матери: аппетит у них становится настолько неутолимом, что им приходится подыскивать себе личный участок для охоты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6" name="zooImg" descr="http://www.moscowzoo.ru/images/A57_01b.jpg"/>
          <p:cNvPicPr/>
          <p:nvPr/>
        </p:nvPicPr>
        <p:blipFill>
          <a:blip r:embed="rId2"/>
          <a:stretch/>
        </p:blipFill>
        <p:spPr>
          <a:xfrm>
            <a:off x="5181480" y="28954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Кошка, которая любит воду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В жарких тропиках тигры любят охлаждаться, купаясь в реках или небольших водоёмах. А в дополнение к купанию они частенько подыскивают  себе тенистое местечко под деревьями или прячутся в прохладную пещеру.</a:t>
            </a:r>
            <a:endParaRPr b="1" lang="en-US" sz="2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2361960"/>
            <a:ext cx="4155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Невидимые границы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Чтобы пометить свою территорию, тигр регулярно оставляет глубокие царапины на стволах деревьев и пахучие метки на кустах и камнях. Этими царапинами и запахом хозяин участка сообщает: вход воспрещён! Так что охотничьи угодья строго поделены, и большие кошки могут избежать взаимных конфликтов.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" name="centralImgId" descr="http://content.foto.mail.ru/mail/svetlana15482/531/i-115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266688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авченко</cp:lastModifiedBy>
  <dcterms:modified xsi:type="dcterms:W3CDTF">2008-12-24T13:34:51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