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B119-506A-4616-978F-15E6BD87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951D-F24E-499E-ABAD-275B16DC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113-C47A-4E84-913D-C647EC6A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32E3-8903-4559-806C-DDC09825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973D-3DD7-4EC3-8241-DDE8E71E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CA4B-8FAD-4E2D-8F65-FA842BE7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C465-90A5-4222-B98A-6FC1512C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7C12-C4CD-419E-B131-8D9AE05D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4B46-65D3-4D22-9F99-9BD30018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F31C-E76F-4A11-A318-FC54E314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2509-883A-4CBD-99D5-072A5FB9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0733-69A7-44E9-AC53-80EE1BCE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422F-40C1-48FA-8D57-13DDCCCD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F94E-ECA1-45E2-A417-D0F75AC3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0C77-DAAA-4DBB-ACFD-AD64ACFD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BDD4-FB7E-460E-8559-21AF2E83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B1FA-6FEB-4136-8B8B-72024146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AD1-3D54-4873-B11A-FE7D0D6D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B51-ABE6-444E-AF02-90B7CCD9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B71-EABF-470E-A425-0B66A2B2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579-EF2E-4579-BB8A-3F9BE083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CB24-61D4-4A80-BCEE-2A523BDD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45E-9A19-4D96-B6EE-E9F736C3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ECF0-2DE7-4AF2-82A4-E747936B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24F8-C1AE-4E62-ABF4-96A5B1854B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D756-3A12-4B06-9C33-AF16D80DAF3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Северо-Запад Росси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284360" y="400536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Ладожское озеро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6188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Ладожское озеро</a:t>
            </a: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- «</a:t>
            </a: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дорога жизни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Нева река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1930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                       </a:t>
            </a: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река Нев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Онежское озеро 2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2643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Онежское озеро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6" descr="Чудское озеро.jp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150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                   </a:t>
            </a: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Чудское озеро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Финский залив 2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912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                  </a:t>
            </a: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Финский залив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Природные ресурс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50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Горючие сланц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Кварцевые пес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Апатит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Древеси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Рыб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Янтар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Боксит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Соляные источн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Вывод: беден энергетическими ресурс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9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9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9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9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8" name="Picture 4" descr="Кварцевый песок"/>
          <p:cNvPicPr/>
          <p:nvPr/>
        </p:nvPicPr>
        <p:blipFill>
          <a:blip r:embed="rId1"/>
          <a:stretch/>
        </p:blipFill>
        <p:spPr>
          <a:xfrm>
            <a:off x="395280" y="260280"/>
            <a:ext cx="3960720" cy="2808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Соленый источник 2"/>
          <p:cNvPicPr/>
          <p:nvPr/>
        </p:nvPicPr>
        <p:blipFill>
          <a:blip r:embed="rId2"/>
          <a:stretch/>
        </p:blipFill>
        <p:spPr>
          <a:xfrm>
            <a:off x="4788000" y="260280"/>
            <a:ext cx="3809880" cy="28083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0" y="3141720"/>
            <a:ext cx="40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Кварцевый пес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4859280" y="3141720"/>
            <a:ext cx="38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Соляной источ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39640" y="609300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Горючие слан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Рисунок 9" descr="Горючие сланцы.jpg"/>
          <p:cNvPicPr/>
          <p:nvPr/>
        </p:nvPicPr>
        <p:blipFill>
          <a:blip r:embed="rId3"/>
          <a:stretch/>
        </p:blipFill>
        <p:spPr>
          <a:xfrm>
            <a:off x="285840" y="3714840"/>
            <a:ext cx="4071960" cy="25002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0" descr="янтарь.jpg"/>
          <p:cNvPicPr/>
          <p:nvPr/>
        </p:nvPicPr>
        <p:blipFill>
          <a:blip r:embed="rId4"/>
          <a:stretch/>
        </p:blipFill>
        <p:spPr>
          <a:xfrm>
            <a:off x="4786200" y="371484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1"/>
          <p:cNvSpPr/>
          <p:nvPr/>
        </p:nvSpPr>
        <p:spPr>
          <a:xfrm>
            <a:off x="5000760" y="627372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8b"/>
                </a:solidFill>
                <a:latin typeface="Arial"/>
              </a:rPr>
              <a:t>Янтар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7" name="Содержимое 3" descr="бокситы.jpg"/>
          <p:cNvPicPr/>
          <p:nvPr/>
        </p:nvPicPr>
        <p:blipFill>
          <a:blip r:embed="rId1"/>
          <a:stretch/>
        </p:blipFill>
        <p:spPr>
          <a:xfrm>
            <a:off x="214200" y="285840"/>
            <a:ext cx="4357800" cy="492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714240" y="550080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8b"/>
                </a:solidFill>
                <a:latin typeface="Arial"/>
              </a:rPr>
              <a:t>Бокси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Рисунок 6" descr="шахматы из янтаря.jpg"/>
          <p:cNvPicPr/>
          <p:nvPr/>
        </p:nvPicPr>
        <p:blipFill>
          <a:blip r:embed="rId2"/>
          <a:stretch/>
        </p:blipFill>
        <p:spPr>
          <a:xfrm>
            <a:off x="5072040" y="285840"/>
            <a:ext cx="3809880" cy="4929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5572080" y="5500800"/>
            <a:ext cx="307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8b"/>
                </a:solidFill>
                <a:latin typeface="Arial"/>
              </a:rPr>
              <a:t>Шахматы из янта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Население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2080" y="1484280"/>
            <a:ext cx="85215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6"/>
          <p:cNvSpPr/>
          <p:nvPr/>
        </p:nvSpPr>
        <p:spPr>
          <a:xfrm>
            <a:off x="324000" y="1268280"/>
            <a:ext cx="3600360" cy="2089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няя плот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7 чел./км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²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- Петербург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3чел./км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²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4932360" y="1413000"/>
            <a:ext cx="3817800" cy="20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валифицирован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дры-20% науч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ов Ро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2771640" y="3500280"/>
            <a:ext cx="3240360" cy="136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/3 городского нас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ния- 8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324000" y="4797360"/>
            <a:ext cx="3598560" cy="1844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живают русск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псы(на восток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5292720" y="4869000"/>
            <a:ext cx="3382920" cy="172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-Петербургск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гломерация(5 млн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H="1">
            <a:off x="3347640" y="1125360"/>
            <a:ext cx="57636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4716360" y="1052640"/>
            <a:ext cx="7192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4356000" y="1125360"/>
            <a:ext cx="0" cy="23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6"/>
          <p:cNvSpPr/>
          <p:nvPr/>
        </p:nvSpPr>
        <p:spPr>
          <a:xfrm flipH="1">
            <a:off x="2124000" y="1125360"/>
            <a:ext cx="2160720" cy="359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7"/>
          <p:cNvSpPr/>
          <p:nvPr/>
        </p:nvSpPr>
        <p:spPr>
          <a:xfrm>
            <a:off x="4572000" y="1125360"/>
            <a:ext cx="1944720" cy="374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5" descr="Русский народ.2jpg.jpg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6215040"/>
          </a:xfrm>
          <a:prstGeom prst="rect">
            <a:avLst/>
          </a:prstGeom>
          <a:ln w="0">
            <a:noFill/>
          </a:ln>
        </p:spPr>
      </p:pic>
      <p:sp>
        <p:nvSpPr>
          <p:cNvPr id="186" name="TextBox 6"/>
          <p:cNvSpPr/>
          <p:nvPr/>
        </p:nvSpPr>
        <p:spPr>
          <a:xfrm>
            <a:off x="857160" y="428760"/>
            <a:ext cx="76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8b"/>
                </a:solidFill>
                <a:latin typeface="Arial"/>
              </a:rPr>
              <a:t>Большая часть населения- рус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51832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                       </a:t>
            </a: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Состав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215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  <a:ea typeface="Arial"/>
              </a:rPr>
              <a:t>Ленинград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  <a:ea typeface="Arial"/>
              </a:rPr>
              <a:t>Псковская                     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  <a:ea typeface="Arial"/>
              </a:rPr>
              <a:t>области и г.Санкт-Петербург</a:t>
            </a:r>
            <a:r>
              <a:rPr b="1" lang="ru-RU" sz="2800" spc="-1" strike="noStrike">
                <a:solidFill>
                  <a:srgbClr val="ffffb7"/>
                </a:solidFill>
                <a:latin typeface="Arial"/>
                <a:ea typeface="Arial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  <a:ea typeface="Arial"/>
              </a:rPr>
              <a:t>Новгородская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  <a:ea typeface="Arial"/>
              </a:rPr>
              <a:t>Калининград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ffb7"/>
                </a:solidFill>
                <a:latin typeface="Arial"/>
                <a:ea typeface="Arial"/>
              </a:rPr>
              <a:t>S</a:t>
            </a:r>
            <a:r>
              <a:rPr b="1" lang="ru-RU" sz="2800" spc="-1" strike="noStrike">
                <a:solidFill>
                  <a:srgbClr val="ffffb7"/>
                </a:solidFill>
                <a:latin typeface="Arial"/>
                <a:ea typeface="Arial"/>
              </a:rPr>
              <a:t>=212 тыс.км</a:t>
            </a:r>
            <a:r>
              <a:rPr b="1" lang="en-US" sz="2800" spc="-1" strike="noStrike">
                <a:solidFill>
                  <a:srgbClr val="ffffb7"/>
                </a:solidFill>
                <a:latin typeface="Arial"/>
                <a:ea typeface="Arial"/>
              </a:rPr>
              <a:t>²</a:t>
            </a:r>
            <a:r>
              <a:rPr b="1" lang="ru-RU" sz="2800" spc="-1" strike="noStrike">
                <a:solidFill>
                  <a:srgbClr val="ffffb7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  <a:ea typeface="Arial"/>
              </a:rPr>
              <a:t>                          </a:t>
            </a:r>
            <a:r>
              <a:rPr b="1" lang="ru-RU" sz="2800" spc="-1" strike="noStrike">
                <a:solidFill>
                  <a:srgbClr val="ffffb7"/>
                </a:solidFill>
                <a:latin typeface="Arial"/>
                <a:ea typeface="Arial"/>
              </a:rPr>
              <a:t>Н=9,2млн.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3635280" y="1700280"/>
            <a:ext cx="576360" cy="1944720"/>
          </a:xfrm>
          <a:custGeom>
            <a:avLst/>
            <a:gdLst>
              <a:gd name="textAreaLeft" fmla="*/ 0 w 576360"/>
              <a:gd name="textAreaRight" fmla="*/ 208080 w 5763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Промышленность- основа экономик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88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b19"/>
                </a:solidFill>
                <a:latin typeface="Arial"/>
              </a:rPr>
              <a:t>1.МСК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: С.-Петербург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судостроение (атомные ледоколы) Выборг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тракторы (Кировский завод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ЛОМО (фотоаппараты, микроскопы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турбины АЭС ( «Электросила», Ижорский завод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станкостро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оборудование для рыбной промышленности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(Калининград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395280" y="19162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05_071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05_071"/>
          <p:cNvPicPr/>
          <p:nvPr/>
        </p:nvPicPr>
        <p:blipFill>
          <a:blip r:embed="rId2"/>
          <a:stretch/>
        </p:blipFill>
        <p:spPr>
          <a:xfrm>
            <a:off x="1476360" y="1844640"/>
            <a:ext cx="21600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Тракторы Кировского завод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Рисунок 6" descr="Трактор.jpg"/>
          <p:cNvPicPr/>
          <p:nvPr/>
        </p:nvPicPr>
        <p:blipFill>
          <a:blip r:embed="rId1"/>
          <a:stretch/>
        </p:blipFill>
        <p:spPr>
          <a:xfrm>
            <a:off x="857160" y="1857240"/>
            <a:ext cx="3857760" cy="42865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7" descr="Колесный трактор К-700А,выпустили в 1981году.jpg"/>
          <p:cNvPicPr/>
          <p:nvPr/>
        </p:nvPicPr>
        <p:blipFill>
          <a:blip r:embed="rId2"/>
          <a:stretch/>
        </p:blipFill>
        <p:spPr>
          <a:xfrm>
            <a:off x="4929120" y="1928880"/>
            <a:ext cx="37861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259920"/>
            <a:ext cx="856908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b19"/>
                </a:solidFill>
                <a:latin typeface="Arial"/>
              </a:rPr>
              <a:t>2.Химия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:Кингисепп-сланцехимия,Кириши- нефтехим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b19"/>
                </a:solidFill>
                <a:latin typeface="Arial"/>
              </a:rPr>
              <a:t>3.Лесная и ЦБП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: Светогорск, Сясьстр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b19"/>
                </a:solidFill>
                <a:latin typeface="Arial"/>
              </a:rPr>
              <a:t>4.Цветная металлургия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: А</a:t>
            </a:r>
            <a:r>
              <a:rPr b="1" lang="en-US" sz="2400" spc="-1" strike="noStrike">
                <a:solidFill>
                  <a:srgbClr val="ffffb7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  <a:ea typeface="Arial"/>
              </a:rPr>
              <a:t>- Волхов, Бокситогорс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b19"/>
                </a:solidFill>
                <a:latin typeface="Arial"/>
              </a:rPr>
              <a:t>5.Электроэнергетика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:АЭС-Ленинградская,ГЭС-Волхов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4" descr="Ленинградская"/>
          <p:cNvPicPr/>
          <p:nvPr/>
        </p:nvPicPr>
        <p:blipFill>
          <a:blip r:embed="rId1"/>
          <a:stretch/>
        </p:blipFill>
        <p:spPr>
          <a:xfrm>
            <a:off x="324000" y="2060640"/>
            <a:ext cx="8280360" cy="4464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900000" y="2276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"/>
              </a:rPr>
              <a:t>Ленинградская АЭ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404640"/>
            <a:ext cx="84960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2b19"/>
                </a:solidFill>
                <a:latin typeface="Arial"/>
              </a:rPr>
              <a:t>6.Легкая</a:t>
            </a: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:С.Петербург(трикотажная,кожевенно-обувная,меховая),Вел.Луки,Псков,Новгород       (льняна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Сельское хозяйство: Ж</a:t>
            </a: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Ж:КРС(молочно-мясного направления)!Естественные пастбища, свиноводство, птицеводство, пригородное хозяй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Р: рожь, ячмень,  картофель, лен! Овощ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5" descr="10"/>
          <p:cNvPicPr/>
          <p:nvPr/>
        </p:nvPicPr>
        <p:blipFill>
          <a:blip r:embed="rId1"/>
          <a:srcRect l="0" t="0" r="5265" b="0"/>
          <a:stretch/>
        </p:blipFill>
        <p:spPr>
          <a:xfrm>
            <a:off x="684360" y="404640"/>
            <a:ext cx="77752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4" descr="0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0" lang="ru-RU" sz="3600" spc="-1" strike="noStrike">
                <a:solidFill>
                  <a:srgbClr val="ffffb7"/>
                </a:solidFill>
                <a:latin typeface="Arial Black"/>
              </a:rPr>
              <a:t>Рекреационные ресурсы. 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502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Путешествия по залам Эрмитаж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4556"/>
          <p:cNvPicPr/>
          <p:nvPr/>
        </p:nvPicPr>
        <p:blipFill>
          <a:blip r:embed="rId1"/>
          <a:stretch/>
        </p:blipFill>
        <p:spPr>
          <a:xfrm>
            <a:off x="539640" y="1916280"/>
            <a:ext cx="7920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4565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4570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map177"/>
          <p:cNvPicPr/>
          <p:nvPr/>
        </p:nvPicPr>
        <p:blipFill>
          <a:blip r:embed="rId1"/>
          <a:stretch/>
        </p:blipFill>
        <p:spPr>
          <a:xfrm>
            <a:off x="324000" y="260280"/>
            <a:ext cx="8351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4573"/>
          <p:cNvPicPr/>
          <p:nvPr/>
        </p:nvPicPr>
        <p:blipFill>
          <a:blip r:embed="rId1"/>
          <a:stretch/>
        </p:blipFill>
        <p:spPr>
          <a:xfrm>
            <a:off x="250920" y="260280"/>
            <a:ext cx="4176720" cy="3313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4583"/>
          <p:cNvPicPr/>
          <p:nvPr/>
        </p:nvPicPr>
        <p:blipFill>
          <a:blip r:embed="rId2"/>
          <a:stretch/>
        </p:blipFill>
        <p:spPr>
          <a:xfrm>
            <a:off x="4716360" y="260280"/>
            <a:ext cx="4176720" cy="3313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4591"/>
          <p:cNvPicPr/>
          <p:nvPr/>
        </p:nvPicPr>
        <p:blipFill>
          <a:blip r:embed="rId3"/>
          <a:stretch/>
        </p:blipFill>
        <p:spPr>
          <a:xfrm>
            <a:off x="324000" y="3645000"/>
            <a:ext cx="4105080" cy="3213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4593"/>
          <p:cNvPicPr/>
          <p:nvPr/>
        </p:nvPicPr>
        <p:blipFill>
          <a:blip r:embed="rId4"/>
          <a:stretch/>
        </p:blipFill>
        <p:spPr>
          <a:xfrm>
            <a:off x="4716360" y="3645000"/>
            <a:ext cx="4176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4" descr="Государственный Эрмитаж"/>
          <p:cNvPicPr/>
          <p:nvPr/>
        </p:nvPicPr>
        <p:blipFill>
          <a:blip r:embed="rId1"/>
          <a:stretch/>
        </p:blipFill>
        <p:spPr>
          <a:xfrm rot="21273000">
            <a:off x="252360" y="347760"/>
            <a:ext cx="4176720" cy="4303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карета"/>
          <p:cNvPicPr/>
          <p:nvPr/>
        </p:nvPicPr>
        <p:blipFill>
          <a:blip r:embed="rId2"/>
          <a:stretch/>
        </p:blipFill>
        <p:spPr>
          <a:xfrm rot="598800">
            <a:off x="5001840" y="447840"/>
            <a:ext cx="3903840" cy="4392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Павильонный зал"/>
          <p:cNvPicPr/>
          <p:nvPr/>
        </p:nvPicPr>
        <p:blipFill>
          <a:blip r:embed="rId3"/>
          <a:stretch/>
        </p:blipFill>
        <p:spPr>
          <a:xfrm>
            <a:off x="2771640" y="3213000"/>
            <a:ext cx="3889440" cy="33130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8"/>
          <p:cNvSpPr/>
          <p:nvPr/>
        </p:nvSpPr>
        <p:spPr>
          <a:xfrm>
            <a:off x="2843280" y="5877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Павильонный з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4920" y="3645000"/>
            <a:ext cx="403236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Стойка с рыцарским доспех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Стойка с рыцарскими доспехами в Эрмитаже"/>
          <p:cNvPicPr/>
          <p:nvPr/>
        </p:nvPicPr>
        <p:blipFill>
          <a:blip r:embed="rId1"/>
          <a:stretch/>
        </p:blipFill>
        <p:spPr>
          <a:xfrm>
            <a:off x="324000" y="260280"/>
            <a:ext cx="4319280" cy="3343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Санкт-Петербург,Эрмитаж,Висячий сад"/>
          <p:cNvPicPr/>
          <p:nvPr/>
        </p:nvPicPr>
        <p:blipFill>
          <a:blip r:embed="rId2"/>
          <a:stretch/>
        </p:blipFill>
        <p:spPr>
          <a:xfrm>
            <a:off x="4967280" y="2492280"/>
            <a:ext cx="4176720" cy="29498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"/>
          <p:cNvSpPr/>
          <p:nvPr/>
        </p:nvSpPr>
        <p:spPr>
          <a:xfrm>
            <a:off x="4859280" y="566100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Висячий са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6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6" descr="Храм воскресения христова"/>
          <p:cNvPicPr/>
          <p:nvPr/>
        </p:nvPicPr>
        <p:blipFill>
          <a:blip r:embed="rId1"/>
          <a:stretch/>
        </p:blipFill>
        <p:spPr>
          <a:xfrm>
            <a:off x="684360" y="260280"/>
            <a:ext cx="7559640" cy="63374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Храм Воскресения Христов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5" descr="Исаакиевский собор.jpg"/>
          <p:cNvPicPr/>
          <p:nvPr/>
        </p:nvPicPr>
        <p:blipFill>
          <a:blip r:embed="rId1"/>
          <a:stretch/>
        </p:blipFill>
        <p:spPr>
          <a:xfrm>
            <a:off x="611280" y="357120"/>
            <a:ext cx="7777080" cy="6286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Исаакиевский собор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x_e02a6ca1"/>
          <p:cNvPicPr/>
          <p:nvPr/>
        </p:nvPicPr>
        <p:blipFill>
          <a:blip r:embed="rId1"/>
          <a:stretch/>
        </p:blipFill>
        <p:spPr>
          <a:xfrm>
            <a:off x="826920" y="260280"/>
            <a:ext cx="7490160" cy="62643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4a"/>
                </a:solidFill>
                <a:latin typeface="Arial Black"/>
              </a:rPr>
              <a:t>ПЕТЕРГОФ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морской канал 2"/>
          <p:cNvPicPr/>
          <p:nvPr/>
        </p:nvPicPr>
        <p:blipFill>
          <a:blip r:embed="rId1"/>
          <a:stretch/>
        </p:blipFill>
        <p:spPr>
          <a:xfrm>
            <a:off x="1042920" y="333360"/>
            <a:ext cx="7129440" cy="61912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Морской кана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морской канал 3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3" name="Picture 4" descr="морской канал"/>
          <p:cNvPicPr/>
          <p:nvPr/>
        </p:nvPicPr>
        <p:blipFill>
          <a:blip r:embed="rId1"/>
          <a:stretch/>
        </p:blipFill>
        <p:spPr>
          <a:xfrm>
            <a:off x="971640" y="260280"/>
            <a:ext cx="7345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большой каскад"/>
          <p:cNvPicPr/>
          <p:nvPr/>
        </p:nvPicPr>
        <p:blipFill>
          <a:blip r:embed="rId1"/>
          <a:stretch/>
        </p:blipFill>
        <p:spPr>
          <a:xfrm>
            <a:off x="971640" y="333360"/>
            <a:ext cx="7345440" cy="61912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Большой каскад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                         </a:t>
            </a: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ЭГП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450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68360" y="1125360"/>
            <a:ext cx="352728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оложен на запа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усской равн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 flipH="1">
            <a:off x="2268360" y="981000"/>
            <a:ext cx="1872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364000" y="1197000"/>
            <a:ext cx="338472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еет выход 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лтийскому мор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4788000" y="981000"/>
            <a:ext cx="1152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395280" y="2421000"/>
            <a:ext cx="3600360" cy="1439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пересечение тран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ртных  путей(ж/д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убопроводных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рских речных пу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324000" y="4149720"/>
            <a:ext cx="4103640" cy="24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добно расположен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нергетическим( Тиман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черский бассейн: газ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фть, уголь), сырьев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Европейский Север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довольствен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з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5364000" y="2492280"/>
            <a:ext cx="338472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еди: Европейск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вер, Центра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4932360" y="4149720"/>
            <a:ext cx="3887640" cy="24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ход к западной г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нице с Финлянди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онией, Латви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твой, Польшей(ВС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годн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5"/>
          <p:cNvSpPr/>
          <p:nvPr/>
        </p:nvSpPr>
        <p:spPr>
          <a:xfrm flipH="1">
            <a:off x="3995640" y="981000"/>
            <a:ext cx="432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 flipH="1">
            <a:off x="4211280" y="981000"/>
            <a:ext cx="360360" cy="31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4572000" y="981000"/>
            <a:ext cx="576360" cy="31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4643280" y="981000"/>
            <a:ext cx="72072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3924360" y="98100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Рельеф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450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Плоские равнины чередуются с Валдайской возвышенностью, моренно-ледниковый рельеф с холмами, грядами и зандрами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Вывод: не совсем благоприятен для хозяйствен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деятельности, так как территория заболоч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Содержимое 3" descr="Валдайская возвышенность.jpg"/>
          <p:cNvPicPr/>
          <p:nvPr/>
        </p:nvPicPr>
        <p:blipFill>
          <a:blip r:embed="rId1"/>
          <a:stretch/>
        </p:blipFill>
        <p:spPr>
          <a:xfrm>
            <a:off x="500040" y="285840"/>
            <a:ext cx="8358120" cy="6215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Валдайская возвышенность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Природные услови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3927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УКП ( мор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к умеренно- континен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тальном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59280" y="1699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1-я половина зимы и 2-я половина лета- циклоны, К</a:t>
            </a:r>
            <a:r>
              <a:rPr b="1" lang="en-US" sz="2400" spc="-1" strike="noStrike">
                <a:solidFill>
                  <a:srgbClr val="ffffb7"/>
                </a:solidFill>
                <a:latin typeface="Arial"/>
                <a:ea typeface="Arial"/>
              </a:rPr>
              <a:t>&gt;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  <a:ea typeface="Arial"/>
              </a:rPr>
              <a:t>1, (600-800 мм)          15% </a:t>
            </a:r>
            <a:r>
              <a:rPr b="1" lang="en-US" sz="2400" spc="-1" strike="noStrike">
                <a:solidFill>
                  <a:srgbClr val="ffffb7"/>
                </a:solidFill>
                <a:latin typeface="Arial"/>
                <a:ea typeface="Arial"/>
              </a:rPr>
              <a:t>S</a:t>
            </a:r>
            <a:r>
              <a:rPr b="1" lang="ru-RU" sz="2400" spc="-1" strike="noStrike">
                <a:solidFill>
                  <a:srgbClr val="ffffb7"/>
                </a:solidFill>
                <a:latin typeface="Arial"/>
                <a:ea typeface="Arial"/>
              </a:rPr>
              <a:t> района верховые болота, П- торфяно-болотные, дерново- подзолистые, ПЗ «лесной край», сильно вырубленные челове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3132000" y="198900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9"/>
          <p:cNvSpPr/>
          <p:nvPr/>
        </p:nvSpPr>
        <p:spPr>
          <a:xfrm>
            <a:off x="6443640" y="306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663480" y="586728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Вывод: благоприятны для выращивание льна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и КРС(молочного направл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Реки и</a:t>
            </a:r>
            <a:r>
              <a:rPr b="0" lang="ru-RU" sz="32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зёр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89308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Ледникового типа, «озерный край»:Ладожское,     7 тыс. Чудское, Ильмень, Онежское                                  озе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Реки-протоки            озера          Финский зали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Нева, Свирь, Ловать-Волх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Густая речная сеть: весеннее половодье, смешанное питание, полновод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"/>
              </a:rPr>
              <a:t>Вывод: хорошо обеспечен водными ресурс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7596360" y="1700280"/>
            <a:ext cx="71280" cy="720720"/>
          </a:xfrm>
          <a:custGeom>
            <a:avLst/>
            <a:gdLst>
              <a:gd name="textAreaLeft" fmla="*/ 0 w 71280"/>
              <a:gd name="textAreaRight" fmla="*/ 25560 w 71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2556000" y="263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2556000" y="263700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4356000" y="2637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Ильмень озеро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3374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озеро Ильмень</a:t>
            </a: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- «</a:t>
            </a: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озеро спичка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2:06:27Z</dcterms:created>
  <dc:creator>Admin</dc:creator>
  <dc:description/>
  <dc:language>en-US</dc:language>
  <cp:lastModifiedBy>Милллион4</cp:lastModifiedBy>
  <dcterms:modified xsi:type="dcterms:W3CDTF">2009-01-27T12:35:22Z</dcterms:modified>
  <cp:revision>31</cp:revision>
  <dc:subject/>
  <dc:title>Северо-Запад России</dc:title>
</cp:coreProperties>
</file>