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8FD-E406-417C-802A-EF9338B0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447-D180-404A-B3C7-6E6EAED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309-14BA-44D1-83C7-87B9B545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5BE-B45C-45E6-8827-E91239DE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D42-7008-413E-ACF3-A3D0151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505-1DD1-49DE-8476-E75BA61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477-E9D3-40EB-934E-2AF1F6A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90C-8DA8-4BFE-9204-899D5E5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2AD-6DA4-4A8E-B59E-C0D762F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04B-8F09-4ECE-B530-2A8DC47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50F-2D4B-413D-89DE-CF5480A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CC7-B1C5-448E-B8D5-B99EE8B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D70E-511B-4ADC-A2D6-9E7E15532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3407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ьневосточный рай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6,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н.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7,9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н.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72440" y="6237360"/>
            <a:ext cx="87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высокий вулкан Камчатки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ючевская Соп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4750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27600" y="26028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лкан Авачинская Со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АКП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а - суровая, Оймякон- «полюс холода» - «-7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, лето- прохла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г- УКП(муссонный),зима- ветреная, холодная -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лето- не жаркое -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,800-1000 мм и более, с Японского моря- тайфуны. Летние муссоны - наводнения на ре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экстремальные природные услов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дырь, Камчатка, Лена, Колыма, Амур(два половодья - весеннее и летнее) с притоками - Зея, Бурея, Усс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- Ха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хорошо обеспечен водными ресурсами, но используются они сезо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бь-река сибирск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40920" y="5868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ка 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- тундра, тундрово-глеевы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йга - лиственничная, темнохвойная(кедр, пихта, 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лиственные леса – «уссурийская тайга» - многоярусные леса, перевитые лианами, лимонником, актинидией. Корейский кедр, маньчжурский ясень, клен, бархатное дерево, в подлеске- жень-шень - «корень жизн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Мор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морж"/>
          <p:cNvPicPr/>
          <p:nvPr/>
        </p:nvPicPr>
        <p:blipFill>
          <a:blip r:embed="rId1"/>
          <a:srcRect l="0" t="3150" r="0" b="126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551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рской кот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морской-котик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547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ерп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4141440" y="33336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р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ит-горба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2571840" y="393840"/>
            <a:ext cx="1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399120" y="-11268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орбатый 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66760" y="-1440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а Яку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, алмазы Якутии, оловянные руды, вольфрам, молибден, медь, полиметаллические руды, сера,  древесина, пушнина, «дары моря»- рыба(лососевые),крабы, кальмары, креветки, морская кап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есурсы богаты и разнообразны, но добыча их затрудн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9480" y="589104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йзе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АВ   РАЙО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ПУБЛИКА : Саха (ЯКУТИЯ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Я : ПРИМОРСКИЙ, ХАБАРОВСКИЙ, КАМЧА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: АМУРСКАЯ, САХАЛИНСКАЯ, МАГАДАНСК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А : ЧУКО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.ОБЛАСТЬ : ЕВРЕЙ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11640" y="2602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плотность 1,3 чел/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ено неравномерно, высок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на ю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банизация 7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пные города: Владивосток(626 тыс. чел.), Хабаровск(616 тыс. чел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малых народов: чукчи, коряки, якуты, ительм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фицит трудовых ресурс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4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4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4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4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Камчатка 2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253080" y="189000"/>
            <a:ext cx="38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ен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тель Камча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Якутия 2"/>
          <p:cNvPicPr/>
          <p:nvPr/>
        </p:nvPicPr>
        <p:blipFill>
          <a:blip r:embed="rId1"/>
          <a:stretch/>
        </p:blipFill>
        <p:spPr>
          <a:xfrm>
            <a:off x="0" y="0"/>
            <a:ext cx="4722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929840" y="62784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тельница Яку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st\Рабочий стол\Козыркина\Владивост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1st\Рабочий стол\Козыркина\Владивосток.jpg"/>
          <p:cNvPicPr/>
          <p:nvPr/>
        </p:nvPicPr>
        <p:blipFill>
          <a:blip r:embed="rId2"/>
          <a:stretch/>
        </p:blipFill>
        <p:spPr>
          <a:xfrm>
            <a:off x="2286000" y="-6480"/>
            <a:ext cx="4286160" cy="6864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67760" y="62118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ладивос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6" presetSubtype="26">
                                  <p:stCondLst>
                                    <p:cond delay="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1st\Рабочий стол\Козыркина\Хабаровск.jpg"/>
          <p:cNvPicPr/>
          <p:nvPr/>
        </p:nvPicPr>
        <p:blipFill>
          <a:blip r:embed="rId1"/>
          <a:stretch/>
        </p:blipFill>
        <p:spPr>
          <a:xfrm>
            <a:off x="-792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3147480" y="621504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rial"/>
              </a:rPr>
              <a:t>Хабаров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ость – основа эконом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ная: «рыбный цех страны»: Южно-Сахалинск, Петропавловск-Камчатский, Владиво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одобыва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и лесоперерабатывающая: Хабаровск, о. Сахалин(ЦБ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/с: судостроение: Комсомольск-на-Ам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ая металлургия: Дальнегор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, S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йон находится на стадии фор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перспективе активное 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их этажей произво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о-Якутский ТП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быча каменного угля, в перспективе добыча железной руды, заготовка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льское хозяйство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в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неводство, рыболовство, промысел пушного зве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г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урская область, Приморский и Хабаровский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П (муссон), плодородные почвы, хорошие условия для жизни людей и с/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шеница, рис, соя, овоще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С(мясо-молочное), рыболовство, марикультура – «морские огороды» в заливе Посьет: устрицы, гребешки, трепанг, аква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7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7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87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7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 к морям СЛО и ТО (широкие внешнеэкономические связи с государствами АТР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ая транспортная сеть(Транссибирская магистраль, БАМ), большие расстояния усложняют развитие экономических связей и удорожают стоимость продук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 к южной государственной границе с КНДР и Китаем, морские границы с Японией и США(ВСП улучшает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а на востоке России(удаленность от основных, наиболее развитых районов европейской части стра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етические и сырьевые базы свои, от продовольственных уда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 не очень выгод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льеф рай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Северо –Востока(хр. Черского, Верхоянский, горы Сихотэ-Али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.Мезозойской с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Камчатки, Сахалина и Курильских островов расположены в зоне поддвига Тихоокеанской плиты под Евразийскую, сейсмическая зона. Землетрясения в 1996г.,2007г. На Сахалине, 2006г.-в Корякском А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ымская, Яно-Индигирская низменности на Колымской плат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иболее благоприятные условия для жизни на равнинах, строительство зданий требует учета сейсмичности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60560" y="189000"/>
            <a:ext cx="89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мчатке 29 действующих вулканов, на Курильских острова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11120" y="61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5416560" y="476280"/>
            <a:ext cx="37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ина гейз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мча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312560" y="130320"/>
            <a:ext cx="41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улканы Камча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ллион4</cp:lastModifiedBy>
  <dcterms:modified xsi:type="dcterms:W3CDTF">2009-01-27T12:50:21Z</dcterms:modified>
  <cp:revision>38</cp:revision>
  <dc:subject/>
  <dc:title>PowerPoint Presentation</dc:title>
</cp:coreProperties>
</file>