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5DE-9349-474E-891E-0F34834A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F2B-6408-45E5-A5DD-73BDE50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B8EDB-68C1-4E0C-8FBE-CEA74F3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A7456-5E31-47E5-8F9D-825412B3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CEEEE-231C-481A-9D89-B08334A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C005B-A2F2-4576-89E5-47A1CF7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BB80F-E25A-46A6-892E-AA03CAE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13633-3454-42EF-9AE0-B7FAAD2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CD291-D6AD-42CA-BC1B-5C64683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5A153-1577-41C0-881D-6C93760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25D8C-359E-46D9-ACDB-3C2F31D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BC3F0-0878-4A66-8FF0-6F26BE88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27D-5B27-4D71-B2C1-6EAEA93C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F66A7-4CB5-4C0F-86F9-2B7D4509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8D44C-EA0D-4339-8998-5B68D21E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B3429-E4A9-4598-8CB8-9B23452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C25D-5DA1-4307-8BC7-DB0B00DA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FAF16-8CE5-45C7-AE88-D77248C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7B7A6-4397-434D-8DCA-1A339C8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3B8E1-1D37-43C3-A041-A9B1E74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CC78-C9F6-4DAE-9AE1-658F9217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EAB00-E528-49DD-A998-08DAD231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FB5B9-456A-4E31-8B49-9931EF60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740-6D59-4372-9540-DBAE23C6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686E-6901-4488-9E78-C83E4892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B6A8D-C7C1-409E-8259-DE027EB0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8BC4B-0F7A-425F-8E00-56E5DA2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CE0C-5686-4D8C-931C-D0AC7B3C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5D716-CCBF-45F6-8FA8-F802D76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37917-103A-47ED-8C40-DB9D865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E2D9B-2956-4C81-845F-98EBEEA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1CAAB-E983-43C7-B9B8-97925E6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E8D09-2CE2-4D29-BC67-8D83EE5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62E34-1B90-49CE-A778-DD19A4B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E6A-0262-427A-ACA7-379D519B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643F1-6340-4AA8-832C-6E72271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61FF9-41B9-41D7-9623-466A4E43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04357-4152-410A-8A2B-BAB5B6F2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9312C-98FB-484A-91CD-0D825EC0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9C0E1-790E-4A2B-8626-5FEBDCAC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51353-FB11-4065-BB30-D37AF237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E9BFE-1852-4FAB-8C91-11E0746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C8D71-6A6C-4C23-A680-FC8B1CB7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80D1A-00DB-4FF4-B6A4-7FF7D5B7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80AA-DFF7-4EAC-B9D7-431E6ADC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BE35-F946-4DD6-9782-6F0AFA9D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3202-F40E-4F43-AD0D-BA2021E4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3AC49-EBCB-4BD3-93F0-30E8A59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635F1-5B78-424F-A0C5-1031BB3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EF95-C469-44E6-B6C3-C37B9215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BFA2D-A23C-4BD7-8E80-B7B1826D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CD55E-36E8-49BC-8992-DC921C28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9F84B-068B-4137-BA4A-6C635CB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ABCDD-8073-400E-A04F-CCBEE33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461AF-FF06-4AAF-AE7A-A9C58DCF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45AF1-B9D9-493B-A7BD-E785BFD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169F-CC1E-4F85-9450-E1BB632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EC11B-064F-4FAA-BEDC-AACCF4E0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4A63A-6AC7-42A9-84B2-055F041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2D0E4-E90A-4C22-9944-C800BCC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4D0DB-AFB8-498C-B69D-92349B9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68B43-8469-43C0-B82E-54326938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B0644-8FE7-44C8-941F-BB251203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CD64A-6F9D-4BD8-AC94-326011E4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7E4806-7D6B-4AD1-B62E-1AC97DFD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0E7325-EE5A-4676-99AA-A1AFAB6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FFBEA0-2B25-4117-A254-F242BC4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25E-A4BF-4688-B4B2-7418D18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A5BBF6-503B-421B-8FE2-897D040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D125D9-0350-4C2E-ABFC-B36B8D7D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1D7B58-4FCE-4ABE-88F8-12D3F85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55E1B4-B6C1-43B6-9EE2-F31B2B4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4B6866-93BA-4045-AF9D-57059165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559E7A-BEA9-4325-927E-5B61315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4B4CC1-7A71-470F-B5D8-05D7535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4E1888-3E28-4DDB-8802-BD2D47E5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A09B36-FBA7-4480-9576-B6BFC36B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FC80E-2BBE-4BD5-8F0A-59EB76C0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911F-0CAD-4E54-A9F6-097412D0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6332A-A569-4FCF-8A0F-7ADC15F7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43D94-A3C8-4613-8EFF-63889FE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51263-A0B6-44EC-8975-EA27874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CD64A-9B67-4EBC-BA01-CC675C9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CFEDA-B95D-4B63-871A-114045A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1B9046-5A52-40AC-BDFB-95814D0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94492-9E2E-417A-8DAE-88426FA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431B3-CB35-437D-B536-A084CFB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FFD59-8C5B-4C22-9BEE-BD8A007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21519-BD16-470D-B957-913F9CEF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A02-95FB-44EA-ADA2-B0C457B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EDA68-BE64-4D2B-A841-915A311B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685BE-A8A0-4A77-9DEA-DB1E031B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DE36F-F180-4A72-AB61-E6D634F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4D17A-44DC-4858-B01A-F9C9846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97139-E24C-4547-93DC-F0A26CC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573D2-BE0E-4C65-9504-A21E181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AB8B7-C89F-4B48-87E4-FB71031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A77BC-7C65-454A-AE2B-480E2DF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3A89F-BDD8-465C-B5E9-1DEE665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FBF9B-165B-4455-B68F-3EA13CCB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8DC3-0653-4BA1-BA19-C4D95D9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C524D-70B1-443A-A961-FDE787D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70895-AB7D-4806-A1AE-6E954B8B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DF2FB-9B07-40C1-816D-545459BC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1CFFFB-A9ED-4896-8E41-E443295E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4C8394-F588-4A41-A7A0-5CAEBBC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A4746B-2764-4212-BC36-804C3EF4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849EF4-FF2D-4EDC-9C9C-363D0786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AD5ECC-FD75-42E1-A5ED-2C6FEF6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B0DEEE-83BD-4017-A59B-519649C8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BBAD93-8358-4B0F-887E-7BFB3DA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BB7-31D6-490F-AFBB-842289CD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B85-FBB0-4FB1-948E-F2369C7D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EAFA95-0050-495E-9D74-17660D2F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C88104-A7E4-4FA4-A141-6F7A8CF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A8177C-9612-49E1-A9FC-33E8400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9CB063-8776-4140-A5E2-CCAA3E2D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78655B-DE4C-4DCA-9C03-B03A3106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1A9AB-E195-4D95-99DE-E48BD126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0C20F-DAF2-44D3-BE3A-5C6A1A6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6C461-91B8-4BD7-8B1B-60461328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2A51F-E114-4D7D-89E0-7DA37113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B7833-2ADE-4999-9E8C-CC36FAF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A8EF-A143-406F-8340-2397A8A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162BA-90B3-44C9-923A-E49AB06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88E52-C05D-4073-94C8-47BC588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92178-56A0-49CC-95F2-C84E25E0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D6F40-DEA0-4DE8-921C-732884B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336D8-5767-4E42-9FAA-37A877B8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218BB-CF78-4E77-B66C-DAB0A196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6D418-140A-4807-870F-B4DB1F8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3EAE5-1D7D-4F9F-9C74-8E57899E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5A4BF-4F0E-4C21-8F2D-5CFBC9D8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F9CFC-74C2-4271-89F4-DE43FE4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5C0-75F8-41B6-9198-E73D7F7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92B76-F1BA-4D67-A158-D7E25F1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799E7-300C-4B03-BDE5-85C69EC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3B179-C4AF-45CD-B2D5-0B5B40A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62DF2-C14D-493B-B263-3B2BB65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7D90D-B224-470B-B567-753DF67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55078-68B0-4385-92ED-F4BDAD1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533A0-2F07-46FA-9CFB-093E0B3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D6511-5644-45EA-96DF-C1022DB9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06625-6A5F-401E-82C4-ED437D3D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16FDE-12C0-44A1-BECF-48B0BB2D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1BF-3F02-4828-A1DD-31311C0F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2CF63-548F-4754-A704-3F9E7A47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D3C80-E3A6-49C4-AFCE-558F2E37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BF1C9-C986-4CB4-85B0-624D0DC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A9F9F-30F6-49C5-81EA-A9FFADB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99D25-D7CA-4884-AF95-AE2938C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92D5A-07B7-495F-A890-1A339FD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19E59-5593-4228-AEB8-912B7F0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4C7F9-8CE4-40EF-9BFA-7CC83C1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BE301-A6D6-4002-BDB2-65A3B6CF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7541A-CB51-485E-9E23-3B3DF3F5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AC27-E18F-4286-B380-6D447742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30C9F-6EC1-433E-8832-82B0517F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EC8E-8AE3-42CC-8DA1-EA68F054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D1B3-1A06-4B82-B72B-6B1DBD3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1F75-7540-444B-AB09-78EF5F6C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DA45-2399-464E-B0D3-DD28B4A1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3410B-8DA6-4F6E-8846-D7A1554F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992-57CB-45C4-91B4-B48FC97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36810-7252-454C-8135-5975164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1E31-79B4-44B1-B38B-CC6C41A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6130-6D33-44FA-917D-D2DE90B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59C1-2282-42B3-B350-FC069FF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95BA-DA50-4BC0-B63E-35A08A55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20F0-26DF-4827-9589-092422EE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2464-A9C0-4C96-9363-61424878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CFAF-B74D-4772-8A72-DBA97478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74ED-C5B0-4F8D-A3DD-82ACB45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AC37-2622-4E8D-84B7-6C58E093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027-DAFE-4BF5-A7DF-B39B253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949F-B79B-4239-B310-1E801EC7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8896-742A-4ADF-8148-AAEEA050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BF45-F553-4100-9DDC-E3597851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C9F8-7B1F-4E13-9FBB-E860048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C8D5-A410-4A00-BB50-F09AEE0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B4431-7BC0-49BA-AFBC-C07763D8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D811-AD06-4443-B173-9BDC601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CBA1-FB95-4198-9C9A-14FC7214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139A-6D5C-4321-B5A1-CCC45E66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C1B98-637D-4DD0-970B-FDC11040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98E-47A7-474F-90F2-DF7311D5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3F6DC-A2BF-4644-8B4A-EE1F89A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4FC0A-BC2B-460B-926E-C8B5BB7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7AAA7-9E87-4BFB-8918-0770FCBC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04A98-66EB-4C00-AA14-70DA908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241B7-E6AB-446E-9C18-EF424124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B8BCE-7A59-492C-B266-41DE918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C86E0-4E78-4DD6-B146-6EA0C0C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65C38-65E6-488C-9BF7-7CF76574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066DC-7CBD-4CC7-AB5E-8D4F130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0B1A1-4F50-43D1-A12E-D0520F3D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099-E41E-48FD-A643-C43B3CD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529DF-28D9-4C48-B3F0-040D55A2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4149-64AC-47C9-A232-99FD8E32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A024-A731-4CC7-A18D-76A63E7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95C1-76A7-4FAC-93C7-38F0A62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31C7-AA51-4D93-8DF6-7DDEC27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57E6-53A4-43A9-9F80-FA00625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DEA08-60DA-4B98-BE12-30E18C4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B3B7-7B37-4BC6-8A1E-7D77A9B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820D-8D8E-4417-9BEF-9EEB8FE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CE2E5-D61E-482A-A7AC-081D3D0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D90-BBEC-4653-B4E6-CA3B6DDE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A552-6158-4C5B-ABAD-42C961B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5A76-4C28-4C98-A9F7-D5C904FC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CD90-BE27-45A3-8E65-5281A567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17DB-9858-489F-B0A4-ABDE3C2F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0D25-0753-447A-BD49-A8C51F00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C624-568D-4A61-BE17-02A24A52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1750-A70C-472F-B553-998670B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0520-CA74-47C7-AD3E-B0BE99D6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4A0F-4CD9-4E2A-A8E2-8D0C4FE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AD2C-29D7-416D-A85C-0A8C96A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DC4-4E1B-44A5-A906-675F6F3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9B20-D943-4A01-8286-71570441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F33E-E778-4BEB-AC1F-FC4D3B7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7925-62E1-417C-B826-29F9871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0DC8-F8FF-4EFE-9C2D-A62524A6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87621-A060-40C6-B1D5-83D1498E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42F22-D195-4EA9-97D3-47B9CA86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B5E2F8-E36D-4412-8C04-2C14840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8DA64D-A401-48AC-9C16-E4676F8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558A08-04D1-4469-868D-CE87002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942DE-546E-4DB2-955F-8E497F0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330-5815-45C1-9284-FF371DC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DEEE4-5BEA-48CA-85D9-61FE1082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0E647-8CA4-4432-814F-CA083C57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3EE01-E111-45AD-874A-FB3EE26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4831D6-B4CE-4D06-8720-3367B0D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B5F225-DAF9-45B0-AF22-2B1D45D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E3B1E-AB4E-48BD-BD27-4DB90851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0D0BD-56D5-408F-9AE9-1E2C841B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40B9-6A0D-42C6-8401-A56BCA7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45352-DAA9-47DA-B972-ECD7D2B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25E3F-EC5E-4666-B003-7E261846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24A4-480C-4AD3-879A-40CD56A246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7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6983-302A-4BC3-A630-B7CFB0ED7C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2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C8E-4F4C-4EE9-BEA5-235A0B30C2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6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6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9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0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1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1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1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2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66C-9A0B-4F35-A947-D4AE4DB6B8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7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7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7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8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0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0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3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8a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43E-B362-4C8B-9DE7-E9F53ADE7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77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9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81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8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8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1A7B-4516-47A9-AF2F-D568F98518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C9E-F7C8-424D-9A01-E6A808C90F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9853"/>
            </a:gs>
            <a:gs pos="100000">
              <a:srgbClr val="66c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93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50000">
                  <a:srgbClr val="66c161"/>
                </a:gs>
                <a:gs pos="100000">
                  <a:srgbClr val="509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1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4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6c161"/>
                </a:gs>
                <a:gs pos="100000">
                  <a:srgbClr val="2f59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6c161"/>
                </a:gs>
                <a:gs pos="100000">
                  <a:srgbClr val="2f59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2d552f"/>
                </a:gs>
                <a:gs pos="100000">
                  <a:srgbClr val="5098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50000">
                  <a:srgbClr val="66c161"/>
                </a:gs>
                <a:gs pos="100000">
                  <a:srgbClr val="509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9FF-681D-4A7A-9EAC-DEF094638E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94CA-7CFC-4860-9290-01D6DA898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295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6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2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3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4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5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6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7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0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1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5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6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7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8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9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0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1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2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3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4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9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2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3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1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2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4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5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6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7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8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9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0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9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0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1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2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3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7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8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9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0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1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2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3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4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5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6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0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1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2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3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4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5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6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7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8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9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0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4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5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6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7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8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9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0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1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2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3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4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8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9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0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1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2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3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4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5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6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7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8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2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3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4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5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6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7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8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9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0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1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2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6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7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6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0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1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2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3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4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5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6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7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8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9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0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4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6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7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8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9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0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1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2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3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4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8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9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0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1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2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3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4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5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6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7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8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2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3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4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5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6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7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8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9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0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1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2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6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7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8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9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6A1-6668-4DE6-93B2-B33495250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5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76b7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5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4b4eb5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481c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0A4B-F84B-4C13-A099-6CB890A0C148}" type="slidenum">
              <a:rPr b="0" lang="ru-RU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5018-822E-40CB-86D1-2744285F23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0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4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5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44F-BCB3-4B6C-B866-FCB9240216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8a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a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ae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ae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B08-8A04-4387-87E4-225CA9454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1ADF-ACC6-415A-A1EE-B41A800309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DCA-8C43-4182-ACD5-3B645C4DED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9853"/>
            </a:gs>
            <a:gs pos="100000">
              <a:srgbClr val="66c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50000">
                  <a:srgbClr val="66c161"/>
                </a:gs>
                <a:gs pos="100000">
                  <a:srgbClr val="509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6c161"/>
                </a:gs>
                <a:gs pos="100000">
                  <a:srgbClr val="2f59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6c161"/>
                </a:gs>
                <a:gs pos="100000">
                  <a:srgbClr val="2f59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2d552f"/>
                </a:gs>
                <a:gs pos="100000">
                  <a:srgbClr val="5098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100000">
                  <a:srgbClr val="66c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09853"/>
                </a:gs>
                <a:gs pos="50000">
                  <a:srgbClr val="66c161"/>
                </a:gs>
                <a:gs pos="100000">
                  <a:srgbClr val="509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6c1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DBE-442F-4202-9513-A1393949D0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4AD-CEAD-446C-9CEE-478CA9062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7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31FD-60A7-489D-AC45-638580B83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8D6E-24D1-47AA-8903-F1C7DCC491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720360" y="706320"/>
            <a:ext cx="7343640" cy="16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999900"/>
                </a:solidFill>
                <a:latin typeface="Garamond"/>
              </a:rPr>
              <a:t>Уральский</a:t>
            </a:r>
            <a:br>
              <a:rPr sz="5200"/>
            </a:br>
            <a:r>
              <a:rPr b="1" lang="ru-RU" sz="5200" spc="-1" strike="noStrike">
                <a:solidFill>
                  <a:srgbClr val="999900"/>
                </a:solidFill>
                <a:latin typeface="Garamond"/>
              </a:rPr>
              <a:t>экономический район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8" name="TextBox 4"/>
          <p:cNvSpPr/>
          <p:nvPr/>
        </p:nvSpPr>
        <p:spPr>
          <a:xfrm>
            <a:off x="1860840" y="3214800"/>
            <a:ext cx="5266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Выполнил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ученица 11 класса 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МОУ «СОШ № 45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Филиппова Дарь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Научный руководитель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учитель географ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Verdana"/>
              </a:rPr>
              <a:t>Пякшина Галина Петров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Freeform 14"/>
          <p:cNvSpPr/>
          <p:nvPr/>
        </p:nvSpPr>
        <p:spPr>
          <a:xfrm>
            <a:off x="3132000" y="0"/>
            <a:ext cx="2376720" cy="660096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Text Box 15"/>
          <p:cNvSpPr/>
          <p:nvPr/>
        </p:nvSpPr>
        <p:spPr>
          <a:xfrm>
            <a:off x="2389680" y="90792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К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Text Box 16"/>
          <p:cNvSpPr/>
          <p:nvPr/>
        </p:nvSpPr>
        <p:spPr>
          <a:xfrm>
            <a:off x="370800" y="1279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        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Line 17"/>
          <p:cNvSpPr/>
          <p:nvPr/>
        </p:nvSpPr>
        <p:spPr>
          <a:xfrm>
            <a:off x="684360" y="1484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Text Box 20"/>
          <p:cNvSpPr/>
          <p:nvPr/>
        </p:nvSpPr>
        <p:spPr>
          <a:xfrm>
            <a:off x="5215680" y="83664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АК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Text Box 21"/>
          <p:cNvSpPr/>
          <p:nvPr/>
        </p:nvSpPr>
        <p:spPr>
          <a:xfrm>
            <a:off x="5269320" y="1341360"/>
            <a:ext cx="9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К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Text Box 22"/>
          <p:cNvSpPr/>
          <p:nvPr/>
        </p:nvSpPr>
        <p:spPr>
          <a:xfrm>
            <a:off x="7594560" y="765000"/>
            <a:ext cx="116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Line 23"/>
          <p:cNvSpPr/>
          <p:nvPr/>
        </p:nvSpPr>
        <p:spPr>
          <a:xfrm>
            <a:off x="7667640" y="1268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7" name="Text Box 24"/>
          <p:cNvSpPr/>
          <p:nvPr/>
        </p:nvSpPr>
        <p:spPr>
          <a:xfrm>
            <a:off x="1960200" y="2060640"/>
            <a:ext cx="143064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000 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з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-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л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Text Box 25"/>
          <p:cNvSpPr/>
          <p:nvPr/>
        </p:nvSpPr>
        <p:spPr>
          <a:xfrm>
            <a:off x="825120" y="4797360"/>
            <a:ext cx="24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 – подзолисты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ые лес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4967640" y="2060640"/>
            <a:ext cx="180576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50 м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 -35-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л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+25-3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4970880" y="486900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 - черноз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719640" y="6032520"/>
            <a:ext cx="740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Verdana"/>
              </a:rPr>
              <a:t>ВЫВОД: Наиболее благоприятные условия 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Verdana"/>
              </a:rPr>
              <a:t>Предуралье, на Южном и Среднем Ура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472320" y="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РОДНЫЕ УСЛО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3" name="Picture 33" descr="Северный Урал"/>
          <p:cNvPicPr/>
          <p:nvPr/>
        </p:nvPicPr>
        <p:blipFill>
          <a:blip r:embed="rId1"/>
          <a:stretch/>
        </p:blipFill>
        <p:spPr>
          <a:xfrm>
            <a:off x="1258920" y="321300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34" descr="Урал"/>
          <p:cNvPicPr/>
          <p:nvPr/>
        </p:nvPicPr>
        <p:blipFill>
          <a:blip r:embed="rId2"/>
          <a:stretch/>
        </p:blipFill>
        <p:spPr>
          <a:xfrm>
            <a:off x="4859280" y="3141720"/>
            <a:ext cx="2305080" cy="1547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1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780"/>
                            </p:stCondLst>
                            <p:childTnLst>
                              <p:par>
                                <p:cTn id="8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1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18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1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4580"/>
                            </p:stCondLst>
                            <p:childTnLst>
                              <p:par>
                                <p:cTn id="8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80"/>
                            </p:stCondLst>
                            <p:childTnLst>
                              <p:par>
                                <p:cTn id="8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380"/>
                            </p:stCondLst>
                            <p:childTnLst>
                              <p:par>
                                <p:cTn id="90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938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38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158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208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4080"/>
                            </p:stCondLst>
                            <p:childTnLst>
                              <p:par>
                                <p:cTn id="9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692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6" name="AutoShape 5"/>
          <p:cNvSpPr/>
          <p:nvPr/>
        </p:nvSpPr>
        <p:spPr>
          <a:xfrm rot="20127600">
            <a:off x="-1115640" y="3429000"/>
            <a:ext cx="11268000" cy="1368360"/>
          </a:xfrm>
          <a:custGeom>
            <a:avLst/>
            <a:gdLst>
              <a:gd name="textAreaLeft" fmla="*/ 309600 w 11268000"/>
              <a:gd name="textAreaRight" fmla="*/ 10958400 w 1126800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6903" y="-3560"/>
                  <a:pt x="14103" y="6360"/>
                  <a:pt x="21006" y="1400"/>
                </a:cubicBezTo>
                <a:lnTo>
                  <a:pt x="21600" y="20200"/>
                </a:lnTo>
                <a:cubicBezTo>
                  <a:pt x="14697" y="25160"/>
                  <a:pt x="7497" y="15240"/>
                  <a:pt x="594" y="20200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AutoShape 6"/>
          <p:cNvSpPr/>
          <p:nvPr/>
        </p:nvSpPr>
        <p:spPr>
          <a:xfrm rot="12685200">
            <a:off x="-1405080" y="2204640"/>
            <a:ext cx="5761080" cy="93672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AutoShape 7"/>
          <p:cNvSpPr/>
          <p:nvPr/>
        </p:nvSpPr>
        <p:spPr>
          <a:xfrm rot="4291200">
            <a:off x="1743840" y="900360"/>
            <a:ext cx="4680000" cy="865440"/>
          </a:xfrm>
          <a:custGeom>
            <a:avLst/>
            <a:gdLst>
              <a:gd name="textAreaLeft" fmla="*/ 0 w 4680000"/>
              <a:gd name="textAreaRight" fmla="*/ 4680360 w 4680000"/>
              <a:gd name="textAreaTop" fmla="*/ 111960 h 865440"/>
              <a:gd name="textAreaBottom" fmla="*/ 753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AutoShape 8"/>
          <p:cNvSpPr/>
          <p:nvPr/>
        </p:nvSpPr>
        <p:spPr>
          <a:xfrm rot="13575600">
            <a:off x="4738320" y="544320"/>
            <a:ext cx="3652920" cy="934920"/>
          </a:xfrm>
          <a:custGeom>
            <a:avLst/>
            <a:gdLst>
              <a:gd name="textAreaLeft" fmla="*/ 0 w 3652920"/>
              <a:gd name="textAreaRight" fmla="*/ 3653280 w 365292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0" name="AutoShape 9"/>
          <p:cNvSpPr/>
          <p:nvPr/>
        </p:nvSpPr>
        <p:spPr>
          <a:xfrm rot="17190000">
            <a:off x="2773080" y="4919040"/>
            <a:ext cx="4824360" cy="1944720"/>
          </a:xfrm>
          <a:custGeom>
            <a:avLst/>
            <a:gdLst>
              <a:gd name="textAreaLeft" fmla="*/ 0 w 4824360"/>
              <a:gd name="textAreaRight" fmla="*/ 4824720 w 482436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Text Box 12"/>
          <p:cNvSpPr/>
          <p:nvPr/>
        </p:nvSpPr>
        <p:spPr>
          <a:xfrm rot="20350800">
            <a:off x="4464360" y="3716280"/>
            <a:ext cx="9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Text Box 13"/>
          <p:cNvSpPr/>
          <p:nvPr/>
        </p:nvSpPr>
        <p:spPr>
          <a:xfrm rot="1929600">
            <a:off x="1617480" y="2780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ЕЛ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Text Box 15"/>
          <p:cNvSpPr/>
          <p:nvPr/>
        </p:nvSpPr>
        <p:spPr>
          <a:xfrm rot="2591400">
            <a:off x="6085440" y="8823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ШЕ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Text Box 18"/>
          <p:cNvSpPr/>
          <p:nvPr/>
        </p:nvSpPr>
        <p:spPr>
          <a:xfrm>
            <a:off x="2775240" y="52293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Text Box 19"/>
          <p:cNvSpPr/>
          <p:nvPr/>
        </p:nvSpPr>
        <p:spPr>
          <a:xfrm>
            <a:off x="2158560" y="5589720"/>
            <a:ext cx="192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ДНЫ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УР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6" name="Text Box 20"/>
          <p:cNvSpPr/>
          <p:nvPr/>
        </p:nvSpPr>
        <p:spPr>
          <a:xfrm rot="4390800">
            <a:off x="3556800" y="170748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УСОВ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8000">
    <p:zoom dir="out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9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500"/>
                            </p:stCondLst>
                            <p:childTnLst>
                              <p:par>
                                <p:cTn id="9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65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5"/>
          <p:cNvSpPr/>
          <p:nvPr/>
        </p:nvSpPr>
        <p:spPr>
          <a:xfrm>
            <a:off x="-541440" y="115920"/>
            <a:ext cx="40975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4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Text Box 6"/>
          <p:cNvSpPr/>
          <p:nvPr/>
        </p:nvSpPr>
        <p:spPr>
          <a:xfrm>
            <a:off x="3319920" y="13366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П=1,9 чел/1000 ж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0" name="Text Box 7"/>
          <p:cNvSpPr/>
          <p:nvPr/>
        </p:nvSpPr>
        <p:spPr>
          <a:xfrm>
            <a:off x="320364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Text Box 9"/>
          <p:cNvSpPr/>
          <p:nvPr/>
        </p:nvSpPr>
        <p:spPr>
          <a:xfrm>
            <a:off x="3253320" y="162864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=25 чел/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Text Box 10"/>
          <p:cNvSpPr/>
          <p:nvPr/>
        </p:nvSpPr>
        <p:spPr>
          <a:xfrm>
            <a:off x="3132000" y="198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банизация=75%,города-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ллионеры – Пермь, Уф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ябинск, Екатеринбур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Text Box 11"/>
          <p:cNvSpPr/>
          <p:nvPr/>
        </p:nvSpPr>
        <p:spPr>
          <a:xfrm>
            <a:off x="3323880" y="3068640"/>
            <a:ext cx="54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гонационально – 80%-русск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дмурты, башкиры, коми-пермя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4" name="Text Box 12"/>
          <p:cNvSpPr/>
          <p:nvPr/>
        </p:nvSpPr>
        <p:spPr>
          <a:xfrm>
            <a:off x="3300840" y="3789360"/>
            <a:ext cx="587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ительный отток населения из-з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ровых климатических условий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ож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Text Box 13"/>
          <p:cNvSpPr/>
          <p:nvPr/>
        </p:nvSpPr>
        <p:spPr>
          <a:xfrm>
            <a:off x="3270240" y="4869000"/>
            <a:ext cx="58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грация русскоязычного насе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стран С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Line 16"/>
          <p:cNvSpPr/>
          <p:nvPr/>
        </p:nvSpPr>
        <p:spPr>
          <a:xfrm>
            <a:off x="2987640" y="155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7" name="Line 17"/>
          <p:cNvSpPr/>
          <p:nvPr/>
        </p:nvSpPr>
        <p:spPr>
          <a:xfrm>
            <a:off x="2987640" y="1916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Line 18"/>
          <p:cNvSpPr/>
          <p:nvPr/>
        </p:nvSpPr>
        <p:spPr>
          <a:xfrm>
            <a:off x="2987640" y="22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Line 19"/>
          <p:cNvSpPr/>
          <p:nvPr/>
        </p:nvSpPr>
        <p:spPr>
          <a:xfrm>
            <a:off x="2987640" y="33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Line 20"/>
          <p:cNvSpPr/>
          <p:nvPr/>
        </p:nvSpPr>
        <p:spPr>
          <a:xfrm>
            <a:off x="2987640" y="40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Line 21"/>
          <p:cNvSpPr/>
          <p:nvPr/>
        </p:nvSpPr>
        <p:spPr>
          <a:xfrm>
            <a:off x="2987640" y="51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2" name="Text Box 22"/>
          <p:cNvSpPr/>
          <p:nvPr/>
        </p:nvSpPr>
        <p:spPr>
          <a:xfrm>
            <a:off x="934200" y="607212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: НЕДОСТАТОК ТРУДОВЫХ РЕСУР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1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1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1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720"/>
                            </p:stCondLst>
                            <p:childTnLst>
                              <p:par>
                                <p:cTn id="1054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720"/>
                            </p:stCondLst>
                            <p:childTnLst>
                              <p:par>
                                <p:cTn id="10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200"/>
                            </p:stCondLst>
                            <p:childTnLst>
                              <p:par>
                                <p:cTn id="1067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82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880"/>
                            </p:stCondLst>
                            <p:childTnLst>
                              <p:par>
                                <p:cTn id="1080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2880"/>
                            </p:stCondLst>
                            <p:childTnLst>
                              <p:par>
                                <p:cTn id="10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200"/>
                            </p:stCondLst>
                            <p:childTnLst>
                              <p:par>
                                <p:cTn id="1093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7200"/>
                            </p:stCondLst>
                            <p:childTnLst>
                              <p:par>
                                <p:cTn id="1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720"/>
                            </p:stCondLst>
                            <p:childTnLst>
                              <p:par>
                                <p:cTn id="110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2720"/>
                            </p:stCondLst>
                            <p:childTnLst>
                              <p:par>
                                <p:cTn id="1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4400"/>
                            </p:stCondLst>
                            <p:childTnLst>
                              <p:par>
                                <p:cTn id="1119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1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ни прославили Ура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.П. Бажов – цикл рассказов об                       Урале («Малахитовая шкатулка» и други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.Н. Мамин-Сибиряк – «Серая шей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.Т. Аксаков – «Аленький цветочек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.Е. Ферсман – геолог, автор книги «Путешествие за камне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zoom dir="out"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1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29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РОМЫШЛЕННОСТЬ –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основа экономики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6" name="Text Box 5"/>
          <p:cNvSpPr/>
          <p:nvPr/>
        </p:nvSpPr>
        <p:spPr>
          <a:xfrm>
            <a:off x="1187280" y="170028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709a"/>
                </a:solidFill>
                <a:latin typeface="Verdana"/>
              </a:rPr>
              <a:t>Отрасли специализац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Text Box 8"/>
          <p:cNvSpPr/>
          <p:nvPr/>
        </p:nvSpPr>
        <p:spPr>
          <a:xfrm>
            <a:off x="1565640" y="2421000"/>
            <a:ext cx="706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Металлургия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черная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гнитогорск, Н.Тагил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ябинск, Новотроицк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2400" spc="-1" strike="noStrike">
                <a:solidFill>
                  <a:srgbClr val="c4709a"/>
                </a:solidFill>
                <a:latin typeface="Verdana"/>
              </a:rPr>
              <a:t>ц</a:t>
            </a:r>
            <a:r>
              <a:rPr b="1" lang="ru-RU" sz="2400" spc="-1" strike="noStrike">
                <a:solidFill>
                  <a:srgbClr val="4b4eb5"/>
                </a:solidFill>
                <a:latin typeface="Verdana"/>
              </a:rPr>
              <a:t>в</a:t>
            </a:r>
            <a:r>
              <a:rPr b="1" lang="ru-RU" sz="2400" spc="-1" strike="noStrike">
                <a:solidFill>
                  <a:srgbClr val="c481cf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76b749"/>
                </a:solidFill>
                <a:latin typeface="Verdana"/>
              </a:rPr>
              <a:t>т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н</a:t>
            </a:r>
            <a:r>
              <a:rPr b="1" lang="ru-RU" sz="2400" spc="-1" strike="noStrike">
                <a:solidFill>
                  <a:srgbClr val="3399ff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66cc"/>
                </a:solidFill>
                <a:latin typeface="Verdana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Реж, Ревда, В.Пышм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абаш, Медногорс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Text Box 9"/>
          <p:cNvSpPr/>
          <p:nvPr/>
        </p:nvSpPr>
        <p:spPr>
          <a:xfrm>
            <a:off x="900000" y="4210200"/>
            <a:ext cx="790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МСК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а) металлоемкое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катеринбург(Уралмаш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ябинск(трубный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б) наукоемкое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ябинск(трактор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рктики и Антарктики), Миасс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автомобили «Урал»), Ижевск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«Иж-комби», оруж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9" name="Text Box 10"/>
          <p:cNvSpPr/>
          <p:nvPr/>
        </p:nvSpPr>
        <p:spPr>
          <a:xfrm>
            <a:off x="1192320" y="2852640"/>
            <a:ext cx="730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Химическая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резняки, Соликамск(калий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добрения); Салават, Стерлитамак, Уф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мь(пластмассы, сода, каучук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карст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0" name="Text Box 12"/>
          <p:cNvSpPr/>
          <p:nvPr/>
        </p:nvSpPr>
        <p:spPr>
          <a:xfrm>
            <a:off x="1122120" y="508464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3bd4f"/>
                </a:solidFill>
                <a:uFillTx/>
                <a:latin typeface="Verdana"/>
              </a:rPr>
              <a:t>Лесная и ЦБП:</a:t>
            </a:r>
            <a:r>
              <a:rPr b="1" lang="ru-RU" sz="2400" spc="-1" strike="noStrike">
                <a:solidFill>
                  <a:srgbClr val="43bd4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асновишерск, Нов.Ляля, Сось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1" name="Text Box 14"/>
          <p:cNvSpPr/>
          <p:nvPr/>
        </p:nvSpPr>
        <p:spPr>
          <a:xfrm>
            <a:off x="3815280" y="21495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709a"/>
                </a:solidFill>
                <a:latin typeface="Verdana"/>
              </a:rPr>
              <a:t>А такж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Text Box 15"/>
          <p:cNvSpPr/>
          <p:nvPr/>
        </p:nvSpPr>
        <p:spPr>
          <a:xfrm>
            <a:off x="1228680" y="3789360"/>
            <a:ext cx="56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Электроэнергетик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Verdan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ЭС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мская, Воткинска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ЭС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тинска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ЭС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ояр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3" name="Text Box 16"/>
          <p:cNvSpPr/>
          <p:nvPr/>
        </p:nvSpPr>
        <p:spPr>
          <a:xfrm>
            <a:off x="437040" y="6093000"/>
            <a:ext cx="82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омный недостаток электроэнер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4000"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9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8400"/>
                            </p:stCondLst>
                            <p:childTnLst>
                              <p:par>
                                <p:cTn id="118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8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7400"/>
                            </p:stCondLst>
                            <p:childTnLst>
                              <p:par>
                                <p:cTn id="119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1200"/>
                            </p:stCondLst>
                            <p:childTnLst>
                              <p:par>
                                <p:cTn id="1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800"/>
                            </p:stCondLst>
                            <p:childTnLst>
                              <p:par>
                                <p:cTn id="120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9100"/>
                            </p:stCondLst>
                            <p:childTnLst>
                              <p:par>
                                <p:cTn id="121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33900"/>
                            </p:stCondLst>
                            <p:childTnLst>
                              <p:par>
                                <p:cTn id="1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7300"/>
                            </p:stCondLst>
                            <p:childTnLst>
                              <p:par>
                                <p:cTn id="122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1200"/>
                            </p:stCondLst>
                            <p:childTnLst>
                              <p:par>
                                <p:cTn id="123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36" nodeType="after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2300"/>
                            </p:stCondLst>
                            <p:childTnLst>
                              <p:par>
                                <p:cTn id="130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7700"/>
                            </p:stCondLst>
                            <p:childTnLst>
                              <p:par>
                                <p:cTn id="131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62500"/>
                            </p:stCondLst>
                            <p:childTnLst>
                              <p:par>
                                <p:cTn id="132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65400"/>
                            </p:stCondLst>
                            <p:childTnLst>
                              <p:par>
                                <p:cTn id="132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71300"/>
                            </p:stCondLst>
                            <p:childTnLst>
                              <p:par>
                                <p:cTn id="1332" nodeType="after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3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73300"/>
                            </p:stCondLst>
                            <p:childTnLst>
                              <p:par>
                                <p:cTn id="1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73800"/>
                            </p:stCondLst>
                            <p:childTnLst>
                              <p:par>
                                <p:cTn id="13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76500"/>
                            </p:stCondLst>
                            <p:childTnLst>
                              <p:par>
                                <p:cTn id="1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79700"/>
                            </p:stCondLst>
                            <p:childTnLst>
                              <p:par>
                                <p:cTn id="138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1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1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82700"/>
                            </p:stCondLst>
                            <p:childTnLst>
                              <p:par>
                                <p:cTn id="138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85500"/>
                            </p:stCondLst>
                            <p:childTnLst>
                              <p:par>
                                <p:cTn id="139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4" name="Picture 2" descr="H:\Documents and Settings\Million4\Рабочий стол\Картинки\Урал\prom_ch.jpg"/>
          <p:cNvPicPr/>
          <p:nvPr/>
        </p:nvPicPr>
        <p:blipFill>
          <a:blip r:embed="rId1"/>
          <a:stretch/>
        </p:blipFill>
        <p:spPr>
          <a:xfrm>
            <a:off x="1928880" y="20520"/>
            <a:ext cx="5286240" cy="6837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5" name="Picture 2" descr="H:\Documents and Settings\Million4\Рабочий стол\Картинки\Урал\.Екатеринбург - промышленный центр урал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6" name="TextBox 2"/>
          <p:cNvSpPr/>
          <p:nvPr/>
        </p:nvSpPr>
        <p:spPr>
          <a:xfrm>
            <a:off x="357120" y="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Екатеринбург  - промышленный центр Ур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8000">
    <p:zoom dir="out"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5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Picture 3" descr="H:\Documents and Settings\Million4\Рабочий стол\Картинки\Урал\graphs20328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8" name="Picture 3" descr="H:\Documents and Settings\Million4\Рабочий стол\Картинки\Урал\ural__2.jpg"/>
          <p:cNvPicPr/>
          <p:nvPr/>
        </p:nvPicPr>
        <p:blipFill>
          <a:blip r:embed="rId1"/>
          <a:stretch/>
        </p:blipFill>
        <p:spPr>
          <a:xfrm>
            <a:off x="0" y="0"/>
            <a:ext cx="4457880" cy="299088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5" descr="H:\Documents and Settings\Million4\Рабочий стол\Картинки\Урал\Урал-583109 предназначен для перевозки различных насыпных и навалочных строительных и промышленных грузов по дорогам I-IV категорий.jpg"/>
          <p:cNvPicPr/>
          <p:nvPr/>
        </p:nvPicPr>
        <p:blipFill>
          <a:blip r:embed="rId2"/>
          <a:stretch/>
        </p:blipFill>
        <p:spPr>
          <a:xfrm>
            <a:off x="2428920" y="2357280"/>
            <a:ext cx="5002200" cy="385776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4" descr="H:\Documents and Settings\Million4\Рабочий стол\Картинки\Урал\Автомобильный завод Урал изготовил опытно-промышленную партию самосвалов Урал-6563..jpg"/>
          <p:cNvPicPr/>
          <p:nvPr/>
        </p:nvPicPr>
        <p:blipFill>
          <a:blip r:embed="rId3"/>
          <a:stretch/>
        </p:blipFill>
        <p:spPr>
          <a:xfrm>
            <a:off x="5486400" y="4000680"/>
            <a:ext cx="365760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9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7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1" nodeType="afterEffect" fill="hold" presetClass="emph" presetID="14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4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1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1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4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1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1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14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animClr clrSpc="rgb">
                                      <p:cBhvr>
                                        <p:cTn id="1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b4eb5"/>
                                      </p:to>
                                    </p:animClr>
                                    <p:set>
                                      <p:cBhvr>
                                        <p:cTn id="1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ллу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сная и ЦБ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лектроэнерге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4000">
    <p:zoom dir="out"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3600"/>
                            </p:stCondLst>
                            <p:childTnLst>
                              <p:par>
                                <p:cTn id="1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1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1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1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750"/>
                            </p:stCondLst>
                            <p:childTnLst>
                              <p:par>
                                <p:cTn id="1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1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1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1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1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1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СТА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Arial"/>
              </a:rPr>
              <a:t>РЕСПУБЛИКИ 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шкортостан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1" name="Text Box 4"/>
          <p:cNvSpPr/>
          <p:nvPr/>
        </p:nvSpPr>
        <p:spPr>
          <a:xfrm>
            <a:off x="3203640" y="3933720"/>
            <a:ext cx="28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Text Box 6"/>
          <p:cNvSpPr/>
          <p:nvPr/>
        </p:nvSpPr>
        <p:spPr>
          <a:xfrm>
            <a:off x="3059280" y="38606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Удмурт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Text Box 7"/>
          <p:cNvSpPr/>
          <p:nvPr/>
        </p:nvSpPr>
        <p:spPr>
          <a:xfrm>
            <a:off x="3564000" y="242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Verdana"/>
              </a:rPr>
              <a:t>КРА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Text Box 8"/>
          <p:cNvSpPr/>
          <p:nvPr/>
        </p:nvSpPr>
        <p:spPr>
          <a:xfrm>
            <a:off x="2484360" y="3645000"/>
            <a:ext cx="424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Пермски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(Пермская область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Коми-Пермяцкий АО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Text Box 9"/>
          <p:cNvSpPr/>
          <p:nvPr/>
        </p:nvSpPr>
        <p:spPr>
          <a:xfrm>
            <a:off x="3203640" y="2421000"/>
            <a:ext cx="2376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Text Box 10"/>
          <p:cNvSpPr/>
          <p:nvPr/>
        </p:nvSpPr>
        <p:spPr>
          <a:xfrm>
            <a:off x="2484360" y="24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Verdana"/>
              </a:rPr>
              <a:t>ОБЛАСТИ :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Text Box 12"/>
          <p:cNvSpPr/>
          <p:nvPr/>
        </p:nvSpPr>
        <p:spPr>
          <a:xfrm>
            <a:off x="2484360" y="407664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Оренбургск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Text Box 13"/>
          <p:cNvSpPr/>
          <p:nvPr/>
        </p:nvSpPr>
        <p:spPr>
          <a:xfrm>
            <a:off x="2771640" y="4221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Курганск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Text Box 14"/>
          <p:cNvSpPr/>
          <p:nvPr/>
        </p:nvSpPr>
        <p:spPr>
          <a:xfrm>
            <a:off x="2124000" y="42354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Свердловск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Text Box 15"/>
          <p:cNvSpPr/>
          <p:nvPr/>
        </p:nvSpPr>
        <p:spPr>
          <a:xfrm>
            <a:off x="2556000" y="43084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Челябинск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Text Box 16"/>
          <p:cNvSpPr/>
          <p:nvPr/>
        </p:nvSpPr>
        <p:spPr>
          <a:xfrm>
            <a:off x="2419560" y="1268280"/>
            <a:ext cx="437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мур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шкортост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урганская обл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лябинская обл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ренбургская обл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ердловская обл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ердловская обл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мский кра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ермская область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и-Пермяцкий А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3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220"/>
                            </p:stCondLst>
                            <p:childTnLst>
                              <p:par>
                                <p:cTn id="68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720"/>
                            </p:stCondLst>
                            <p:childTnLst>
                              <p:par>
                                <p:cTn id="81" nodeType="after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72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72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220"/>
                            </p:stCondLst>
                            <p:childTnLst>
                              <p:par>
                                <p:cTn id="9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72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220"/>
                            </p:stCondLst>
                            <p:childTnLst>
                              <p:par>
                                <p:cTn id="10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72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219"/>
                            </p:stCondLst>
                            <p:childTnLst>
                              <p:par>
                                <p:cTn id="11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72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22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720"/>
                            </p:stCondLst>
                            <p:childTnLst>
                              <p:par>
                                <p:cTn id="131" nodeType="after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22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СЕЛЬСКОЕ ХОЗЯЙСТВО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яровая пшеница, подсолнечник, сахар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екла, лен(Предураль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Ж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РС(мясо-молочное),козы(Оренбург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человодство(Башкортостан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ОЛНОСТЬЮ ОБЕСПЕЧИВАЕТ СЕБЯ ПРОДУКТАМИ ПИТАНИЯ И ЗНАЧИТЕЛЬНУЮ ЧАСТЬ ЗАВОЗИТ ИЗ ПОВОЛЖЬ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4000">
    <p:zoom dir="out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5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1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1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6200"/>
                            </p:stCondLst>
                            <p:childTnLst>
                              <p:par>
                                <p:cTn id="1521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9800"/>
                            </p:stCondLst>
                            <p:childTnLst>
                              <p:par>
                                <p:cTn id="152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5300"/>
                            </p:stCondLst>
                            <p:childTnLst>
                              <p:par>
                                <p:cTn id="153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1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9300"/>
                            </p:stCondLst>
                            <p:childTnLst>
                              <p:par>
                                <p:cTn id="153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1" dur="2000"/>
                                        <p:tgtEl>
                                          <p:spTgt spid="18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8626"/>
                </a:solidFill>
                <a:latin typeface="Tahoma"/>
              </a:rPr>
              <a:t>Урал! Опорный край держав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8626"/>
                </a:solidFill>
                <a:latin typeface="Tahoma"/>
              </a:rPr>
              <a:t>Ее добытчик и кузнец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8626"/>
                </a:solidFill>
                <a:latin typeface="Tahoma"/>
              </a:rPr>
              <a:t>Ровесник древней нашей сла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8626"/>
                </a:solidFill>
                <a:latin typeface="Tahoma"/>
              </a:rPr>
              <a:t>И славы нынешней творец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8626"/>
                </a:solidFill>
                <a:latin typeface="Tahoma"/>
              </a:rPr>
              <a:t>А.Т. Твард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e1ff"/>
                </a:solidFill>
                <a:latin typeface="Arial"/>
              </a:rPr>
              <a:t>S</a:t>
            </a:r>
            <a:r>
              <a:rPr b="0" lang="ru-RU" sz="5400" spc="-1" strike="noStrike">
                <a:solidFill>
                  <a:srgbClr val="afe1ff"/>
                </a:solidFill>
                <a:latin typeface="Arial"/>
              </a:rPr>
              <a:t> = 834 тыс.км</a:t>
            </a:r>
            <a:r>
              <a:rPr b="0" lang="ru-RU" sz="5400" spc="-1" strike="noStrike" baseline="30000">
                <a:solidFill>
                  <a:srgbClr val="afe1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fe1ff"/>
                </a:solidFill>
                <a:latin typeface="Arial"/>
              </a:rPr>
              <a:t>Н = 20 млн.чел.</a:t>
            </a:r>
            <a:endParaRPr b="0" lang="en-US" sz="5400" spc="-1" strike="noStrike">
              <a:solidFill>
                <a:srgbClr val="008ae8"/>
              </a:solidFill>
              <a:latin typeface="Arial"/>
            </a:endParaRPr>
          </a:p>
        </p:txBody>
      </p:sp>
    </p:spTree>
  </p:cSld>
  <p:transition spd="slow" advTm="17000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Picture 11" descr="j0251301"/>
          <p:cNvPicPr/>
          <p:nvPr/>
        </p:nvPicPr>
        <p:blipFill>
          <a:blip r:embed="rId1"/>
          <a:stretch/>
        </p:blipFill>
        <p:spPr>
          <a:xfrm>
            <a:off x="3564000" y="2205000"/>
            <a:ext cx="2017800" cy="1405080"/>
          </a:xfrm>
          <a:prstGeom prst="rect">
            <a:avLst/>
          </a:prstGeom>
          <a:ln w="0">
            <a:noFill/>
          </a:ln>
        </p:spPr>
      </p:pic>
      <p:sp>
        <p:nvSpPr>
          <p:cNvPr id="1666" name="WordArt 12"/>
          <p:cNvSpPr txBox="1"/>
          <p:nvPr/>
        </p:nvSpPr>
        <p:spPr>
          <a:xfrm>
            <a:off x="3635280" y="3429000"/>
            <a:ext cx="12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Г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7" name="Text Box 14"/>
          <p:cNvSpPr/>
          <p:nvPr/>
        </p:nvSpPr>
        <p:spPr>
          <a:xfrm>
            <a:off x="0" y="476280"/>
            <a:ext cx="419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востоку от Москв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стоке Рус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Text Box 15"/>
          <p:cNvSpPr/>
          <p:nvPr/>
        </p:nvSpPr>
        <p:spPr>
          <a:xfrm>
            <a:off x="4211640" y="5493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ница между Европ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Азией, на перес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анспортных пу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Text Box 16"/>
          <p:cNvSpPr/>
          <p:nvPr/>
        </p:nvSpPr>
        <p:spPr>
          <a:xfrm>
            <a:off x="6012000" y="1773360"/>
            <a:ext cx="31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Азии в Евразию          и наоборо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0" name="Text Box 17"/>
          <p:cNvSpPr/>
          <p:nvPr/>
        </p:nvSpPr>
        <p:spPr>
          <a:xfrm>
            <a:off x="-181080" y="221940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к южной границе стран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нице 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захстан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П - выгод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Text Box 18"/>
          <p:cNvSpPr/>
          <p:nvPr/>
        </p:nvSpPr>
        <p:spPr>
          <a:xfrm>
            <a:off x="5883120" y="342900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ямого выхода к морям 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Text Box 19"/>
          <p:cNvSpPr/>
          <p:nvPr/>
        </p:nvSpPr>
        <p:spPr>
          <a:xfrm>
            <a:off x="900000" y="48848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нергетическая и сырьевая базы сво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овольственная – своя + Поволж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Text Box 20"/>
          <p:cNvSpPr/>
          <p:nvPr/>
        </p:nvSpPr>
        <p:spPr>
          <a:xfrm>
            <a:off x="1835280" y="62514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ВОД 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ГОД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AutoShape 23"/>
          <p:cNvSpPr/>
          <p:nvPr/>
        </p:nvSpPr>
        <p:spPr>
          <a:xfrm rot="13537800">
            <a:off x="2957760" y="18738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AutoShape 24"/>
          <p:cNvSpPr/>
          <p:nvPr/>
        </p:nvSpPr>
        <p:spPr>
          <a:xfrm rot="20067000">
            <a:off x="5275440" y="2296800"/>
            <a:ext cx="1150920" cy="48564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6" name="AutoShape 25"/>
          <p:cNvSpPr/>
          <p:nvPr/>
        </p:nvSpPr>
        <p:spPr>
          <a:xfrm rot="10800000">
            <a:off x="2627280" y="31413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7" name="AutoShape 26"/>
          <p:cNvSpPr/>
          <p:nvPr/>
        </p:nvSpPr>
        <p:spPr>
          <a:xfrm rot="1353600">
            <a:off x="4932000" y="32842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AutoShape 27"/>
          <p:cNvSpPr/>
          <p:nvPr/>
        </p:nvSpPr>
        <p:spPr>
          <a:xfrm rot="5400000">
            <a:off x="3914640" y="4446360"/>
            <a:ext cx="647640" cy="486000"/>
          </a:xfrm>
          <a:custGeom>
            <a:avLst/>
            <a:gdLst>
              <a:gd name="textAreaLeft" fmla="*/ 81000 w 647640"/>
              <a:gd name="textAreaRight" fmla="*/ 567000 w 64764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3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aa00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лится с севера на ю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Freeform 5"/>
          <p:cNvSpPr/>
          <p:nvPr/>
        </p:nvSpPr>
        <p:spPr>
          <a:xfrm rot="10800000">
            <a:off x="3131640" y="1197000"/>
            <a:ext cx="1729080" cy="5113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Line 6"/>
          <p:cNvSpPr/>
          <p:nvPr/>
        </p:nvSpPr>
        <p:spPr>
          <a:xfrm>
            <a:off x="3924360" y="1916280"/>
            <a:ext cx="21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Line 7"/>
          <p:cNvSpPr/>
          <p:nvPr/>
        </p:nvSpPr>
        <p:spPr>
          <a:xfrm>
            <a:off x="370836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4" name="Line 8"/>
          <p:cNvSpPr/>
          <p:nvPr/>
        </p:nvSpPr>
        <p:spPr>
          <a:xfrm>
            <a:off x="3708360" y="4076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5" name="Line 10"/>
          <p:cNvSpPr/>
          <p:nvPr/>
        </p:nvSpPr>
        <p:spPr>
          <a:xfrm>
            <a:off x="3708360" y="5229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6" name="Text Box 11"/>
          <p:cNvSpPr/>
          <p:nvPr/>
        </p:nvSpPr>
        <p:spPr>
          <a:xfrm>
            <a:off x="1476360" y="1125360"/>
            <a:ext cx="719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aa00"/>
                </a:solidFill>
                <a:latin typeface="Verdana"/>
              </a:rPr>
              <a:t>DZ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Г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Е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Р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Ц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И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Н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С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К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А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Я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С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К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Л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А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Д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Ч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Text Box 12"/>
          <p:cNvSpPr/>
          <p:nvPr/>
        </p:nvSpPr>
        <p:spPr>
          <a:xfrm>
            <a:off x="2340000" y="2492280"/>
            <a:ext cx="37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Oval 13"/>
          <p:cNvSpPr/>
          <p:nvPr/>
        </p:nvSpPr>
        <p:spPr>
          <a:xfrm>
            <a:off x="3780000" y="2205000"/>
            <a:ext cx="71280" cy="73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Text Box 14"/>
          <p:cNvSpPr/>
          <p:nvPr/>
        </p:nvSpPr>
        <p:spPr>
          <a:xfrm>
            <a:off x="399564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. Народная-1895 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0" name="Text Box 15"/>
          <p:cNvSpPr/>
          <p:nvPr/>
        </p:nvSpPr>
        <p:spPr>
          <a:xfrm>
            <a:off x="4356000" y="141300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ЯР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Text Box 16"/>
          <p:cNvSpPr/>
          <p:nvPr/>
        </p:nvSpPr>
        <p:spPr>
          <a:xfrm>
            <a:off x="4067280" y="2492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ПОЛЯР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Text Box 17"/>
          <p:cNvSpPr/>
          <p:nvPr/>
        </p:nvSpPr>
        <p:spPr>
          <a:xfrm>
            <a:off x="3995640" y="335772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Text Box 18"/>
          <p:cNvSpPr/>
          <p:nvPr/>
        </p:nvSpPr>
        <p:spPr>
          <a:xfrm>
            <a:off x="4067280" y="43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ИЙ-500 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4" name="Text Box 19"/>
          <p:cNvSpPr/>
          <p:nvPr/>
        </p:nvSpPr>
        <p:spPr>
          <a:xfrm>
            <a:off x="4140360" y="5445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ЮЖНЫЙ-1640 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24"/>
          <p:cNvSpPr/>
          <p:nvPr/>
        </p:nvSpPr>
        <p:spPr>
          <a:xfrm>
            <a:off x="6588000" y="1149480"/>
            <a:ext cx="565200" cy="2974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25"/>
          <p:cNvSpPr/>
          <p:nvPr/>
        </p:nvSpPr>
        <p:spPr>
          <a:xfrm>
            <a:off x="6659640" y="5205240"/>
            <a:ext cx="623880" cy="11764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8244000" y="1052640"/>
            <a:ext cx="5745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В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aa00"/>
                </a:solidFill>
                <a:latin typeface="Verdana"/>
              </a:rPr>
              <a:t>KZ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З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aa00"/>
                </a:solidFill>
                <a:latin typeface="Verdana"/>
              </a:rPr>
              <a:t>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AutoShape 29"/>
          <p:cNvSpPr/>
          <p:nvPr/>
        </p:nvSpPr>
        <p:spPr>
          <a:xfrm rot="19298400">
            <a:off x="7203960" y="5283000"/>
            <a:ext cx="1008000" cy="287280"/>
          </a:xfrm>
          <a:prstGeom prst="rightArrow">
            <a:avLst>
              <a:gd name="adj1" fmla="val 50000"/>
              <a:gd name="adj2" fmla="val 877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AutoShape 30"/>
          <p:cNvSpPr/>
          <p:nvPr/>
        </p:nvSpPr>
        <p:spPr>
          <a:xfrm rot="2015400">
            <a:off x="7164000" y="263664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831600" y="1484280"/>
            <a:ext cx="36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Й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Э</a:t>
            </a:r>
            <a:br>
              <a:rPr sz="1800"/>
            </a:b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aa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4000"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700"/>
                            </p:stCondLst>
                            <p:childTnLst>
                              <p:par>
                                <p:cTn id="3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7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7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42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7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70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60"/>
                            </p:stCondLst>
                            <p:childTnLst>
                              <p:par>
                                <p:cTn id="399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6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04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54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3220"/>
                            </p:stCondLst>
                            <p:childTnLst>
                              <p:par>
                                <p:cTn id="42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220"/>
                            </p:stCondLst>
                            <p:childTnLst>
                              <p:par>
                                <p:cTn id="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580"/>
                            </p:stCondLst>
                            <p:childTnLst>
                              <p:par>
                                <p:cTn id="44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8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858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58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8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также - с запада на вост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Freeform 10"/>
          <p:cNvSpPr/>
          <p:nvPr/>
        </p:nvSpPr>
        <p:spPr>
          <a:xfrm>
            <a:off x="2843280" y="620640"/>
            <a:ext cx="5976720" cy="5076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Line 11"/>
          <p:cNvSpPr/>
          <p:nvPr/>
        </p:nvSpPr>
        <p:spPr>
          <a:xfrm>
            <a:off x="4356000" y="191628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Line 12"/>
          <p:cNvSpPr/>
          <p:nvPr/>
        </p:nvSpPr>
        <p:spPr>
          <a:xfrm>
            <a:off x="6012000" y="155736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Text Box 13"/>
          <p:cNvSpPr/>
          <p:nvPr/>
        </p:nvSpPr>
        <p:spPr>
          <a:xfrm>
            <a:off x="4211640" y="549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Горный Ур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Text Box 14"/>
          <p:cNvSpPr/>
          <p:nvPr/>
        </p:nvSpPr>
        <p:spPr>
          <a:xfrm>
            <a:off x="2195640" y="19321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Предураль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Text Box 15"/>
          <p:cNvSpPr/>
          <p:nvPr/>
        </p:nvSpPr>
        <p:spPr>
          <a:xfrm>
            <a:off x="2484360" y="3429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Русск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равн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Text Box 16"/>
          <p:cNvSpPr/>
          <p:nvPr/>
        </p:nvSpPr>
        <p:spPr>
          <a:xfrm>
            <a:off x="630072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Verdana"/>
              </a:rPr>
              <a:t>Заураль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Text Box 18"/>
          <p:cNvSpPr/>
          <p:nvPr/>
        </p:nvSpPr>
        <p:spPr>
          <a:xfrm>
            <a:off x="6227640" y="3429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Западно-Сибирск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равн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Text Box 19"/>
          <p:cNvSpPr/>
          <p:nvPr/>
        </p:nvSpPr>
        <p:spPr>
          <a:xfrm>
            <a:off x="4356000" y="2060640"/>
            <a:ext cx="172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Метаморфическ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удрагоценные и драгоце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м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Text Box 23"/>
          <p:cNvSpPr/>
          <p:nvPr/>
        </p:nvSpPr>
        <p:spPr>
          <a:xfrm>
            <a:off x="2050920" y="5516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Краевой проги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Rectangle 24"/>
          <p:cNvSpPr/>
          <p:nvPr/>
        </p:nvSpPr>
        <p:spPr>
          <a:xfrm>
            <a:off x="250920" y="3645000"/>
            <a:ext cx="3603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Text Box 26"/>
          <p:cNvSpPr/>
          <p:nvPr/>
        </p:nvSpPr>
        <p:spPr>
          <a:xfrm>
            <a:off x="684360" y="342900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4" name="AutoShape 27"/>
          <p:cNvSpPr/>
          <p:nvPr/>
        </p:nvSpPr>
        <p:spPr>
          <a:xfrm>
            <a:off x="1116000" y="3284640"/>
            <a:ext cx="287280" cy="698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5" name="Text Box 28"/>
          <p:cNvSpPr/>
          <p:nvPr/>
        </p:nvSpPr>
        <p:spPr>
          <a:xfrm>
            <a:off x="179280" y="4005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Шкапово, Туймазинское, Мишкинско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AutoShape 30"/>
          <p:cNvSpPr/>
          <p:nvPr/>
        </p:nvSpPr>
        <p:spPr>
          <a:xfrm>
            <a:off x="179280" y="4869000"/>
            <a:ext cx="287280" cy="69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Text Box 32"/>
          <p:cNvSpPr/>
          <p:nvPr/>
        </p:nvSpPr>
        <p:spPr>
          <a:xfrm>
            <a:off x="2005560" y="42926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Text Box 33"/>
          <p:cNvSpPr/>
          <p:nvPr/>
        </p:nvSpPr>
        <p:spPr>
          <a:xfrm>
            <a:off x="545040" y="52293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ренбургско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9" name="Text Box 36"/>
          <p:cNvSpPr/>
          <p:nvPr/>
        </p:nvSpPr>
        <p:spPr>
          <a:xfrm>
            <a:off x="160200" y="256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Осадоч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олезные ископаемы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0" name="Text Box 37"/>
          <p:cNvSpPr/>
          <p:nvPr/>
        </p:nvSpPr>
        <p:spPr>
          <a:xfrm>
            <a:off x="6153480" y="530064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Магматическ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Rectangle 38"/>
          <p:cNvSpPr/>
          <p:nvPr/>
        </p:nvSpPr>
        <p:spPr>
          <a:xfrm>
            <a:off x="6156360" y="5734080"/>
            <a:ext cx="5032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Text Box 39"/>
          <p:cNvSpPr/>
          <p:nvPr/>
        </p:nvSpPr>
        <p:spPr>
          <a:xfrm>
            <a:off x="6732720" y="5589720"/>
            <a:ext cx="24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ал – «медный пояс Росси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Text Box 40"/>
          <p:cNvSpPr/>
          <p:nvPr/>
        </p:nvSpPr>
        <p:spPr>
          <a:xfrm>
            <a:off x="6516720" y="5373720"/>
            <a:ext cx="3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Text Box 41"/>
          <p:cNvSpPr/>
          <p:nvPr/>
        </p:nvSpPr>
        <p:spPr>
          <a:xfrm>
            <a:off x="6761520" y="5516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Text Box 42"/>
          <p:cNvSpPr/>
          <p:nvPr/>
        </p:nvSpPr>
        <p:spPr>
          <a:xfrm>
            <a:off x="7190280" y="53737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Text Box 44"/>
          <p:cNvSpPr/>
          <p:nvPr/>
        </p:nvSpPr>
        <p:spPr>
          <a:xfrm>
            <a:off x="7596720" y="55278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7" name="Text Box 45"/>
          <p:cNvSpPr/>
          <p:nvPr/>
        </p:nvSpPr>
        <p:spPr>
          <a:xfrm>
            <a:off x="8177760" y="53262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8" name="Text Box 47"/>
          <p:cNvSpPr/>
          <p:nvPr/>
        </p:nvSpPr>
        <p:spPr>
          <a:xfrm>
            <a:off x="6075000" y="58881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9" name="Text Box 48"/>
          <p:cNvSpPr/>
          <p:nvPr/>
        </p:nvSpPr>
        <p:spPr>
          <a:xfrm>
            <a:off x="6588000" y="5734080"/>
            <a:ext cx="2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AutoShape 49"/>
          <p:cNvSpPr/>
          <p:nvPr/>
        </p:nvSpPr>
        <p:spPr>
          <a:xfrm>
            <a:off x="6948360" y="5950080"/>
            <a:ext cx="289080" cy="26028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Text Box 50"/>
          <p:cNvSpPr/>
          <p:nvPr/>
        </p:nvSpPr>
        <p:spPr>
          <a:xfrm>
            <a:off x="7334640" y="5734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Text Box 51"/>
          <p:cNvSpPr/>
          <p:nvPr/>
        </p:nvSpPr>
        <p:spPr>
          <a:xfrm>
            <a:off x="74880" y="59500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3" name="Text Box 52"/>
          <p:cNvSpPr/>
          <p:nvPr/>
        </p:nvSpPr>
        <p:spPr>
          <a:xfrm>
            <a:off x="1332000" y="59500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ал – природная кладов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Text Box 53"/>
          <p:cNvSpPr/>
          <p:nvPr/>
        </p:nvSpPr>
        <p:spPr>
          <a:xfrm>
            <a:off x="1538640" y="5877000"/>
            <a:ext cx="427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езные ископаемые близк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 поверхности, добыча про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Text Box 54"/>
          <p:cNvSpPr/>
          <p:nvPr/>
        </p:nvSpPr>
        <p:spPr>
          <a:xfrm>
            <a:off x="1625760" y="5950080"/>
            <a:ext cx="42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о ряд полезных ископаем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щ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Line 55"/>
          <p:cNvSpPr/>
          <p:nvPr/>
        </p:nvSpPr>
        <p:spPr>
          <a:xfrm flipH="1">
            <a:off x="3492360" y="5157720"/>
            <a:ext cx="719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7" name="Line 56"/>
          <p:cNvSpPr/>
          <p:nvPr/>
        </p:nvSpPr>
        <p:spPr>
          <a:xfrm flipH="1">
            <a:off x="3779640" y="537372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Line 57"/>
          <p:cNvSpPr/>
          <p:nvPr/>
        </p:nvSpPr>
        <p:spPr>
          <a:xfrm flipH="1">
            <a:off x="3276720" y="5013360"/>
            <a:ext cx="7905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Line 58"/>
          <p:cNvSpPr/>
          <p:nvPr/>
        </p:nvSpPr>
        <p:spPr>
          <a:xfrm flipH="1">
            <a:off x="2916000" y="5300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Line 59"/>
          <p:cNvSpPr/>
          <p:nvPr/>
        </p:nvSpPr>
        <p:spPr>
          <a:xfrm flipH="1">
            <a:off x="2771280" y="5229360"/>
            <a:ext cx="287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1" name="Picture 60" descr="213252270206"/>
          <p:cNvPicPr/>
          <p:nvPr/>
        </p:nvPicPr>
        <p:blipFill>
          <a:blip r:embed="rId1"/>
          <a:stretch/>
        </p:blipFill>
        <p:spPr>
          <a:xfrm>
            <a:off x="4067280" y="2492280"/>
            <a:ext cx="2431800" cy="251784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61" descr="IMG5ku5v8"/>
          <p:cNvPicPr/>
          <p:nvPr/>
        </p:nvPicPr>
        <p:blipFill>
          <a:blip r:embed="rId2"/>
          <a:stretch/>
        </p:blipFill>
        <p:spPr>
          <a:xfrm>
            <a:off x="4140360" y="2492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1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100"/>
                            </p:stCondLst>
                            <p:childTnLst>
                              <p:par>
                                <p:cTn id="5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900"/>
                            </p:stCondLst>
                            <p:childTnLst>
                              <p:par>
                                <p:cTn id="531" nodeType="afterEffect" fill="hold" presetClass="emp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32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4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900"/>
                            </p:stCondLst>
                            <p:childTnLst>
                              <p:par>
                                <p:cTn id="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49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4900"/>
                            </p:stCondLst>
                            <p:childTnLst>
                              <p:par>
                                <p:cTn id="5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90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826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826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26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900"/>
                            </p:stCondLst>
                            <p:childTnLst>
                              <p:par>
                                <p:cTn id="608" nodeType="afterEffect" fill="hold" presetClass="emp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240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29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402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4260"/>
                            </p:stCondLst>
                            <p:childTnLst>
                              <p:par>
                                <p:cTn id="6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6260"/>
                            </p:stCondLst>
                            <p:childTnLst>
                              <p:par>
                                <p:cTn id="635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8260"/>
                            </p:stCondLst>
                            <p:childTnLst>
                              <p:par>
                                <p:cTn id="6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260"/>
                            </p:stCondLst>
                            <p:childTnLst>
                              <p:par>
                                <p:cTn id="64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7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2259"/>
                            </p:stCondLst>
                            <p:childTnLst>
                              <p:par>
                                <p:cTn id="650" nodeType="afterEffect" fill="hold" presetClass="emph" presetID="3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3760"/>
                            </p:stCondLst>
                            <p:childTnLst>
                              <p:par>
                                <p:cTn id="6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476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260"/>
                            </p:stCondLst>
                            <p:childTnLst>
                              <p:par>
                                <p:cTn id="6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7260"/>
                            </p:stCondLst>
                            <p:childTnLst>
                              <p:par>
                                <p:cTn id="6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10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8260"/>
                            </p:stCondLst>
                            <p:childTnLst>
                              <p:par>
                                <p:cTn id="680" nodeType="afterEffect" fill="hold" presetClass="exit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1" dur="500"/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26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260"/>
                            </p:stCondLst>
                            <p:childTnLst>
                              <p:par>
                                <p:cTn id="6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226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2260"/>
                            </p:stCondLst>
                            <p:childTnLst>
                              <p:par>
                                <p:cTn id="6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426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426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626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6260"/>
                            </p:stCondLst>
                            <p:childTnLst>
                              <p:par>
                                <p:cTn id="7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826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8260"/>
                            </p:stCondLst>
                            <p:childTnLst>
                              <p:par>
                                <p:cTn id="72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76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168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1960"/>
                            </p:stCondLst>
                            <p:childTnLst>
                              <p:par>
                                <p:cTn id="746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438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538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6420"/>
                            </p:stCondLst>
                            <p:childTnLst>
                              <p:par>
                                <p:cTn id="769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9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896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9920"/>
                            </p:stCondLst>
                            <p:childTnLst>
                              <p:par>
                                <p:cTn id="7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9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Picture 2" descr="H:\Documents and Settings\Million4\Рабочий стол\Картинки\Урал\Урал промышленный - Урал Полярный.jpg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9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4" name="Picture 2" descr="H:\Documents and Settings\Million4\Рабочий стол\Картинки\Волго-Вятский\kungur2.jpg"/>
          <p:cNvPicPr/>
          <p:nvPr/>
        </p:nvPicPr>
        <p:blipFill>
          <a:blip r:embed="rId1"/>
          <a:stretch/>
        </p:blipFill>
        <p:spPr>
          <a:xfrm>
            <a:off x="0" y="0"/>
            <a:ext cx="5214960" cy="347652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3" descr="H:\Documents and Settings\Million4\Рабочий стол\Картинки\Волго-Вятский\0_5c4_c52d6f1b_XL.jpg"/>
          <p:cNvPicPr/>
          <p:nvPr/>
        </p:nvPicPr>
        <p:blipFill>
          <a:blip r:embed="rId2"/>
          <a:stretch/>
        </p:blipFill>
        <p:spPr>
          <a:xfrm>
            <a:off x="3511440" y="214200"/>
            <a:ext cx="5632560" cy="37530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4" descr="H:\Documents and Settings\Million4\Рабочий стол\Картинки\Волго-Вятский\normal_kungur-pesera-1.jpg"/>
          <p:cNvPicPr/>
          <p:nvPr/>
        </p:nvPicPr>
        <p:blipFill>
          <a:blip r:embed="rId3"/>
          <a:stretch/>
        </p:blipFill>
        <p:spPr>
          <a:xfrm>
            <a:off x="0" y="3048120"/>
            <a:ext cx="4800600" cy="380988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5" descr="H:\Documents and Settings\Million4\Рабочий стол\Картинки\Волго-Вятский\Grot30.jpg"/>
          <p:cNvPicPr/>
          <p:nvPr/>
        </p:nvPicPr>
        <p:blipFill>
          <a:blip r:embed="rId4"/>
          <a:stretch/>
        </p:blipFill>
        <p:spPr>
          <a:xfrm>
            <a:off x="4714920" y="3657600"/>
            <a:ext cx="4429080" cy="3200400"/>
          </a:xfrm>
          <a:prstGeom prst="rect">
            <a:avLst/>
          </a:prstGeom>
          <a:ln w="0">
            <a:noFill/>
          </a:ln>
        </p:spPr>
      </p:pic>
      <p:sp>
        <p:nvSpPr>
          <p:cNvPr id="1748" name="TextBox 5"/>
          <p:cNvSpPr/>
          <p:nvPr/>
        </p:nvSpPr>
        <p:spPr>
          <a:xfrm>
            <a:off x="1700280" y="3071880"/>
            <a:ext cx="53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унгурская пеще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zoom dir="out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"/>
                            </p:stCondLst>
                            <p:childTnLst>
                              <p:par>
                                <p:cTn id="81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4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5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2:40:23Z</dcterms:created>
  <dc:creator>Administrator</dc:creator>
  <dc:description/>
  <dc:language>en-US</dc:language>
  <cp:lastModifiedBy>Милллион4</cp:lastModifiedBy>
  <dcterms:modified xsi:type="dcterms:W3CDTF">2009-01-27T12:16:10Z</dcterms:modified>
  <cp:revision>20</cp:revision>
  <dc:subject/>
  <dc:title>     ьский экономический район</dc:title>
</cp:coreProperties>
</file>