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379-804D-49F2-BC29-76EBE3BC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D0A-1B7D-4422-8718-76AFAC30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070-713D-45FD-B065-19F89278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1B5-78FA-40FE-958A-DE33DF57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814-C4E9-4DC2-8A5C-6D9AF5BE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EC0A-7423-4D63-8AB5-970511A3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338-27F5-4B18-9CAB-E5B3A78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494-21ED-413D-9348-8FF69E8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240-87EE-4D72-B8C7-5F1C0A5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1E9B-29D6-448C-B269-FD8199AA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1C9-5D0D-4379-BFE4-2F0FF8E2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9E8-1150-4505-ACF5-4AA0C72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ED7-C5C9-4D16-B902-105036A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759F-419C-42BA-9E03-A75ECB3B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190A-C197-4EEC-93DD-E370EF7F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1DDA-4420-4098-8D04-A8BCD98A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C5AE-6CAC-43D0-BA97-E072EDD1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F22D-6993-4171-BB25-CCAB5D84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82C6-780C-4C8B-8D5E-20EE4E23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D4CB-86E2-4D8D-B619-9D6C3E7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3C3F-05DA-418F-ACA6-A210D8E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4AE0-82CC-4D4C-97F1-05B726C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A4F-D363-48E9-B970-6385ABE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9FEA-0582-4E37-8C40-B56E63AA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A101-60EC-43EA-ADA6-254EC4C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7484-3563-442B-B328-CA3E023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BA43-3788-4943-AD20-DAF5513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87CC-A02E-4120-BA55-725AC0F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A99E-1107-4DFA-A62F-70098DCD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C96F-29F1-4800-93BB-2C2C6FB3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56C-E9F3-4BA0-A54D-E521C3ED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E26-0929-47CD-81BC-8D27A914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C1F-B665-44EE-94E4-44BB798F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F5D-C510-4AC6-B81A-71C5D66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5B7-949D-4470-B151-AD17DFD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275-1642-46B2-81B6-591D818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C4E-1ABF-42EC-A25E-96287773E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9A8-4EF1-47A5-B9FD-9BDE05CA52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4CE9-9705-40BD-AD44-335CEBC8B8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708360" y="189000"/>
            <a:ext cx="5219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щук Рома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др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еник 9 Б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У «Сре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бщеобразова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колы № 25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глублен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м отдельных предм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итель Колесникова Юлия Василь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111560" cy="54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1194840" y="1773720"/>
            <a:ext cx="769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Выдающиеся успехи точных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рисущих им сферах привели к 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то теперь все более соблазни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едставляется  иде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пытать методы этих наук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других област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ильгельм Фу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5"/>
          <p:cNvSpPr txBox="1"/>
          <p:nvPr/>
        </p:nvSpPr>
        <p:spPr>
          <a:xfrm>
            <a:off x="395280" y="1989000"/>
            <a:ext cx="8545680" cy="16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Большое спасибо за внимани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2" descr="Картинка 7 из 68"/>
          <p:cNvPicPr/>
          <p:nvPr/>
        </p:nvPicPr>
        <p:blipFill>
          <a:blip r:embed="rId2"/>
          <a:stretch/>
        </p:blipFill>
        <p:spPr>
          <a:xfrm>
            <a:off x="4643280" y="2997360"/>
            <a:ext cx="2664000" cy="3017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1308600" y="1051920"/>
            <a:ext cx="680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Математический анали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музыки 17-18 в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Картинка 48 из 68"/>
          <p:cNvPicPr/>
          <p:nvPr/>
        </p:nvPicPr>
        <p:blipFill>
          <a:blip r:embed="rId3"/>
          <a:stretch/>
        </p:blipFill>
        <p:spPr>
          <a:xfrm>
            <a:off x="3059280" y="2421000"/>
            <a:ext cx="2135160" cy="3017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Картинка 59 из 68"/>
          <p:cNvPicPr/>
          <p:nvPr/>
        </p:nvPicPr>
        <p:blipFill>
          <a:blip r:embed="rId4"/>
          <a:stretch/>
        </p:blipFill>
        <p:spPr>
          <a:xfrm>
            <a:off x="755640" y="3284640"/>
            <a:ext cx="2736720" cy="22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Картинка 9 из 68"/>
          <p:cNvPicPr/>
          <p:nvPr/>
        </p:nvPicPr>
        <p:blipFill>
          <a:blip r:embed="rId5"/>
          <a:stretch/>
        </p:blipFill>
        <p:spPr>
          <a:xfrm>
            <a:off x="2484360" y="2924280"/>
            <a:ext cx="1644840" cy="30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Картинка 12 из 67"/>
          <p:cNvPicPr/>
          <p:nvPr/>
        </p:nvPicPr>
        <p:blipFill>
          <a:blip r:embed="rId6"/>
          <a:stretch/>
        </p:blipFill>
        <p:spPr>
          <a:xfrm>
            <a:off x="6012000" y="3573360"/>
            <a:ext cx="28382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020960" y="1987200"/>
            <a:ext cx="73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нение 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матических методов для обрабо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зыкальных произведений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-856080" y="3281400"/>
            <a:ext cx="1001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чи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Статистически обработать менуэты 17 –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ека и построить полиг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х относительных част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Интерпретировать получ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атистические характер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выявить законо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118160" y="1410840"/>
            <a:ext cx="80172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МЕНУЭТ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(франц.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enue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Танец 17-18 вв., в умеренном темпе и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трехдольном размере;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название происходи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от французского сло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menu 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enu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pas — «шажок», «маленький шаг»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или от аменера (amener) - старофранцузского танц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разновидности бранля. Менуэт был основным придворны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танцем с середины 17 по середину 18 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Изначально это был сельский танец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но затем менуэт превратился в образец француз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придворного бал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10.L.Boccherini.Menuet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5043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"/>
          <p:cNvGrpSpPr/>
          <p:nvPr/>
        </p:nvGrpSpPr>
        <p:grpSpPr>
          <a:xfrm>
            <a:off x="3780000" y="2060640"/>
            <a:ext cx="1801800" cy="1150920"/>
            <a:chOff x="3780000" y="2060640"/>
            <a:chExt cx="1801800" cy="1150920"/>
          </a:xfrm>
        </p:grpSpPr>
        <p:sp>
          <p:nvSpPr>
            <p:cNvPr id="155" name="Rectangle 5"/>
            <p:cNvSpPr/>
            <p:nvPr/>
          </p:nvSpPr>
          <p:spPr>
            <a:xfrm>
              <a:off x="3780000" y="2293920"/>
              <a:ext cx="1650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4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4"/>
                <p:cNvSpPr txBox="1"/>
                <p:nvPr/>
              </p:nvSpPr>
              <p:spPr>
                <a:xfrm>
                  <a:off x="4788000" y="2060640"/>
                  <a:ext cx="7938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Rectangle 6"/>
          <p:cNvSpPr/>
          <p:nvPr/>
        </p:nvSpPr>
        <p:spPr>
          <a:xfrm>
            <a:off x="900000" y="3390120"/>
            <a:ext cx="7920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часто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звука, т.е. число появлений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звука в произвед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340000" y="9079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Относительная 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86480" y="259920"/>
            <a:ext cx="90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-до1, 2-ре1, 3-ми1, 4-фа1, 5-соль1, 6-ля1, 7-си1, 8-до2, 9-ре2, 10-ми2, 11-фа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2-соль2, 13-ля2, 14-си2, 15-соль#1, 16-сиb1, 17-фа#1, 18-до#2, 19-м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, 20-фа#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0" y="981000"/>
            <a:ext cx="4716360" cy="3297240"/>
            <a:chOff x="0" y="981000"/>
            <a:chExt cx="4716360" cy="3297240"/>
          </a:xfrm>
        </p:grpSpPr>
        <p:grpSp>
          <p:nvGrpSpPr>
            <p:cNvPr id="161" name="Group 6"/>
            <p:cNvGrpSpPr/>
            <p:nvPr/>
          </p:nvGrpSpPr>
          <p:grpSpPr>
            <a:xfrm>
              <a:off x="0" y="981000"/>
              <a:ext cx="4716360" cy="3297240"/>
              <a:chOff x="0" y="981000"/>
              <a:chExt cx="4716360" cy="3297240"/>
            </a:xfrm>
          </p:grpSpPr>
          <p:pic>
            <p:nvPicPr>
              <p:cNvPr id="162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981000"/>
                <a:ext cx="4716360" cy="32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Text Box 8"/>
              <p:cNvSpPr/>
              <p:nvPr/>
            </p:nvSpPr>
            <p:spPr>
              <a:xfrm>
                <a:off x="282960" y="1289880"/>
                <a:ext cx="377280" cy="20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9"/>
            <p:cNvSpPr/>
            <p:nvPr/>
          </p:nvSpPr>
          <p:spPr>
            <a:xfrm>
              <a:off x="4527720" y="3660120"/>
              <a:ext cx="9432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5"/>
          <p:cNvGrpSpPr/>
          <p:nvPr/>
        </p:nvGrpSpPr>
        <p:grpSpPr>
          <a:xfrm>
            <a:off x="4211640" y="3544920"/>
            <a:ext cx="4932360" cy="3313080"/>
            <a:chOff x="4211640" y="3544920"/>
            <a:chExt cx="4932360" cy="3313080"/>
          </a:xfrm>
        </p:grpSpPr>
        <p:grpSp>
          <p:nvGrpSpPr>
            <p:cNvPr id="166" name="Group 16"/>
            <p:cNvGrpSpPr/>
            <p:nvPr/>
          </p:nvGrpSpPr>
          <p:grpSpPr>
            <a:xfrm>
              <a:off x="4211640" y="3544920"/>
              <a:ext cx="4932360" cy="3313080"/>
              <a:chOff x="4211640" y="3544920"/>
              <a:chExt cx="4932360" cy="3313080"/>
            </a:xfrm>
          </p:grpSpPr>
          <p:pic>
            <p:nvPicPr>
              <p:cNvPr id="167" name="Pictur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1640" y="3544920"/>
                <a:ext cx="493236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Text Box 18"/>
              <p:cNvSpPr/>
              <p:nvPr/>
            </p:nvSpPr>
            <p:spPr>
              <a:xfrm>
                <a:off x="4501440" y="3765600"/>
                <a:ext cx="386640" cy="22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19"/>
            <p:cNvSpPr/>
            <p:nvPr/>
          </p:nvSpPr>
          <p:spPr>
            <a:xfrm>
              <a:off x="8950680" y="6305760"/>
              <a:ext cx="964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611280" y="4365720"/>
          <a:ext cx="3375000" cy="1066680"/>
        </p:xfrm>
        <a:graphic>
          <a:graphicData uri="http://schemas.openxmlformats.org/drawingml/2006/table">
            <a:tbl>
              <a:tblPr/>
              <a:tblGrid>
                <a:gridCol w="369720"/>
                <a:gridCol w="233280"/>
                <a:gridCol w="297000"/>
                <a:gridCol w="304920"/>
                <a:gridCol w="257040"/>
                <a:gridCol w="295200"/>
                <a:gridCol w="320760"/>
                <a:gridCol w="320760"/>
                <a:gridCol w="325440"/>
                <a:gridCol w="325440"/>
                <a:gridCol w="325440"/>
              </a:tblGrid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x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1280" y="5445000"/>
          <a:ext cx="3384360" cy="974880"/>
        </p:xfrm>
        <a:graphic>
          <a:graphicData uri="http://schemas.openxmlformats.org/drawingml/2006/table">
            <a:tbl>
              <a:tblPr/>
              <a:tblGrid>
                <a:gridCol w="336600"/>
                <a:gridCol w="344520"/>
                <a:gridCol w="344160"/>
                <a:gridCol w="344520"/>
                <a:gridCol w="336600"/>
                <a:gridCol w="344520"/>
                <a:gridCol w="331920"/>
                <a:gridCol w="345960"/>
                <a:gridCol w="344520"/>
                <a:gridCol w="311040"/>
              </a:tblGrid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97000"/>
          <a:ext cx="3465720" cy="1066680"/>
        </p:xfrm>
        <a:graphic>
          <a:graphicData uri="http://schemas.openxmlformats.org/drawingml/2006/table">
            <a:tbl>
              <a:tblPr/>
              <a:tblGrid>
                <a:gridCol w="371520"/>
                <a:gridCol w="239760"/>
                <a:gridCol w="317520"/>
                <a:gridCol w="326880"/>
                <a:gridCol w="270000"/>
                <a:gridCol w="314280"/>
                <a:gridCol w="322200"/>
                <a:gridCol w="322200"/>
                <a:gridCol w="327240"/>
                <a:gridCol w="326880"/>
                <a:gridCol w="32724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x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219640" y="2276640"/>
          <a:ext cx="3456000" cy="973080"/>
        </p:xfrm>
        <a:graphic>
          <a:graphicData uri="http://schemas.openxmlformats.org/drawingml/2006/table">
            <a:tbl>
              <a:tblPr/>
              <a:tblGrid>
                <a:gridCol w="362160"/>
                <a:gridCol w="358560"/>
                <a:gridCol w="357120"/>
                <a:gridCol w="333360"/>
                <a:gridCol w="317520"/>
                <a:gridCol w="360360"/>
                <a:gridCol w="358920"/>
                <a:gridCol w="360360"/>
                <a:gridCol w="360360"/>
                <a:gridCol w="287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86480" y="259920"/>
            <a:ext cx="90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-до1, 2-ре1, 3-ми1, 4-фа1, 5-соль1, 6-ля1, 7-си1, 8-до2, 9-ре2, 10-ми2, 11-фа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2-соль2, 13-ля2, 14-си2, 15-соль#1, 16-сиb1, 17-фа#1, 18-до#2, 19-м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, 20-фа#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0" y="907920"/>
            <a:ext cx="4788000" cy="3273480"/>
            <a:chOff x="0" y="907920"/>
            <a:chExt cx="4788000" cy="3273480"/>
          </a:xfrm>
        </p:grpSpPr>
        <p:grpSp>
          <p:nvGrpSpPr>
            <p:cNvPr id="176" name="Group 6"/>
            <p:cNvGrpSpPr/>
            <p:nvPr/>
          </p:nvGrpSpPr>
          <p:grpSpPr>
            <a:xfrm>
              <a:off x="0" y="907920"/>
              <a:ext cx="4788000" cy="3273480"/>
              <a:chOff x="0" y="907920"/>
              <a:chExt cx="4788000" cy="3273480"/>
            </a:xfrm>
          </p:grpSpPr>
          <p:pic>
            <p:nvPicPr>
              <p:cNvPr id="17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907920"/>
                <a:ext cx="4788000" cy="32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8"/>
              <p:cNvSpPr/>
              <p:nvPr/>
            </p:nvSpPr>
            <p:spPr>
              <a:xfrm>
                <a:off x="4607280" y="3594600"/>
                <a:ext cx="9036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9"/>
            <p:cNvSpPr/>
            <p:nvPr/>
          </p:nvSpPr>
          <p:spPr>
            <a:xfrm>
              <a:off x="270720" y="1185840"/>
              <a:ext cx="361080" cy="18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0"/>
          <p:cNvGrpSpPr/>
          <p:nvPr/>
        </p:nvGrpSpPr>
        <p:grpSpPr>
          <a:xfrm>
            <a:off x="4211640" y="3500280"/>
            <a:ext cx="4932360" cy="3357720"/>
            <a:chOff x="4211640" y="3500280"/>
            <a:chExt cx="4932360" cy="3357720"/>
          </a:xfrm>
        </p:grpSpPr>
        <p:grpSp>
          <p:nvGrpSpPr>
            <p:cNvPr id="181" name="Group 11"/>
            <p:cNvGrpSpPr/>
            <p:nvPr/>
          </p:nvGrpSpPr>
          <p:grpSpPr>
            <a:xfrm>
              <a:off x="4211640" y="3500280"/>
              <a:ext cx="4932360" cy="3357720"/>
              <a:chOff x="4211640" y="3500280"/>
              <a:chExt cx="4932360" cy="3357720"/>
            </a:xfrm>
          </p:grpSpPr>
          <p:pic>
            <p:nvPicPr>
              <p:cNvPr id="18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1640" y="3500280"/>
                <a:ext cx="4932360" cy="33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13"/>
              <p:cNvSpPr/>
              <p:nvPr/>
            </p:nvSpPr>
            <p:spPr>
              <a:xfrm>
                <a:off x="4490640" y="3785040"/>
                <a:ext cx="37188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14"/>
            <p:cNvSpPr/>
            <p:nvPr/>
          </p:nvSpPr>
          <p:spPr>
            <a:xfrm>
              <a:off x="8952840" y="6321600"/>
              <a:ext cx="925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320400" y="133560"/>
            <a:ext cx="6453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ой средне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сред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метическое значени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ого распределения с учетом их часто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971640" y="1268280"/>
                <a:ext cx="22320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Rectangle 6"/>
          <p:cNvSpPr/>
          <p:nvPr/>
        </p:nvSpPr>
        <p:spPr>
          <a:xfrm>
            <a:off x="-688680" y="36907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7000" y="1925640"/>
            <a:ext cx="76402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ирическая дисперс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ов отклонений значен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х эмпирической средне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четом часто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971640" y="3068640"/>
                <a:ext cx="3311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5003640" y="3068640"/>
                <a:ext cx="3598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−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4356000" y="3213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395280" y="4113720"/>
            <a:ext cx="446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нее квадратическое отклонение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4932360" y="4149720"/>
                <a:ext cx="1079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Rectangle 19"/>
          <p:cNvSpPr/>
          <p:nvPr/>
        </p:nvSpPr>
        <p:spPr>
          <a:xfrm>
            <a:off x="468360" y="4775400"/>
            <a:ext cx="7705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е квадратическое отклонение показыв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колько узко или насколько шир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ределены вокруг эмпирического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8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значения статистического распределен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Object 427"/>
              <p:cNvSpPr txBox="1"/>
              <p:nvPr/>
            </p:nvSpPr>
            <p:spPr>
              <a:xfrm>
                <a:off x="3564000" y="1125360"/>
                <a:ext cx="296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26"/>
              <p:cNvSpPr txBox="1"/>
              <p:nvPr/>
            </p:nvSpPr>
            <p:spPr>
              <a:xfrm>
                <a:off x="6877080" y="1125360"/>
                <a:ext cx="4334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429"/>
          <p:cNvSpPr/>
          <p:nvPr/>
        </p:nvSpPr>
        <p:spPr>
          <a:xfrm>
            <a:off x="1353960" y="17496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32"/>
          <p:cNvSpPr/>
          <p:nvPr/>
        </p:nvSpPr>
        <p:spPr>
          <a:xfrm>
            <a:off x="1353960" y="1749600"/>
            <a:ext cx="133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052640"/>
          <a:ext cx="7812000" cy="4897440"/>
        </p:xfrm>
        <a:graphic>
          <a:graphicData uri="http://schemas.openxmlformats.org/drawingml/2006/table">
            <a:tbl>
              <a:tblPr/>
              <a:tblGrid>
                <a:gridCol w="2857320"/>
                <a:gridCol w="1663920"/>
                <a:gridCol w="1665000"/>
                <a:gridCol w="162576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п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кер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г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ссл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царт (1 произведен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царт (2 произведен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8895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6:12:58Z</dcterms:created>
  <dc:creator>User</dc:creator>
  <dc:description/>
  <dc:language>en-US</dc:language>
  <cp:lastModifiedBy>User</cp:lastModifiedBy>
  <dcterms:modified xsi:type="dcterms:W3CDTF">2008-04-11T14:53:37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