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08E-85BC-4044-8084-3AB3794E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BB7-3450-40FD-BB25-CE5F5E1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533-70C8-4DC8-B963-EF0DE6BF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ED1-47C4-4AE6-9E39-BA40F71C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FE9-1B53-4728-B106-90B438F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DA1-6742-4A4F-8453-2A4F254E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50F-F6F9-493B-AAFD-806B4631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33F-D1DD-4E9E-9E1C-7035029B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2A8-1FD0-43F6-BB75-247C1F38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573-6506-4A1B-BBC3-C0100D7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DF9-850A-4B6B-923B-508338C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32F-0096-4E20-8617-D8374B2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546E-A984-42B8-8068-F286CB26A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q=1900514278&amp;p=4&amp;ag=ih&amp;text=%F4%EE%F2%EE%F0%E5%EF%EE%F0%F2%E0%E6%20%E1%E0%F8%E5%ED%20-%20%E1%EB%E8%E7%ED%E5%F6%EE%E2%20%E2%20%CD%FC%FE%20-%20%C9%EE%F0%EA%E5&amp;isize=medium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yandpage?&amp;q=1900514278&amp;p=3&amp;ag=ih&amp;text=%F4%EE%F2%EE%F0%E5%EF%EE%F0%F2%E0%E6%20%E1%E0%F8%E5%ED%20-%20%E1%EB%E8%E7%ED%E5%F6%EE%E2%20%E2%20%CD%FC%FE%20-%20%C9%EE%F0%EA%E5&amp;isize=medium&amp;rpt=simage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00200" y="1523880"/>
            <a:ext cx="6553080" cy="33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тчетная работ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учащейся элективного курса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" Хочу стать журналистом"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униной Алёны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4494500020"/>
          <p:cNvPicPr/>
          <p:nvPr/>
        </p:nvPicPr>
        <p:blipFill>
          <a:blip r:embed="rId1"/>
          <a:stretch/>
        </p:blipFill>
        <p:spPr>
          <a:xfrm>
            <a:off x="304920" y="304920"/>
            <a:ext cx="3124080" cy="275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picture"/>
          <p:cNvPicPr/>
          <p:nvPr/>
        </p:nvPicPr>
        <p:blipFill>
          <a:blip r:embed="rId2"/>
          <a:stretch/>
        </p:blipFill>
        <p:spPr>
          <a:xfrm>
            <a:off x="304920" y="3733920"/>
            <a:ext cx="3238560" cy="244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59062"/>
          <p:cNvPicPr/>
          <p:nvPr/>
        </p:nvPicPr>
        <p:blipFill>
          <a:blip r:embed="rId3"/>
          <a:stretch/>
        </p:blipFill>
        <p:spPr>
          <a:xfrm>
            <a:off x="4495680" y="228600"/>
            <a:ext cx="434340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C03274"/>
          <p:cNvPicPr/>
          <p:nvPr/>
        </p:nvPicPr>
        <p:blipFill>
          <a:blip r:embed="rId1"/>
          <a:stretch/>
        </p:blipFill>
        <p:spPr>
          <a:xfrm>
            <a:off x="228600" y="152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DSC03272"/>
          <p:cNvPicPr/>
          <p:nvPr/>
        </p:nvPicPr>
        <p:blipFill>
          <a:blip r:embed="rId2"/>
          <a:stretch/>
        </p:blipFill>
        <p:spPr>
          <a:xfrm>
            <a:off x="228600" y="3657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SC03269"/>
          <p:cNvPicPr/>
          <p:nvPr/>
        </p:nvPicPr>
        <p:blipFill>
          <a:blip r:embed="rId3"/>
          <a:stretch/>
        </p:blipFill>
        <p:spPr>
          <a:xfrm>
            <a:off x="4952880" y="228600"/>
            <a:ext cx="381024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SC03271"/>
          <p:cNvPicPr/>
          <p:nvPr/>
        </p:nvPicPr>
        <p:blipFill>
          <a:blip r:embed="rId4"/>
          <a:stretch/>
        </p:blipFill>
        <p:spPr>
          <a:xfrm>
            <a:off x="4952880" y="3581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219320" y="685800"/>
            <a:ext cx="70866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Можно ли предотврати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заро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терроризм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949920" cy="556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0482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295280" y="1752480"/>
            <a:ext cx="71629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терроризм м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порождаем с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533520" y="2133720"/>
            <a:ext cx="8153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бороться с ним тоже на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159456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371600" y="380880"/>
            <a:ext cx="6172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то  такое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609480" y="2743200"/>
            <a:ext cx="8305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рроризм? . 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BinLaden1.jpg (12730 bytes)"/>
          <p:cNvPicPr/>
          <p:nvPr/>
        </p:nvPicPr>
        <p:blipFill>
          <a:blip r:embed="rId1"/>
          <a:stretch/>
        </p:blipFill>
        <p:spPr>
          <a:xfrm>
            <a:off x="457200" y="380880"/>
            <a:ext cx="3048120" cy="152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304920" y="3630600"/>
            <a:ext cx="3886200" cy="292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terr07"/>
          <p:cNvPicPr/>
          <p:nvPr/>
        </p:nvPicPr>
        <p:blipFill>
          <a:blip r:embed="rId3"/>
          <a:stretch/>
        </p:blipFill>
        <p:spPr>
          <a:xfrm>
            <a:off x="4648320" y="3637080"/>
            <a:ext cx="4267080" cy="289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terr10"/>
          <p:cNvPicPr/>
          <p:nvPr/>
        </p:nvPicPr>
        <p:blipFill>
          <a:blip r:embed="rId4"/>
          <a:stretch/>
        </p:blipFill>
        <p:spPr>
          <a:xfrm>
            <a:off x="4267080" y="152280"/>
            <a:ext cx="462276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err09"/>
          <p:cNvPicPr/>
          <p:nvPr/>
        </p:nvPicPr>
        <p:blipFill>
          <a:blip r:embed="rId1"/>
          <a:stretch/>
        </p:blipFill>
        <p:spPr>
          <a:xfrm>
            <a:off x="228600" y="380880"/>
            <a:ext cx="4095720" cy="231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8Foto_05-med"/>
          <p:cNvPicPr/>
          <p:nvPr/>
        </p:nvPicPr>
        <p:blipFill>
          <a:blip r:embed="rId2"/>
          <a:stretch/>
        </p:blipFill>
        <p:spPr>
          <a:xfrm>
            <a:off x="228600" y="3429000"/>
            <a:ext cx="4114800" cy="302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68Foto_12-med"/>
          <p:cNvPicPr/>
          <p:nvPr/>
        </p:nvPicPr>
        <p:blipFill>
          <a:blip r:embed="rId3"/>
          <a:stretch/>
        </p:blipFill>
        <p:spPr>
          <a:xfrm>
            <a:off x="4800600" y="0"/>
            <a:ext cx="4086360" cy="666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(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3276720" cy="249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i(3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5146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(6)"/>
          <p:cNvPicPr/>
          <p:nvPr/>
        </p:nvPicPr>
        <p:blipFill>
          <a:blip r:embed="rId5"/>
          <a:stretch/>
        </p:blipFill>
        <p:spPr>
          <a:xfrm>
            <a:off x="5105520" y="4038480"/>
            <a:ext cx="365760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inladen2"/>
          <p:cNvPicPr/>
          <p:nvPr/>
        </p:nvPicPr>
        <p:blipFill>
          <a:blip r:embed="rId1"/>
          <a:stretch/>
        </p:blipFill>
        <p:spPr>
          <a:xfrm>
            <a:off x="228600" y="380880"/>
            <a:ext cx="457200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5029200" y="1981080"/>
            <a:ext cx="3809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силен 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Бен Ладен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304920" y="1295280"/>
            <a:ext cx="8610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ткуда берет свое нач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еррориз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289480" cy="6311880"/>
          </a:xfrm>
          <a:prstGeom prst="rect">
            <a:avLst/>
          </a:prstGeom>
          <a:ln w="0">
            <a:noFill/>
          </a:ln>
        </p:spPr>
      </p:pic>
      <p:sp>
        <p:nvSpPr>
          <p:cNvPr id="58" name="WordArt 5"/>
          <p:cNvSpPr txBox="1"/>
          <p:nvPr/>
        </p:nvSpPr>
        <p:spPr>
          <a:xfrm>
            <a:off x="5743440" y="1981080"/>
            <a:ext cx="34005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При рожде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все люди рав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Фотомодель Анна Шарай"/>
          <p:cNvPicPr/>
          <p:nvPr/>
        </p:nvPicPr>
        <p:blipFill>
          <a:blip r:embed="rId1"/>
          <a:stretch/>
        </p:blipFill>
        <p:spPr>
          <a:xfrm>
            <a:off x="685800" y="380880"/>
            <a:ext cx="3519360" cy="586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Фото модель Платонов Даниил"/>
          <p:cNvPicPr/>
          <p:nvPr/>
        </p:nvPicPr>
        <p:blipFill>
          <a:blip r:embed="rId2"/>
          <a:stretch/>
        </p:blipFill>
        <p:spPr>
          <a:xfrm>
            <a:off x="5029200" y="380880"/>
            <a:ext cx="37339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12</cp:lastModifiedBy>
  <dcterms:modified xsi:type="dcterms:W3CDTF">2009-01-30T08:37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