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FE5F-93B2-4C2A-88B8-4EF02EED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16FD-6C3F-4B9D-8256-929EB0C3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09FF-6CCA-420A-A177-A7BBD08F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4BCA-91A5-457B-A739-7788E663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91CE-286C-473C-BA53-8941F17F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3141-30BD-4F6C-8B8A-44907CD2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A2D7-A912-40F8-A2B5-3548BB09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88A9-834D-4A7C-B768-DC08C691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8E30-1473-481A-A069-1B27E146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28F0-ADD6-4396-B5A7-C6733FC0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A2F2-7387-4FFC-8F69-77DE5D68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B3C0-5531-40E2-83D8-F08ADB97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45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D2FD-9C0F-4D62-B027-61AD569EB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45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e852"/>
                </a:solidFill>
                <a:latin typeface="Arial"/>
              </a:rPr>
              <a:t>Das </a:t>
            </a:r>
            <a:r>
              <a:rPr b="1" lang="de-DE" sz="3600" spc="-1" strike="noStrike">
                <a:solidFill>
                  <a:srgbClr val="e4e852"/>
                </a:solidFill>
                <a:latin typeface="Arial"/>
              </a:rPr>
              <a:t>Kölner Schokoladenmuse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45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e4e852"/>
                </a:solidFill>
                <a:latin typeface="Arial"/>
              </a:rPr>
              <a:t>Schokolade he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632480" cy="5113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45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ans Imh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11280" y="1773360"/>
            <a:ext cx="4295880" cy="4392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45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45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351640" cy="44434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45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27280" y="620640"/>
            <a:ext cx="4178160" cy="5688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45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35640" y="0"/>
            <a:ext cx="3708360" cy="685800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grpSp>
        <p:nvGrpSpPr>
          <p:cNvPr id="45" name=""/>
          <p:cNvGrpSpPr/>
          <p:nvPr/>
        </p:nvGrpSpPr>
        <p:grpSpPr>
          <a:xfrm>
            <a:off x="324000" y="620640"/>
            <a:ext cx="4966920" cy="3312720"/>
            <a:chOff x="324000" y="620640"/>
            <a:chExt cx="4966920" cy="3312720"/>
          </a:xfrm>
        </p:grpSpPr>
        <p:sp>
          <p:nvSpPr>
            <p:cNvPr id="46" name=""/>
            <p:cNvSpPr/>
            <p:nvPr/>
          </p:nvSpPr>
          <p:spPr>
            <a:xfrm>
              <a:off x="612720" y="620640"/>
              <a:ext cx="4175280" cy="70704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e4e852"/>
                  </a:solidFill>
                  <a:latin typeface="Arial"/>
                </a:rPr>
                <a:t>Schokolade im</a:t>
              </a:r>
              <a:r>
                <a:rPr b="1" lang="ru-RU" sz="1800" spc="-1" strike="noStrike">
                  <a:solidFill>
                    <a:srgbClr val="e4e852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e4e852"/>
                  </a:solidFill>
                  <a:latin typeface="Arial"/>
                </a:rPr>
                <a:t>alten Mittelameri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4000" y="3373200"/>
              <a:ext cx="1366200" cy="56016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e4e852"/>
                  </a:solidFill>
                  <a:latin typeface="Arial"/>
                </a:rPr>
                <a:t>Olmek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923280" y="3373200"/>
              <a:ext cx="1367640" cy="53928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e4e852"/>
                  </a:solidFill>
                  <a:latin typeface="Arial"/>
                </a:rPr>
                <a:t>May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23640" y="3373200"/>
              <a:ext cx="1365840" cy="54936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e4e852"/>
                  </a:solidFill>
                  <a:latin typeface="Arial"/>
                </a:rPr>
                <a:t>Aztek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115640" y="1329480"/>
              <a:ext cx="1655280" cy="196596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71280" y="1329480"/>
              <a:ext cx="0" cy="20437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71280" y="1329480"/>
              <a:ext cx="1799280" cy="20437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45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e4e852"/>
                </a:solidFill>
                <a:latin typeface="Arial"/>
              </a:rPr>
              <a:t>Kakao in Euro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5256360" cy="52898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45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351640" cy="44431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e4e852"/>
                </a:solidFill>
                <a:latin typeface="Arial"/>
              </a:rPr>
              <a:t>Das Gebäude des Muse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45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2421000"/>
            <a:ext cx="5184720" cy="3429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e852"/>
                </a:solidFill>
                <a:latin typeface="Arial"/>
              </a:rPr>
              <a:t>Schokoladencafé</a:t>
            </a:r>
            <a:r>
              <a:rPr b="0" lang="en-US" sz="3600" spc="-1" strike="noStrike">
                <a:solidFill>
                  <a:srgbClr val="e4e85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45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e4e852"/>
                </a:solidFill>
                <a:latin typeface="Arial"/>
              </a:rPr>
              <a:t>Schokok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40000" y="1844640"/>
            <a:ext cx="4305240" cy="43927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452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e4e852"/>
                </a:solidFill>
                <a:latin typeface="Arial"/>
              </a:rPr>
              <a:t>Schoko - 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5761080" cy="53532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7:10:06Z</dcterms:created>
  <dc:creator>user</dc:creator>
  <dc:description/>
  <dc:language>en-US</dc:language>
  <cp:lastModifiedBy>user</cp:lastModifiedBy>
  <dcterms:modified xsi:type="dcterms:W3CDTF">2008-03-11T15:10:19Z</dcterms:modified>
  <cp:revision>16</cp:revision>
  <dc:subject/>
  <dc:title>Das Kölner Schokoladenmuseum</dc:title>
</cp:coreProperties>
</file>