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9D0-FC56-4F9F-B5EA-C08EB8AA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0F4-326D-46ED-90FF-7F58C372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CDE-3F86-494D-A558-03D34456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A3B-BC15-4837-BE6D-D7AC1B53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F3481-DA04-4DD7-BFB1-22C29B56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90A6A-CD58-4AC4-80D6-F5E2037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1A0C-8802-496F-9162-252A394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471F5-1F67-46D1-B75E-196A4CD8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89788-1BE2-4620-935A-9A8B502E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40025-B7D5-49B6-9C74-BEF55313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93536-E59A-4F37-9AB0-67B5651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919-8B56-4E1F-8FD0-50EDEFA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A656D-BD06-4FA7-A399-62E2867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C7BA8-4DDD-40A7-94C1-7F1F475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C6E26-3B1F-4ED9-B963-4E5A7DC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3D2B3-D10C-4AFE-9780-8C167CA2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96CD-22F1-42F3-8086-8AADB1E4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EEE-75DD-4A71-9603-CE53346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FBD-1C74-40B9-8011-B9647653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51E-B9B2-4C48-96DC-DEEC4B33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CFE-4BDE-4A90-BAE0-CD17A233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0D6-B473-40AF-873A-2719A962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D22-6689-41C8-9523-E2788DC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30B-4EA0-4FFA-8883-EBC97DBB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D68F-5D9E-4C32-9BC3-CA52B1D01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8298-6720-4D99-9B33-217ECF1F5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кологическая оценка табачного дыма сигарет российского и зарубежного производ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2160" y="510552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палова Мар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етод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ание смолисты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914400"/>
          <a:ext cx="8534160" cy="593244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гар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смолы в 1кг таба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юз-Аполл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ё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ve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ig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g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ght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5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nth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l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ns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gna Оrig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&amp;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ll-M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ll-Mail ex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ные газовые компоненты табачного ды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066680"/>
          <a:ext cx="8839440" cy="5791320"/>
        </p:xfrm>
        <a:graphic>
          <a:graphicData uri="http://schemas.openxmlformats.org/drawingml/2006/table">
            <a:tbl>
              <a:tblPr/>
              <a:tblGrid>
                <a:gridCol w="2362320"/>
                <a:gridCol w="2133720"/>
                <a:gridCol w="1981080"/>
                <a:gridCol w="2362320"/>
              </a:tblGrid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тучие веще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мкг на 1 сигар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тучие 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мкг на 1 сигаре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сид угле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,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нитрозолометил-этилами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оксид угле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драз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ммо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омст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анистый вод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обенз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пр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це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цетальд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нз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кро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нитрозодиметила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фические компоненты табачного ды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905120"/>
          <a:ext cx="8458200" cy="4654440"/>
        </p:xfrm>
        <a:graphic>
          <a:graphicData uri="http://schemas.openxmlformats.org/drawingml/2006/table">
            <a:tbl>
              <a:tblPr/>
              <a:tblGrid>
                <a:gridCol w="2514600"/>
                <a:gridCol w="1371600"/>
                <a:gridCol w="2971800"/>
                <a:gridCol w="1600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ецифические компонен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мкг на 1 си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ецифические компонен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мкг на 1 си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о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д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н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6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-метилинд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-крез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нза(а)антрац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- и р-крез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нз(а)пир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4-диметилфен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люор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Этилфен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люорант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фтила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Д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-нитрозонорнико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Д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баз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-Дихлоростильб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-метилкарбаз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риз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таллические компоненты табачного дыма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371600"/>
          <a:ext cx="8229600" cy="5105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Т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мкг на 1 сигарету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Т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мкг на 1 сигарет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лл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см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гане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ине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нт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анд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дм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еб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к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л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гане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баль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р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з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ез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оло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ышья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ту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ышение заболеваемости при пассивном курении у взрослых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905120"/>
          <a:ext cx="9144000" cy="4952880"/>
        </p:xfrm>
        <a:graphic>
          <a:graphicData uri="http://schemas.openxmlformats.org/drawingml/2006/table">
            <a:tbl>
              <a:tblPr/>
              <a:tblGrid>
                <a:gridCol w="1981080"/>
                <a:gridCol w="1575000"/>
                <a:gridCol w="1930320"/>
                <a:gridCol w="1709640"/>
                <a:gridCol w="1947960"/>
              </a:tblGrid>
              <a:tr h="47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бол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вышение заболевае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реб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взросл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реб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взросл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нх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ринг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невмо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рмати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ая  заболевае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ёгкие курильщика и некуряще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0924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е того как мы полностью всё закончили, хотелось бы представить итог нашей работы. Из проделанных нами опытов, можно сказ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гареты с фильтром намного чище, чем сигареты без него, т.к. при втягивании в легкие дымов в фильтре задерживается 9-24% вредных веще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все сигареты с фильтром одинаковы, т.к. способность фильтров задерживать вредные вещества зависит от способа изготовления и материа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Вредность» сигареты также зависит от табака, способа его обработки, утрамбовки и ка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молы в сигаретах с ментолом больше, т.к. пары сгораемых частиц ментола, при остывании превращаются в смолу, которая оседает в лёгк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держание металлических компонентов зависит от того, каково состояние почвы, как много добавляется удобрений и стимуляторов роста (содержащие металлические компоненты).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спалова Марина Александровна</cp:lastModifiedBy>
  <dcterms:modified xsi:type="dcterms:W3CDTF">2008-03-13T17:56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