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BAF-5AD8-41F7-B6F1-49C1A0E4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0F8-55A6-4BFC-8562-30311DB1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DA9-FED0-484A-85F1-D1BE93DC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E19-461F-4AC4-9135-072F8EDE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CA84-5D6C-43B1-88FC-8F82BB6A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F078-1BF7-4436-9E01-170816E4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9D00-193D-46C6-93E9-4E27D311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B473-A3A2-4AD4-9AE0-BD3B8912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DB87-22CB-439F-9BDC-D34464E3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E624-FAC1-48CB-B7B0-B777CE2C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744A-4AD2-46D1-AF31-0961A4D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5AE-00AA-49CC-B219-A3F59133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E99F-818E-4760-A1AB-919FB995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1145-2680-46BF-9952-74B01743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77B9-C292-42AC-A20B-DB71687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6FB4-CA63-4722-A842-7E19A6FF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7A58-5499-494E-B88A-C87EC1EB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598-6CF9-4723-A231-19957A33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40C-FA60-48BC-B9FD-FF2C598D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E5E-CF1E-408C-9F5A-46FAA6DF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AA8-0757-4171-B704-FFA443D8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497-7B59-4774-A6E8-CDFC81C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F56-C9CF-4D6E-B180-EFAA69B3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7A7-F90A-467A-A9D9-FF9A41FE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6042-8E6B-43F7-9C87-94EFA661F1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99F2-000A-433C-98CE-FC60BA9E9A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izvestia.ru/" TargetMode="External"/><Relationship Id="rId2" Type="http://schemas.openxmlformats.org/officeDocument/2006/relationships/hyperlink" Target="http://www.izvestia.ru/" TargetMode="External"/><Relationship Id="rId3" Type="http://schemas.openxmlformats.org/officeDocument/2006/relationships/hyperlink" Target="http://www.rosbaltpiter.ru/2008/09/04/520492.html" TargetMode="External"/><Relationship Id="rId4" Type="http://schemas.openxmlformats.org/officeDocument/2006/relationships/hyperlink" Target="http://anti-smoking.ru/about_smoking" TargetMode="External"/><Relationship Id="rId5" Type="http://schemas.openxmlformats.org/officeDocument/2006/relationships/hyperlink" Target="http://anti-smoking.ru/about_smoking" TargetMode="External"/><Relationship Id="rId6" Type="http://schemas.openxmlformats.org/officeDocument/2006/relationships/hyperlink" Target="http://anti-smoking.ru/about_smoking" TargetMode="External"/><Relationship Id="rId7" Type="http://schemas.openxmlformats.org/officeDocument/2006/relationships/hyperlink" Target="http://anti-smoking.ru/about_smoking" TargetMode="External"/><Relationship Id="rId8" Type="http://schemas.openxmlformats.org/officeDocument/2006/relationships/hyperlink" Target="http://anti-smoking.ru/price" TargetMode="External"/><Relationship Id="rId9" Type="http://schemas.openxmlformats.org/officeDocument/2006/relationships/hyperlink" Target="http://anti-smoking.ru/price" TargetMode="External"/><Relationship Id="rId10" Type="http://schemas.openxmlformats.org/officeDocument/2006/relationships/hyperlink" Target="http://anti-smoking.ru/price" TargetMode="External"/><Relationship Id="rId11" Type="http://schemas.openxmlformats.org/officeDocument/2006/relationships/hyperlink" Target="http://anti-smoking.ru/price" TargetMode="External"/><Relationship Id="rId12" Type="http://schemas.openxmlformats.org/officeDocument/2006/relationships/hyperlink" Target="http://anti-smoking.ru/about_harm" TargetMode="External"/><Relationship Id="rId13" Type="http://schemas.openxmlformats.org/officeDocument/2006/relationships/hyperlink" Target="http://anti-smoking.ru/about_harm" TargetMode="External"/><Relationship Id="rId14" Type="http://schemas.openxmlformats.org/officeDocument/2006/relationships/hyperlink" Target="http://anti-smoking.ru/about_harm" TargetMode="External"/><Relationship Id="rId15" Type="http://schemas.openxmlformats.org/officeDocument/2006/relationships/hyperlink" Target="http://anti-smoking.ru/about_harm" TargetMode="External"/><Relationship Id="rId16" Type="http://schemas.openxmlformats.org/officeDocument/2006/relationships/hyperlink" Target="http://www.no-smoking.ru/content.asp?pn=70" TargetMode="External"/><Relationship Id="rId17" Type="http://schemas.openxmlformats.org/officeDocument/2006/relationships/hyperlink" Target="http://www.no-smoking.ru/content.asp?pn=70" TargetMode="External"/><Relationship Id="rId18" Type="http://schemas.openxmlformats.org/officeDocument/2006/relationships/hyperlink" Target="http://www.no-smoking.ru/content.asp?pn=70" TargetMode="External"/><Relationship Id="rId19" Type="http://schemas.openxmlformats.org/officeDocument/2006/relationships/hyperlink" Target="http://mirsovetov.ru/a/fashion/beauty-and-health/no-smoke-woman.html" TargetMode="External"/><Relationship Id="rId20" Type="http://schemas.openxmlformats.org/officeDocument/2006/relationships/hyperlink" Target="http://mirsovetov.ru/a/fashion/beauty-and-health/no-smoke-woman.html" TargetMode="External"/><Relationship Id="rId21" Type="http://schemas.openxmlformats.org/officeDocument/2006/relationships/hyperlink" Target="http://mirsovetov.ru/a/fashion/beauty-and-health/no-smoke-woman.html" TargetMode="External"/><Relationship Id="rId22" Type="http://schemas.openxmlformats.org/officeDocument/2006/relationships/hyperlink" Target="http://mirsovetov.ru/a/fashion/beauty-and-health/no-smoke-woman.html" TargetMode="External"/><Relationship Id="rId23" Type="http://schemas.openxmlformats.org/officeDocument/2006/relationships/hyperlink" Target="http://mirsovetov.ru/a/fashion/beauty-and-health/no-smoke-woman.html" TargetMode="External"/><Relationship Id="rId24" Type="http://schemas.openxmlformats.org/officeDocument/2006/relationships/hyperlink" Target="http://mirsovetov.ru/a/fashion/beauty-and-health/no-smoke-woman.html" TargetMode="External"/><Relationship Id="rId25" Type="http://schemas.openxmlformats.org/officeDocument/2006/relationships/hyperlink" Target="http://mirsovetov.ru/a/fashion/beauty-and-health/no-smoke-woman.html" TargetMode="External"/><Relationship Id="rId26" Type="http://schemas.openxmlformats.org/officeDocument/2006/relationships/hyperlink" Target="http://mirsovetov.ru/a/fashion/beauty-and-health/no-smoke-woman.html" TargetMode="External"/><Relationship Id="rId2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Куприянов В. В.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              Седько Е. В.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            Степанюк К.А.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2204640"/>
            <a:ext cx="8147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«Минздрав не зр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дупреждает!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Учебное  исследов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акты и еще раз фак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1052640"/>
          <a:ext cx="5067360" cy="28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052640"/>
                    <a:ext cx="506736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76720" y="3848040"/>
          <a:ext cx="5286240" cy="3009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48040"/>
                    <a:ext cx="528624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42920" y="907920"/>
          <a:ext cx="5286600" cy="30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528660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76720" y="3848040"/>
          <a:ext cx="5286240" cy="3009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48040"/>
                    <a:ext cx="528624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Факты и еще раз факт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42920" y="1413000"/>
          <a:ext cx="7920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7920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Факты и еще раз факт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344000" cy="4967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акты и еще раз фак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сследов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55640" y="1557360"/>
          <a:ext cx="820728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82072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Исследования семей показало, что всего 28% всех семей являются некурящими, а 72% семей -  курящими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00000" y="1773360"/>
          <a:ext cx="7775640" cy="41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77756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Исследования показали, что 66 обучающихся нашей школы пробовали курить.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Это составило 38% от всех опрошенных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63640" y="1628640"/>
          <a:ext cx="6456600" cy="493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645660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0 человек начали курить самостоятельно, а 56 человек заявили, что первую сигарету им предложил друг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332000" y="1916280"/>
          <a:ext cx="7189560" cy="451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718956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В настоящее время курят 18 обучающихся из числа опрошенных. Это составило 10 % всех опрошенных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87280" y="1916280"/>
          <a:ext cx="7367760" cy="43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736776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«Легко ли бросить курить?»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70160" y="1827360"/>
          <a:ext cx="7313400" cy="884160"/>
        </p:xfrm>
        <a:graphic>
          <a:graphicData uri="http://schemas.openxmlformats.org/drawingml/2006/table">
            <a:tbl>
              <a:tblPr/>
              <a:tblGrid>
                <a:gridCol w="2437560"/>
                <a:gridCol w="2437920"/>
                <a:gridCol w="2437920"/>
              </a:tblGrid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, легк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, не легк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знаю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 flipV="1">
            <a:off x="-252360" y="1556280"/>
            <a:ext cx="9144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32000" y="2714760"/>
          <a:ext cx="732636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14760"/>
                    <a:ext cx="732636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ведение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628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 данным Всемирной организации здравоохранения (ВОЗ), каждый год от болезней, связанных с табаком, умирают четыре миллиона человек, или один человек каждые восемь секунд. Во всем мире курение становится одной из главных причин смерти, которую можно было предотвратить. Если так будет продолжаться и дальше, то через 20 лет курение станет основной причиной смерти и инвалидности во всем мире, и будет уносить больше жизней, чем СПИД, туберкулез, материнская смертность, дорожно-транспортные происшествия, убийства и самоубийства вместе взяты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82560" y="404640"/>
            <a:ext cx="7561440" cy="621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ричины кур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0160" y="1827360"/>
          <a:ext cx="7313040" cy="883800"/>
        </p:xfrm>
        <a:graphic>
          <a:graphicData uri="http://schemas.openxmlformats.org/drawingml/2006/table">
            <a:tbl>
              <a:tblPr/>
              <a:tblGrid>
                <a:gridCol w="2437920"/>
                <a:gridCol w="2437920"/>
                <a:gridCol w="2437200"/>
              </a:tblGrid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en-US" sz="21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роблем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ривыч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За компанию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solidFill>
                      <a:srgbClr val="008080"/>
                    </a:soli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403280" y="2773440"/>
          <a:ext cx="7155000" cy="408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773440"/>
                    <a:ext cx="715500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 человек из всех опрошенных заявили, что курение не влияет на организм, а 155 человек осознают негативное влияние табака на организм человека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87280" y="2205000"/>
          <a:ext cx="752976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75297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им образом, исследование показало, что среди учащихся 1-11 классов пробовали курить 38%. При этом особой роли не играло наличие в семье курящих взрослых. Чаще всего пробуют курить не те, у кого перед глазами пример родителей, а те, у кого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слабый характ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Многие пробуют курить, чтобы снять стресс или  потому,   что курят их друзья или им просто хочется стать быстро «взрослым». Некоторые хотят казаться сильными, крутыми и независимыми внешне, при этом оставаясь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слабыми и зависимыми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Наглядное пособие, показывающее негативное влияние табака на легкие человека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пыт показал, что даже после одной выкуренной сигареты вата в колбе пожелтела. Так и у человека на легких оседает  желтый налет. И это результат всего лишь одной выкуренной сигареты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гар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уб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ата (лег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елове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лб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157140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84720" y="22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36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3645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458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Бросьте курить и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заметите, что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137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20 минут давление, пульс и температура рук и ног возвращаются к нормальным показателям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8 часов уровень углекислоты и кислорода в крови приходит в норму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12 часов организм приступает к самоочищению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24 часа начинает снижаться риск сердечного приступа от перепадов артериального давления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48 часов начинают восстанавливаться вкусовые и обонятельные ощущения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1 месяц улучшается кровообращение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2 месяца нормализуется кровоток, становится легче ходить пешком. Значительно улучшается функционирование легких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3 месяца исчезает одышка. Проходит кашель и аритмия. Слизистая оболочка легких начинает успешно справляться с инфекциями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год риск коронарной недостаточности становится в 2 раза ниже, чем у курильщика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6 лет вдвое уменьшается риск сердечного приступа. Почти наполовину снижается риск заболеть раком легких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10 лет риск инсульта и риск рака легких - не выше, чем у некурящих.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Через 20 лет если раньше ты выкуривал в день пачку сигарет за 20 рублей, то ты сэкономил почти 150000 рублей. А если учесть инфляцию..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сять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пособов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росить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ури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013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Решительно настройся. Найди веские причины, чтобы появилось желание бросить курить: самоуважение; забота о своем настоящем и будущем здоровь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Назначь дату, когда бросишь курить, и придерживайся ее. Не тяни резину; чем быстрее, тем лучш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Прими все меры, чтобы отучиться от привычки. Разломай все сигареты в доме и налей на них воды. Отдай всю свою одежду, пахнущую табаком, в чистку или постирай. Начни новую жизнь и почувствуй себя обновленным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Избегай мест с сильным табачным дымом, а также курящих друзей, пока полностью не отвыкнешь от никотин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Отложи деньги, которые ты обычно тратил на табак, и по истечении месяца посчитай их! Купи то, что тебе действительно нужно. Или же купи подарок родителя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Займи себя и свои руки чем-нибудь в те моменты, когда ты обычно тянулся за сигаретой. Жуй жевательную резинку (без никотина), когда желание покурить гложет тебя. После еды вместо курения чисти зуб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 Когда чувствуешь себя нервным или напряженным, дыши глубоко и медленно. Вместо того чтобы взять сигарету, пей много воды. Жидкости очищаю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 Делай упражнения в пределах своих физических возможностей. Тебя порадует то, что твое состояние здоровья улучшает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 Относись критически к рекламам сигарет — поразмышляй над их поверхностным и лживым содержанием. Не дай одурачить себя сно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 Не ожидай чуда; лучше действу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Из 66 опрошенных учащихся, пробовавших курить, продолжили опыт только 18 человек. Но 24–м из них, в свое время, понравилось курить. Получается, что 6 человек нашли в себе силы не курить дальше.  Но почему же остальные 18 не бросят курить? Слабость характера или недопонимание всей опасности?  Эта работа призвана показать негативное влияние табака на здоровье человек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931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Итак, можно сделать вывод, что курение  - бесполезное, даже вредное занятие и пустая трата денег, времени, здоровья и лет жизни. И закончить хотели стихотворением, придуманным н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Минздрав не зря предупреждает, что сигарета- это яд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Она планету убивает и воздух превращает в смрад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Когда закуришь сигарету, то навредишь себе и нам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Забрось быстрей привычку эту, жить, иль не жить, решаешь са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100" spc="-1" strike="noStrike">
                <a:solidFill>
                  <a:srgbClr val="990099"/>
                </a:solidFill>
                <a:latin typeface="Times New Roman"/>
              </a:rPr>
              <a:t>Жизнь - хорошая штука, не порти её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писок литератур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8459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. www.ruskolan.xpomo.com/liter/tabak.htm 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w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ww.izvestia.r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http://www.rosbaltpiter.ru/2008/09/04/520492.htm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anti-smoking.ru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about_smok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http:/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anti-smoking.ru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1"/>
              </a:rPr>
              <a:t>pri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2"/>
              </a:rPr>
              <a:t>http:/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3"/>
              </a:rPr>
              <a:t>anti-smoking.ru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5"/>
              </a:rPr>
              <a:t>about_har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6"/>
              </a:rPr>
              <a:t>http:/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7"/>
              </a:rPr>
              <a:t>www.no-smoking.ru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8"/>
              </a:rPr>
              <a:t>/content.asp?pn=7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19"/>
              </a:rPr>
              <a:t>http:/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20"/>
              </a:rPr>
              <a:t>mirsovetov.ru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21"/>
              </a:rPr>
              <a:t>/a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22"/>
              </a:rPr>
              <a:t>fashion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24"/>
              </a:rPr>
              <a:t>beauty-and-health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ru-RU" sz="1900" spc="-1" strike="noStrike" u="sng">
                <a:solidFill>
                  <a:srgbClr val="006666"/>
                </a:solidFill>
                <a:uFillTx/>
                <a:latin typeface="Times New Roman"/>
                <a:hlinkClick r:id="rId26"/>
              </a:rPr>
              <a:t>no-smoke-woman.htm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9. Фролов, М. П. Основы безопасности жизнедеятельности. 10 кл. О – 75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чеб. для общеобразовательных учреждений [Текст] / М. П. Фролов, Е. Н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твинов, А. Т. Смирнов и др.; под. ред. Ю. Л. Воробьева. – М.: ОО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Издательство Астрель»: ООО «Издательство АСТ», 2002. – С.159 – 167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0. Ягодинский, В. Н. Школьнику о вреде никотина и алкоголя [Текст] – М.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свещение, 1985. – 112 с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6666"/>
                </a:solidFill>
                <a:latin typeface="Times New Roman"/>
              </a:rPr>
              <a:t>Спасибо 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6666"/>
                </a:solidFill>
                <a:latin typeface="Times New Roman"/>
              </a:rPr>
              <a:t>за 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6666"/>
                </a:solidFill>
                <a:latin typeface="Times New Roman"/>
              </a:rPr>
              <a:t>внимание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Цель работы: Привлечение внимание взрослых к проблемам табакокурения в нашей школе и  предоставление обоснований в пользу отказа от курения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361520"/>
            <a:ext cx="76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4507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химический состав табака и табачного ды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ить влияние табака на организ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ть некоторые ф</a:t>
            </a:r>
            <a:r>
              <a:rPr b="0" lang="uz-Cyrl-UZ" sz="2400" spc="-1" strike="noStrike">
                <a:solidFill>
                  <a:srgbClr val="000000"/>
                </a:solidFill>
                <a:latin typeface="Times New Roman"/>
              </a:rPr>
              <a:t>акторы, содействующие употребле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 таб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анкетный опрос среди обучающихся  Ягуновской средн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ить число курящих детей из числа курящих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тизировать обоснования в пользу отказа от ку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рекомендации « Как бросить курит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готовить наглядное пособие, показывающее негативное влияние табака на легк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став никотина и дым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ым сигарет содержит смолы, в составе которых входит более 4 000 химических веществ, 43 из них вызывают рак. Среди них: цианид, бензол, метиловый спирт и ацетилен (горючее, используемое для сварки). В дыме сигарет также содержатся оксид азота и окись углерода — оба ядовитые газы. Главный активный элемент сигаретного дыма —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никот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ещество, вызывающее у человека сильную зависимость. В сигаретном дыме присутствуют радиоактивные вещества: полоний, свинец, висмут. А также СО 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, канцерогенные углеводороды (от лат. слова рак – «канцер»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чка сигарет в день - это около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500 рентген облучения за год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юбая сигарета — это бомба замедленного действия. Длину ее фитиля мы не знаем. И нам не известно время её тайме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4000" y="1197000"/>
            <a:ext cx="8497800" cy="511344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ше видение сигареты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втор Седько Е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лияние никотина на организм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    челове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76100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лияние никотина на организм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    челове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65920" cy="38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лияние никотина на организм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     челове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36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Курящие вредят, однако, не только лишь себе. Они и других вынуждают вдыхать свой ядовитый дым, подвергая так некурящих опасности получить рак легких и другие заболевания дыхательных органов. Взрослые, зажигающие сигарету в присутствии детей, должны знать, что они довольно жестоко обращаются с ними. И, кроме детей, они жестоко поступают и по отношению ко всем другим в своем окружен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очему сложно бросить курить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росить курить трудно — даже тем, кто очень того желает. В основном это потому, что никотин вызывает у человека 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сильную зависимость</a:t>
            </a: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росить курить трудно еще и потому, что курение — 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поведенческая привычка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росить курить трудно — потому, что курение прочно вошло в наш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повседневную жизнь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росить курить трудно – потому, что желающие бросить курить подвержены 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постоянному давлени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о стороны курящих, которо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 всякий может выдержа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09:46:47Z</dcterms:created>
  <dc:creator>Офелия</dc:creator>
  <dc:description/>
  <dc:language>en-US</dc:language>
  <cp:lastModifiedBy>Офелия</cp:lastModifiedBy>
  <dcterms:modified xsi:type="dcterms:W3CDTF">2009-03-21T11:29:13Z</dcterms:modified>
  <cp:revision>26</cp:revision>
  <dc:subject/>
  <dc:title>      Куприянов В. В. Седько Е. В. Степанюк К.А. </dc:title>
</cp:coreProperties>
</file>