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F3E-3155-418F-ABBF-5DD5227E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A8C-DC70-4A16-A71A-35C27E05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0FC-7C30-42AB-84F5-CD78FD9B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7FF-5217-4664-9CA6-FEE89E80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6B8F-7A9D-4F06-9BD0-91E6BDB9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59F3-1AFC-4EB0-A0EC-E7A5E9AB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FDFF-1530-4754-BD08-C17DBCA9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93EC-CD4D-412A-838E-93921A88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9EBF-65A2-4488-A9E7-478FF079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4D88-16FF-491F-A85D-7A634077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B48A-01DB-4192-9E77-0535054E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B6C-47C0-4AA5-A95D-6D7E3F06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73B5-5D7F-475B-B3F0-A9BB2AE4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502F-76D6-4C7A-A998-D5BC8C54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1C5E-A757-4EAA-AF96-5AA96BA5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FB28-B6D6-4347-874F-56EBB766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90B3-12BD-421F-85A9-63D5E524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053-B16F-4CDD-BB45-5C74FFF9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68D-CAEB-4EF3-9B22-BD8FA3D0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473-83FD-4333-A1D8-DAB78169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189-D947-4E44-BB96-14B07F92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7A8-884E-49A4-8210-CD42A9C4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77B-EBA5-4AB1-A208-A4EB2E1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2F6-46DF-4E06-9E99-C43639C4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7AE9-4C15-4FF0-88E5-5B8104C39D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9F1B-A0DF-477A-971A-5B18846284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523880" y="30492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447920" y="1676520"/>
            <a:ext cx="693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Times New Roman"/>
              </a:rPr>
              <a:t>Территориальная подвижность населения посёлка Сингапай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4"/>
          <p:cNvGraphicFramePr/>
          <p:nvPr/>
        </p:nvGraphicFramePr>
        <p:xfrm>
          <a:off x="826920" y="1773360"/>
          <a:ext cx="381636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38163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10"/>
          <p:cNvGraphicFramePr/>
          <p:nvPr/>
        </p:nvGraphicFramePr>
        <p:xfrm>
          <a:off x="4788000" y="1773360"/>
          <a:ext cx="3744720" cy="451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773360"/>
                    <a:ext cx="37447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1"/>
          <p:cNvSpPr/>
          <p:nvPr/>
        </p:nvSpPr>
        <p:spPr>
          <a:xfrm>
            <a:off x="1116000" y="333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ссажирооборот автобуса № 109 по маршруту Нефтеюганск – Сингапай в рабочие д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332000" y="206064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.         Опросили жителей, которые работают в городе Нефтеюганск, но для  поездок на работу пользуются личным транспор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1258920" y="23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4.          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Изучили наличие в посёлке  учреждений сферы обслу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645200" y="96048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 сферы обслужи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417680" y="1692360"/>
          <a:ext cx="6308640" cy="4572000"/>
        </p:xfrm>
        <a:graphic>
          <a:graphicData uri="http://schemas.openxmlformats.org/drawingml/2006/table">
            <a:tbl>
              <a:tblPr/>
              <a:tblGrid>
                <a:gridCol w="3154320"/>
                <a:gridCol w="3154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 сферы обслуж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лок Сингап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касс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 культу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ая ба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елье ремонта и пошива одеж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кмахерс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елье ремонта обув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скус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музык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042920" y="977040"/>
            <a:ext cx="759636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изучив данную проблему, мы пришли к такому вывод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еобходимо разработать более гибкий и рациональный график движения автобус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Обратиться в администрацию посёлка с предложением открытия филиала школы искусст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295280" y="7621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19320" y="20574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99"/>
                </a:solidFill>
                <a:latin typeface="Times New Roman"/>
              </a:rPr>
              <a:t>Исследовать маятниковую миграцию жителей посёлка Сингапай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6"/>
          <p:cNvSpPr/>
          <p:nvPr/>
        </p:nvSpPr>
        <p:spPr>
          <a:xfrm>
            <a:off x="1219320" y="7621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27"/>
          <p:cNvSpPr/>
          <p:nvPr/>
        </p:nvSpPr>
        <p:spPr>
          <a:xfrm>
            <a:off x="1219320" y="1600200"/>
            <a:ext cx="7162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</a:rPr>
              <a:t>Если для жителей посёлка Сингапай характерна маятниковая миграция,то какие надо предложить мероприятия, чтобы улучшить организацию хозяйст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21932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Территориальная подвижность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700360" y="98100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6629400" y="9907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533520" y="1600200"/>
            <a:ext cx="434340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Безвозвратные» переме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343400" y="2666880"/>
            <a:ext cx="434340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Возвратные» переме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2133720" y="304812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648320" y="35053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7543800" y="35053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09480" y="3962520"/>
            <a:ext cx="2590920" cy="2590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429000" y="4572000"/>
            <a:ext cx="2590920" cy="1981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172200" y="4572000"/>
            <a:ext cx="2590920" cy="1981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609480" y="4114800"/>
            <a:ext cx="266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словленные необходимостью получения ряд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3505320" y="47242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овые в течение су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6248520" y="47242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язанные с досуг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2209680" y="30481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43000" y="533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аятниковая миграция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187280" y="170028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латинског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o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селяюсь) регулярное перемещение населения из одного населённого пункта в другой на работу, учёбу, посещение культурных и торговых заведений и т.д. с использованием транспортных средств. Маятниковая миграция растёт, так как улучшает возможности работы и сервиса. При этом растёт использование индивидуального транспорта, что ухудшает экологическую ситуацию в основном городе и в зоне маятниковой миграции вокруг го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1187280" y="333360"/>
            <a:ext cx="712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16760" y="2203920"/>
            <a:ext cx="629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Выяснили численность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посёлка, количество работающ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на предприятия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и организациях посёл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332000" y="333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ктическая ча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0"/>
          <p:cNvSpPr/>
          <p:nvPr/>
        </p:nvSpPr>
        <p:spPr>
          <a:xfrm>
            <a:off x="1116000" y="333360"/>
            <a:ext cx="73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ленность населения посёлка составляет  2544чел, из них  дети до 18 лет – 63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18 лет и старше - 1914 человек (162 человека неработающие пенсионеры и инвалид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103"/>
          <p:cNvGraphicFramePr/>
          <p:nvPr/>
        </p:nvGraphicFramePr>
        <p:xfrm>
          <a:off x="2124000" y="-110808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-11080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94"/>
          <p:cNvGraphicFramePr/>
          <p:nvPr/>
        </p:nvGraphicFramePr>
        <p:xfrm>
          <a:off x="1752480" y="1828800"/>
          <a:ext cx="6058080" cy="4210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Object 29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828800"/>
                    <a:ext cx="605808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8"/>
          <p:cNvSpPr/>
          <p:nvPr/>
        </p:nvSpPr>
        <p:spPr>
          <a:xfrm>
            <a:off x="1066680" y="304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ость населения  на территории посёлка Сингапа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91"/>
          <p:cNvGrpSpPr/>
          <p:nvPr/>
        </p:nvGrpSpPr>
        <p:grpSpPr>
          <a:xfrm>
            <a:off x="1295280" y="1295280"/>
            <a:ext cx="6591240" cy="5257800"/>
            <a:chOff x="1295280" y="1295280"/>
            <a:chExt cx="6591240" cy="5257800"/>
          </a:xfrm>
        </p:grpSpPr>
        <p:grpSp>
          <p:nvGrpSpPr>
            <p:cNvPr id="123" name="Group 189"/>
            <p:cNvGrpSpPr/>
            <p:nvPr/>
          </p:nvGrpSpPr>
          <p:grpSpPr>
            <a:xfrm>
              <a:off x="1299960" y="1297440"/>
              <a:ext cx="6581880" cy="5252400"/>
              <a:chOff x="1299960" y="1297440"/>
              <a:chExt cx="6581880" cy="5252400"/>
            </a:xfrm>
          </p:grpSpPr>
          <p:grpSp>
            <p:nvGrpSpPr>
              <p:cNvPr id="124" name="Group 130"/>
              <p:cNvGrpSpPr/>
              <p:nvPr/>
            </p:nvGrpSpPr>
            <p:grpSpPr>
              <a:xfrm>
                <a:off x="1299960" y="1297440"/>
                <a:ext cx="3290760" cy="343440"/>
                <a:chOff x="1299960" y="1297440"/>
                <a:chExt cx="3290760" cy="343440"/>
              </a:xfrm>
            </p:grpSpPr>
            <p:sp>
              <p:nvSpPr>
                <p:cNvPr id="125" name="Rectangle 99"/>
                <p:cNvSpPr/>
                <p:nvPr/>
              </p:nvSpPr>
              <p:spPr>
                <a:xfrm>
                  <a:off x="1368360" y="129744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Название организации, предприятия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129"/>
                <p:cNvSpPr/>
                <p:nvPr/>
              </p:nvSpPr>
              <p:spPr>
                <a:xfrm>
                  <a:off x="1299960" y="129744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132"/>
              <p:cNvGrpSpPr/>
              <p:nvPr/>
            </p:nvGrpSpPr>
            <p:grpSpPr>
              <a:xfrm>
                <a:off x="4590720" y="1297440"/>
                <a:ext cx="3291120" cy="343440"/>
                <a:chOff x="4590720" y="1297440"/>
                <a:chExt cx="3291120" cy="343440"/>
              </a:xfrm>
            </p:grpSpPr>
            <p:sp>
              <p:nvSpPr>
                <p:cNvPr id="128" name="Rectangle 100"/>
                <p:cNvSpPr/>
                <p:nvPr/>
              </p:nvSpPr>
              <p:spPr>
                <a:xfrm>
                  <a:off x="4659120" y="129744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Число работающих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131"/>
                <p:cNvSpPr/>
                <p:nvPr/>
              </p:nvSpPr>
              <p:spPr>
                <a:xfrm>
                  <a:off x="4590720" y="129744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134"/>
              <p:cNvGrpSpPr/>
              <p:nvPr/>
            </p:nvGrpSpPr>
            <p:grpSpPr>
              <a:xfrm>
                <a:off x="1299960" y="1640880"/>
                <a:ext cx="3290760" cy="343440"/>
                <a:chOff x="1299960" y="1640880"/>
                <a:chExt cx="3290760" cy="343440"/>
              </a:xfrm>
            </p:grpSpPr>
            <p:sp>
              <p:nvSpPr>
                <p:cNvPr id="131" name="Rectangle 101"/>
                <p:cNvSpPr/>
                <p:nvPr/>
              </p:nvSpPr>
              <p:spPr>
                <a:xfrm>
                  <a:off x="1368360" y="164088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чт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133"/>
                <p:cNvSpPr/>
                <p:nvPr/>
              </p:nvSpPr>
              <p:spPr>
                <a:xfrm>
                  <a:off x="1299960" y="164088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136"/>
              <p:cNvGrpSpPr/>
              <p:nvPr/>
            </p:nvGrpSpPr>
            <p:grpSpPr>
              <a:xfrm>
                <a:off x="4590720" y="1640880"/>
                <a:ext cx="3291120" cy="343440"/>
                <a:chOff x="4590720" y="1640880"/>
                <a:chExt cx="3291120" cy="343440"/>
              </a:xfrm>
            </p:grpSpPr>
            <p:sp>
              <p:nvSpPr>
                <p:cNvPr id="134" name="Rectangle 102"/>
                <p:cNvSpPr/>
                <p:nvPr/>
              </p:nvSpPr>
              <p:spPr>
                <a:xfrm>
                  <a:off x="4659120" y="164088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 челове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135"/>
                <p:cNvSpPr/>
                <p:nvPr/>
              </p:nvSpPr>
              <p:spPr>
                <a:xfrm>
                  <a:off x="4590720" y="164088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Group 138"/>
              <p:cNvGrpSpPr/>
              <p:nvPr/>
            </p:nvGrpSpPr>
            <p:grpSpPr>
              <a:xfrm>
                <a:off x="1299960" y="1984680"/>
                <a:ext cx="3290760" cy="343440"/>
                <a:chOff x="1299960" y="1984680"/>
                <a:chExt cx="3290760" cy="343440"/>
              </a:xfrm>
            </p:grpSpPr>
            <p:sp>
              <p:nvSpPr>
                <p:cNvPr id="137" name="Rectangle 103"/>
                <p:cNvSpPr/>
                <p:nvPr/>
              </p:nvSpPr>
              <p:spPr>
                <a:xfrm>
                  <a:off x="1368360" y="198468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Детский сад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137"/>
                <p:cNvSpPr/>
                <p:nvPr/>
              </p:nvSpPr>
              <p:spPr>
                <a:xfrm>
                  <a:off x="1299960" y="198468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140"/>
              <p:cNvGrpSpPr/>
              <p:nvPr/>
            </p:nvGrpSpPr>
            <p:grpSpPr>
              <a:xfrm>
                <a:off x="4590720" y="1984680"/>
                <a:ext cx="3291120" cy="343440"/>
                <a:chOff x="4590720" y="1984680"/>
                <a:chExt cx="3291120" cy="343440"/>
              </a:xfrm>
            </p:grpSpPr>
            <p:sp>
              <p:nvSpPr>
                <p:cNvPr id="140" name="Rectangle 104"/>
                <p:cNvSpPr/>
                <p:nvPr/>
              </p:nvSpPr>
              <p:spPr>
                <a:xfrm>
                  <a:off x="4659120" y="198468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6 челов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139"/>
                <p:cNvSpPr/>
                <p:nvPr/>
              </p:nvSpPr>
              <p:spPr>
                <a:xfrm>
                  <a:off x="4590720" y="198468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142"/>
              <p:cNvGrpSpPr/>
              <p:nvPr/>
            </p:nvGrpSpPr>
            <p:grpSpPr>
              <a:xfrm>
                <a:off x="1299960" y="2328120"/>
                <a:ext cx="3290760" cy="343440"/>
                <a:chOff x="1299960" y="2328120"/>
                <a:chExt cx="3290760" cy="343440"/>
              </a:xfrm>
            </p:grpSpPr>
            <p:sp>
              <p:nvSpPr>
                <p:cNvPr id="143" name="Rectangle 105"/>
                <p:cNvSpPr/>
                <p:nvPr/>
              </p:nvSpPr>
              <p:spPr>
                <a:xfrm>
                  <a:off x="1368360" y="232812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Ж</a:t>
                  </a: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Э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У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141"/>
                <p:cNvSpPr/>
                <p:nvPr/>
              </p:nvSpPr>
              <p:spPr>
                <a:xfrm>
                  <a:off x="1299960" y="232812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144"/>
              <p:cNvGrpSpPr/>
              <p:nvPr/>
            </p:nvGrpSpPr>
            <p:grpSpPr>
              <a:xfrm>
                <a:off x="4590720" y="2328120"/>
                <a:ext cx="3291120" cy="343440"/>
                <a:chOff x="4590720" y="2328120"/>
                <a:chExt cx="3291120" cy="343440"/>
              </a:xfrm>
            </p:grpSpPr>
            <p:sp>
              <p:nvSpPr>
                <p:cNvPr id="146" name="Rectangle 106"/>
                <p:cNvSpPr/>
                <p:nvPr/>
              </p:nvSpPr>
              <p:spPr>
                <a:xfrm>
                  <a:off x="4659120" y="232812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5 челов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43"/>
                <p:cNvSpPr/>
                <p:nvPr/>
              </p:nvSpPr>
              <p:spPr>
                <a:xfrm>
                  <a:off x="4590720" y="232812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146"/>
              <p:cNvGrpSpPr/>
              <p:nvPr/>
            </p:nvGrpSpPr>
            <p:grpSpPr>
              <a:xfrm>
                <a:off x="1299960" y="2671920"/>
                <a:ext cx="3290760" cy="343800"/>
                <a:chOff x="1299960" y="2671920"/>
                <a:chExt cx="3290760" cy="343800"/>
              </a:xfrm>
            </p:grpSpPr>
            <p:sp>
              <p:nvSpPr>
                <p:cNvPr id="149" name="Rectangle 107"/>
                <p:cNvSpPr/>
                <p:nvPr/>
              </p:nvSpPr>
              <p:spPr>
                <a:xfrm>
                  <a:off x="1368360" y="2671920"/>
                  <a:ext cx="3154320" cy="3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Магазин «Лада»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145"/>
                <p:cNvSpPr/>
                <p:nvPr/>
              </p:nvSpPr>
              <p:spPr>
                <a:xfrm>
                  <a:off x="1299960" y="2671920"/>
                  <a:ext cx="3290760" cy="34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148"/>
              <p:cNvGrpSpPr/>
              <p:nvPr/>
            </p:nvGrpSpPr>
            <p:grpSpPr>
              <a:xfrm>
                <a:off x="4590720" y="2671920"/>
                <a:ext cx="3291120" cy="343800"/>
                <a:chOff x="4590720" y="2671920"/>
                <a:chExt cx="3291120" cy="343800"/>
              </a:xfrm>
            </p:grpSpPr>
            <p:sp>
              <p:nvSpPr>
                <p:cNvPr id="152" name="Rectangle 108"/>
                <p:cNvSpPr/>
                <p:nvPr/>
              </p:nvSpPr>
              <p:spPr>
                <a:xfrm>
                  <a:off x="4659120" y="2671920"/>
                  <a:ext cx="3154320" cy="3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 челов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147"/>
                <p:cNvSpPr/>
                <p:nvPr/>
              </p:nvSpPr>
              <p:spPr>
                <a:xfrm>
                  <a:off x="4590720" y="2671920"/>
                  <a:ext cx="3291120" cy="34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150"/>
              <p:cNvGrpSpPr/>
              <p:nvPr/>
            </p:nvGrpSpPr>
            <p:grpSpPr>
              <a:xfrm>
                <a:off x="1299960" y="3015720"/>
                <a:ext cx="3290760" cy="343440"/>
                <a:chOff x="1299960" y="3015720"/>
                <a:chExt cx="3290760" cy="343440"/>
              </a:xfrm>
            </p:grpSpPr>
            <p:sp>
              <p:nvSpPr>
                <p:cNvPr id="155" name="Rectangle 109"/>
                <p:cNvSpPr/>
                <p:nvPr/>
              </p:nvSpPr>
              <p:spPr>
                <a:xfrm>
                  <a:off x="1368360" y="301572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Магазин «Тройка»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149"/>
                <p:cNvSpPr/>
                <p:nvPr/>
              </p:nvSpPr>
              <p:spPr>
                <a:xfrm>
                  <a:off x="1299960" y="301572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52"/>
              <p:cNvGrpSpPr/>
              <p:nvPr/>
            </p:nvGrpSpPr>
            <p:grpSpPr>
              <a:xfrm>
                <a:off x="4590720" y="3015720"/>
                <a:ext cx="3291120" cy="343440"/>
                <a:chOff x="4590720" y="3015720"/>
                <a:chExt cx="3291120" cy="343440"/>
              </a:xfrm>
            </p:grpSpPr>
            <p:sp>
              <p:nvSpPr>
                <p:cNvPr id="158" name="Rectangle 110"/>
                <p:cNvSpPr/>
                <p:nvPr/>
              </p:nvSpPr>
              <p:spPr>
                <a:xfrm>
                  <a:off x="4659120" y="301572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 челове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151"/>
                <p:cNvSpPr/>
                <p:nvPr/>
              </p:nvSpPr>
              <p:spPr>
                <a:xfrm>
                  <a:off x="4590720" y="301572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54"/>
              <p:cNvGrpSpPr/>
              <p:nvPr/>
            </p:nvGrpSpPr>
            <p:grpSpPr>
              <a:xfrm>
                <a:off x="1299960" y="3359160"/>
                <a:ext cx="3290760" cy="343440"/>
                <a:chOff x="1299960" y="3359160"/>
                <a:chExt cx="3290760" cy="343440"/>
              </a:xfrm>
            </p:grpSpPr>
            <p:sp>
              <p:nvSpPr>
                <p:cNvPr id="161" name="Rectangle 111"/>
                <p:cNvSpPr/>
                <p:nvPr/>
              </p:nvSpPr>
              <p:spPr>
                <a:xfrm>
                  <a:off x="1368360" y="335916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Магазин «Марина»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53"/>
                <p:cNvSpPr/>
                <p:nvPr/>
              </p:nvSpPr>
              <p:spPr>
                <a:xfrm>
                  <a:off x="1299960" y="335916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56"/>
              <p:cNvGrpSpPr/>
              <p:nvPr/>
            </p:nvGrpSpPr>
            <p:grpSpPr>
              <a:xfrm>
                <a:off x="4590720" y="3359160"/>
                <a:ext cx="3291120" cy="343440"/>
                <a:chOff x="4590720" y="3359160"/>
                <a:chExt cx="3291120" cy="343440"/>
              </a:xfrm>
            </p:grpSpPr>
            <p:sp>
              <p:nvSpPr>
                <p:cNvPr id="164" name="Rectangle 112"/>
                <p:cNvSpPr/>
                <p:nvPr/>
              </p:nvSpPr>
              <p:spPr>
                <a:xfrm>
                  <a:off x="4659120" y="335916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 челов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55"/>
                <p:cNvSpPr/>
                <p:nvPr/>
              </p:nvSpPr>
              <p:spPr>
                <a:xfrm>
                  <a:off x="4590720" y="335916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58"/>
              <p:cNvGrpSpPr/>
              <p:nvPr/>
            </p:nvGrpSpPr>
            <p:grpSpPr>
              <a:xfrm>
                <a:off x="1299960" y="3702960"/>
                <a:ext cx="3290760" cy="343440"/>
                <a:chOff x="1299960" y="3702960"/>
                <a:chExt cx="3290760" cy="343440"/>
              </a:xfrm>
            </p:grpSpPr>
            <p:sp>
              <p:nvSpPr>
                <p:cNvPr id="167" name="Rectangle 113"/>
                <p:cNvSpPr/>
                <p:nvPr/>
              </p:nvSpPr>
              <p:spPr>
                <a:xfrm>
                  <a:off x="1368360" y="370296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Магазин «Виктория»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57"/>
                <p:cNvSpPr/>
                <p:nvPr/>
              </p:nvSpPr>
              <p:spPr>
                <a:xfrm>
                  <a:off x="1299960" y="370296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60"/>
              <p:cNvGrpSpPr/>
              <p:nvPr/>
            </p:nvGrpSpPr>
            <p:grpSpPr>
              <a:xfrm>
                <a:off x="4590720" y="3702960"/>
                <a:ext cx="3291120" cy="343440"/>
                <a:chOff x="4590720" y="3702960"/>
                <a:chExt cx="3291120" cy="343440"/>
              </a:xfrm>
            </p:grpSpPr>
            <p:sp>
              <p:nvSpPr>
                <p:cNvPr id="170" name="Rectangle 114"/>
                <p:cNvSpPr/>
                <p:nvPr/>
              </p:nvSpPr>
              <p:spPr>
                <a:xfrm>
                  <a:off x="4659120" y="370296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 челов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59"/>
                <p:cNvSpPr/>
                <p:nvPr/>
              </p:nvSpPr>
              <p:spPr>
                <a:xfrm>
                  <a:off x="4590720" y="370296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162"/>
              <p:cNvGrpSpPr/>
              <p:nvPr/>
            </p:nvGrpSpPr>
            <p:grpSpPr>
              <a:xfrm>
                <a:off x="1299960" y="4046400"/>
                <a:ext cx="3290760" cy="343440"/>
                <a:chOff x="1299960" y="4046400"/>
                <a:chExt cx="3290760" cy="343440"/>
              </a:xfrm>
            </p:grpSpPr>
            <p:sp>
              <p:nvSpPr>
                <p:cNvPr id="173" name="Rectangle 115"/>
                <p:cNvSpPr/>
                <p:nvPr/>
              </p:nvSpPr>
              <p:spPr>
                <a:xfrm>
                  <a:off x="1368360" y="404640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Магазин «Сингапай»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Rectangle 161"/>
                <p:cNvSpPr/>
                <p:nvPr/>
              </p:nvSpPr>
              <p:spPr>
                <a:xfrm>
                  <a:off x="1299960" y="404640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Group 164"/>
              <p:cNvGrpSpPr/>
              <p:nvPr/>
            </p:nvGrpSpPr>
            <p:grpSpPr>
              <a:xfrm>
                <a:off x="4590720" y="4046400"/>
                <a:ext cx="3291120" cy="343440"/>
                <a:chOff x="4590720" y="4046400"/>
                <a:chExt cx="3291120" cy="343440"/>
              </a:xfrm>
            </p:grpSpPr>
            <p:sp>
              <p:nvSpPr>
                <p:cNvPr id="176" name="Rectangle 116"/>
                <p:cNvSpPr/>
                <p:nvPr/>
              </p:nvSpPr>
              <p:spPr>
                <a:xfrm>
                  <a:off x="4659120" y="404640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 челов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163"/>
                <p:cNvSpPr/>
                <p:nvPr/>
              </p:nvSpPr>
              <p:spPr>
                <a:xfrm>
                  <a:off x="4590720" y="404640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Group 166"/>
              <p:cNvGrpSpPr/>
              <p:nvPr/>
            </p:nvGrpSpPr>
            <p:grpSpPr>
              <a:xfrm>
                <a:off x="1299960" y="4390200"/>
                <a:ext cx="3290760" cy="343440"/>
                <a:chOff x="1299960" y="4390200"/>
                <a:chExt cx="3290760" cy="343440"/>
              </a:xfrm>
            </p:grpSpPr>
            <p:sp>
              <p:nvSpPr>
                <p:cNvPr id="179" name="Rectangle 117"/>
                <p:cNvSpPr/>
                <p:nvPr/>
              </p:nvSpPr>
              <p:spPr>
                <a:xfrm>
                  <a:off x="1368360" y="439020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дминистрац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65"/>
                <p:cNvSpPr/>
                <p:nvPr/>
              </p:nvSpPr>
              <p:spPr>
                <a:xfrm>
                  <a:off x="1299960" y="439020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168"/>
              <p:cNvGrpSpPr/>
              <p:nvPr/>
            </p:nvGrpSpPr>
            <p:grpSpPr>
              <a:xfrm>
                <a:off x="4590720" y="4390200"/>
                <a:ext cx="3291120" cy="343440"/>
                <a:chOff x="4590720" y="4390200"/>
                <a:chExt cx="3291120" cy="343440"/>
              </a:xfrm>
            </p:grpSpPr>
            <p:sp>
              <p:nvSpPr>
                <p:cNvPr id="182" name="Rectangle 118"/>
                <p:cNvSpPr/>
                <p:nvPr/>
              </p:nvSpPr>
              <p:spPr>
                <a:xfrm>
                  <a:off x="4659120" y="439020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 челов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67"/>
                <p:cNvSpPr/>
                <p:nvPr/>
              </p:nvSpPr>
              <p:spPr>
                <a:xfrm>
                  <a:off x="4590720" y="439020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170"/>
              <p:cNvGrpSpPr/>
              <p:nvPr/>
            </p:nvGrpSpPr>
            <p:grpSpPr>
              <a:xfrm>
                <a:off x="1299960" y="4733640"/>
                <a:ext cx="3290760" cy="441360"/>
                <a:chOff x="1299960" y="4733640"/>
                <a:chExt cx="3290760" cy="441360"/>
              </a:xfrm>
            </p:grpSpPr>
            <p:sp>
              <p:nvSpPr>
                <p:cNvPr id="185" name="Rectangle 119"/>
                <p:cNvSpPr/>
                <p:nvPr/>
              </p:nvSpPr>
              <p:spPr>
                <a:xfrm>
                  <a:off x="1368360" y="4733640"/>
                  <a:ext cx="3154320" cy="44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00 «ЮНПБС»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69"/>
                <p:cNvSpPr/>
                <p:nvPr/>
              </p:nvSpPr>
              <p:spPr>
                <a:xfrm>
                  <a:off x="1299960" y="4733640"/>
                  <a:ext cx="3290760" cy="44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172"/>
              <p:cNvGrpSpPr/>
              <p:nvPr/>
            </p:nvGrpSpPr>
            <p:grpSpPr>
              <a:xfrm>
                <a:off x="4590720" y="4733640"/>
                <a:ext cx="3291120" cy="441360"/>
                <a:chOff x="4590720" y="4733640"/>
                <a:chExt cx="3291120" cy="441360"/>
              </a:xfrm>
            </p:grpSpPr>
            <p:sp>
              <p:nvSpPr>
                <p:cNvPr id="188" name="Rectangle 120"/>
                <p:cNvSpPr/>
                <p:nvPr/>
              </p:nvSpPr>
              <p:spPr>
                <a:xfrm>
                  <a:off x="4659120" y="4733640"/>
                  <a:ext cx="3154320" cy="44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80 человек (170 человек жители посёлка Сингапай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71"/>
                <p:cNvSpPr/>
                <p:nvPr/>
              </p:nvSpPr>
              <p:spPr>
                <a:xfrm>
                  <a:off x="4590720" y="4733640"/>
                  <a:ext cx="3291120" cy="44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174"/>
              <p:cNvGrpSpPr/>
              <p:nvPr/>
            </p:nvGrpSpPr>
            <p:grpSpPr>
              <a:xfrm>
                <a:off x="1299960" y="5175360"/>
                <a:ext cx="3290760" cy="343800"/>
                <a:chOff x="1299960" y="5175360"/>
                <a:chExt cx="3290760" cy="343800"/>
              </a:xfrm>
            </p:grpSpPr>
            <p:sp>
              <p:nvSpPr>
                <p:cNvPr id="191" name="Rectangle 121"/>
                <p:cNvSpPr/>
                <p:nvPr/>
              </p:nvSpPr>
              <p:spPr>
                <a:xfrm>
                  <a:off x="1368360" y="5175360"/>
                  <a:ext cx="3154320" cy="3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мбулатор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73"/>
                <p:cNvSpPr/>
                <p:nvPr/>
              </p:nvSpPr>
              <p:spPr>
                <a:xfrm>
                  <a:off x="1299960" y="5175360"/>
                  <a:ext cx="3290760" cy="34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176"/>
              <p:cNvGrpSpPr/>
              <p:nvPr/>
            </p:nvGrpSpPr>
            <p:grpSpPr>
              <a:xfrm>
                <a:off x="4590720" y="5175360"/>
                <a:ext cx="3291120" cy="343800"/>
                <a:chOff x="4590720" y="5175360"/>
                <a:chExt cx="3291120" cy="343800"/>
              </a:xfrm>
            </p:grpSpPr>
            <p:sp>
              <p:nvSpPr>
                <p:cNvPr id="194" name="Rectangle 122"/>
                <p:cNvSpPr/>
                <p:nvPr/>
              </p:nvSpPr>
              <p:spPr>
                <a:xfrm>
                  <a:off x="4659120" y="5175360"/>
                  <a:ext cx="3154320" cy="3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 челов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75"/>
                <p:cNvSpPr/>
                <p:nvPr/>
              </p:nvSpPr>
              <p:spPr>
                <a:xfrm>
                  <a:off x="4590720" y="5175360"/>
                  <a:ext cx="3291120" cy="34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178"/>
              <p:cNvGrpSpPr/>
              <p:nvPr/>
            </p:nvGrpSpPr>
            <p:grpSpPr>
              <a:xfrm>
                <a:off x="1299960" y="5519160"/>
                <a:ext cx="3290760" cy="343440"/>
                <a:chOff x="1299960" y="5519160"/>
                <a:chExt cx="3290760" cy="343440"/>
              </a:xfrm>
            </p:grpSpPr>
            <p:sp>
              <p:nvSpPr>
                <p:cNvPr id="197" name="Rectangle 123"/>
                <p:cNvSpPr/>
                <p:nvPr/>
              </p:nvSpPr>
              <p:spPr>
                <a:xfrm>
                  <a:off x="1368360" y="551916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МОУ «Сингапайская СОШ»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77"/>
                <p:cNvSpPr/>
                <p:nvPr/>
              </p:nvSpPr>
              <p:spPr>
                <a:xfrm>
                  <a:off x="1299960" y="551916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180"/>
              <p:cNvGrpSpPr/>
              <p:nvPr/>
            </p:nvGrpSpPr>
            <p:grpSpPr>
              <a:xfrm>
                <a:off x="4590720" y="5519160"/>
                <a:ext cx="3291120" cy="343440"/>
                <a:chOff x="4590720" y="5519160"/>
                <a:chExt cx="3291120" cy="343440"/>
              </a:xfrm>
            </p:grpSpPr>
            <p:sp>
              <p:nvSpPr>
                <p:cNvPr id="200" name="Rectangle 124"/>
                <p:cNvSpPr/>
                <p:nvPr/>
              </p:nvSpPr>
              <p:spPr>
                <a:xfrm>
                  <a:off x="4659120" y="551916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0 челов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79"/>
                <p:cNvSpPr/>
                <p:nvPr/>
              </p:nvSpPr>
              <p:spPr>
                <a:xfrm>
                  <a:off x="4590720" y="551916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Group 182"/>
              <p:cNvGrpSpPr/>
              <p:nvPr/>
            </p:nvGrpSpPr>
            <p:grpSpPr>
              <a:xfrm>
                <a:off x="1299960" y="5862960"/>
                <a:ext cx="3290760" cy="343440"/>
                <a:chOff x="1299960" y="5862960"/>
                <a:chExt cx="3290760" cy="343440"/>
              </a:xfrm>
            </p:grpSpPr>
            <p:sp>
              <p:nvSpPr>
                <p:cNvPr id="203" name="Rectangle 125"/>
                <p:cNvSpPr/>
                <p:nvPr/>
              </p:nvSpPr>
              <p:spPr>
                <a:xfrm>
                  <a:off x="1368360" y="586296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ДК «Камертон»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81"/>
                <p:cNvSpPr/>
                <p:nvPr/>
              </p:nvSpPr>
              <p:spPr>
                <a:xfrm>
                  <a:off x="1299960" y="586296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184"/>
              <p:cNvGrpSpPr/>
              <p:nvPr/>
            </p:nvGrpSpPr>
            <p:grpSpPr>
              <a:xfrm>
                <a:off x="4590720" y="5862960"/>
                <a:ext cx="3291120" cy="343440"/>
                <a:chOff x="4590720" y="5862960"/>
                <a:chExt cx="3291120" cy="343440"/>
              </a:xfrm>
            </p:grpSpPr>
            <p:sp>
              <p:nvSpPr>
                <p:cNvPr id="206" name="Rectangle 126"/>
                <p:cNvSpPr/>
                <p:nvPr/>
              </p:nvSpPr>
              <p:spPr>
                <a:xfrm>
                  <a:off x="4659120" y="586296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5 челов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83"/>
                <p:cNvSpPr/>
                <p:nvPr/>
              </p:nvSpPr>
              <p:spPr>
                <a:xfrm>
                  <a:off x="4590720" y="586296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Group 186"/>
              <p:cNvGrpSpPr/>
              <p:nvPr/>
            </p:nvGrpSpPr>
            <p:grpSpPr>
              <a:xfrm>
                <a:off x="1299960" y="6206400"/>
                <a:ext cx="3290760" cy="343440"/>
                <a:chOff x="1299960" y="6206400"/>
                <a:chExt cx="3290760" cy="343440"/>
              </a:xfrm>
            </p:grpSpPr>
            <p:sp>
              <p:nvSpPr>
                <p:cNvPr id="209" name="Rectangle 127"/>
                <p:cNvSpPr/>
                <p:nvPr/>
              </p:nvSpPr>
              <p:spPr>
                <a:xfrm>
                  <a:off x="1368360" y="620640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ООО «Клен»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85"/>
                <p:cNvSpPr/>
                <p:nvPr/>
              </p:nvSpPr>
              <p:spPr>
                <a:xfrm>
                  <a:off x="1299960" y="6206400"/>
                  <a:ext cx="329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188"/>
              <p:cNvGrpSpPr/>
              <p:nvPr/>
            </p:nvGrpSpPr>
            <p:grpSpPr>
              <a:xfrm>
                <a:off x="4590720" y="6206400"/>
                <a:ext cx="3291120" cy="343440"/>
                <a:chOff x="4590720" y="6206400"/>
                <a:chExt cx="3291120" cy="343440"/>
              </a:xfrm>
            </p:grpSpPr>
            <p:sp>
              <p:nvSpPr>
                <p:cNvPr id="212" name="Rectangle 128"/>
                <p:cNvSpPr/>
                <p:nvPr/>
              </p:nvSpPr>
              <p:spPr>
                <a:xfrm>
                  <a:off x="4659120" y="6206400"/>
                  <a:ext cx="31543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0 челов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87"/>
                <p:cNvSpPr/>
                <p:nvPr/>
              </p:nvSpPr>
              <p:spPr>
                <a:xfrm>
                  <a:off x="4590720" y="6206400"/>
                  <a:ext cx="32911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Rectangle 190"/>
            <p:cNvSpPr/>
            <p:nvPr/>
          </p:nvSpPr>
          <p:spPr>
            <a:xfrm>
              <a:off x="1295280" y="1295280"/>
              <a:ext cx="6591240" cy="5257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066680" y="457200"/>
            <a:ext cx="7391520" cy="61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Произвели расчёты пассажирооборота автобуса № 109 по маршрут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у 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фтеюганск – Сингапа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 рейс маршрутного автобуса № 109 проезжает расстояние 15 км (от остановки  «Аэропорт» до остановки «Сингапай») за 40 минут. На маршруте работает два автобуса и за день совершает двадцать восемь рейсов. Один рейс окупается при перевозке шестнадцати человек.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0:16:18Z</dcterms:created>
  <dc:creator>Сингапай</dc:creator>
  <dc:description/>
  <dc:language>en-US</dc:language>
  <cp:lastModifiedBy>Admin</cp:lastModifiedBy>
  <dcterms:modified xsi:type="dcterms:W3CDTF">2009-12-21T08:55:36Z</dcterms:modified>
  <cp:revision>4</cp:revision>
  <dc:subject/>
  <dc:title>Презентация PowerPoint</dc:title>
</cp:coreProperties>
</file>