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5.jpeg" ContentType="image/jpeg"/>
  <Override PartName="/ppt/media/image2.jpeg" ContentType="image/jpe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3.png" ContentType="image/png"/>
  <Override PartName="/ppt/media/image2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52B9-DC2A-4F8D-8EDC-D91C7DE14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085E-9F60-4030-A9F4-F48C11FB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89E2-A452-4FE7-9D1B-61BD3F689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C964-E174-4482-A14F-2CD6F54C3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564E48-E662-4067-B33F-5C48E0DDB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0E6C7-72DB-48B0-AA19-325C39D3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AD3183-6784-44B2-B01E-6EDACE09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743ED-CF58-4BB1-9A41-EC0243B5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03FD54-23C1-4534-A383-CF3CC5D7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0D05F-4766-489C-BFE6-DF728982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04ACC-64C1-4918-BD2F-34911C3C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E3CB-EF14-4D62-A24C-D9908BCF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9150B4-B30D-46AA-BAB7-BA053175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66238-CC57-4EA3-A1A8-BF5CD5CF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63A47-7A18-4CD1-B5E9-D19397FF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76E463-9927-4E8C-9319-E0287B3D3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4787FE-EAF6-49D5-B731-D16483A71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862DA-3170-4FEE-A195-D2C1C21A5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11DC1-F1C9-43F8-BCA5-21A8052B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17152-FEF1-4B63-8928-2D9D79A5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6ED90-9A9F-4604-B3F4-974ACD00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103B8-D577-4669-B460-78372070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7145-C6E0-4687-827C-97C85E41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DDD04-7840-4000-BCEC-59012B91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62F32-5281-465B-9269-C596A971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57A6A-385B-493A-810C-245BF0CA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B9AC0-ED96-4B7B-A91B-B993E27B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12150-1A68-4015-B9CE-5329C96F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4B1BE-2CFE-4E15-876B-ECA1E04FD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0BFB2-14F0-4358-981B-54928D4AA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06B865-F09F-4BAE-98C9-9146C6615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C2E1DC-98BA-4A7B-BACB-0A9919DC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691577-00F0-4667-B521-D71B9D41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AA67-4A4A-447C-BEAE-E017C284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9E8CFA-3B24-4FA3-9070-8B2EEE83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7654C8-7ACD-474C-9FF7-074E4C86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8A0736-195E-4C85-9C12-C658C412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F0695F-6DF7-40F4-9C79-09188AFF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380713-6930-4247-A873-73526593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B1E170-C246-4EAB-8C20-DFC85793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FAF9B7-9F4A-4A91-9C8C-01E1DC42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22BF13-C7E1-4517-A274-3D677037F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E34634-A99F-47A1-9C07-660AD35E1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F1E8-FD3D-4822-9567-AC60073C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46A9-6C02-40D8-ACB9-586E044C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CD4B-AB72-4A87-A2BB-4D83D66E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350C-5CD8-4736-B41F-4D087725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6594-AC3F-4F0E-8AF8-8C34F679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3BE4-8F0E-4EB4-8130-9B03977BDF97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1310-EAFE-440B-B5E1-F64403A8CA80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8A53-11D5-4DCA-A34F-10536BAABB3D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3360-9878-46A8-A8C3-5174050959BB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43C2-B254-429C-9758-8BA568A3F718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89E6-04FC-4D65-BE72-B9FF642BEC04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30C9-2619-4E17-A3B6-263A61AA938B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D40F-AEDF-4F75-B4B7-02DCA7C2BA11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43316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72" name="Рисунок 3" descr="stg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Прямоугольник 4" descr=""/>
          <p:cNvPicPr/>
          <p:nvPr/>
        </p:nvPicPr>
        <p:blipFill>
          <a:blip r:embed="rId2"/>
          <a:stretch/>
        </p:blipFill>
        <p:spPr>
          <a:xfrm>
            <a:off x="1206360" y="73080"/>
            <a:ext cx="6944040" cy="1974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"/>
          <p:cNvPicPr/>
          <p:nvPr/>
        </p:nvPicPr>
        <p:blipFill>
          <a:blip r:embed="rId2"/>
          <a:stretch/>
        </p:blipFill>
        <p:spPr>
          <a:xfrm>
            <a:off x="428760" y="1357200"/>
            <a:ext cx="8143920" cy="489924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5"/>
          <p:cNvSpPr/>
          <p:nvPr/>
        </p:nvSpPr>
        <p:spPr>
          <a:xfrm>
            <a:off x="1000080" y="6286680"/>
            <a:ext cx="600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Степняк П.А. ,Мартынова Т.И., История России.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XVIII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XIX 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вв. Атлас . – М .: Дрофа ; Издательство ДИК , 2004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2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"/>
          <p:cNvPicPr/>
          <p:nvPr/>
        </p:nvPicPr>
        <p:blipFill>
          <a:blip r:embed="rId2"/>
          <a:stretch/>
        </p:blipFill>
        <p:spPr>
          <a:xfrm>
            <a:off x="714240" y="1143000"/>
            <a:ext cx="7670880" cy="478620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5"/>
          <p:cNvSpPr/>
          <p:nvPr/>
        </p:nvSpPr>
        <p:spPr>
          <a:xfrm>
            <a:off x="1357200" y="6072120"/>
            <a:ext cx="600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Степняк П.А. ,Мартынова Т.И., История России.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XVIII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XIX 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вв. Атлас . – М .: Дрофа ; Издательство ДИК , 2004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"/>
          <p:cNvPicPr/>
          <p:nvPr/>
        </p:nvPicPr>
        <p:blipFill>
          <a:blip r:embed="rId2"/>
          <a:stretch/>
        </p:blipFill>
        <p:spPr>
          <a:xfrm>
            <a:off x="428760" y="1500120"/>
            <a:ext cx="7572240" cy="481824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5"/>
          <p:cNvSpPr/>
          <p:nvPr/>
        </p:nvSpPr>
        <p:spPr>
          <a:xfrm>
            <a:off x="1000080" y="6357960"/>
            <a:ext cx="607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Степняк П.А. ,Мартынова Т.И., История России.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XVIII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XIX 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вв. Атлас . – М .: Дрофа ; Издательство ДИК , 2004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9" name="Заголовок 2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C:\Documents and Settings\СЕМЁН\Рабочий стол\Новая папка (4)\KrymVoina1853-20-02-0[1].jpg"/>
          <p:cNvPicPr/>
          <p:nvPr/>
        </p:nvPicPr>
        <p:blipFill>
          <a:blip r:embed="rId2"/>
          <a:stretch/>
        </p:blipFill>
        <p:spPr>
          <a:xfrm>
            <a:off x="357120" y="1571760"/>
            <a:ext cx="3714840" cy="42861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C:\Documents and Settings\СЕМЁН\Рабочий стол\Новая папка (4)\i[5].jpg"/>
          <p:cNvPicPr/>
          <p:nvPr/>
        </p:nvPicPr>
        <p:blipFill>
          <a:blip r:embed="rId3"/>
          <a:stretch/>
        </p:blipFill>
        <p:spPr>
          <a:xfrm>
            <a:off x="4214880" y="1928880"/>
            <a:ext cx="4252680" cy="371484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7"/>
          <p:cNvSpPr/>
          <p:nvPr/>
        </p:nvSpPr>
        <p:spPr>
          <a:xfrm>
            <a:off x="714240" y="6215040"/>
            <a:ext cx="642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Степняк П.А. ,Мартынова Т.И., История России.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XVIII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XIX 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вв. Атлас . – М .: Дрофа ; Издательство ДИК , 2004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135684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1)Был подписан Парижский мирный договор (18 марта 1856года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4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5" name=""/>
          <p:cNvGraphicFramePr/>
          <p:nvPr/>
        </p:nvGraphicFramePr>
        <p:xfrm>
          <a:off x="1143000" y="2428920"/>
          <a:ext cx="7072200" cy="3571920"/>
        </p:xfrm>
        <a:graphic>
          <a:graphicData uri="http://schemas.openxmlformats.org/drawingml/2006/table">
            <a:tbl>
              <a:tblPr/>
              <a:tblGrid>
                <a:gridCol w="2435400"/>
                <a:gridCol w="4636800"/>
              </a:tblGrid>
              <a:tr h="598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    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Государств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          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Число погибших людей в войн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596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Франци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коло 100 тыс.челове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598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ритани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коло 22,7 тыс. челове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582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урци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коло 30 тыс. челове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596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юзники Росс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коло 70 тыс. челове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598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осси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коло 128тыс. 700 челове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1"/>
          <p:cNvSpPr/>
          <p:nvPr/>
        </p:nvSpPr>
        <p:spPr>
          <a:xfrm>
            <a:off x="500040" y="357120"/>
            <a:ext cx="7929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оссия потеряла -Острова в дельте Дуная , часть Южной Бессарабии . Было запрещено держать флот  в Чёрном мор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)   Крымская война наглядно продемонстрировала всю отсталость и слабость Николаевской империи, но оборона Севастополя вошла в историю как подвиг огромной моральной силы 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1) Николай 1 хотел расширить своё влияние на Балканах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2)Николай 1 ждал удобного случая для окончательного разгрома            Турци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вод Крымской войны: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оводом послужило то, что  в Палестине разгорелся спор между православным и католическим духовенством . Под давлением президента  Франции Луи Наполеона Бонапарта турецкий султан –а Палестина входила в состав Османской империи- решил вопрос в пользу католиков , что вызвало недовольство в Петербурге.  Спор из-за святынь стал поводом к европейскому конфликту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5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Николай 1 в этой войне оказался один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ротив могущественной коалиции ,не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имея союзников , не возбуждая к себе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сочувствия ни европейских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равительств , ни европейского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обществ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7" name="Заголовок 2" descr=""/>
          <p:cNvPicPr/>
          <p:nvPr/>
        </p:nvPicPr>
        <p:blipFill>
          <a:blip r:embed="rId1"/>
          <a:stretch/>
        </p:blipFill>
        <p:spPr>
          <a:xfrm>
            <a:off x="396720" y="182520"/>
            <a:ext cx="8332920" cy="1231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C:\Documents and Settings\СЕМЁН\Мои документы\Мои рисунки\прп.jpg"/>
          <p:cNvPicPr/>
          <p:nvPr/>
        </p:nvPicPr>
        <p:blipFill>
          <a:blip r:embed="rId2"/>
          <a:stretch/>
        </p:blipFill>
        <p:spPr>
          <a:xfrm>
            <a:off x="428760" y="785880"/>
            <a:ext cx="2857320" cy="38574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6"/>
          <p:cNvSpPr/>
          <p:nvPr/>
        </p:nvSpPr>
        <p:spPr>
          <a:xfrm>
            <a:off x="857160" y="5966280"/>
            <a:ext cx="742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mbria"/>
                <a:ea typeface="Times New Roman"/>
              </a:rPr>
              <a:t>Голубева  Тамара. «</a:t>
            </a:r>
            <a:r>
              <a:rPr b="0" lang="ru-RU" sz="1200" spc="-1" strike="noStrike">
                <a:solidFill>
                  <a:srgbClr val="ffffff"/>
                </a:solidFill>
                <a:latin typeface="Cambria"/>
                <a:ea typeface="Times New Roman"/>
              </a:rPr>
              <a:t>Русские д</a:t>
            </a:r>
            <a:r>
              <a:rPr b="0" lang="ru-RU" sz="1400" spc="-1" strike="noStrike">
                <a:solidFill>
                  <a:srgbClr val="ffffff"/>
                </a:solidFill>
                <a:latin typeface="Cambria"/>
                <a:ea typeface="Times New Roman"/>
              </a:rPr>
              <a:t>инастии». Иллюстрация Николая 1. Москва «росмен» 2002 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итва з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ЕВАСТОПОЛЬ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(5 октября 1854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года началась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омбардировк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евастополя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1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Documents and Settings\СЕМЁН\Мои документы\Мои рисунки\stg2.jpg"/>
          <p:cNvPicPr/>
          <p:nvPr/>
        </p:nvPicPr>
        <p:blipFill>
          <a:blip r:embed="rId2"/>
          <a:stretch/>
        </p:blipFill>
        <p:spPr>
          <a:xfrm>
            <a:off x="214200" y="357120"/>
            <a:ext cx="5572080" cy="5857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928800" y="5857920"/>
            <a:ext cx="647208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nstantia"/>
              </a:rPr>
              <a:t>http://</a:t>
            </a:r>
            <a:r>
              <a:rPr b="0" lang="en-US" sz="1200" spc="-1" strike="noStrike">
                <a:solidFill>
                  <a:srgbClr val="ffffff"/>
                </a:solidFill>
                <a:latin typeface="Constantia"/>
              </a:rPr>
              <a:t>admiralws.narod.ru/kornilov.jp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4" name="Заголовок 2" descr=""/>
          <p:cNvPicPr/>
          <p:nvPr/>
        </p:nvPicPr>
        <p:blipFill>
          <a:blip r:embed="rId1"/>
          <a:stretch/>
        </p:blipFill>
        <p:spPr>
          <a:xfrm>
            <a:off x="633240" y="281160"/>
            <a:ext cx="8242560" cy="1230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C:\Documents and Settings\СЕМЁН\Мои документы\Мои рисунки\kornilov_876658406_tonnel.gif"/>
          <p:cNvPicPr/>
          <p:nvPr/>
        </p:nvPicPr>
        <p:blipFill>
          <a:blip r:embed="rId2"/>
          <a:stretch/>
        </p:blipFill>
        <p:spPr>
          <a:xfrm>
            <a:off x="428760" y="428760"/>
            <a:ext cx="3929040" cy="4890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Заголовок 2" descr=""/>
          <p:cNvPicPr/>
          <p:nvPr/>
        </p:nvPicPr>
        <p:blipFill>
          <a:blip r:embed="rId1"/>
          <a:stretch/>
        </p:blipFill>
        <p:spPr>
          <a:xfrm>
            <a:off x="493560" y="328680"/>
            <a:ext cx="8242560" cy="1396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C:\Documents and Settings\СЕМЁН\Мои документы\Мои рисунки\i.jpg"/>
          <p:cNvPicPr/>
          <p:nvPr/>
        </p:nvPicPr>
        <p:blipFill>
          <a:blip r:embed="rId2"/>
          <a:stretch/>
        </p:blipFill>
        <p:spPr>
          <a:xfrm>
            <a:off x="571680" y="357120"/>
            <a:ext cx="3286080" cy="47102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714240" y="5857920"/>
            <a:ext cx="6715440" cy="2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18160" indent="-21816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Калинов Виктор. История России. Издательство «Белый город» , «Российский флот» , Москва 2002</a:t>
            </a: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214600" y="499680"/>
            <a:ext cx="62578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рабль участник                                                                         в битве за                                                                      Севастополь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0" name="Picture 3" descr="F:\picts_anglo-franc_flot_vs_Solovetskij_monastyr_1854.jpg"/>
          <p:cNvPicPr/>
          <p:nvPr/>
        </p:nvPicPr>
        <p:blipFill>
          <a:blip r:embed="rId1"/>
          <a:stretch/>
        </p:blipFill>
        <p:spPr>
          <a:xfrm>
            <a:off x="285840" y="214200"/>
            <a:ext cx="5214960" cy="6261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                     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дыхающие солдаты во время Крымско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          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ойны .         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85840" y="11426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93" name="Picture 2" descr="F:\1238615570_4.jpg"/>
          <p:cNvPicPr/>
          <p:nvPr/>
        </p:nvPicPr>
        <p:blipFill>
          <a:blip r:embed="rId1"/>
          <a:stretch/>
        </p:blipFill>
        <p:spPr>
          <a:xfrm>
            <a:off x="285840" y="0"/>
            <a:ext cx="4214880" cy="5214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F:\1238615612_5.jpg"/>
          <p:cNvPicPr/>
          <p:nvPr/>
        </p:nvPicPr>
        <p:blipFill>
          <a:blip r:embed="rId2"/>
          <a:stretch/>
        </p:blipFill>
        <p:spPr>
          <a:xfrm>
            <a:off x="4500720" y="0"/>
            <a:ext cx="4500360" cy="5214960"/>
          </a:xfrm>
          <a:prstGeom prst="rect">
            <a:avLst/>
          </a:prstGeom>
          <a:ln w="0">
            <a:noFill/>
          </a:ln>
        </p:spPr>
      </p:pic>
      <p:sp>
        <p:nvSpPr>
          <p:cNvPr id="195" name="Прямоугольник 5"/>
          <p:cNvSpPr/>
          <p:nvPr/>
        </p:nvSpPr>
        <p:spPr>
          <a:xfrm>
            <a:off x="1143000" y="6286680"/>
            <a:ext cx="664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vsyako-razno.ru/4901-krimskaya-voina-1853-1856-19-foto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"/>
          <p:cNvPicPr/>
          <p:nvPr/>
        </p:nvPicPr>
        <p:blipFill>
          <a:blip r:embed="rId2"/>
          <a:stretch/>
        </p:blipFill>
        <p:spPr>
          <a:xfrm>
            <a:off x="785880" y="1500120"/>
            <a:ext cx="7572240" cy="489744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5"/>
          <p:cNvSpPr/>
          <p:nvPr/>
        </p:nvSpPr>
        <p:spPr>
          <a:xfrm>
            <a:off x="928800" y="6429240"/>
            <a:ext cx="628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Степняк П.А. ,Мартынова Т.И., История России.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XVIII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XIX 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вв. Атлас . – М .: Дрофа ; Издательство ДИК , 2004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iht</cp:lastModifiedBy>
  <dcterms:modified xsi:type="dcterms:W3CDTF">2009-12-28T07:25:32Z</dcterms:modified>
  <cp:revision>28</cp:revision>
  <dc:subject/>
  <dc:title>Слайд 1</dc:title>
</cp:coreProperties>
</file>