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7D0-867C-4B03-B719-C4737BC3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CA4-8EBE-4EC5-B54E-43AD5CA5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FBB-EBEA-4172-AEEA-0A1A99B5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C34-7BDF-4DB8-85EB-555970C1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A7C0-0EA0-406A-B579-32FD6FCE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9069-3A9E-4DC1-9018-10E9458A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023C-E245-4118-87ED-01BB5B9D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BFB9-5FDD-4158-9052-97FD1008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8B10-9073-4385-A098-17227E84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9F0E-C23F-41B9-8236-B2313F44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D35E-101F-437C-977C-90B17AE8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B05-9A22-4C76-8B43-C30DCBF1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B060-A805-4F01-BBE4-921A8FBB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491F-7302-4881-8990-AF32453F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4EFC-5EF9-49B6-8A0F-770CB17A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16F5-1411-4C40-8204-4B936A3E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BAB0-190D-4512-87B7-BA8B6141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514A-FBE7-4B7B-8F29-FB5C2E5F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9ED9-8DC0-4CC0-9B58-3980B833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202A-7674-483D-8B3A-29298F0D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40DB-A653-4548-8B52-60E636CC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F965-68B4-4B8F-8E79-15FA6C32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F48-5021-49F6-96BC-972DC78E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C579-5F01-4244-913A-79C9390D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EF39B-A4AC-4935-A901-D8D75336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5695-6EF4-4855-B629-21679A51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76AAC-1B9D-481D-A252-B683D0D7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1B36B-3D1D-4690-8401-843903F7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2D1FE-8743-45A1-841A-DA3FD898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B0EC-519D-45C7-A5DE-FAAD3FA0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0BE-35E1-43F6-B573-0405712B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76E-DBCE-41BF-870A-F103890A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4A1-D05A-4DAA-B042-7410E09C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721-E6EE-49C9-A9E0-538CD1B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18C-6867-4BF7-902E-05490A1B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338-BC52-4B8C-B382-7434D194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e882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3023-86E2-4725-AD81-F286B93931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628E-3384-4A6B-AE74-77BB0E7A0D14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78E6-E799-41C8-93F3-72B735653BDB}" type="slidenum">
              <a:rPr b="0" lang="ru-RU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e15f"/>
            </a:gs>
            <a:gs pos="100000">
              <a:srgbClr val="ffff6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35120" y="784080"/>
            <a:ext cx="31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47640" y="2997360"/>
            <a:ext cx="849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2104a"/>
                </a:solidFill>
                <a:latin typeface="Arial"/>
                <a:ea typeface="Arial"/>
              </a:rPr>
              <a:t>«Линейные уравнения с параметрами</a:t>
            </a:r>
            <a:r>
              <a:rPr b="1" i="1" lang="ru-RU" sz="1800" spc="-1" strike="noStrike">
                <a:solidFill>
                  <a:srgbClr val="b2104a"/>
                </a:solidFill>
                <a:latin typeface="Arial"/>
                <a:ea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104a"/>
                </a:solidFill>
                <a:latin typeface="Arial"/>
                <a:ea typeface="Arial"/>
              </a:rPr>
              <a:t>Первые шаги в решении задач с параметрами</a:t>
            </a:r>
            <a:r>
              <a:rPr b="0" lang="ru-RU" sz="1800" spc="-1" strike="noStrike">
                <a:solidFill>
                  <a:srgbClr val="b2104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971640" y="249228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учно-исследовательская рабо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042920" y="29448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971640" y="981000"/>
            <a:ext cx="74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НОМИН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Нерешенные задачи и как их реш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68360" y="187200"/>
            <a:ext cx="855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Arial"/>
                <a:ea typeface="Arial"/>
              </a:rPr>
              <a:t>Федеральное государствен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Arial"/>
                <a:ea typeface="Arial"/>
              </a:rPr>
              <a:t>«Средняя общеобразовательная школа №24 Министерства обороны РФ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332000" y="407664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a8"/>
                </a:solidFill>
                <a:latin typeface="Arial"/>
                <a:ea typeface="Arial"/>
              </a:rPr>
              <a:t>Докладчи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a8"/>
                </a:solidFill>
                <a:latin typeface="Arial"/>
                <a:ea typeface="Arial"/>
              </a:rPr>
              <a:t>ученица 7»А» класса Казимирова Ксения Олег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079640" y="5013360"/>
            <a:ext cx="77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4c00"/>
                </a:solidFill>
                <a:latin typeface="Arial"/>
                <a:ea typeface="Arial"/>
              </a:rPr>
              <a:t>Научный 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4c00"/>
                </a:solidFill>
                <a:latin typeface="Arial"/>
                <a:ea typeface="Arial"/>
              </a:rPr>
              <a:t>учитель математики  Фринюк Ольга Александро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4118400" y="6307200"/>
            <a:ext cx="10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льск -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682560" y="260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40000"/>
                </a:solidFill>
                <a:latin typeface="Arial"/>
              </a:rPr>
              <a:t>Блок-схема решения линейного параметрического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4"/>
          <p:cNvSpPr/>
          <p:nvPr/>
        </p:nvSpPr>
        <p:spPr>
          <a:xfrm>
            <a:off x="826920" y="2133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0"/>
          <p:cNvSpPr/>
          <p:nvPr/>
        </p:nvSpPr>
        <p:spPr>
          <a:xfrm>
            <a:off x="5580000" y="6165720"/>
            <a:ext cx="172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83"/>
          <p:cNvGrpSpPr/>
          <p:nvPr/>
        </p:nvGrpSpPr>
        <p:grpSpPr>
          <a:xfrm>
            <a:off x="1482120" y="765000"/>
            <a:ext cx="7020000" cy="5904000"/>
            <a:chOff x="1482120" y="765000"/>
            <a:chExt cx="7020000" cy="5904000"/>
          </a:xfrm>
        </p:grpSpPr>
        <p:grpSp>
          <p:nvGrpSpPr>
            <p:cNvPr id="285" name="Group 111"/>
            <p:cNvGrpSpPr/>
            <p:nvPr/>
          </p:nvGrpSpPr>
          <p:grpSpPr>
            <a:xfrm>
              <a:off x="3411720" y="2053080"/>
              <a:ext cx="1526400" cy="1526040"/>
              <a:chOff x="3411720" y="2053080"/>
              <a:chExt cx="1526400" cy="1526040"/>
            </a:xfrm>
          </p:grpSpPr>
          <p:sp>
            <p:nvSpPr>
              <p:cNvPr id="286" name="Rectangle 109"/>
              <p:cNvSpPr/>
              <p:nvPr/>
            </p:nvSpPr>
            <p:spPr>
              <a:xfrm rot="2748600">
                <a:off x="3635280" y="2276280"/>
                <a:ext cx="1079280" cy="1079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110"/>
              <p:cNvSpPr/>
              <p:nvPr/>
            </p:nvSpPr>
            <p:spPr>
              <a:xfrm>
                <a:off x="3635280" y="2421000"/>
                <a:ext cx="10792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Область допустимых значений параметров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12"/>
            <p:cNvGrpSpPr/>
            <p:nvPr/>
          </p:nvGrpSpPr>
          <p:grpSpPr>
            <a:xfrm>
              <a:off x="4564440" y="3062520"/>
              <a:ext cx="1526400" cy="1526400"/>
              <a:chOff x="4564440" y="3062520"/>
              <a:chExt cx="1526400" cy="1526400"/>
            </a:xfrm>
          </p:grpSpPr>
          <p:sp>
            <p:nvSpPr>
              <p:cNvPr id="289" name="Rectangle 113"/>
              <p:cNvSpPr/>
              <p:nvPr/>
            </p:nvSpPr>
            <p:spPr>
              <a:xfrm rot="2748600">
                <a:off x="4787640" y="3286080"/>
                <a:ext cx="1079640" cy="1079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114"/>
              <p:cNvSpPr/>
              <p:nvPr/>
            </p:nvSpPr>
            <p:spPr>
              <a:xfrm>
                <a:off x="4788000" y="3430800"/>
                <a:ext cx="10792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Контрольные значения параметров равны нулю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16"/>
            <p:cNvGrpSpPr/>
            <p:nvPr/>
          </p:nvGrpSpPr>
          <p:grpSpPr>
            <a:xfrm>
              <a:off x="5716800" y="3997440"/>
              <a:ext cx="1526400" cy="1526400"/>
              <a:chOff x="5716800" y="3997440"/>
              <a:chExt cx="1526400" cy="1526400"/>
            </a:xfrm>
          </p:grpSpPr>
          <p:sp>
            <p:nvSpPr>
              <p:cNvPr id="292" name="Rectangle 117"/>
              <p:cNvSpPr/>
              <p:nvPr/>
            </p:nvSpPr>
            <p:spPr>
              <a:xfrm rot="2748600">
                <a:off x="5940000" y="4221000"/>
                <a:ext cx="1079640" cy="1079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118"/>
              <p:cNvSpPr/>
              <p:nvPr/>
            </p:nvSpPr>
            <p:spPr>
              <a:xfrm>
                <a:off x="5940360" y="4365720"/>
                <a:ext cx="10792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Свободный член уравнения равен нулю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Rectangle 152"/>
            <p:cNvSpPr/>
            <p:nvPr/>
          </p:nvSpPr>
          <p:spPr>
            <a:xfrm>
              <a:off x="2284560" y="1641960"/>
              <a:ext cx="3928320" cy="246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Определяем контрольное значение параметров уравн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3"/>
            <p:cNvSpPr/>
            <p:nvPr/>
          </p:nvSpPr>
          <p:spPr>
            <a:xfrm>
              <a:off x="2285640" y="1210320"/>
              <a:ext cx="3899160" cy="246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Определяем допустимые значения параметров уравн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155"/>
            <p:cNvSpPr/>
            <p:nvPr/>
          </p:nvSpPr>
          <p:spPr>
            <a:xfrm>
              <a:off x="2268360" y="907920"/>
              <a:ext cx="1366920" cy="2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159"/>
            <p:cNvGrpSpPr/>
            <p:nvPr/>
          </p:nvGrpSpPr>
          <p:grpSpPr>
            <a:xfrm>
              <a:off x="3708360" y="765000"/>
              <a:ext cx="936720" cy="288720"/>
              <a:chOff x="3708360" y="765000"/>
              <a:chExt cx="936720" cy="288720"/>
            </a:xfrm>
          </p:grpSpPr>
          <p:sp>
            <p:nvSpPr>
              <p:cNvPr id="298" name="AutoShape 157"/>
              <p:cNvSpPr/>
              <p:nvPr/>
            </p:nvSpPr>
            <p:spPr>
              <a:xfrm>
                <a:off x="3708360" y="765000"/>
                <a:ext cx="936720" cy="288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158"/>
              <p:cNvSpPr/>
              <p:nvPr/>
            </p:nvSpPr>
            <p:spPr>
              <a:xfrm>
                <a:off x="3946320" y="826920"/>
                <a:ext cx="46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160"/>
            <p:cNvSpPr/>
            <p:nvPr/>
          </p:nvSpPr>
          <p:spPr>
            <a:xfrm>
              <a:off x="1482120" y="3729600"/>
              <a:ext cx="2427120" cy="398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и недопустимых значени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араметра задача не имеет смыс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61"/>
            <p:cNvSpPr/>
            <p:nvPr/>
          </p:nvSpPr>
          <p:spPr>
            <a:xfrm>
              <a:off x="3723840" y="4651920"/>
              <a:ext cx="1114920" cy="398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Единственно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62"/>
            <p:cNvSpPr/>
            <p:nvPr/>
          </p:nvSpPr>
          <p:spPr>
            <a:xfrm>
              <a:off x="5235840" y="5248800"/>
              <a:ext cx="735480" cy="398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Не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решен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63"/>
            <p:cNvSpPr/>
            <p:nvPr/>
          </p:nvSpPr>
          <p:spPr>
            <a:xfrm>
              <a:off x="7036560" y="5248800"/>
              <a:ext cx="1465560" cy="398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Бесконечно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ножество решен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4"/>
            <p:cNvSpPr/>
            <p:nvPr/>
          </p:nvSpPr>
          <p:spPr>
            <a:xfrm>
              <a:off x="3685320" y="5977440"/>
              <a:ext cx="1087560" cy="246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Запись отве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65"/>
            <p:cNvGrpSpPr/>
            <p:nvPr/>
          </p:nvGrpSpPr>
          <p:grpSpPr>
            <a:xfrm>
              <a:off x="3780000" y="6380280"/>
              <a:ext cx="936360" cy="288720"/>
              <a:chOff x="3780000" y="6380280"/>
              <a:chExt cx="936360" cy="288720"/>
            </a:xfrm>
          </p:grpSpPr>
          <p:sp>
            <p:nvSpPr>
              <p:cNvPr id="306" name="AutoShape 166"/>
              <p:cNvSpPr/>
              <p:nvPr/>
            </p:nvSpPr>
            <p:spPr>
              <a:xfrm>
                <a:off x="3780000" y="6380280"/>
                <a:ext cx="936360" cy="288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67"/>
              <p:cNvSpPr/>
              <p:nvPr/>
            </p:nvSpPr>
            <p:spPr>
              <a:xfrm>
                <a:off x="4017600" y="6442200"/>
                <a:ext cx="38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Freeform 168"/>
            <p:cNvSpPr/>
            <p:nvPr/>
          </p:nvSpPr>
          <p:spPr>
            <a:xfrm>
              <a:off x="4173480" y="1484280"/>
              <a:ext cx="4680" cy="147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9"/>
            <p:cNvSpPr/>
            <p:nvPr/>
          </p:nvSpPr>
          <p:spPr>
            <a:xfrm>
              <a:off x="4917960" y="2809800"/>
              <a:ext cx="428760" cy="2682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70"/>
            <p:cNvSpPr/>
            <p:nvPr/>
          </p:nvSpPr>
          <p:spPr>
            <a:xfrm>
              <a:off x="4800600" y="5784840"/>
              <a:ext cx="1676520" cy="34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71"/>
            <p:cNvSpPr/>
            <p:nvPr/>
          </p:nvSpPr>
          <p:spPr>
            <a:xfrm>
              <a:off x="4280040" y="5084640"/>
              <a:ext cx="4680" cy="865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3924360" y="2819520"/>
              <a:ext cx="1403280" cy="11142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73"/>
            <p:cNvSpPr/>
            <p:nvPr/>
          </p:nvSpPr>
          <p:spPr>
            <a:xfrm>
              <a:off x="4178160" y="1916280"/>
              <a:ext cx="5040" cy="147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74"/>
            <p:cNvSpPr/>
            <p:nvPr/>
          </p:nvSpPr>
          <p:spPr>
            <a:xfrm>
              <a:off x="4173480" y="1073160"/>
              <a:ext cx="4680" cy="147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75"/>
            <p:cNvSpPr/>
            <p:nvPr/>
          </p:nvSpPr>
          <p:spPr>
            <a:xfrm>
              <a:off x="6070680" y="3813120"/>
              <a:ext cx="428400" cy="196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6"/>
            <p:cNvSpPr/>
            <p:nvPr/>
          </p:nvSpPr>
          <p:spPr>
            <a:xfrm>
              <a:off x="7245360" y="4762440"/>
              <a:ext cx="546120" cy="469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7"/>
            <p:cNvSpPr/>
            <p:nvPr/>
          </p:nvSpPr>
          <p:spPr>
            <a:xfrm>
              <a:off x="5575320" y="4749840"/>
              <a:ext cx="139680" cy="4795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8"/>
            <p:cNvSpPr/>
            <p:nvPr/>
          </p:nvSpPr>
          <p:spPr>
            <a:xfrm>
              <a:off x="4292640" y="3803760"/>
              <a:ext cx="260280" cy="849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9"/>
            <p:cNvSpPr/>
            <p:nvPr/>
          </p:nvSpPr>
          <p:spPr>
            <a:xfrm>
              <a:off x="2711520" y="2813040"/>
              <a:ext cx="693720" cy="903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81"/>
            <p:cNvSpPr/>
            <p:nvPr/>
          </p:nvSpPr>
          <p:spPr>
            <a:xfrm>
              <a:off x="5562720" y="5664240"/>
              <a:ext cx="2241360" cy="127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82"/>
            <p:cNvSpPr/>
            <p:nvPr/>
          </p:nvSpPr>
          <p:spPr>
            <a:xfrm>
              <a:off x="4280040" y="6246720"/>
              <a:ext cx="4680" cy="147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84"/>
          <p:cNvGrpSpPr/>
          <p:nvPr/>
        </p:nvGrpSpPr>
        <p:grpSpPr>
          <a:xfrm>
            <a:off x="8548560" y="74520"/>
            <a:ext cx="503280" cy="503280"/>
            <a:chOff x="8548560" y="74520"/>
            <a:chExt cx="503280" cy="503280"/>
          </a:xfrm>
        </p:grpSpPr>
        <p:sp>
          <p:nvSpPr>
            <p:cNvPr id="323" name="Oval 185"/>
            <p:cNvSpPr/>
            <p:nvPr/>
          </p:nvSpPr>
          <p:spPr>
            <a:xfrm>
              <a:off x="8548560" y="745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86"/>
            <p:cNvSpPr/>
            <p:nvPr/>
          </p:nvSpPr>
          <p:spPr>
            <a:xfrm>
              <a:off x="8645400" y="139680"/>
              <a:ext cx="253800" cy="27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>
            <a:off x="4203720" y="952560"/>
            <a:ext cx="1440" cy="3759120"/>
          </a:xfrm>
          <a:prstGeom prst="pie">
            <a:avLst/>
          </a:pr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1397160" y="3416400"/>
            <a:ext cx="6235560" cy="1440"/>
          </a:xfrm>
          <a:prstGeom prst="pie">
            <a:avLst/>
          </a:pr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37"/>
          <p:cNvGrpSpPr/>
          <p:nvPr/>
        </p:nvGrpSpPr>
        <p:grpSpPr>
          <a:xfrm>
            <a:off x="3132000" y="1125000"/>
            <a:ext cx="2592000" cy="2304000"/>
            <a:chOff x="3132000" y="1125000"/>
            <a:chExt cx="2592000" cy="2304000"/>
          </a:xfrm>
        </p:grpSpPr>
        <p:sp>
          <p:nvSpPr>
            <p:cNvPr id="328" name="Line 4"/>
            <p:cNvSpPr/>
            <p:nvPr/>
          </p:nvSpPr>
          <p:spPr>
            <a:xfrm flipH="1">
              <a:off x="4500360" y="1125360"/>
              <a:ext cx="1223640" cy="230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 flipH="1" flipV="1">
              <a:off x="3132000" y="1125000"/>
              <a:ext cx="1368720" cy="230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6"/>
          <p:cNvSpPr/>
          <p:nvPr/>
        </p:nvSpPr>
        <p:spPr>
          <a:xfrm>
            <a:off x="4859280" y="450864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 а = 0 – уравнение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=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72d47"/>
                </a:solidFill>
                <a:latin typeface="Times New Roman"/>
              </a:rPr>
              <a:t>имеет единственный корень: </a:t>
            </a:r>
            <a:r>
              <a:rPr b="1" i="1" lang="en-US" sz="1600" spc="-1" strike="noStrike">
                <a:solidFill>
                  <a:srgbClr val="b72d47"/>
                </a:solidFill>
                <a:latin typeface="Times New Roman"/>
              </a:rPr>
              <a:t>x=</a:t>
            </a:r>
            <a:r>
              <a:rPr b="1" i="1" lang="ru-RU" sz="1600" spc="-1" strike="noStrike">
                <a:solidFill>
                  <a:srgbClr val="b72d47"/>
                </a:solidFill>
                <a:latin typeface="Times New Roman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общая точка пересечения график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453960" y="4437000"/>
            <a:ext cx="35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72d47"/>
                </a:solidFill>
                <a:latin typeface="Times New Roman"/>
              </a:rPr>
              <a:t>При а </a:t>
            </a:r>
            <a:r>
              <a:rPr b="1" i="1" lang="ru-RU" sz="1600" spc="-1" strike="noStrike">
                <a:solidFill>
                  <a:srgbClr val="b72d47"/>
                </a:solidFill>
                <a:latin typeface="Times New Roman"/>
                <a:ea typeface="Times New Roman"/>
              </a:rPr>
              <a:t>≠ 0 имеем две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1979640" y="4149720"/>
            <a:ext cx="460836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1908000" y="3429000"/>
            <a:ext cx="468000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0"/>
          <p:cNvSpPr/>
          <p:nvPr/>
        </p:nvSpPr>
        <p:spPr>
          <a:xfrm>
            <a:off x="1908000" y="2492280"/>
            <a:ext cx="4535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3780000" y="981000"/>
            <a:ext cx="287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7308720" y="3573360"/>
            <a:ext cx="28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2268360" y="141300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5796000" y="3789360"/>
            <a:ext cx="9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5435640" y="314172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5508720" y="213372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6"/>
          <p:cNvGrpSpPr/>
          <p:nvPr/>
        </p:nvGrpSpPr>
        <p:grpSpPr>
          <a:xfrm>
            <a:off x="8548560" y="74520"/>
            <a:ext cx="503280" cy="503280"/>
            <a:chOff x="8548560" y="74520"/>
            <a:chExt cx="503280" cy="503280"/>
          </a:xfrm>
        </p:grpSpPr>
        <p:sp>
          <p:nvSpPr>
            <p:cNvPr id="342" name="Oval 27"/>
            <p:cNvSpPr/>
            <p:nvPr/>
          </p:nvSpPr>
          <p:spPr>
            <a:xfrm>
              <a:off x="8548560" y="745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28"/>
            <p:cNvSpPr/>
            <p:nvPr/>
          </p:nvSpPr>
          <p:spPr>
            <a:xfrm>
              <a:off x="8645400" y="139680"/>
              <a:ext cx="253800" cy="27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34"/>
          <p:cNvGrpSpPr/>
          <p:nvPr/>
        </p:nvGrpSpPr>
        <p:grpSpPr>
          <a:xfrm>
            <a:off x="3855600" y="2492280"/>
            <a:ext cx="1222920" cy="1325160"/>
            <a:chOff x="3855600" y="2492280"/>
            <a:chExt cx="1222920" cy="1325160"/>
          </a:xfrm>
        </p:grpSpPr>
        <p:grpSp>
          <p:nvGrpSpPr>
            <p:cNvPr id="345" name="Group 30"/>
            <p:cNvGrpSpPr/>
            <p:nvPr/>
          </p:nvGrpSpPr>
          <p:grpSpPr>
            <a:xfrm>
              <a:off x="3924360" y="2492280"/>
              <a:ext cx="1079280" cy="936720"/>
              <a:chOff x="3924360" y="2492280"/>
              <a:chExt cx="1079280" cy="936720"/>
            </a:xfrm>
          </p:grpSpPr>
          <p:sp>
            <p:nvSpPr>
              <p:cNvPr id="346" name="Line 18"/>
              <p:cNvSpPr/>
              <p:nvPr/>
            </p:nvSpPr>
            <p:spPr>
              <a:xfrm>
                <a:off x="5003640" y="249228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19"/>
              <p:cNvSpPr/>
              <p:nvPr/>
            </p:nvSpPr>
            <p:spPr>
              <a:xfrm>
                <a:off x="5003640" y="2708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20"/>
              <p:cNvSpPr/>
              <p:nvPr/>
            </p:nvSpPr>
            <p:spPr>
              <a:xfrm>
                <a:off x="5003640" y="2997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1"/>
              <p:cNvSpPr/>
              <p:nvPr/>
            </p:nvSpPr>
            <p:spPr>
              <a:xfrm>
                <a:off x="5003640" y="3284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22"/>
              <p:cNvSpPr/>
              <p:nvPr/>
            </p:nvSpPr>
            <p:spPr>
              <a:xfrm>
                <a:off x="3924360" y="249228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3"/>
              <p:cNvSpPr/>
              <p:nvPr/>
            </p:nvSpPr>
            <p:spPr>
              <a:xfrm>
                <a:off x="3924360" y="2708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4"/>
              <p:cNvSpPr/>
              <p:nvPr/>
            </p:nvSpPr>
            <p:spPr>
              <a:xfrm>
                <a:off x="3924360" y="2997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5"/>
              <p:cNvSpPr/>
              <p:nvPr/>
            </p:nvSpPr>
            <p:spPr>
              <a:xfrm>
                <a:off x="3924360" y="3284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Text Box 32"/>
            <p:cNvSpPr/>
            <p:nvPr/>
          </p:nvSpPr>
          <p:spPr>
            <a:xfrm>
              <a:off x="4916160" y="3540240"/>
              <a:ext cx="162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ru-RU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33"/>
            <p:cNvSpPr/>
            <p:nvPr/>
          </p:nvSpPr>
          <p:spPr>
            <a:xfrm>
              <a:off x="3855600" y="3525840"/>
              <a:ext cx="162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ru-RU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5"/>
          <p:cNvSpPr/>
          <p:nvPr/>
        </p:nvSpPr>
        <p:spPr>
          <a:xfrm>
            <a:off x="4420080" y="35035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90d23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9"/>
          <p:cNvSpPr/>
          <p:nvPr/>
        </p:nvSpPr>
        <p:spPr>
          <a:xfrm>
            <a:off x="468360" y="4797360"/>
            <a:ext cx="38163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0 – уравнение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=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72d47"/>
                </a:solidFill>
                <a:latin typeface="Times New Roman"/>
              </a:rPr>
              <a:t>имеет два решения </a:t>
            </a:r>
            <a:r>
              <a:rPr b="1" i="1" lang="en-US" sz="1600" spc="-1" strike="noStrike">
                <a:solidFill>
                  <a:srgbClr val="b72d47"/>
                </a:solidFill>
                <a:latin typeface="Times New Roman"/>
              </a:rPr>
              <a:t>x</a:t>
            </a:r>
            <a:r>
              <a:rPr b="1" i="1" lang="ru-RU" sz="1600" spc="-1" strike="noStrike" baseline="-25000">
                <a:solidFill>
                  <a:srgbClr val="b72d47"/>
                </a:solidFill>
                <a:latin typeface="Times New Roman"/>
              </a:rPr>
              <a:t>1</a:t>
            </a:r>
            <a:r>
              <a:rPr b="1" i="1" lang="ru-RU" sz="1600" spc="-1" strike="noStrike">
                <a:solidFill>
                  <a:srgbClr val="b72d47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b72d47"/>
                </a:solidFill>
                <a:latin typeface="Times New Roman"/>
              </a:rPr>
              <a:t>x</a:t>
            </a:r>
            <a:r>
              <a:rPr b="1" i="1" lang="ru-RU" sz="1600" spc="-1" strike="noStrike" baseline="-25000">
                <a:solidFill>
                  <a:srgbClr val="b72d47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общие точки пересечения график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0"/>
          <p:cNvSpPr/>
          <p:nvPr/>
        </p:nvSpPr>
        <p:spPr>
          <a:xfrm>
            <a:off x="468360" y="5734080"/>
            <a:ext cx="41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0 – уравнение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=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72d47"/>
                </a:solidFill>
                <a:latin typeface="Times New Roman"/>
              </a:rPr>
              <a:t>не имеет ре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общих точек пересечения графиков н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1"/>
          <p:cNvSpPr/>
          <p:nvPr/>
        </p:nvSpPr>
        <p:spPr>
          <a:xfrm>
            <a:off x="611280" y="260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лько решений имеет уравнение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различных значений параметра (а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8"/>
          <p:cNvSpPr/>
          <p:nvPr/>
        </p:nvSpPr>
        <p:spPr>
          <a:xfrm>
            <a:off x="4000680" y="33577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5" repeatCount="200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5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9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5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5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5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682560" y="3254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40000"/>
                </a:solidFill>
                <a:latin typeface="Arial"/>
              </a:rPr>
              <a:t>Выводы по работ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"/>
          <p:cNvSpPr/>
          <p:nvPr/>
        </p:nvSpPr>
        <p:spPr>
          <a:xfrm>
            <a:off x="826920" y="2133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5580000" y="6165720"/>
            <a:ext cx="172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2"/>
          <p:cNvSpPr/>
          <p:nvPr/>
        </p:nvSpPr>
        <p:spPr>
          <a:xfrm>
            <a:off x="285840" y="941400"/>
            <a:ext cx="8678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1971"/>
                </a:solidFill>
                <a:latin typeface="Arial"/>
              </a:rPr>
              <a:t>1. На основе анализа литературных показано, что применительно к практике решения задач с параметрами наиболее часто встречаются линейные уравн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1971"/>
                </a:solidFill>
                <a:latin typeface="Arial"/>
              </a:rPr>
              <a:t>- с одной переменной и одним параметр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1971"/>
                </a:solidFill>
                <a:latin typeface="Arial"/>
              </a:rPr>
              <a:t>- с одной переменной и двумя параметр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1971"/>
                </a:solidFill>
                <a:latin typeface="Arial"/>
              </a:rPr>
              <a:t>- с двумя переменными и одним параметр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26197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1971"/>
                </a:solidFill>
                <a:latin typeface="Arial"/>
              </a:rPr>
              <a:t>- с двумя переменными и двумя парамет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26197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1971"/>
                </a:solidFill>
                <a:latin typeface="Arial"/>
              </a:rPr>
              <a:t>2. С использованием литературных данных исследованы особенности решения задач с параметрами первого и второго класса и даны понятия контрольного и допустимого значения параметров для линейных параметрических урав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1971"/>
                </a:solidFill>
                <a:latin typeface="Arial"/>
              </a:rPr>
              <a:t>3. На основе проведенных исследований разработана опорная таблица для решения линейных уравнений с параметром и одним неизвестным и обобщенный алгоритм решении линейных уравнений с одной неизвестной и двумя параметрами, используя которые учащиеся смогут всегда самостоятельно найти правильное  решение, как для задач первого класса, так и втор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1971"/>
                </a:solidFill>
                <a:latin typeface="Arial"/>
              </a:rPr>
              <a:t>4. Предложен вариант решения параметрического линейного уравнения графическим способ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86"/>
          <p:cNvGrpSpPr/>
          <p:nvPr/>
        </p:nvGrpSpPr>
        <p:grpSpPr>
          <a:xfrm>
            <a:off x="8548560" y="74520"/>
            <a:ext cx="503280" cy="503280"/>
            <a:chOff x="8548560" y="74520"/>
            <a:chExt cx="503280" cy="503280"/>
          </a:xfrm>
        </p:grpSpPr>
        <p:sp>
          <p:nvSpPr>
            <p:cNvPr id="367" name="Oval 87"/>
            <p:cNvSpPr/>
            <p:nvPr/>
          </p:nvSpPr>
          <p:spPr>
            <a:xfrm>
              <a:off x="8548560" y="745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88"/>
            <p:cNvSpPr/>
            <p:nvPr/>
          </p:nvSpPr>
          <p:spPr>
            <a:xfrm>
              <a:off x="8645400" y="139680"/>
              <a:ext cx="253800" cy="27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35120" y="784080"/>
            <a:ext cx="31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042920" y="29448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95280" y="1125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40000"/>
                </a:solidFill>
                <a:latin typeface="Arial"/>
              </a:rPr>
              <a:t>Цель работы: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</a:rPr>
              <a:t>исследование  особенностей  решения линейных   уравнений   с   параметрами  и  разработка методических    рекомендаций   учащимся   по   выбору алгоритма нахождения их кор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68360" y="3213000"/>
            <a:ext cx="84963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40000"/>
                </a:solidFill>
                <a:latin typeface="Arial"/>
              </a:rPr>
              <a:t>Решаемые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80"/>
                </a:solidFill>
                <a:latin typeface="Arial"/>
              </a:rPr>
              <a:t>1. Анализ видов уравнений с параметр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80"/>
                </a:solidFill>
                <a:latin typeface="Arial"/>
              </a:rPr>
              <a:t>2. Исследование особенностей решения линейных уравнений с параметрами различного ви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80"/>
                </a:solidFill>
                <a:latin typeface="Arial"/>
              </a:rPr>
              <a:t>3. Разработка обобщенного алгоритма решения линейных уравнений с парамет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856880" y="209520"/>
            <a:ext cx="54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1503"/>
                </a:solidFill>
                <a:latin typeface="Arial"/>
              </a:rPr>
              <a:t>Цель и задачи исследов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4"/>
          <p:cNvGrpSpPr/>
          <p:nvPr/>
        </p:nvGrpSpPr>
        <p:grpSpPr>
          <a:xfrm>
            <a:off x="8548560" y="74520"/>
            <a:ext cx="503280" cy="503280"/>
            <a:chOff x="8548560" y="74520"/>
            <a:chExt cx="503280" cy="503280"/>
          </a:xfrm>
        </p:grpSpPr>
        <p:sp>
          <p:nvSpPr>
            <p:cNvPr id="155" name="Oval 15"/>
            <p:cNvSpPr/>
            <p:nvPr/>
          </p:nvSpPr>
          <p:spPr>
            <a:xfrm>
              <a:off x="8548560" y="745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8647200" y="139680"/>
              <a:ext cx="30708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35120" y="784080"/>
            <a:ext cx="31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042920" y="29448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130040" y="209520"/>
            <a:ext cx="694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1503"/>
                </a:solidFill>
                <a:latin typeface="Arial"/>
              </a:rPr>
              <a:t>Линейные уравн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1503"/>
                </a:solidFill>
                <a:latin typeface="Arial"/>
              </a:rPr>
              <a:t>с параметрами и одной переменно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98240" y="1387440"/>
            <a:ext cx="78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6"/>
                </a:solidFill>
                <a:latin typeface="Arial"/>
              </a:rPr>
              <a:t>1. С одной переменной и одним параметр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802440" y="4051440"/>
            <a:ext cx="73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6"/>
                </a:solidFill>
                <a:latin typeface="Arial"/>
              </a:rPr>
              <a:t>2. С одной переменной и двумя парамет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3059280" y="4508640"/>
                <a:ext cx="2447640" cy="21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348000" y="1844640"/>
                <a:ext cx="181440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4" name="Group 9"/>
          <p:cNvGrpSpPr/>
          <p:nvPr/>
        </p:nvGrpSpPr>
        <p:grpSpPr>
          <a:xfrm>
            <a:off x="8548560" y="74520"/>
            <a:ext cx="503280" cy="503280"/>
            <a:chOff x="8548560" y="74520"/>
            <a:chExt cx="503280" cy="503280"/>
          </a:xfrm>
        </p:grpSpPr>
        <p:sp>
          <p:nvSpPr>
            <p:cNvPr id="165" name="Oval 10"/>
            <p:cNvSpPr/>
            <p:nvPr/>
          </p:nvSpPr>
          <p:spPr>
            <a:xfrm>
              <a:off x="8548560" y="745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8647200" y="139680"/>
              <a:ext cx="30708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35120" y="784080"/>
            <a:ext cx="31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42920" y="29448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43920" y="209520"/>
            <a:ext cx="731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1503"/>
                </a:solidFill>
                <a:latin typeface="Arial"/>
              </a:rPr>
              <a:t>Линейные уравн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1503"/>
                </a:solidFill>
                <a:latin typeface="Arial"/>
              </a:rPr>
              <a:t>с параметрами и двумя переменным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38040" y="1387440"/>
            <a:ext cx="81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6"/>
                </a:solidFill>
                <a:latin typeface="Arial"/>
              </a:rPr>
              <a:t>1. С двумя переменными и одним параметр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642240" y="4124160"/>
            <a:ext cx="76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6"/>
                </a:solidFill>
                <a:latin typeface="Arial"/>
              </a:rPr>
              <a:t>2. С двумя переменными и двумя парамет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5"/>
              <p:cNvSpPr txBox="1"/>
              <p:nvPr/>
            </p:nvSpPr>
            <p:spPr>
              <a:xfrm>
                <a:off x="2771640" y="4780080"/>
                <a:ext cx="30225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6"/>
              <p:cNvSpPr txBox="1"/>
              <p:nvPr/>
            </p:nvSpPr>
            <p:spPr>
              <a:xfrm>
                <a:off x="3276720" y="1844640"/>
                <a:ext cx="195876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4" name="Group 19"/>
          <p:cNvGrpSpPr/>
          <p:nvPr/>
        </p:nvGrpSpPr>
        <p:grpSpPr>
          <a:xfrm>
            <a:off x="8548560" y="74520"/>
            <a:ext cx="503280" cy="503280"/>
            <a:chOff x="8548560" y="74520"/>
            <a:chExt cx="503280" cy="503280"/>
          </a:xfrm>
        </p:grpSpPr>
        <p:sp>
          <p:nvSpPr>
            <p:cNvPr id="175" name="Oval 20"/>
            <p:cNvSpPr/>
            <p:nvPr/>
          </p:nvSpPr>
          <p:spPr>
            <a:xfrm>
              <a:off x="8548560" y="745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1"/>
            <p:cNvSpPr/>
            <p:nvPr/>
          </p:nvSpPr>
          <p:spPr>
            <a:xfrm>
              <a:off x="8647200" y="139680"/>
              <a:ext cx="30708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535120" y="784080"/>
            <a:ext cx="31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42920" y="29448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1503"/>
                </a:solidFill>
                <a:latin typeface="Arial"/>
              </a:rPr>
              <a:t>Классификация задач с парамет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1095480" y="3881520"/>
            <a:ext cx="33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042920" y="386064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95280" y="2637000"/>
            <a:ext cx="37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первому классу относятся задачи, в которых требуется решить уравнение при всех значениях параме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4727520" y="2610000"/>
            <a:ext cx="410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 второму классу – задачи, в которых нужно из всех значений параметра выделить те, при которых уравнение будет обладать некоторыми задаваемыми свой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324000" y="3573360"/>
            <a:ext cx="1152360" cy="12240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3"/>
          <p:cNvSpPr/>
          <p:nvPr/>
        </p:nvSpPr>
        <p:spPr>
          <a:xfrm>
            <a:off x="1258920" y="3860640"/>
            <a:ext cx="2952720" cy="18734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4"/>
          <p:cNvSpPr/>
          <p:nvPr/>
        </p:nvSpPr>
        <p:spPr>
          <a:xfrm>
            <a:off x="2268360" y="981000"/>
            <a:ext cx="4680000" cy="5205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000"/>
                </a:solidFill>
                <a:latin typeface="Arial"/>
              </a:rPr>
              <a:t>Задачи с параме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5"/>
          <p:cNvSpPr/>
          <p:nvPr/>
        </p:nvSpPr>
        <p:spPr>
          <a:xfrm>
            <a:off x="1209600" y="1935000"/>
            <a:ext cx="2087640" cy="520560"/>
          </a:xfrm>
          <a:prstGeom prst="rect">
            <a:avLst/>
          </a:prstGeom>
          <a:noFill/>
          <a:ln w="3816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072c"/>
                </a:solidFill>
                <a:latin typeface="Arial"/>
              </a:rPr>
              <a:t>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6"/>
          <p:cNvSpPr/>
          <p:nvPr/>
        </p:nvSpPr>
        <p:spPr>
          <a:xfrm>
            <a:off x="5735520" y="1935000"/>
            <a:ext cx="2160720" cy="520560"/>
          </a:xfrm>
          <a:prstGeom prst="rect">
            <a:avLst/>
          </a:prstGeom>
          <a:noFill/>
          <a:ln w="3816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072c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452520" y="4930920"/>
            <a:ext cx="8332560" cy="1465560"/>
          </a:xfrm>
          <a:prstGeom prst="rect">
            <a:avLst/>
          </a:prstGeom>
          <a:solidFill>
            <a:srgbClr val="ffb44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язательное рассмотрение следующих случаев решения урав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равнение не имеет смыс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равнение не имеет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имеет единственное решение (или конечное число реш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равнение имеет бесчисленное множество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0"/>
          <p:cNvSpPr/>
          <p:nvPr/>
        </p:nvSpPr>
        <p:spPr>
          <a:xfrm>
            <a:off x="1979640" y="3789360"/>
            <a:ext cx="485640" cy="1008000"/>
          </a:xfrm>
          <a:prstGeom prst="downArrow">
            <a:avLst>
              <a:gd name="adj1" fmla="val 50000"/>
              <a:gd name="adj2" fmla="val 5189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8548560" y="74520"/>
            <a:ext cx="503280" cy="503280"/>
            <a:chOff x="8548560" y="74520"/>
            <a:chExt cx="503280" cy="503280"/>
          </a:xfrm>
        </p:grpSpPr>
        <p:sp>
          <p:nvSpPr>
            <p:cNvPr id="192" name="Oval 32"/>
            <p:cNvSpPr/>
            <p:nvPr/>
          </p:nvSpPr>
          <p:spPr>
            <a:xfrm>
              <a:off x="8548560" y="745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3"/>
            <p:cNvSpPr/>
            <p:nvPr/>
          </p:nvSpPr>
          <p:spPr>
            <a:xfrm>
              <a:off x="8647200" y="139680"/>
              <a:ext cx="30708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2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535120" y="784080"/>
            <a:ext cx="31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042920" y="29448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54520" y="396720"/>
            <a:ext cx="86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1503"/>
                </a:solidFill>
                <a:latin typeface="Arial"/>
              </a:rPr>
              <a:t>Пример решения задач с параметрами первого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58760" y="1052640"/>
            <a:ext cx="89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6"/>
                </a:solidFill>
                <a:latin typeface="Arial"/>
              </a:rPr>
              <a:t>Вопрос: </a:t>
            </a:r>
            <a:r>
              <a:rPr b="1" i="1" lang="ru-RU" sz="2000" spc="-1" strike="noStrike">
                <a:solidFill>
                  <a:srgbClr val="004c00"/>
                </a:solidFill>
                <a:latin typeface="Arial"/>
              </a:rPr>
              <a:t>Решить для всех значений параметра (а) уравн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3780000" y="1700280"/>
                <a:ext cx="1697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10"/>
          <p:cNvSpPr/>
          <p:nvPr/>
        </p:nvSpPr>
        <p:spPr>
          <a:xfrm>
            <a:off x="168840" y="2060640"/>
            <a:ext cx="20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90d23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479520" y="2421000"/>
            <a:ext cx="6537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ешение уравнения сводится к рассмотрению двух случае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4c00"/>
                </a:solidFill>
                <a:latin typeface="Arial"/>
              </a:rPr>
              <a:t>а) коэффициент при переменной равен ну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4c00"/>
                </a:solidFill>
                <a:latin typeface="Arial"/>
              </a:rPr>
              <a:t>в) коэффициент при переменной не равен нул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7"/>
          <p:cNvGrpSpPr/>
          <p:nvPr/>
        </p:nvGrpSpPr>
        <p:grpSpPr>
          <a:xfrm>
            <a:off x="469440" y="4562640"/>
            <a:ext cx="5974200" cy="811080"/>
            <a:chOff x="469440" y="4562640"/>
            <a:chExt cx="5974200" cy="811080"/>
          </a:xfrm>
        </p:grpSpPr>
        <p:sp>
          <p:nvSpPr>
            <p:cNvPr id="203" name="Text Box 14"/>
            <p:cNvSpPr/>
            <p:nvPr/>
          </p:nvSpPr>
          <p:spPr>
            <a:xfrm>
              <a:off x="469440" y="4803840"/>
              <a:ext cx="103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2) Есл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Object 15"/>
                <p:cNvSpPr txBox="1"/>
                <p:nvPr/>
              </p:nvSpPr>
              <p:spPr>
                <a:xfrm>
                  <a:off x="5208480" y="4562640"/>
                  <a:ext cx="123516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а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Object 17"/>
                <p:cNvSpPr txBox="1"/>
                <p:nvPr/>
              </p:nvSpPr>
              <p:spPr>
                <a:xfrm>
                  <a:off x="1746360" y="4811760"/>
                  <a:ext cx="260964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(</m:t>
                      </m:r>
                      <m:r>
                        <m:t xml:space="preserve">а</m:t>
                      </m:r>
                      <m:r>
                        <m:t xml:space="preserve">≠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Text Box 18"/>
            <p:cNvSpPr/>
            <p:nvPr/>
          </p:nvSpPr>
          <p:spPr>
            <a:xfrm>
              <a:off x="4513320" y="47941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о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27"/>
          <p:cNvGrpSpPr/>
          <p:nvPr/>
        </p:nvGrpSpPr>
        <p:grpSpPr>
          <a:xfrm>
            <a:off x="413640" y="3592440"/>
            <a:ext cx="7395480" cy="846000"/>
            <a:chOff x="413640" y="3592440"/>
            <a:chExt cx="7395480" cy="846000"/>
          </a:xfrm>
        </p:grpSpPr>
        <p:sp>
          <p:nvSpPr>
            <p:cNvPr id="208" name="Rectangle 21"/>
            <p:cNvSpPr/>
            <p:nvPr/>
          </p:nvSpPr>
          <p:spPr>
            <a:xfrm>
              <a:off x="726840" y="407016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о получим урав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26"/>
            <p:cNvGrpSpPr/>
            <p:nvPr/>
          </p:nvGrpSpPr>
          <p:grpSpPr>
            <a:xfrm>
              <a:off x="413640" y="3592440"/>
              <a:ext cx="7395480" cy="836640"/>
              <a:chOff x="413640" y="3592440"/>
              <a:chExt cx="7395480" cy="836640"/>
            </a:xfrm>
          </p:grpSpPr>
          <p:sp>
            <p:nvSpPr>
              <p:cNvPr id="210" name="Text Box 12"/>
              <p:cNvSpPr/>
              <p:nvPr/>
            </p:nvSpPr>
            <p:spPr>
              <a:xfrm>
                <a:off x="413640" y="3654360"/>
                <a:ext cx="52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buClr>
                    <a:srgbClr val="000000"/>
                  </a:buClr>
                  <a:buFont typeface="Arial"/>
                  <a:buAutoNum type="arabi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Если коэффициент при х равен нулю, т.е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2"/>
              <p:cNvSpPr/>
              <p:nvPr/>
            </p:nvSpPr>
            <p:spPr>
              <a:xfrm>
                <a:off x="4383720" y="4060800"/>
                <a:ext cx="342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, которое не имеет решений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2" name="Object 23"/>
                  <p:cNvSpPr txBox="1"/>
                  <p:nvPr/>
                </p:nvSpPr>
                <p:spPr>
                  <a:xfrm>
                    <a:off x="5671800" y="3639960"/>
                    <a:ext cx="100980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3" name="Object 24"/>
                  <p:cNvSpPr txBox="1"/>
                  <p:nvPr/>
                </p:nvSpPr>
                <p:spPr>
                  <a:xfrm>
                    <a:off x="6717960" y="3592440"/>
                    <a:ext cx="105264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4" name="Object 25"/>
                  <p:cNvSpPr txBox="1"/>
                  <p:nvPr/>
                </p:nvSpPr>
                <p:spPr>
                  <a:xfrm>
                    <a:off x="3449520" y="4062240"/>
                    <a:ext cx="936360" cy="35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15" name="Group 43"/>
          <p:cNvGrpSpPr/>
          <p:nvPr/>
        </p:nvGrpSpPr>
        <p:grpSpPr>
          <a:xfrm>
            <a:off x="1692360" y="5445000"/>
            <a:ext cx="5290920" cy="1233720"/>
            <a:chOff x="1692360" y="5445000"/>
            <a:chExt cx="5290920" cy="1233720"/>
          </a:xfrm>
        </p:grpSpPr>
        <p:sp>
          <p:nvSpPr>
            <p:cNvPr id="216" name="Text Box 29"/>
            <p:cNvSpPr/>
            <p:nvPr/>
          </p:nvSpPr>
          <p:spPr>
            <a:xfrm>
              <a:off x="1692360" y="5445000"/>
              <a:ext cx="22654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61971"/>
                  </a:solidFill>
                  <a:latin typeface="Arial"/>
                </a:rPr>
                <a:t>Ответ:</a:t>
              </a:r>
              <a:r>
                <a:rPr b="1" i="1" lang="ru-RU" sz="2400" spc="-1" strike="noStrike">
                  <a:solidFill>
                    <a:srgbClr val="f90d23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f90d23"/>
                  </a:solidFill>
                  <a:latin typeface="Arial"/>
                </a:rPr>
                <a:t>1) п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f90d23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90d23"/>
                  </a:solidFill>
                  <a:latin typeface="Arial"/>
                </a:rPr>
                <a:t>                  </a:t>
              </a:r>
              <a:r>
                <a:rPr b="1" i="1" lang="ru-RU" sz="2000" spc="-1" strike="noStrike">
                  <a:solidFill>
                    <a:srgbClr val="f90d23"/>
                  </a:solidFill>
                  <a:latin typeface="Arial"/>
                </a:rPr>
                <a:t>2) п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39"/>
            <p:cNvSpPr/>
            <p:nvPr/>
          </p:nvSpPr>
          <p:spPr>
            <a:xfrm>
              <a:off x="5220360" y="550404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90d23"/>
                  </a:solidFill>
                  <a:latin typeface="Arial"/>
                </a:rPr>
                <a:t>нет корней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40"/>
                <p:cNvSpPr txBox="1"/>
                <p:nvPr/>
              </p:nvSpPr>
              <p:spPr>
                <a:xfrm>
                  <a:off x="3998880" y="5445000"/>
                  <a:ext cx="12175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41"/>
                <p:cNvSpPr txBox="1"/>
                <p:nvPr/>
              </p:nvSpPr>
              <p:spPr>
                <a:xfrm>
                  <a:off x="4211640" y="5994360"/>
                  <a:ext cx="79200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Object 42"/>
                <p:cNvSpPr txBox="1"/>
                <p:nvPr/>
              </p:nvSpPr>
              <p:spPr>
                <a:xfrm>
                  <a:off x="5189400" y="5738760"/>
                  <a:ext cx="179388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а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1" name="Group 44"/>
          <p:cNvGrpSpPr/>
          <p:nvPr/>
        </p:nvGrpSpPr>
        <p:grpSpPr>
          <a:xfrm>
            <a:off x="8548560" y="74520"/>
            <a:ext cx="503280" cy="503280"/>
            <a:chOff x="8548560" y="74520"/>
            <a:chExt cx="503280" cy="503280"/>
          </a:xfrm>
        </p:grpSpPr>
        <p:sp>
          <p:nvSpPr>
            <p:cNvPr id="222" name="Oval 45"/>
            <p:cNvSpPr/>
            <p:nvPr/>
          </p:nvSpPr>
          <p:spPr>
            <a:xfrm>
              <a:off x="8548560" y="745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6"/>
            <p:cNvSpPr/>
            <p:nvPr/>
          </p:nvSpPr>
          <p:spPr>
            <a:xfrm>
              <a:off x="8647200" y="139680"/>
              <a:ext cx="30708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535120" y="784080"/>
            <a:ext cx="31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042920" y="29448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1503"/>
                </a:solidFill>
                <a:latin typeface="Arial"/>
              </a:rPr>
              <a:t>Классификация задач с парамет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95480" y="3881520"/>
            <a:ext cx="33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042920" y="386064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95280" y="2637000"/>
            <a:ext cx="37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первому классу относятся задачи, в которых требуется решить уравнение при всех значениях параме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27520" y="2610000"/>
            <a:ext cx="410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 второму классу – задачи, в которых нужно из всех значений параметра выделить те, при которых уравнение будет обладать некоторыми задаваемыми свой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324000" y="3573360"/>
            <a:ext cx="1152360" cy="12240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1258920" y="3860640"/>
            <a:ext cx="2952720" cy="18734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2268360" y="981000"/>
            <a:ext cx="4680000" cy="5205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000"/>
                </a:solidFill>
                <a:latin typeface="Arial"/>
              </a:rPr>
              <a:t>Задачи с параме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1209600" y="1935000"/>
            <a:ext cx="2087640" cy="520560"/>
          </a:xfrm>
          <a:prstGeom prst="rect">
            <a:avLst/>
          </a:prstGeom>
          <a:noFill/>
          <a:ln w="3816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072c"/>
                </a:solidFill>
                <a:latin typeface="Arial"/>
              </a:rPr>
              <a:t>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5735520" y="1935000"/>
            <a:ext cx="2160720" cy="520560"/>
          </a:xfrm>
          <a:prstGeom prst="rect">
            <a:avLst/>
          </a:prstGeom>
          <a:noFill/>
          <a:ln w="3816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072c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63480" y="5335560"/>
            <a:ext cx="7907400" cy="916920"/>
          </a:xfrm>
          <a:prstGeom prst="rect">
            <a:avLst/>
          </a:prstGeom>
          <a:solidFill>
            <a:srgbClr val="ffb44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ледует проводить полного исследования решений уравн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точно привести решение, которое приведет к ответу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вленный вопрос зада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6659640" y="4221000"/>
            <a:ext cx="485640" cy="936720"/>
          </a:xfrm>
          <a:prstGeom prst="downArrow">
            <a:avLst>
              <a:gd name="adj1" fmla="val 50000"/>
              <a:gd name="adj2" fmla="val 4822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6"/>
          <p:cNvGrpSpPr/>
          <p:nvPr/>
        </p:nvGrpSpPr>
        <p:grpSpPr>
          <a:xfrm>
            <a:off x="8548560" y="74520"/>
            <a:ext cx="503280" cy="503280"/>
            <a:chOff x="8548560" y="74520"/>
            <a:chExt cx="503280" cy="503280"/>
          </a:xfrm>
        </p:grpSpPr>
        <p:sp>
          <p:nvSpPr>
            <p:cNvPr id="239" name="Oval 17"/>
            <p:cNvSpPr/>
            <p:nvPr/>
          </p:nvSpPr>
          <p:spPr>
            <a:xfrm>
              <a:off x="8548560" y="745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8"/>
            <p:cNvSpPr/>
            <p:nvPr/>
          </p:nvSpPr>
          <p:spPr>
            <a:xfrm>
              <a:off x="8647200" y="139680"/>
              <a:ext cx="30708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535120" y="784080"/>
            <a:ext cx="31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042920" y="29448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203400" y="396720"/>
            <a:ext cx="87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1503"/>
                </a:solidFill>
                <a:latin typeface="Arial"/>
              </a:rPr>
              <a:t>Пример решения задач с параметрами второго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-76320" y="1231920"/>
            <a:ext cx="94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6"/>
                </a:solidFill>
                <a:latin typeface="Arial"/>
              </a:rPr>
              <a:t>Вопрос: </a:t>
            </a:r>
            <a:r>
              <a:rPr b="1" i="1" lang="ru-RU" sz="1800" spc="-1" strike="noStrike">
                <a:solidFill>
                  <a:srgbClr val="004c00"/>
                </a:solidFill>
                <a:latin typeface="Arial"/>
              </a:rPr>
              <a:t>При каком значении параметра (а) уравнение не имеет кор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3564000" y="1731960"/>
                <a:ext cx="1509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Rectangle 7"/>
          <p:cNvSpPr/>
          <p:nvPr/>
        </p:nvSpPr>
        <p:spPr>
          <a:xfrm>
            <a:off x="168840" y="2527200"/>
            <a:ext cx="20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90d23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074240" y="3181320"/>
            <a:ext cx="6404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значении параметра (а), равном единиц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наменатель дроби уравнения обращается в ну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этому уравнение не имеет смы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34"/>
          <p:cNvGrpSpPr/>
          <p:nvPr/>
        </p:nvGrpSpPr>
        <p:grpSpPr>
          <a:xfrm>
            <a:off x="999000" y="5245200"/>
            <a:ext cx="7965720" cy="842760"/>
            <a:chOff x="999000" y="5245200"/>
            <a:chExt cx="7965720" cy="842760"/>
          </a:xfrm>
        </p:grpSpPr>
        <p:sp>
          <p:nvSpPr>
            <p:cNvPr id="250" name="Text Box 24"/>
            <p:cNvSpPr/>
            <p:nvPr/>
          </p:nvSpPr>
          <p:spPr>
            <a:xfrm>
              <a:off x="999000" y="5300640"/>
              <a:ext cx="205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61971"/>
                  </a:solidFill>
                  <a:latin typeface="Arial"/>
                </a:rPr>
                <a:t>Ответ:</a:t>
              </a:r>
              <a:r>
                <a:rPr b="1" i="1" lang="ru-RU" sz="2400" spc="-1" strike="noStrike">
                  <a:solidFill>
                    <a:srgbClr val="f90d23"/>
                  </a:solidFill>
                  <a:latin typeface="Arial"/>
                </a:rPr>
                <a:t> пр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>
              <a:off x="4392720" y="526248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90d23"/>
                  </a:solidFill>
                  <a:latin typeface="Arial"/>
                </a:rPr>
                <a:t>уравнение теряет смыс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90d23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f90d23"/>
                  </a:solidFill>
                  <a:latin typeface="Arial"/>
                </a:rPr>
                <a:t>и не имеет кор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33"/>
                <p:cNvSpPr txBox="1"/>
                <p:nvPr/>
              </p:nvSpPr>
              <p:spPr>
                <a:xfrm>
                  <a:off x="3203640" y="5245200"/>
                  <a:ext cx="9367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3" name="Group 35"/>
          <p:cNvGrpSpPr/>
          <p:nvPr/>
        </p:nvGrpSpPr>
        <p:grpSpPr>
          <a:xfrm>
            <a:off x="8548560" y="74520"/>
            <a:ext cx="503280" cy="503280"/>
            <a:chOff x="8548560" y="74520"/>
            <a:chExt cx="503280" cy="503280"/>
          </a:xfrm>
        </p:grpSpPr>
        <p:sp>
          <p:nvSpPr>
            <p:cNvPr id="254" name="Oval 36"/>
            <p:cNvSpPr/>
            <p:nvPr/>
          </p:nvSpPr>
          <p:spPr>
            <a:xfrm>
              <a:off x="8548560" y="745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7"/>
            <p:cNvSpPr/>
            <p:nvPr/>
          </p:nvSpPr>
          <p:spPr>
            <a:xfrm>
              <a:off x="8647200" y="139680"/>
              <a:ext cx="30708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mph" presetID="18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35120" y="784080"/>
            <a:ext cx="31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178640" y="396720"/>
            <a:ext cx="683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1503"/>
                </a:solidFill>
                <a:latin typeface="Arial"/>
              </a:rPr>
              <a:t>Опорная таблица при решении урав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1503"/>
                </a:solidFill>
                <a:latin typeface="Arial"/>
              </a:rPr>
              <a:t>с параметром и одним неизвест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24000" y="1397160"/>
          <a:ext cx="8424720" cy="4770360"/>
        </p:xfrm>
        <a:graphic>
          <a:graphicData uri="http://schemas.openxmlformats.org/drawingml/2006/table">
            <a:tbl>
              <a:tblPr/>
              <a:tblGrid>
                <a:gridCol w="1871640"/>
                <a:gridCol w="3168360"/>
                <a:gridCol w="1656000"/>
                <a:gridCol w="172872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2c7a"/>
                          </a:solidFill>
                          <a:latin typeface="Arial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a2c7a"/>
                          </a:solidFill>
                          <a:latin typeface="Arial"/>
                        </a:rPr>
                        <a:t>У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a2c7a"/>
                          </a:solidFill>
                          <a:latin typeface="Arial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 не имеет решений, т.е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решени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 имеет бесчисленное множество решений, т.е.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∞;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∞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юбое действительн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– коэф. при неиз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вободный чл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 имеет единственный корень 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0" name="Group 283"/>
          <p:cNvGrpSpPr/>
          <p:nvPr/>
        </p:nvGrpSpPr>
        <p:grpSpPr>
          <a:xfrm>
            <a:off x="539640" y="2205000"/>
            <a:ext cx="7848720" cy="504720"/>
            <a:chOff x="539640" y="2205000"/>
            <a:chExt cx="7848720" cy="504720"/>
          </a:xfrm>
        </p:grpSpPr>
        <mc:AlternateContent>
          <mc:Choice xmlns:a14="http://schemas.microsoft.com/office/drawing/2010/main" Requires="a14">
            <p:sp>
              <p:nvSpPr>
                <p:cNvPr id="261" name="Object 258"/>
                <p:cNvSpPr txBox="1"/>
                <p:nvPr/>
              </p:nvSpPr>
              <p:spPr>
                <a:xfrm>
                  <a:off x="539640" y="2205000"/>
                  <a:ext cx="14400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59"/>
                <p:cNvSpPr txBox="1"/>
                <p:nvPr/>
              </p:nvSpPr>
              <p:spPr>
                <a:xfrm>
                  <a:off x="3203640" y="2205000"/>
                  <a:ext cx="10080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Object 260"/>
                <p:cNvSpPr txBox="1"/>
                <p:nvPr/>
              </p:nvSpPr>
              <p:spPr>
                <a:xfrm>
                  <a:off x="5452920" y="2205000"/>
                  <a:ext cx="14050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Object 261"/>
                <p:cNvSpPr txBox="1"/>
                <p:nvPr/>
              </p:nvSpPr>
              <p:spPr>
                <a:xfrm>
                  <a:off x="7380360" y="2205000"/>
                  <a:ext cx="10080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5" name="Group 284"/>
          <p:cNvGrpSpPr/>
          <p:nvPr/>
        </p:nvGrpSpPr>
        <p:grpSpPr>
          <a:xfrm>
            <a:off x="539640" y="2924280"/>
            <a:ext cx="6319800" cy="577800"/>
            <a:chOff x="539640" y="2924280"/>
            <a:chExt cx="6319800" cy="577800"/>
          </a:xfrm>
        </p:grpSpPr>
        <p:sp>
          <p:nvSpPr>
            <p:cNvPr id="266" name="Text Box 3"/>
            <p:cNvSpPr/>
            <p:nvPr/>
          </p:nvSpPr>
          <p:spPr>
            <a:xfrm>
              <a:off x="1042920" y="2944800"/>
              <a:ext cx="352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" name="Object 262"/>
                <p:cNvSpPr txBox="1"/>
                <p:nvPr/>
              </p:nvSpPr>
              <p:spPr>
                <a:xfrm>
                  <a:off x="539640" y="2924280"/>
                  <a:ext cx="14400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Object 263"/>
                <p:cNvSpPr txBox="1"/>
                <p:nvPr/>
              </p:nvSpPr>
              <p:spPr>
                <a:xfrm>
                  <a:off x="5454720" y="2997360"/>
                  <a:ext cx="14047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9" name="Group 285"/>
          <p:cNvGrpSpPr/>
          <p:nvPr/>
        </p:nvGrpSpPr>
        <p:grpSpPr>
          <a:xfrm>
            <a:off x="539640" y="3860640"/>
            <a:ext cx="6408720" cy="578160"/>
            <a:chOff x="539640" y="3860640"/>
            <a:chExt cx="6408720" cy="578160"/>
          </a:xfrm>
        </p:grpSpPr>
        <mc:AlternateContent>
          <mc:Choice xmlns:a14="http://schemas.microsoft.com/office/drawing/2010/main" Requires="a14">
            <p:sp>
              <p:nvSpPr>
                <p:cNvPr id="270" name="Object 264"/>
                <p:cNvSpPr txBox="1"/>
                <p:nvPr/>
              </p:nvSpPr>
              <p:spPr>
                <a:xfrm>
                  <a:off x="539640" y="3860640"/>
                  <a:ext cx="140508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265"/>
                <p:cNvSpPr txBox="1"/>
                <p:nvPr/>
              </p:nvSpPr>
              <p:spPr>
                <a:xfrm>
                  <a:off x="5435640" y="3933720"/>
                  <a:ext cx="151272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Group 286"/>
          <p:cNvGrpSpPr/>
          <p:nvPr/>
        </p:nvGrpSpPr>
        <p:grpSpPr>
          <a:xfrm>
            <a:off x="539640" y="4869000"/>
            <a:ext cx="7847280" cy="504720"/>
            <a:chOff x="539640" y="4869000"/>
            <a:chExt cx="7847280" cy="504720"/>
          </a:xfrm>
        </p:grpSpPr>
        <mc:AlternateContent>
          <mc:Choice xmlns:a14="http://schemas.microsoft.com/office/drawing/2010/main" Requires="a14">
            <p:sp>
              <p:nvSpPr>
                <p:cNvPr id="273" name="Object 266"/>
                <p:cNvSpPr txBox="1"/>
                <p:nvPr/>
              </p:nvSpPr>
              <p:spPr>
                <a:xfrm>
                  <a:off x="539640" y="4903920"/>
                  <a:ext cx="14400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Object 267"/>
                <p:cNvSpPr txBox="1"/>
                <p:nvPr/>
              </p:nvSpPr>
              <p:spPr>
                <a:xfrm>
                  <a:off x="5364000" y="4869000"/>
                  <a:ext cx="15843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Object 269"/>
                <p:cNvSpPr txBox="1"/>
                <p:nvPr/>
              </p:nvSpPr>
              <p:spPr>
                <a:xfrm>
                  <a:off x="7378560" y="4869000"/>
                  <a:ext cx="10083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289"/>
              <p:cNvSpPr txBox="1"/>
              <p:nvPr/>
            </p:nvSpPr>
            <p:spPr>
              <a:xfrm>
                <a:off x="3780000" y="5229360"/>
                <a:ext cx="834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7" name="Group 295"/>
          <p:cNvGrpSpPr/>
          <p:nvPr/>
        </p:nvGrpSpPr>
        <p:grpSpPr>
          <a:xfrm>
            <a:off x="8548560" y="74520"/>
            <a:ext cx="503280" cy="503280"/>
            <a:chOff x="8548560" y="74520"/>
            <a:chExt cx="503280" cy="503280"/>
          </a:xfrm>
        </p:grpSpPr>
        <p:sp>
          <p:nvSpPr>
            <p:cNvPr id="278" name="Oval 296"/>
            <p:cNvSpPr/>
            <p:nvPr/>
          </p:nvSpPr>
          <p:spPr>
            <a:xfrm>
              <a:off x="8548560" y="745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97"/>
            <p:cNvSpPr/>
            <p:nvPr/>
          </p:nvSpPr>
          <p:spPr>
            <a:xfrm>
              <a:off x="8647200" y="139680"/>
              <a:ext cx="30708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0:09:46Z</dcterms:created>
  <dc:creator>Олег</dc:creator>
  <dc:description/>
  <dc:language>en-US</dc:language>
  <cp:lastModifiedBy>owner</cp:lastModifiedBy>
  <dcterms:modified xsi:type="dcterms:W3CDTF">2009-12-22T07:21:04Z</dcterms:modified>
  <cp:revision>54</cp:revision>
  <dc:subject/>
  <dc:title>Слайд 1</dc:title>
</cp:coreProperties>
</file>