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7FB-83AF-414E-A4AB-7DE19FDF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D78-2300-4280-A0B0-059BDA63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551-4CA6-49E3-8A1A-9D70C92B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F8C-978F-4BAD-B6F8-7ADB5284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9D1-87B4-4A80-9FFC-C9F1BD84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3E6-44EA-4366-B0F5-5179C274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E34-1530-4298-9410-58B09523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0B8-ECFA-404C-96A9-CD29D135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2D6-E2FB-4931-84C6-31A7F563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7BA-7DB4-4C0D-AD50-D10ED69E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9AB-05D2-4D68-89CF-EBED494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102-23CE-493A-9E2B-8D39D7F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723A-EB68-4905-8A80-C75653034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533520" y="457200"/>
            <a:ext cx="912996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ЕМЛЯ ЗАЩИТЫ ПРОСИТ У ЛЮДЕЙ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869080" y="4876560"/>
            <a:ext cx="240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ца 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оленко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91120" y="4267080"/>
            <a:ext cx="419076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62520" cy="426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7200" y="43038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ая цап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5280" y="63612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ежный северный о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30080" y="363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ая 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76320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ДУМАЙТ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вида животных исчезают с лица Земли каждый час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 4 всех видов флоры и фауны нашей планеты перестанут существовать в ближайшее врем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% мировых запасов рыбы находятся на грани исчезновения из-за её  чрезмерного вылов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% всех видов морских животных уже бесследно исчезли с лица Зем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 последние 25 лет биологическое разнообразие Земли сократилось на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61480" y="1187640"/>
            <a:ext cx="5622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это страшно – умирание р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х поголовно, всех до одн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гда опустошенная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же не в силах сделать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поползёт проказа запустен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пересохнут ниточки в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птицы вымрут. И падут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зверь не обойдёт своей 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сколько тут корысти не ищи 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ты отговоркой не вл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емля защиты требует, защи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а спасенья просит у люд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078560"/>
            <a:ext cx="7696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ИТЬ  ПЛАНЕТУ СООБЩА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рана окружающей среды — задача всего человечества. Для её решения необходимо широкое международное сотрудни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сударства заключают различ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народные соглашения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сообща бороться за спасение природы. Одно из та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глашений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венция по ограничению торговли редкими и исчезающими видами диких животных и раст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454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ы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ые организации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ащие делу охраны природы. Одна из них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ый фонд дикой природы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 Wildlife Fun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блемой этой организации служит изображение панды — одного из самых редких животных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895480"/>
            <a:ext cx="28958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282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жегодно всё человечество отмечает международные дни, посвящённые защите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1720" y="1069920"/>
            <a:ext cx="78631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логический календ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марта –        Всемирный день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апреля –        Международный день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-22 апреля – Дни заповедников и национальных пар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апреля –      День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июня –           Всемирный день охраны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июня –         Всемирный день по борьбе с опустыниванием и засу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сентября –  Международный день охраны озонового слоя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сентября –  День работников л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сентября –  Международный день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 октября –      Международный день защиты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декабря –    Международный день биологического разнооб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226440"/>
            <a:ext cx="8001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 октября отмечается Всемирный день защиты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 веков назад жил святой Франциск Ассизский – основатель монашеского ордена, который оказывал помощь страждущим и гонимым, в том числе и братьям нашим меньшим – зверям и птицам. Франциск Ассизский считался покровителем всего зверья на Земле. Согласно легендам, дошедшим до наших дней, Франциск обладал невероятной способностью вступать в контакт с дикими зверями, которые не только не причиняли ему вреда, но и слушались святого, а также защищали его. Франциск Ассизский призывал верующих не приносить вреда животным и выступал в их защи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нь смерти святого – 4 октября 1226 года – отмечают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нь защиты животных во всё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оссии Всемирный день защиты животных отмечается с 2000 года. В этот день во многих регионах нашей страны проходят гуманные акции и мероприятия, направленные на воспитание у людей бережного и ответственного отношения к братьям нашим мень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6040" y="38016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ные Красноярского края, нуждающиеся в защ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88668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льбоме все страницы разного цве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рная страница – знак беды, несчастья, гибели – это редкие виды животных, которые могут попасть в число исчезающ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расная страница – цвет крови, опасности. Он привлекает внимание, заставляет насторожиться. Это животные, которым грозит опасность, они под угрозой исчезнов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зелёная страница – цвет надежды. Это животные, которые вос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желтая страница – виды с сокращающейся числе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4143240"/>
            <a:ext cx="4419720" cy="271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440" y="2779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680" y="28954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рильский снежный б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560" y="2895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б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00" y="361800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щекий сус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00600" y="373392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62880" y="32367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лы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5105520" cy="3733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0532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9760" y="15228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ый 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2360" y="266688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ежный б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410080" y="1905120"/>
            <a:ext cx="3733920" cy="4952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3840" y="13716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ый г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81080" y="3581280"/>
            <a:ext cx="3848400" cy="3057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29200" y="22860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5080" y="27795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б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1356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38680" y="33894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43000" y="32367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23:04Z</dcterms:created>
  <dc:creator>User</dc:creator>
  <dc:description/>
  <dc:language>en-US</dc:language>
  <cp:lastModifiedBy>User</cp:lastModifiedBy>
  <dcterms:modified xsi:type="dcterms:W3CDTF">2009-12-21T12:24:30Z</dcterms:modified>
  <cp:revision>7</cp:revision>
  <dc:subject/>
  <dc:title>Слайд 1</dc:title>
</cp:coreProperties>
</file>