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3.png" ContentType="image/png"/>
  <Override PartName="/ppt/media/image40.png" ContentType="image/png"/>
  <Override PartName="/ppt/media/image43.png" ContentType="image/png"/>
  <Override PartName="/ppt/media/image53.jpeg" ContentType="image/jpeg"/>
  <Override PartName="/ppt/media/image41.jpeg" ContentType="image/jpeg"/>
  <Override PartName="/ppt/media/image44.png" ContentType="image/png"/>
  <Override PartName="/ppt/media/image46.png" ContentType="image/png"/>
  <Override PartName="/ppt/media/image48.png" ContentType="image/png"/>
  <Override PartName="/ppt/media/image9.jpeg" ContentType="image/jpeg"/>
  <Override PartName="/ppt/media/image11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7.jpeg" ContentType="image/jpeg"/>
  <Override PartName="/ppt/media/image38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E49-F6D7-4222-8D37-1F5F0263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ADA-5BEE-4486-9276-63A43FB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A08-68A1-49D1-89A7-7E2CC61B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F43-11AC-4F8D-A6F6-DCA743BA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B4C-1E45-45E2-9FE7-C1EDE72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DEE-1679-4DC7-A1BE-95AE69F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756-A52F-4CEB-A303-263BAC9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8FE-DE10-4BD7-9640-89AD1114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C54-F0CA-4224-A5D8-08C85438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62D-17BC-43B7-ADE7-B7D03A3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BED-662B-41F0-91AC-3AA7C0E2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DC9-D932-4A55-A05D-5FBE5744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EBF-068D-4C9D-8FFF-22EA52517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pn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jpe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User\Рабочий стол\Картинки\1-102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066680" y="0"/>
            <a:ext cx="7696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Е ЛО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графия 6 –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2280" y="4952880"/>
            <a:ext cx="464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итель: ученица 8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линиченко Ю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сультант:  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симова И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1066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ие географические зн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Documents and Settings\User\Рабочий стол\0007.jpg"/>
          <p:cNvPicPr/>
          <p:nvPr/>
        </p:nvPicPr>
        <p:blipFill>
          <a:blip r:embed="rId1"/>
          <a:stretch/>
        </p:blipFill>
        <p:spPr>
          <a:xfrm>
            <a:off x="6473880" y="603360"/>
            <a:ext cx="2243160" cy="1689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0" y="525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Documents and Settings\User\Рабочий стол\Картинки\Animals_Birds__001851_7.jpg"/>
          <p:cNvPicPr/>
          <p:nvPr/>
        </p:nvPicPr>
        <p:blipFill>
          <a:blip r:embed="rId2"/>
          <a:stretch/>
        </p:blipFill>
        <p:spPr>
          <a:xfrm>
            <a:off x="6473880" y="4797360"/>
            <a:ext cx="2243160" cy="1689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0440" y="3200400"/>
            <a:ext cx="54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ографы и путешест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Documents and Settings\User\Рабочий стол\Картинки\5.jpg"/>
          <p:cNvPicPr/>
          <p:nvPr/>
        </p:nvPicPr>
        <p:blipFill>
          <a:blip r:embed="rId3"/>
          <a:stretch/>
        </p:blipFill>
        <p:spPr>
          <a:xfrm>
            <a:off x="6546960" y="2584440"/>
            <a:ext cx="2116080" cy="1957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1914840" y="15228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т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4" descr="C:\Documents and Settings\User\Рабочий стол\Картинки\Для проекта\Новая папка\Копия монако- морте- карло.bmp"/>
          <p:cNvPicPr/>
          <p:nvPr/>
        </p:nvPicPr>
        <p:blipFill>
          <a:blip r:embed="rId1"/>
          <a:stretch/>
        </p:blipFill>
        <p:spPr>
          <a:xfrm>
            <a:off x="7238880" y="5181480"/>
            <a:ext cx="1676520" cy="12668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6"/>
          <p:cNvSpPr/>
          <p:nvPr/>
        </p:nvSpPr>
        <p:spPr>
          <a:xfrm>
            <a:off x="693432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лица гонок Гран – При Формула – 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9" descr="C:\Documents and Settings\User\Рабочий стол\Картинки\Для проекта\Новая папка\Копия бразилия - статуя христа.bmp"/>
          <p:cNvPicPr/>
          <p:nvPr/>
        </p:nvPicPr>
        <p:blipFill>
          <a:blip r:embed="rId2"/>
          <a:stretch/>
        </p:blipFill>
        <p:spPr>
          <a:xfrm>
            <a:off x="4952880" y="5181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4"/>
          <p:cNvSpPr/>
          <p:nvPr/>
        </p:nvSpPr>
        <p:spPr>
          <a:xfrm>
            <a:off x="464832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Сахарная гора» Бразил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2" descr="C:\Documents and Settings\User\Рабочий стол\Картинки\Для проекта\Новая папка\Копия сша - статуя свободы.bmp"/>
          <p:cNvPicPr/>
          <p:nvPr/>
        </p:nvPicPr>
        <p:blipFill>
          <a:blip r:embed="rId3"/>
          <a:stretch/>
        </p:blipFill>
        <p:spPr>
          <a:xfrm>
            <a:off x="2590920" y="5181480"/>
            <a:ext cx="1600200" cy="1266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1"/>
          <p:cNvSpPr/>
          <p:nvPr/>
        </p:nvSpPr>
        <p:spPr>
          <a:xfrm>
            <a:off x="228600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мвол СШ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8" descr="C:\Documents and Settings\User\Рабочий стол\Картинки\Для проекта\Новая папка\Копия германия - брандербурские ворота.bmp"/>
          <p:cNvPicPr/>
          <p:nvPr/>
        </p:nvPicPr>
        <p:blipFill>
          <a:blip r:embed="rId4"/>
          <a:stretch/>
        </p:blipFill>
        <p:spPr>
          <a:xfrm>
            <a:off x="304920" y="518148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9"/>
          <p:cNvSpPr/>
          <p:nvPr/>
        </p:nvSpPr>
        <p:spPr>
          <a:xfrm>
            <a:off x="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орота» Герма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7" descr="C:\Documents and Settings\User\Рабочий стол\Картинки\Для проекта\Новая папка\Копия испания - дон кихот.bmp"/>
          <p:cNvPicPr/>
          <p:nvPr/>
        </p:nvPicPr>
        <p:blipFill>
          <a:blip r:embed="rId5"/>
          <a:stretch/>
        </p:blipFill>
        <p:spPr>
          <a:xfrm>
            <a:off x="7238880" y="3505320"/>
            <a:ext cx="1697040" cy="1266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5"/>
          <p:cNvSpPr/>
          <p:nvPr/>
        </p:nvSpPr>
        <p:spPr>
          <a:xfrm>
            <a:off x="693432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спанский литературный ге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6" descr="C:\Documents and Settings\User\Рабочий стол\Картинки\Для проекта\Новая папка\Копия канада - кленовый сироп.bmp"/>
          <p:cNvPicPr/>
          <p:nvPr/>
        </p:nvPicPr>
        <p:blipFill>
          <a:blip r:embed="rId6"/>
          <a:stretch/>
        </p:blipFill>
        <p:spPr>
          <a:xfrm>
            <a:off x="4952880" y="3505320"/>
            <a:ext cx="1676520" cy="12668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3"/>
          <p:cNvSpPr/>
          <p:nvPr/>
        </p:nvSpPr>
        <p:spPr>
          <a:xfrm>
            <a:off x="464832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сударст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ый продукт Кан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5" descr="C:\Documents and Settings\User\Рабочий стол\Картинки\Для проекта\Новая папка\Копия дания- русалочка  г. х.андерсана.bmp"/>
          <p:cNvPicPr/>
          <p:nvPr/>
        </p:nvPicPr>
        <p:blipFill>
          <a:blip r:embed="rId7"/>
          <a:stretch/>
        </p:blipFill>
        <p:spPr>
          <a:xfrm>
            <a:off x="2590920" y="3505320"/>
            <a:ext cx="1676160" cy="1266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3"/>
          <p:cNvSpPr/>
          <p:nvPr/>
        </p:nvSpPr>
        <p:spPr>
          <a:xfrm>
            <a:off x="228600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мятник сказочному персонажу в г. Копенгаген (Дания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4" descr="C:\Documents and Settings\User\Рабочий стол\Картинки\Для проекта\Новая папка\Копия индия - тадж-махал.bmp"/>
          <p:cNvPicPr/>
          <p:nvPr/>
        </p:nvPicPr>
        <p:blipFill>
          <a:blip r:embed="rId8"/>
          <a:stretch/>
        </p:blipFill>
        <p:spPr>
          <a:xfrm>
            <a:off x="228600" y="3505320"/>
            <a:ext cx="1676520" cy="1266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3"/>
          <p:cNvSpPr/>
          <p:nvPr/>
        </p:nvSpPr>
        <p:spPr>
          <a:xfrm>
            <a:off x="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мятник Мирового исторического наследия в Инд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3" descr="C:\Documents and Settings\User\Рабочий стол\Картинки\Для проекта\Новая папка\Копия италия- пизанская башня.bmp"/>
          <p:cNvPicPr/>
          <p:nvPr/>
        </p:nvPicPr>
        <p:blipFill>
          <a:blip r:embed="rId9"/>
          <a:stretch/>
        </p:blipFill>
        <p:spPr>
          <a:xfrm>
            <a:off x="7162920" y="1828800"/>
            <a:ext cx="1676160" cy="1266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8"/>
          <p:cNvSpPr/>
          <p:nvPr/>
        </p:nvSpPr>
        <p:spPr>
          <a:xfrm>
            <a:off x="6934320" y="1676520"/>
            <a:ext cx="2209680" cy="15879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дающая башня» Итал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C:\Documents and Settings\User\Рабочий стол\Картинки\Для проекта\Копия Копия Радугарр.JPG"/>
          <p:cNvPicPr/>
          <p:nvPr/>
        </p:nvPicPr>
        <p:blipFill>
          <a:blip r:embed="rId10"/>
          <a:stretch/>
        </p:blipFill>
        <p:spPr>
          <a:xfrm>
            <a:off x="4876920" y="1828800"/>
            <a:ext cx="1676160" cy="1295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9"/>
          <p:cNvSpPr/>
          <p:nvPr/>
        </p:nvSpPr>
        <p:spPr>
          <a:xfrm>
            <a:off x="4648320" y="1676520"/>
            <a:ext cx="2209680" cy="15879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аш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ромы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ез реку повисл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0" descr="C:\Documents and Settings\User\Рабочий стол\Картинки\Для проекта\пр.JPG"/>
          <p:cNvPicPr/>
          <p:nvPr/>
        </p:nvPicPr>
        <p:blipFill>
          <a:blip r:embed="rId11"/>
          <a:stretch/>
        </p:blipFill>
        <p:spPr>
          <a:xfrm>
            <a:off x="2590920" y="1828800"/>
            <a:ext cx="1676160" cy="1266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8"/>
          <p:cNvSpPr/>
          <p:nvPr/>
        </p:nvSpPr>
        <p:spPr>
          <a:xfrm>
            <a:off x="2286000" y="167652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ок падающей во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C:\Documents and Settings\User\Рабочий стол\Юля\Картинки\Новая папка\болото.jpg"/>
          <p:cNvPicPr/>
          <p:nvPr/>
        </p:nvPicPr>
        <p:blipFill>
          <a:blip r:embed="rId12"/>
          <a:stretch/>
        </p:blipFill>
        <p:spPr>
          <a:xfrm>
            <a:off x="304920" y="1828800"/>
            <a:ext cx="167796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0" y="167652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увлажн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ый участок суш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1" descr="C:\Documents and Settings\User\Рабочий стол\Юля\Картинки\Новая папка\озероп.JPG"/>
          <p:cNvPicPr/>
          <p:nvPr/>
        </p:nvPicPr>
        <p:blipFill>
          <a:blip r:embed="rId13"/>
          <a:stretch/>
        </p:blipFill>
        <p:spPr>
          <a:xfrm>
            <a:off x="7162920" y="152280"/>
            <a:ext cx="1676160" cy="1295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6934320" y="0"/>
            <a:ext cx="2209680" cy="15411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Скопление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 природном углублении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4" descr="C:\Documents and Settings\User\Рабочий стол\Юля\Картинки\Новая папка\Гора.bmp"/>
          <p:cNvPicPr/>
          <p:nvPr/>
        </p:nvPicPr>
        <p:blipFill>
          <a:blip r:embed="rId14"/>
          <a:stretch/>
        </p:blipFill>
        <p:spPr>
          <a:xfrm>
            <a:off x="4952880" y="152280"/>
            <a:ext cx="1676520" cy="1295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4648320" y="0"/>
            <a:ext cx="2209680" cy="155412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копод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ые над окружающей территор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астки земной поверх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C:\Documents and Settings\User\Рабочий стол\Картинки\Для проекта\Копия Река.jpg"/>
          <p:cNvPicPr/>
          <p:nvPr/>
        </p:nvPicPr>
        <p:blipFill>
          <a:blip r:embed="rId15"/>
          <a:stretch/>
        </p:blipFill>
        <p:spPr>
          <a:xfrm>
            <a:off x="2590920" y="152280"/>
            <a:ext cx="1676160" cy="1295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2286000" y="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тественный и постоянный водный поток текущий в рус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C:\Documents and Settings\User\Рабочий стол\Юля\Картинки\Новая папка\туман.jpg"/>
          <p:cNvPicPr/>
          <p:nvPr/>
        </p:nvPicPr>
        <p:blipFill>
          <a:blip r:embed="rId16"/>
          <a:stretch/>
        </p:blipFill>
        <p:spPr>
          <a:xfrm>
            <a:off x="304920" y="228600"/>
            <a:ext cx="1676160" cy="1295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0"/>
            <a:ext cx="2209680" cy="15411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Сгущение водяных паров 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ижних сло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атмосфер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1536E-006 L 0.37917 0.36957 E">
                                      <p:cBhvr>
                                        <p:cTn id="5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25532E-007 L 0.375 0.37188 E">
                                      <p:cBhvr>
                                        <p:cTn id="6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457000" y="457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92137E-006 L 0.1375 0.38182 E">
                                      <p:cBhvr>
                                        <p:cTn id="8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25809E-006 L 0.11667 0.38298 E">
                                      <p:cBhvr>
                                        <p:cTn id="9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465000" y="46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2544E-006 L -0.12917 0.38321 E">
                                      <p:cBhvr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25809E-006 L -0.14166 0.38298 E">
                                      <p:cBhvr>
                                        <p:cTn id="11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465000" y="46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5809E-006 L -0.37917 0.38298 E">
                                      <p:cBhvr>
                                        <p:cTn id="13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25809E-006 L -0.36667 0.38298 E">
                                      <p:cBhvr>
                                        <p:cTn id="14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95E-006 L 0.37917 0.12651 E">
                                      <p:cBhvr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4172E-006 L 0.375 0.12766 E">
                                      <p:cBhvr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827E-007 L 0.12917 0.13645 E">
                                      <p:cBhvr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34783E-006 L 0.125 0.14084 E">
                                      <p:cBhvr>
                                        <p:cTn id="19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80296E-006 L -0.12917 0.13691 E">
                                      <p:cBhvr>
                                        <p:cTn id="20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94172E-006 L -0.125 0.13876 E">
                                      <p:cBhvr>
                                        <p:cTn id="21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827E-007 L -0.37917 0.13645 E">
                                      <p:cBhvr>
                                        <p:cTn id="2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34783E-006 L -0.375 0.14084 E">
                                      <p:cBhvr>
                                        <p:cTn id="24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519E-006 L 0.37917 -0.11887 E">
                                      <p:cBhvr>
                                        <p:cTn id="25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6855E-006 L 0.39166 -0.11447 E">
                                      <p:cBhvr>
                                        <p:cTn id="26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519E-006 L 0.12917 -0.12997 E">
                                      <p:cBhvr>
                                        <p:cTn id="28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96855E-006 L 0.125 -0.11447 E">
                                      <p:cBhvr>
                                        <p:cTn id="29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9519E-006 L -0.12084 -0.11887 E">
                                      <p:cBhvr>
                                        <p:cTn id="30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6855E-006 L -0.125 -0.11447 E">
                                      <p:cBhvr>
                                        <p:cTn id="3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9519E-006 L -0.37084 -0.11887 E">
                                      <p:cBhvr>
                                        <p:cTn id="33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96855E-006 L -0.38438 -0.11447 E">
                                      <p:cBhvr>
                                        <p:cTn id="34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3552E-006 L 0.3875 -0.36309 E">
                                      <p:cBhvr>
                                        <p:cTn id="35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08E-007 L 0.39166 -0.34898 E">
                                      <p:cBhvr>
                                        <p:cTn id="36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3552E-006 L 0.1375 -0.36309 E">
                                      <p:cBhvr>
                                        <p:cTn id="38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8492E-006 L 0.1375 -0.35869 E">
                                      <p:cBhvr>
                                        <p:cTn id="39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3552E-006 L -0.12084 -0.36309 E">
                                      <p:cBhvr>
                                        <p:cTn id="40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8.78816E-007 L -0.125 -0.34551 E">
                                      <p:cBhvr>
                                        <p:cTn id="4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3552E-006 L -0.37084 -0.36309 E">
                                      <p:cBhvr>
                                        <p:cTn id="43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8492E-006 L -0.375 -0.35869 E">
                                      <p:cBhvr>
                                        <p:cTn id="44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3" descr="C:\Documents and Settings\User\Рабочий стол\Картинки\Для проекта\Животные\Копия Панда.jpeg"/>
          <p:cNvPicPr/>
          <p:nvPr/>
        </p:nvPicPr>
        <p:blipFill>
          <a:blip r:embed="rId1"/>
          <a:stretch/>
        </p:blipFill>
        <p:spPr>
          <a:xfrm>
            <a:off x="7162920" y="5181480"/>
            <a:ext cx="1689120" cy="1266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6"/>
          <p:cNvSpPr/>
          <p:nvPr/>
        </p:nvSpPr>
        <p:spPr>
          <a:xfrm>
            <a:off x="693432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итайский медведь» черно – белого цвет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6" descr="C:\Documents and Settings\User\Рабочий стол\Картинки\Для проекта\Животные\Копия Лиса.jpg"/>
          <p:cNvPicPr/>
          <p:nvPr/>
        </p:nvPicPr>
        <p:blipFill>
          <a:blip r:embed="rId2"/>
          <a:stretch/>
        </p:blipFill>
        <p:spPr>
          <a:xfrm>
            <a:off x="4952880" y="5181480"/>
            <a:ext cx="1689120" cy="1266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24"/>
          <p:cNvSpPr/>
          <p:nvPr/>
        </p:nvSpPr>
        <p:spPr>
          <a:xfrm>
            <a:off x="464832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итрый хищ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5" descr="C:\Documents and Settings\User\Рабочий стол\Картинки\Для проекта\Животные\Копия Пума.jpg"/>
          <p:cNvPicPr/>
          <p:nvPr/>
        </p:nvPicPr>
        <p:blipFill>
          <a:blip r:embed="rId3"/>
          <a:stretch/>
        </p:blipFill>
        <p:spPr>
          <a:xfrm>
            <a:off x="2590920" y="5181480"/>
            <a:ext cx="1600200" cy="1266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1"/>
          <p:cNvSpPr/>
          <p:nvPr/>
        </p:nvSpPr>
        <p:spPr>
          <a:xfrm>
            <a:off x="228600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кая кошка – (горный лев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3" descr="C:\Documents and Settings\User\Рабочий стол\Картинки\Для проекта\Животные\Копия Тюлень.JPG"/>
          <p:cNvPicPr/>
          <p:nvPr/>
        </p:nvPicPr>
        <p:blipFill>
          <a:blip r:embed="rId4"/>
          <a:stretch/>
        </p:blipFill>
        <p:spPr>
          <a:xfrm>
            <a:off x="228600" y="5181480"/>
            <a:ext cx="1752480" cy="12668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9"/>
          <p:cNvSpPr/>
          <p:nvPr/>
        </p:nvSpPr>
        <p:spPr>
          <a:xfrm>
            <a:off x="0" y="502920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стоногое млекопита ющее при полярных  широт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1" descr="C:\Documents and Settings\User\Рабочий стол\Картинки\Для проекта\Животные\Копия Слон.jpg"/>
          <p:cNvPicPr/>
          <p:nvPr/>
        </p:nvPicPr>
        <p:blipFill>
          <a:blip r:embed="rId5"/>
          <a:stretch/>
        </p:blipFill>
        <p:spPr>
          <a:xfrm>
            <a:off x="7238880" y="3505320"/>
            <a:ext cx="1676520" cy="1266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5"/>
          <p:cNvSpPr/>
          <p:nvPr/>
        </p:nvSpPr>
        <p:spPr>
          <a:xfrm>
            <a:off x="693432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е крупное животное суш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0" descr="C:\Documents and Settings\User\Рабочий стол\Картинки\Для проекта\Животные\Копия Белый медведь.jpg"/>
          <p:cNvPicPr/>
          <p:nvPr/>
        </p:nvPicPr>
        <p:blipFill>
          <a:blip r:embed="rId6"/>
          <a:stretch/>
        </p:blipFill>
        <p:spPr>
          <a:xfrm>
            <a:off x="4876920" y="3505320"/>
            <a:ext cx="1689120" cy="12668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3"/>
          <p:cNvSpPr/>
          <p:nvPr/>
        </p:nvSpPr>
        <p:spPr>
          <a:xfrm>
            <a:off x="464832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ищное полярное млекоп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ще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9" descr="C:\Documents and Settings\User\Рабочий стол\Картинки\Для проекта\Животные\Копия Бурый медведь.JPG"/>
          <p:cNvPicPr/>
          <p:nvPr/>
        </p:nvPicPr>
        <p:blipFill>
          <a:blip r:embed="rId7"/>
          <a:stretch/>
        </p:blipFill>
        <p:spPr>
          <a:xfrm>
            <a:off x="2590920" y="3505320"/>
            <a:ext cx="1676160" cy="1266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3"/>
          <p:cNvSpPr/>
          <p:nvPr/>
        </p:nvSpPr>
        <p:spPr>
          <a:xfrm>
            <a:off x="228600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ый осторожный и большой обитатель лес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9" descr="C:\Documents and Settings\User\Рабочий стол\Картинки\Для проекта\Животные\Копия (2) Горные бараны.jpg"/>
          <p:cNvPicPr/>
          <p:nvPr/>
        </p:nvPicPr>
        <p:blipFill>
          <a:blip r:embed="rId8"/>
          <a:stretch/>
        </p:blipFill>
        <p:spPr>
          <a:xfrm>
            <a:off x="304920" y="3505320"/>
            <a:ext cx="1676160" cy="1266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3"/>
          <p:cNvSpPr/>
          <p:nvPr/>
        </p:nvSpPr>
        <p:spPr>
          <a:xfrm>
            <a:off x="0" y="335268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нокоп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ые животные с закрученными рог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7" descr="C:\Documents and Settings\User\Рабочий стол\Картинки\Для проекта\Животные\п.JPG"/>
          <p:cNvPicPr/>
          <p:nvPr/>
        </p:nvPicPr>
        <p:blipFill>
          <a:blip r:embed="rId9"/>
          <a:stretch/>
        </p:blipFill>
        <p:spPr>
          <a:xfrm>
            <a:off x="7238880" y="1828800"/>
            <a:ext cx="1676520" cy="1266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5"/>
          <p:cNvSpPr/>
          <p:nvPr/>
        </p:nvSpPr>
        <p:spPr>
          <a:xfrm>
            <a:off x="6934320" y="1676520"/>
            <a:ext cx="2209680" cy="16030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е способное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ю животное  из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китообразных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6" descr="C:\Documents and Settings\User\Рабочий стол\Картинки\Для проекта\Животные\р.JPG"/>
          <p:cNvPicPr/>
          <p:nvPr/>
        </p:nvPicPr>
        <p:blipFill>
          <a:blip r:embed="rId10"/>
          <a:stretch/>
        </p:blipFill>
        <p:spPr>
          <a:xfrm>
            <a:off x="4952880" y="1828800"/>
            <a:ext cx="1602000" cy="1239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4648320" y="167652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мчатое животное массой до 15 кг. похожее на медвежон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Documents and Settings\User\Рабочий стол\Картинки\Для проекта\Копия Сова.JPG"/>
          <p:cNvPicPr/>
          <p:nvPr/>
        </p:nvPicPr>
        <p:blipFill>
          <a:blip r:embed="rId11"/>
          <a:stretch/>
        </p:blipFill>
        <p:spPr>
          <a:xfrm>
            <a:off x="2590920" y="1828800"/>
            <a:ext cx="1600200" cy="127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2286000" y="1676520"/>
            <a:ext cx="2209680" cy="19234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нем слепа, ночью зря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шей пугает, а не к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User\Рабочий стол\Картинки\Для проекта\Копия Колибри.jpg"/>
          <p:cNvPicPr/>
          <p:nvPr/>
        </p:nvPicPr>
        <p:blipFill>
          <a:blip r:embed="rId12"/>
          <a:stretch/>
        </p:blipFill>
        <p:spPr>
          <a:xfrm>
            <a:off x="304920" y="1905120"/>
            <a:ext cx="1600200" cy="1266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0" y="167652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тица редкой крас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юбит яркие ц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C:\Documents and Settings\User\Рабочий стол\Картинки\Для проекта\Копия Белка.JPG"/>
          <p:cNvPicPr/>
          <p:nvPr/>
        </p:nvPicPr>
        <p:blipFill>
          <a:blip r:embed="rId13"/>
          <a:stretch/>
        </p:blipFill>
        <p:spPr>
          <a:xfrm>
            <a:off x="7162920" y="304920"/>
            <a:ext cx="1600200" cy="126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6934320" y="0"/>
            <a:ext cx="2209680" cy="15411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Сидит н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ветке, а не птица, есть рыжий хвост, да не лисиц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User\Рабочий стол\Картинки\Для проекта\Копия Волк.JPG"/>
          <p:cNvPicPr/>
          <p:nvPr/>
        </p:nvPicPr>
        <p:blipFill>
          <a:blip r:embed="rId14"/>
          <a:stretch/>
        </p:blipFill>
        <p:spPr>
          <a:xfrm>
            <a:off x="4952880" y="304920"/>
            <a:ext cx="1600200" cy="1266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648320" y="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ат соба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т сер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разбойник  Самый пер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User\Рабочий стол\Картинки\Для проекта\Копия Кенгуру.JPG"/>
          <p:cNvPicPr/>
          <p:nvPr/>
        </p:nvPicPr>
        <p:blipFill>
          <a:blip r:embed="rId15"/>
          <a:stretch/>
        </p:blipFill>
        <p:spPr>
          <a:xfrm>
            <a:off x="2590920" y="304920"/>
            <a:ext cx="1600200" cy="1266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2286000" y="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чет кро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лик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на животе – карм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User\Рабочий стол\Картинки\Для проекта\Копия (2) Лев.JPG"/>
          <p:cNvPicPr/>
          <p:nvPr/>
        </p:nvPicPr>
        <p:blipFill>
          <a:blip r:embed="rId16"/>
          <a:stretch/>
        </p:blipFill>
        <p:spPr>
          <a:xfrm>
            <a:off x="304920" y="304920"/>
            <a:ext cx="1600200" cy="1266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0" y="0"/>
            <a:ext cx="2209680" cy="16185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ва есть, но он не лошад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т короны, а он - ца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470000" y="47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25809E-006 L 0.3875 0.41628 E">
                                      <p:cBhvr>
                                        <p:cTn id="45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99075E-007 L 0.3875 0.36286 E">
                                      <p:cBhvr>
                                        <p:cTn id="46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470000" y="470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25809E-006 L 0.12917 0.41628 E">
                                      <p:cBhvr>
                                        <p:cTn id="48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99075E-007 L 0.1375 0.36286 E">
                                      <p:cBhvr>
                                        <p:cTn id="49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470000" y="47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5809E-006 L -0.12917 0.41628 E">
                                      <p:cBhvr>
                                        <p:cTn id="50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9.99075E-007 L -0.12084 0.36286 E">
                                      <p:cBhvr>
                                        <p:cTn id="51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470000" y="47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66E-006 L -0.37917 0.39362 E">
                                      <p:cBhvr>
                                        <p:cTn id="53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9.99075E-007 L -0.37083 0.36286 E">
                                      <p:cBhvr>
                                        <p:cTn id="54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5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827E-007 L 0.37917 0.15865 E">
                                      <p:cBhvr>
                                        <p:cTn id="55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51526E-006 L 0.3875 0.12974 E">
                                      <p:cBhvr>
                                        <p:cTn id="56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0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6827E-007 L 0.1375 0.14755 E">
                                      <p:cBhvr>
                                        <p:cTn id="58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1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45791E-007 L 0.1375 0.14015 E">
                                      <p:cBhvr>
                                        <p:cTn id="59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6827E-007 L -0.12084 0.13645 E">
                                      <p:cBhvr>
                                        <p:cTn id="60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6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24607E-006 L -0.12917 0.15403 E">
                                      <p:cBhvr>
                                        <p:cTn id="61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9.99075E-007 L -0.37917 0.13622 E">
                                      <p:cBhvr>
                                        <p:cTn id="6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34783E-006 L -0.38333 0.15194 E">
                                      <p:cBhvr>
                                        <p:cTn id="64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519E-006 L 0.37917 -0.09667 E">
                                      <p:cBhvr>
                                        <p:cTn id="65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96855E-006 L 0.38333 -0.10337 E">
                                      <p:cBhvr>
                                        <p:cTn id="66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0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519E-006 L 0.12917 -0.09667 E">
                                      <p:cBhvr>
                                        <p:cTn id="68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1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6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96855E-006 L 0.13333 -0.10337 E">
                                      <p:cBhvr>
                                        <p:cTn id="69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9519E-006 L -0.12917 -0.10777 E">
                                      <p:cBhvr>
                                        <p:cTn id="70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96855E-006 L -0.11736 -0.10337 E">
                                      <p:cBhvr>
                                        <p:cTn id="71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9519E-006 L -0.37084 -0.10777 E">
                                      <p:cBhvr>
                                        <p:cTn id="73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1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6855E-006 L -0.375 -0.10337 E">
                                      <p:cBhvr>
                                        <p:cTn id="74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5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3552E-006 L 0.3875 -0.35199 E">
                                      <p:cBhvr>
                                        <p:cTn id="75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8492E-006 L 0.3875 -0.34759 E">
                                      <p:cBhvr>
                                        <p:cTn id="76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0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63552E-006 L 0.1375 -0.35199 E">
                                      <p:cBhvr>
                                        <p:cTn id="78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8492E-006 L 0.1375 -0.34759 E">
                                      <p:cBhvr>
                                        <p:cTn id="79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3552E-006 L -0.12084 -0.36309 E">
                                      <p:cBhvr>
                                        <p:cTn id="80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8492E-006 L -0.1257 -0.34759 E">
                                      <p:cBhvr>
                                        <p:cTn id="81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0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8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3552E-006 L -0.37084 -0.35199 E">
                                      <p:cBhvr>
                                        <p:cTn id="83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1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8492E-006 L -0.36736 -0.34759 E">
                                      <p:cBhvr>
                                        <p:cTn id="84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4" descr="C:\Documents and Settings\User\Рабочий стол\Юля\Новая папка\DSC00604.JPG"/>
          <p:cNvPicPr/>
          <p:nvPr/>
        </p:nvPicPr>
        <p:blipFill>
          <a:blip r:embed="rId1"/>
          <a:stretch/>
        </p:blipFill>
        <p:spPr>
          <a:xfrm>
            <a:off x="7238880" y="5486400"/>
            <a:ext cx="157644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1"/>
          <p:cNvSpPr/>
          <p:nvPr/>
        </p:nvSpPr>
        <p:spPr>
          <a:xfrm>
            <a:off x="7086600" y="5473800"/>
            <a:ext cx="2057400" cy="13726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утешеств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ик, ав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ни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ждение за три моря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8" descr=""/>
          <p:cNvPicPr/>
          <p:nvPr/>
        </p:nvPicPr>
        <p:blipFill>
          <a:blip r:embed="rId2"/>
          <a:stretch/>
        </p:blipFill>
        <p:spPr>
          <a:xfrm>
            <a:off x="5105520" y="5486400"/>
            <a:ext cx="1576440" cy="1143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800600" y="5472000"/>
            <a:ext cx="2209680" cy="13899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адмирал, открывший Антарктиду в 1819-1821 годах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7" descr=""/>
          <p:cNvPicPr/>
          <p:nvPr/>
        </p:nvPicPr>
        <p:blipFill>
          <a:blip r:embed="rId3"/>
          <a:stretch/>
        </p:blipFill>
        <p:spPr>
          <a:xfrm>
            <a:off x="2743200" y="5486400"/>
            <a:ext cx="157644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2438280" y="5472000"/>
            <a:ext cx="2210040" cy="13899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Русский землепроходец, изучавший Камчатку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2" descr=""/>
          <p:cNvPicPr/>
          <p:nvPr/>
        </p:nvPicPr>
        <p:blipFill>
          <a:blip r:embed="rId4"/>
          <a:stretch/>
        </p:blipFill>
        <p:spPr>
          <a:xfrm>
            <a:off x="380880" y="5486400"/>
            <a:ext cx="157644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0" y="5457960"/>
            <a:ext cx="2362320" cy="138996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офицер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котор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открыл Камчатк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1" descr=""/>
          <p:cNvPicPr/>
          <p:nvPr/>
        </p:nvPicPr>
        <p:blipFill>
          <a:blip r:embed="rId5"/>
          <a:stretch/>
        </p:blipFill>
        <p:spPr>
          <a:xfrm>
            <a:off x="7238880" y="365760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7086600" y="3657600"/>
            <a:ext cx="205740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тальянский путешес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к, описал первый Кита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0" descr=""/>
          <p:cNvPicPr/>
          <p:nvPr/>
        </p:nvPicPr>
        <p:blipFill>
          <a:blip r:embed="rId6"/>
          <a:stretch/>
        </p:blipFill>
        <p:spPr>
          <a:xfrm>
            <a:off x="5105520" y="3657600"/>
            <a:ext cx="1630080" cy="1400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3"/>
          <p:cNvSpPr/>
          <p:nvPr/>
        </p:nvSpPr>
        <p:spPr>
          <a:xfrm>
            <a:off x="4800600" y="3657600"/>
            <a:ext cx="220968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еплаватель, открывший в 1492 г. Антильские остр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9" descr=""/>
          <p:cNvPicPr/>
          <p:nvPr/>
        </p:nvPicPr>
        <p:blipFill>
          <a:blip r:embed="rId7"/>
          <a:stretch/>
        </p:blipFill>
        <p:spPr>
          <a:xfrm>
            <a:off x="2743200" y="3657600"/>
            <a:ext cx="1633680" cy="1389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2438280" y="3657600"/>
            <a:ext cx="221004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ский исследователь, погибший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пытке достигнуть С. полюса по ль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8" descr=""/>
          <p:cNvPicPr/>
          <p:nvPr/>
        </p:nvPicPr>
        <p:blipFill>
          <a:blip r:embed="rId8"/>
          <a:stretch/>
        </p:blipFill>
        <p:spPr>
          <a:xfrm>
            <a:off x="380880" y="3657600"/>
            <a:ext cx="1644840" cy="1378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7"/>
          <p:cNvSpPr/>
          <p:nvPr/>
        </p:nvSpPr>
        <p:spPr>
          <a:xfrm>
            <a:off x="0" y="3657600"/>
            <a:ext cx="236232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ский землепроходец, открывший пролив между Азией и Амери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6" descr=""/>
          <p:cNvPicPr/>
          <p:nvPr/>
        </p:nvPicPr>
        <p:blipFill>
          <a:blip r:embed="rId9"/>
          <a:stretch/>
        </p:blipFill>
        <p:spPr>
          <a:xfrm>
            <a:off x="7162920" y="190512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9"/>
          <p:cNvSpPr/>
          <p:nvPr/>
        </p:nvSpPr>
        <p:spPr>
          <a:xfrm>
            <a:off x="7091280" y="1828800"/>
            <a:ext cx="205272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ый рус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тешес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к в Персию и Индию в 1466-1472 год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7" descr=""/>
          <p:cNvPicPr/>
          <p:nvPr/>
        </p:nvPicPr>
        <p:blipFill>
          <a:blip r:embed="rId10"/>
          <a:stretch/>
        </p:blipFill>
        <p:spPr>
          <a:xfrm>
            <a:off x="5105520" y="190512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1"/>
          <p:cNvSpPr/>
          <p:nvPr/>
        </p:nvSpPr>
        <p:spPr>
          <a:xfrm>
            <a:off x="4800600" y="1828800"/>
            <a:ext cx="220968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ный, открывший и исследовавший Малайский архипелаг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5" descr=""/>
          <p:cNvPicPr/>
          <p:nvPr/>
        </p:nvPicPr>
        <p:blipFill>
          <a:blip r:embed="rId11"/>
          <a:stretch/>
        </p:blipFill>
        <p:spPr>
          <a:xfrm>
            <a:off x="2743200" y="190512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438280" y="1828800"/>
            <a:ext cx="221004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мандир, совершивший перелет из Москвы в Америку через С. полю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4" descr=""/>
          <p:cNvPicPr/>
          <p:nvPr/>
        </p:nvPicPr>
        <p:blipFill>
          <a:blip r:embed="rId12"/>
          <a:stretch/>
        </p:blipFill>
        <p:spPr>
          <a:xfrm>
            <a:off x="380880" y="190512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5"/>
          <p:cNvSpPr/>
          <p:nvPr/>
        </p:nvSpPr>
        <p:spPr>
          <a:xfrm>
            <a:off x="0" y="1828800"/>
            <a:ext cx="236232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ловек, совершивший кругосве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тешествие меньше, чем за 2 ча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3"/>
          <a:stretch/>
        </p:blipFill>
        <p:spPr>
          <a:xfrm>
            <a:off x="7162920" y="22860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7"/>
          <p:cNvSpPr/>
          <p:nvPr/>
        </p:nvSpPr>
        <p:spPr>
          <a:xfrm>
            <a:off x="7086600" y="0"/>
            <a:ext cx="205740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 первой рус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госветной экспед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1803-1806 г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6" descr=""/>
          <p:cNvPicPr/>
          <p:nvPr/>
        </p:nvPicPr>
        <p:blipFill>
          <a:blip r:embed="rId14"/>
          <a:stretch/>
        </p:blipFill>
        <p:spPr>
          <a:xfrm>
            <a:off x="5105520" y="22860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9"/>
          <p:cNvSpPr/>
          <p:nvPr/>
        </p:nvSpPr>
        <p:spPr>
          <a:xfrm>
            <a:off x="4800600" y="0"/>
            <a:ext cx="220968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вежский путешест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к пер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ший Южного полюса в 1911 г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5" descr=""/>
          <p:cNvPicPr/>
          <p:nvPr/>
        </p:nvPicPr>
        <p:blipFill>
          <a:blip r:embed="rId15"/>
          <a:stretch/>
        </p:blipFill>
        <p:spPr>
          <a:xfrm>
            <a:off x="2743200" y="22860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1"/>
          <p:cNvSpPr/>
          <p:nvPr/>
        </p:nvSpPr>
        <p:spPr>
          <a:xfrm>
            <a:off x="2438280" y="0"/>
            <a:ext cx="221004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еплаватель, 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верш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ое  кругосветное плав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4" descr=""/>
          <p:cNvPicPr/>
          <p:nvPr/>
        </p:nvPicPr>
        <p:blipFill>
          <a:blip r:embed="rId16"/>
          <a:stretch/>
        </p:blipFill>
        <p:spPr>
          <a:xfrm>
            <a:off x="380880" y="228600"/>
            <a:ext cx="1576440" cy="1266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3"/>
          <p:cNvSpPr/>
          <p:nvPr/>
        </p:nvSpPr>
        <p:spPr>
          <a:xfrm>
            <a:off x="0" y="0"/>
            <a:ext cx="2362320" cy="1739880"/>
          </a:xfrm>
          <a:prstGeom prst="rect">
            <a:avLst/>
          </a:prstGeom>
          <a:solidFill>
            <a:srgbClr val="b7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сский исследо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ьной Азии, Монгол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верного Кит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436000" y="436000"/>
                                    </p:animScale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3875 0.37315 E">
                                      <p:cBhvr>
                                        <p:cTn id="85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8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3164E-006 L 0.38055 0.37396 E">
                                      <p:cBhvr>
                                        <p:cTn id="87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2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85185E-006 L 0.12917 0.37315 E">
                                      <p:cBhvr>
                                        <p:cTn id="88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3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3164E-006 L 0.12222 0.36286 E">
                                      <p:cBhvr>
                                        <p:cTn id="89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7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9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-0.1375 0.37315 E">
                                      <p:cBhvr>
                                        <p:cTn id="90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8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3164E-006 L -0.13611 0.36286 E">
                                      <p:cBhvr>
                                        <p:cTn id="92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2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455000" y="455000"/>
                                    </p:animScale>
                                  </p:childTnLst>
                                </p:cTn>
                              </p:par>
                              <p:par>
                                <p:cTn id="9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50509E-006 L -0.37917 0.36171 E">
                                      <p:cBhvr>
                                        <p:cTn id="93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3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3164E-006 L -0.36111 0.36286 E">
                                      <p:cBhvr>
                                        <p:cTn id="94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7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3875 0.10648 E">
                                      <p:cBhvr>
                                        <p:cTn id="95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8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9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51526E-006 L 0.38055 0.11864 E">
                                      <p:cBhvr>
                                        <p:cTn id="97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65402E-006 L 0.12083 0.12859 E">
                                      <p:cBhvr>
                                        <p:cTn id="98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9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51526E-006 L 0.12222 0.11864 E">
                                      <p:cBhvr>
                                        <p:cTn id="99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7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10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9259E-006 L -0.1375 0.11759 E">
                                      <p:cBhvr>
                                        <p:cTn id="100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8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51526E-006 L -0.13611 0.12974 E">
                                      <p:cBhvr>
                                        <p:cTn id="102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2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454000" y="454000"/>
                                    </p:animScale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65402E-006 L -0.37934 0.11749 E">
                                      <p:cBhvr>
                                        <p:cTn id="103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0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51526E-006 L -0.36111 0.12974 E">
                                      <p:cBhvr>
                                        <p:cTn id="104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7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10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0296E-006 L 0.37916 -0.13783 E">
                                      <p:cBhvr>
                                        <p:cTn id="105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8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0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9.25069E-009 L 0.37673 -0.13367 E">
                                      <p:cBhvr>
                                        <p:cTn id="107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2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10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0.12917 -0.12685 E">
                                      <p:cBhvr>
                                        <p:cTn id="108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3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9278E-006 L 0.11909 -0.13436 E">
                                      <p:cBhvr>
                                        <p:cTn id="109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7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425000" y="425000"/>
                                    </p:animScale>
                                  </p:childTnLst>
                                </p:cTn>
                              </p:par>
                              <p:par>
                                <p:cTn id="11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-0.1375 -0.13796 E">
                                      <p:cBhvr>
                                        <p:cTn id="110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8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1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3784E-006 L -0.13907 -0.13529 E">
                                      <p:cBhvr>
                                        <p:cTn id="112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2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455000" y="455000"/>
                                    </p:animScale>
                                  </p:childTnLst>
                                </p:cTn>
                              </p:par>
                              <p:par>
                                <p:cTn id="11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-0.37917 -0.11574 E">
                                      <p:cBhvr>
                                        <p:cTn id="113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1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36633E-006 L -0.36945 -0.12558 E">
                                      <p:cBhvr>
                                        <p:cTn id="114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9.25069E-009 L 0.37916 -0.37835 E">
                                      <p:cBhvr>
                                        <p:cTn id="115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52359E-006 L 0.38889 -0.36077 E">
                                      <p:cBhvr>
                                        <p:cTn id="117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2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9.25069E-009 L 0.12083 -0.37835 E">
                                      <p:cBhvr>
                                        <p:cTn id="118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3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1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52359E-006 L 0.12222 -0.36077 E">
                                      <p:cBhvr>
                                        <p:cTn id="119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7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505000" y="505000"/>
                                    </p:animScale>
                                  </p:childTnLst>
                                </p:cTn>
                              </p:par>
                              <p:par>
                                <p:cTn id="12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25069E-009 L -0.1375 -0.37835 E">
                                      <p:cBhvr>
                                        <p:cTn id="120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8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52359E-006 L -0.13611 -0.36077 E">
                                      <p:cBhvr>
                                        <p:cTn id="122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2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45000" y="54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5069E-009 L -0.37917 -0.36725 E">
                                      <p:cBhvr>
                                        <p:cTn id="123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3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40000" y="340000"/>
                                    </p:animScale>
                                  </p:childTnLst>
                                </p:cTn>
                              </p:par>
                              <p:par>
                                <p:cTn id="12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52359E-006 L -0.36945 -0.36077 E">
                                      <p:cBhvr>
                                        <p:cTn id="124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enik</cp:lastModifiedBy>
  <dcterms:modified xsi:type="dcterms:W3CDTF">2009-12-30T06:23:43Z</dcterms:modified>
  <cp:revision>2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