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9D6-09CA-409C-8F1B-380B20F8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4EB-DA86-4743-A616-100F122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EB4-C4B6-494A-86A3-55201124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81F-5A5A-4BEC-9E73-66926B3D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21552-6B16-4329-9DD2-94BFFD1C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168FB-A9C1-466C-B369-25107D1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B5353-92C5-4A10-A34C-468B8090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3FFD4-EB1C-4558-A08C-FF846F5D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1F348-0C8B-4301-A881-4F4A68A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FF9FB-42DF-4B18-AB28-D1ACE22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A3A99-6493-4332-81B9-38B98114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208-60B8-4D81-B43C-D6FDD507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F293-8503-4C06-B5C1-B5B54E3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CF72-B1BE-47C2-8C8C-2549F7A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1E647-A231-4DE8-937D-A4A57B54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E867-9EA2-4C69-8798-D7E921E9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F5E93-2578-4849-80D0-1EDA6A05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813-1AD6-4299-A245-0F25DD26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C4B-36E8-4D4E-8875-414F06B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B6DD-E77D-4976-AC9E-AA9B5B1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FB2-DED3-4F86-856D-1BA66CB4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A6D-CBF6-4525-AA6A-7C8855A3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195-3E71-4522-935C-BF72D7D7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6D0-A5B3-4681-94CC-39BCFFC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DF82-FAAB-4317-B98C-A86087C16F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534D-FB39-4B34-AFEE-19416B8349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Чемпионат школы по футболу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58080" y="32385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838080" y="-152280"/>
            <a:ext cx="7010280" cy="5257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962520" y="2590920"/>
            <a:ext cx="5486400" cy="42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61880" y="1598760"/>
          <a:ext cx="4029120" cy="448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1880" y="1598760"/>
                    <a:ext cx="402912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Девчонки 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и</a:t>
            </a:r>
            <a:br>
              <a:rPr sz="4800"/>
            </a:b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мальчишки – </a:t>
            </a:r>
            <a:br>
              <a:rPr sz="4800"/>
            </a:br>
            <a:r>
              <a:rPr b="0" lang="en-US" sz="10000" spc="-1" strike="noStrike">
                <a:solidFill>
                  <a:srgbClr val="e3e3ff"/>
                </a:solidFill>
                <a:latin typeface="Arial"/>
              </a:rPr>
              <a:t>молодцы!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e3e3ff"/>
                </a:solidFill>
                <a:latin typeface="Arial"/>
              </a:rPr>
              <a:t>Всем</a:t>
            </a:r>
            <a:br>
              <a:rPr sz="10000"/>
            </a:br>
            <a:r>
              <a:rPr b="0" lang="en-US" sz="10000" spc="-1" strike="noStrike">
                <a:solidFill>
                  <a:srgbClr val="e3e3ff"/>
                </a:solidFill>
                <a:latin typeface="Arial"/>
              </a:rPr>
              <a:t>спасибо!</a:t>
            </a:r>
            <a:endParaRPr b="0" lang="en-US" sz="10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ень здоровь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а проведения- 10 сентября 2009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ремя проведения – 8.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есто проведения – школа №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План проведения мероприятий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ассный ча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Безопасность на дорогах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тренняя заряд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нкурс рисунка на асфальте «Вежливые пешеходы и водител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пионат школы по футбо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Конкурс рисунка на асфальт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7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114800" cy="5638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0" y="380880"/>
            <a:ext cx="4419720" cy="609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5:30:05Z</dcterms:created>
  <dc:creator/>
  <dc:description/>
  <dc:language>en-US</dc:language>
  <cp:lastModifiedBy>uset</cp:lastModifiedBy>
  <dcterms:modified xsi:type="dcterms:W3CDTF">2009-09-14T15:30:0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