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A5B-9BCF-45F8-815A-E39CBBF4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EDB-F5EC-42C1-890E-60147141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3F0-BEDD-454C-B6C0-29727C2A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216-AA17-4B71-8B96-270516A8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6E9-B2CA-4765-8E1A-84C29EC3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D2A-C207-4EAE-94E2-6E5A8A75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A35-6237-417D-9523-F7E2C31A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225-F452-4595-96AD-FB538EC2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538-6F42-4744-895F-B83F6027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9D5-8DAE-48ED-BFCA-EC111E0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222-451C-41DF-80C1-C4A943BB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A29-3B77-47BD-AD27-8653084D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E5644D-F33E-4D3C-B9EA-A34528FE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va.ru/pictures/contest_photos/99581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413000"/>
            <a:ext cx="776124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Влияние внешних факторов </a:t>
            </a:r>
            <a:br>
              <a:rPr sz="3600"/>
            </a:b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на жизнедеятельность </a:t>
            </a:r>
            <a:br>
              <a:rPr sz="3600"/>
            </a:br>
            <a:r>
              <a:rPr b="1" i="1" lang="en-GB" sz="3600" spc="-1" strike="noStrike">
                <a:solidFill>
                  <a:srgbClr val="cc0000"/>
                </a:solidFill>
                <a:latin typeface="Arial"/>
              </a:rPr>
              <a:t>Алое древови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cc0000"/>
                </a:solidFill>
                <a:latin typeface="Arial"/>
              </a:rPr>
              <a:t>                                  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r>
              <a:rPr b="1" i="1" lang="en-GB" sz="2000" spc="-1" strike="noStrike">
                <a:solidFill>
                  <a:srgbClr val="cc0000"/>
                </a:solidFill>
                <a:latin typeface="Arial"/>
              </a:rPr>
              <a:t>Исполн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cc0000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i="1" lang="en-GB" sz="2000" spc="-1" strike="noStrike">
                <a:solidFill>
                  <a:srgbClr val="cc0000"/>
                </a:solidFill>
                <a:latin typeface="Arial"/>
              </a:rPr>
              <a:t>Пермяков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i="1" lang="en-GB" sz="2000" spc="-1" strike="noStrike">
                <a:solidFill>
                  <a:srgbClr val="cc0000"/>
                </a:solidFill>
                <a:latin typeface="Arial"/>
              </a:rPr>
              <a:t>ученица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i="1" lang="en-GB" sz="2000" spc="-1" strike="noStrike">
                <a:solidFill>
                  <a:srgbClr val="cc0000"/>
                </a:solidFill>
                <a:latin typeface="Arial"/>
              </a:rPr>
              <a:t> класс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МОУ «Д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Методы  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" y="1079640"/>
            <a:ext cx="832644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Изме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Наблю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Анализ и обобщение результа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Оборудование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линейк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й стак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термоме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331308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8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словия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Растение №1: контро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лагоприятны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 услови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я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лив 50 мл. 1 раз в три нед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Температура 20 C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. = 163 мм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. = 65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Растение № 2: экспериментальное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П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олно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 отсутствие освещ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лив 50 мл. – 1 раз в три нед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Температура  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тсутствие осв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. = 165 мм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. = 53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Условия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1120" y="123984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Растение №3: эксперимент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Высокая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 температур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Полив 50 мл. – 1 раз в три не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Температура в  3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меренное осве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. = 130 мм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. = 110 м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Растение №4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эксперимент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збыток влаги в поч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Полив 50 мл. -1 раз в недел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Температура 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. = 130 мм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. = 65 м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5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24000" y="1773360"/>
            <a:ext cx="3173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.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.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. =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7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. =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ая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роста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48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1314360"/>
            <a:ext cx="5184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278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66920" y="2420640"/>
            <a:ext cx="2808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.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.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. =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8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. =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7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ая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роста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39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096920"/>
            <a:ext cx="4751280" cy="257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4584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51280" y="1988640"/>
            <a:ext cx="28796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17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13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роста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64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8149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Результат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08720" y="3789000"/>
            <a:ext cx="3030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.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.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. =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5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м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. =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1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ая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роста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71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3544920" cy="371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37497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Результаты исследова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ия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-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нешни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8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– 48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м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№ 2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– 39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м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№ 3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– 64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м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№ 4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– 71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77708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79138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2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сс вырабатывает у растений защитную реакцию - приспособление или приводит к гибели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 температуры может влиять благоприятно на рост Алое древовидное, только при усилении фактора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 света важный для растения. Отсутствие света приводит к гибели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 воды приводит  Алое к наименьшему стрессу, т.к. растение суккулент, способно накапливать воду в кле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и развитие в нормальных для Алое условиях, не вызывает стрессовой реа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Любой фактор внешней среды при его усилении, если растение не приспособилось к этому фактору, приведет  к стрессу и гибели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472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Arial"/>
              </a:rPr>
              <a:t>«Посади его в пустой стакан, в банку, поставь просто на окно или повесь на стену и забудь – он будет расти, не завянет, не засохнет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</a:t>
            </a:r>
            <a:r>
              <a:rPr b="1" i="1" lang="en-GB" sz="2400" spc="-1" strike="noStrike">
                <a:solidFill>
                  <a:srgbClr val="0066ff"/>
                </a:solidFill>
                <a:latin typeface="Arial"/>
              </a:rPr>
              <a:t>И.А. Гонча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Цель работы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i="1" lang="en-GB" sz="2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зучить  влиян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факторов неживой природы на рост и развитие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лое древовид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З</a:t>
            </a: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изучить  литературу о физиологических основах  стресса у раст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- выяснить  влияние температуры, света и воды на рост и развитие растения суккулента -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ло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- провести  анализ и сделать выводы о влия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приведенных факторов на раст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8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          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13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60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лое древовид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356000" y="1773360"/>
            <a:ext cx="41101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изиологические основы устойчивост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26000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д воздействием неблагоприятных факторов в раст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азвивается состояние, называемое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стрессом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еорию ст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сформулировал Ганс Сел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Виды стресс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Климатическ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Вод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Температур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Фазы стрессовой реакции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Первичная стрессовая реа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Адапт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Повреждения – истощение, гиб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216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Физиологические основы устойчивости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147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Неблагоприятные условия, вызывающие стресс у раст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Недостаток во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излишки во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высокая температу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низкая температу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свет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высокая концентрация со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лияние фактора света на рост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360" y="107928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На пит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а) В отсутствие све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- нет фотосинте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б) Сильное освещение:</a:t>
            </a:r>
            <a:r>
              <a:rPr b="1" i="1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величивает нагревание и испа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По отношению к све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Светолюбивые раст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Тенелюбивые раст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Теневыносливы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лияние фактора температуры на рост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00280"/>
            <a:ext cx="8362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По отношению к теп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Теплолюбив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Холодостойки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Морозоустойчив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Высокая 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казывает губительное влияние на организмы,   тормозит процесс  фотосинтеза и дых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Низкая 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ядание листьев, появление пятен на листья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лияние фактора воды - на рост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079640"/>
            <a:ext cx="8785440" cy="56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ода является важным фактором, определяющим благоприя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азвитие раст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По отношению к воде раст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- гидро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- гигро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- мезо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- ксерофи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едостаток влаги: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фотосинтез и дыхание осуществляются, а р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иостанавл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Избыток вла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азличная реакция органов растений: рост побегов иногда ускоряется, а рост подземных органов всегда тормоз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79280"/>
            <a:ext cx="82296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сследуем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31964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сследование проводилось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с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2.10.0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 по 1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.12.0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пытные образцы посажены 2.10.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контро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-  №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экспер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менталь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3440" y="1260360"/>
            <a:ext cx="8388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0-01-04T14:56:39Z</dcterms:modified>
  <cp:revision>18</cp:revision>
  <dc:subject/>
  <dc:title>Исследуемые растения</dc:title>
</cp:coreProperties>
</file>