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11.jpeg" ContentType="image/jpeg"/>
  <Override PartName="/ppt/media/image23.jpeg" ContentType="image/jpeg"/>
  <Override PartName="/ppt/media/image21.jpeg" ContentType="image/jpeg"/>
  <Override PartName="/ppt/media/image29.png" ContentType="image/png"/>
  <Override PartName="/ppt/media/image8.jpeg" ContentType="image/jpeg"/>
  <Override PartName="/ppt/media/image10.jpeg" ContentType="image/jpeg"/>
  <Override PartName="/ppt/media/image6.png" ContentType="image/png"/>
  <Override PartName="/ppt/media/image31.png" ContentType="image/png"/>
  <Override PartName="/ppt/media/image7.jpeg" ContentType="image/jpeg"/>
  <Override PartName="/ppt/media/image28.jpeg" ContentType="image/jpeg"/>
  <Override PartName="/ppt/media/image34.png" ContentType="image/png"/>
  <Override PartName="/ppt/media/image12.jpeg" ContentType="image/jpeg"/>
  <Override PartName="/ppt/media/image5.png" ContentType="image/png"/>
  <Override PartName="/ppt/media/image35.png" ContentType="image/png"/>
  <Override PartName="/ppt/media/image13.jpeg" ContentType="image/jpeg"/>
  <Override PartName="/ppt/media/image9.jpeg" ContentType="image/jpeg"/>
  <Override PartName="/ppt/media/image30.jpeg" ContentType="image/jpeg"/>
  <Override PartName="/ppt/media/image4.jpeg" ContentType="image/jpeg"/>
  <Override PartName="/ppt/media/image2.png" ContentType="image/png"/>
  <Override PartName="/ppt/media/image32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33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FD2F1-4237-4084-84A5-F93DB9AA6BF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ADF9-6509-407B-9791-19869428FFD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AF8-2A51-4F1B-A0A4-34DCF4633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12AA8-EBD8-4A44-8711-1B9FDF658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26C4-EF6E-4F86-912E-BED6C50B5E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8A1A-5FCE-40BC-8212-2059EBCF2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B20E-E094-46CA-B590-0AC37DFF7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448A0-9AF0-40AB-BACD-102267F97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D0E8-6024-42E2-834F-7475F8624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CA723-2C25-4E6A-866D-7A5F17B29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A8E9-FEEC-41C8-88B9-7786BDEC3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D4A4F-6326-4067-A88E-54D14C5FB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D769E-4F68-482D-A3CB-F16A101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BB54-D167-4AE5-B8D4-259A264D1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A183B-ABD9-4E94-BFC7-1E8A54944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D5DA-C736-4AA0-8FEA-49F76E779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BC45-031A-4B41-830B-0B1876997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B9934-A2EB-4C1E-9158-A0254A9C6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5B445-380D-43CB-B986-0965F78A73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13153-888F-49C3-8623-486C394C2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997771-AEE8-4FE2-AEB8-3E0A2269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34F6D-2B0F-4B91-86CB-68FC2F30A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F82A6-0BDE-4402-810A-19A81752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25510D-0140-4A2E-9904-F9C13DA26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0280-92DB-4FA0-976B-3C1E3134C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FE278-F6CA-4EDE-9E8C-BB0AA14AD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B3A7A-2B23-46B9-BB8C-74D85A39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D22350-C302-405A-A97A-75402713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D60E1-0E1F-4B61-A3F9-C1E5C1C20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78112-1FA6-4568-A56F-8318E9280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95CDB-1883-4481-9C2B-24F1FCAE0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B30E5-5213-4D8D-ACBF-56CED6D8A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322A94-F382-4A90-9785-83B55F452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65E9BA-4CEB-4F28-9486-143CC2D8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E9F1BF-FFD1-41DE-B4B6-EA9F3A09E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0271-E241-4C61-97EE-0CF48DBE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BFF47-43F1-4C4F-B9A5-C4F1AAA29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2AA874-8B2F-480A-965C-DE9CAEEB4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50156A-43C8-4209-B7AF-38C2F6131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ACDED7-1600-4954-BA60-EE7BFD3E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05FF9-0494-4EE3-8FF8-C177EBD48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47AF5-CAA2-4213-AD97-6D977566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324150-1CA4-4AC8-B79C-652F16761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C4CE8-23A9-443F-B06A-7714BA30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DE865-8F36-4DDA-B204-5BBFD5669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E34A9-6E0C-494B-8747-FF22E458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D3564-174E-4B2C-8816-1A9E7E2C1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DC2E-E19D-4DED-9D56-726B80F93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6993-BBD2-4832-AA17-44252E66F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5B7E-D43F-4025-9F4C-4C98DB12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B9CE9-1D1B-4787-ACA1-1B7458D1086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54CDD-7898-420F-A4C0-A9D20C576A16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1C21C-89B6-4D80-9300-B18BC01C3C17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BBAAE-8728-4D9B-B59C-2738AD62DF06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60480" y="1695600"/>
            <a:ext cx="8924760" cy="28573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9,-99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41,-3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00040" y="-21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Органолептические свойства исследуемых проб хлеб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9" name="Содержимое 3" descr=""/>
          <p:cNvPicPr/>
          <p:nvPr/>
        </p:nvPicPr>
        <p:blipFill>
          <a:blip r:embed="rId1"/>
          <a:stretch/>
        </p:blipFill>
        <p:spPr>
          <a:xfrm>
            <a:off x="212760" y="1000080"/>
            <a:ext cx="8718480" cy="59007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Диаграмма плотности исследуемых проб хлеб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51" name="Picture 1" descr="C:\Documents and Settings\Posohova\Рабочий стол\Безымянный.bmp"/>
          <p:cNvPicPr/>
          <p:nvPr/>
        </p:nvPicPr>
        <p:blipFill>
          <a:blip r:embed="rId1"/>
          <a:stretch/>
        </p:blipFill>
        <p:spPr>
          <a:xfrm>
            <a:off x="1436760" y="2214720"/>
            <a:ext cx="6514920" cy="3600360"/>
          </a:xfrm>
          <a:prstGeom prst="rect">
            <a:avLst/>
          </a:prstGeom>
          <a:ln w="0">
            <a:noFill/>
          </a:ln>
        </p:spPr>
      </p:pic>
      <p:sp>
        <p:nvSpPr>
          <p:cNvPr id="252" name="TextBox 4"/>
          <p:cNvSpPr/>
          <p:nvPr/>
        </p:nvSpPr>
        <p:spPr>
          <a:xfrm rot="18984000">
            <a:off x="1229040" y="47721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ПК «Кол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5"/>
          <p:cNvSpPr/>
          <p:nvPr/>
        </p:nvSpPr>
        <p:spPr>
          <a:xfrm rot="18950400">
            <a:off x="1925640" y="482112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ОО «Верш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6"/>
          <p:cNvSpPr/>
          <p:nvPr/>
        </p:nvSpPr>
        <p:spPr>
          <a:xfrm rot="18859800">
            <a:off x="2549880" y="48481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Сатник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7"/>
          <p:cNvSpPr/>
          <p:nvPr/>
        </p:nvSpPr>
        <p:spPr>
          <a:xfrm rot="18582600">
            <a:off x="4153320" y="460404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8"/>
          <p:cNvSpPr/>
          <p:nvPr/>
        </p:nvSpPr>
        <p:spPr>
          <a:xfrm rot="18594000">
            <a:off x="4570200" y="46753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На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9"/>
          <p:cNvSpPr/>
          <p:nvPr/>
        </p:nvSpPr>
        <p:spPr>
          <a:xfrm rot="18423000">
            <a:off x="5030280" y="4679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П «П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0"/>
          <p:cNvSpPr/>
          <p:nvPr/>
        </p:nvSpPr>
        <p:spPr>
          <a:xfrm rot="18333600">
            <a:off x="5375520" y="480564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ини-пекар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пределение влажности проб хлеб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0" name="Содержимое 3" descr=""/>
          <p:cNvPicPr/>
          <p:nvPr/>
        </p:nvPicPr>
        <p:blipFill>
          <a:blip r:embed="rId1"/>
          <a:stretch/>
        </p:blipFill>
        <p:spPr>
          <a:xfrm>
            <a:off x="5194440" y="2048040"/>
            <a:ext cx="3693960" cy="28288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5"/>
          <p:cNvSpPr/>
          <p:nvPr/>
        </p:nvSpPr>
        <p:spPr>
          <a:xfrm>
            <a:off x="6215040" y="2224080"/>
            <a:ext cx="16430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100 ×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2" descr="C:\Documents and Settings\Posohova\Рабочий стол\хлеб\IMG_5760.jpg"/>
          <p:cNvPicPr/>
          <p:nvPr/>
        </p:nvPicPr>
        <p:blipFill>
          <a:blip r:embed="rId2"/>
          <a:stretch/>
        </p:blipFill>
        <p:spPr>
          <a:xfrm>
            <a:off x="785880" y="1571760"/>
            <a:ext cx="3292560" cy="438948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Диаграмма влажности исследуемых проб хлеб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64" name="Picture 1" descr="C:\Documents and Settings\Posohova\Рабочий стол\Безымянный2.bmp"/>
          <p:cNvPicPr/>
          <p:nvPr/>
        </p:nvPicPr>
        <p:blipFill>
          <a:blip r:embed="rId1"/>
          <a:stretch/>
        </p:blipFill>
        <p:spPr>
          <a:xfrm>
            <a:off x="1380960" y="2395440"/>
            <a:ext cx="6382080" cy="34671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" descr="C:\Documents and Settings\Posohova\Рабочий стол\Безымянный.bmp"/>
          <p:cNvPicPr/>
          <p:nvPr/>
        </p:nvPicPr>
        <p:blipFill>
          <a:blip r:embed="rId2"/>
          <a:stretch/>
        </p:blipFill>
        <p:spPr>
          <a:xfrm>
            <a:off x="1436760" y="2214720"/>
            <a:ext cx="6514920" cy="3600360"/>
          </a:xfrm>
          <a:prstGeom prst="rect">
            <a:avLst/>
          </a:prstGeom>
          <a:ln w="0">
            <a:noFill/>
          </a:ln>
        </p:spPr>
      </p:pic>
      <p:sp>
        <p:nvSpPr>
          <p:cNvPr id="266" name="TextBox 5"/>
          <p:cNvSpPr/>
          <p:nvPr/>
        </p:nvSpPr>
        <p:spPr>
          <a:xfrm rot="18984000">
            <a:off x="1229040" y="47721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ПК «Кол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 rot="18950400">
            <a:off x="1925640" y="482112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ОО «Верш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7"/>
          <p:cNvSpPr/>
          <p:nvPr/>
        </p:nvSpPr>
        <p:spPr>
          <a:xfrm rot="18859800">
            <a:off x="2549880" y="48481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Сатник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 rot="18582600">
            <a:off x="4153320" y="460404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 rot="18594000">
            <a:off x="4570200" y="46753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На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0"/>
          <p:cNvSpPr/>
          <p:nvPr/>
        </p:nvSpPr>
        <p:spPr>
          <a:xfrm rot="18423000">
            <a:off x="5030280" y="46796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П «П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1"/>
          <p:cNvSpPr/>
          <p:nvPr/>
        </p:nvSpPr>
        <p:spPr>
          <a:xfrm rot="18333600">
            <a:off x="5375520" y="480564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ини-пекар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Определение кислотности проб хлеб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74" name="Picture 2" descr="C:\Documents and Settings\Posohova\Рабочий стол\хлеб\IMG_5758.jpg"/>
          <p:cNvPicPr/>
          <p:nvPr/>
        </p:nvPicPr>
        <p:blipFill>
          <a:blip r:embed="rId1"/>
          <a:stretch/>
        </p:blipFill>
        <p:spPr>
          <a:xfrm>
            <a:off x="357120" y="1857240"/>
            <a:ext cx="3292560" cy="438948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76" name="Содержимое 3" descr=""/>
          <p:cNvPicPr/>
          <p:nvPr/>
        </p:nvPicPr>
        <p:blipFill>
          <a:blip r:embed="rId2"/>
          <a:stretch/>
        </p:blipFill>
        <p:spPr>
          <a:xfrm>
            <a:off x="5126040" y="2073240"/>
            <a:ext cx="3305160" cy="3662280"/>
          </a:xfrm>
          <a:prstGeom prst="rect">
            <a:avLst/>
          </a:prstGeom>
          <a:ln w="0">
            <a:noFill/>
          </a:ln>
        </p:spPr>
      </p:pic>
      <p:sp>
        <p:nvSpPr>
          <p:cNvPr id="277" name="Rectangle 6"/>
          <p:cNvSpPr/>
          <p:nvPr/>
        </p:nvSpPr>
        <p:spPr>
          <a:xfrm>
            <a:off x="5715000" y="307368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×</a:t>
            </a:r>
            <a:r>
              <a:rPr b="1" lang="ru-RU" sz="1600" spc="-1" strike="noStrike" u="sng" baseline="30000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250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=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 ×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м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5643720" y="4502160"/>
            <a:ext cx="2428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ctr" pos="2995560"/>
                <a:tab algn="l" pos="3390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5 ×</a:t>
            </a: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a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× 100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= 20</a:t>
            </a:r>
            <a:r>
              <a:rPr b="1" lang="ru-RU" sz="1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×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(мл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ctr" pos="2995560"/>
                <a:tab algn="l" pos="33908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25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Диаграмма кислотности исследуемых проб хлеба 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0" name="Picture 2" descr="C:\Documents and Settings\Posohova\Рабочий стол\Безымянный3.bmp"/>
          <p:cNvPicPr/>
          <p:nvPr/>
        </p:nvPicPr>
        <p:blipFill>
          <a:blip r:embed="rId1"/>
          <a:stretch/>
        </p:blipFill>
        <p:spPr>
          <a:xfrm>
            <a:off x="1143000" y="2125800"/>
            <a:ext cx="6858000" cy="4010040"/>
          </a:xfrm>
          <a:prstGeom prst="rect">
            <a:avLst/>
          </a:prstGeom>
          <a:ln w="0">
            <a:noFill/>
          </a:ln>
        </p:spPr>
      </p:pic>
      <p:sp>
        <p:nvSpPr>
          <p:cNvPr id="281" name="TextBox 4"/>
          <p:cNvSpPr/>
          <p:nvPr/>
        </p:nvSpPr>
        <p:spPr>
          <a:xfrm rot="18950400">
            <a:off x="1742760" y="506880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ОО «Верш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5"/>
          <p:cNvSpPr/>
          <p:nvPr/>
        </p:nvSpPr>
        <p:spPr>
          <a:xfrm rot="18859800">
            <a:off x="2541960" y="506232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Сатник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6"/>
          <p:cNvSpPr/>
          <p:nvPr/>
        </p:nvSpPr>
        <p:spPr>
          <a:xfrm rot="18582600">
            <a:off x="4015080" y="48826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7"/>
          <p:cNvSpPr/>
          <p:nvPr/>
        </p:nvSpPr>
        <p:spPr>
          <a:xfrm rot="18594000">
            <a:off x="4427280" y="495468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На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 rot="18423000">
            <a:off x="4933800" y="505404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П «П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 rot="18333600">
            <a:off x="5304240" y="516312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ини-пекар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Box 10"/>
          <p:cNvSpPr/>
          <p:nvPr/>
        </p:nvSpPr>
        <p:spPr>
          <a:xfrm rot="18984000">
            <a:off x="1220760" y="49150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ПК «Кол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Срок хранения и энергетическая ценность хлеба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89" name="Содержимое 3" descr=""/>
          <p:cNvPicPr/>
          <p:nvPr/>
        </p:nvPicPr>
        <p:blipFill>
          <a:blip r:embed="rId1"/>
          <a:stretch/>
        </p:blipFill>
        <p:spPr>
          <a:xfrm>
            <a:off x="1285920" y="1852560"/>
            <a:ext cx="6578640" cy="387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4617b"/>
                </a:solidFill>
                <a:latin typeface="Calibri"/>
              </a:rPr>
              <a:t>Цены и вес буханок хлеба разных производителей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91" name="Picture 2" descr="C:\Documents and Settings\Posohova\Рабочий стол\Безымянный4.bmp"/>
          <p:cNvPicPr/>
          <p:nvPr/>
        </p:nvPicPr>
        <p:blipFill>
          <a:blip r:embed="rId1"/>
          <a:stretch/>
        </p:blipFill>
        <p:spPr>
          <a:xfrm>
            <a:off x="928800" y="1857240"/>
            <a:ext cx="7172280" cy="4295880"/>
          </a:xfrm>
          <a:prstGeom prst="rect">
            <a:avLst/>
          </a:prstGeom>
          <a:ln w="0">
            <a:noFill/>
          </a:ln>
        </p:spPr>
      </p:pic>
      <p:sp>
        <p:nvSpPr>
          <p:cNvPr id="292" name="TextBox 8"/>
          <p:cNvSpPr/>
          <p:nvPr/>
        </p:nvSpPr>
        <p:spPr>
          <a:xfrm rot="18432600">
            <a:off x="2613240" y="4848480"/>
            <a:ext cx="209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Сатник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Box 10"/>
          <p:cNvSpPr/>
          <p:nvPr/>
        </p:nvSpPr>
        <p:spPr>
          <a:xfrm>
            <a:off x="4330800" y="37861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Box 11"/>
          <p:cNvSpPr/>
          <p:nvPr/>
        </p:nvSpPr>
        <p:spPr>
          <a:xfrm rot="18598200">
            <a:off x="1577880" y="48430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ПК «Кол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12"/>
          <p:cNvSpPr/>
          <p:nvPr/>
        </p:nvSpPr>
        <p:spPr>
          <a:xfrm>
            <a:off x="3033720" y="37861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13"/>
          <p:cNvSpPr/>
          <p:nvPr/>
        </p:nvSpPr>
        <p:spPr>
          <a:xfrm rot="18582600">
            <a:off x="1514880" y="466848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Box 14"/>
          <p:cNvSpPr/>
          <p:nvPr/>
        </p:nvSpPr>
        <p:spPr>
          <a:xfrm>
            <a:off x="6329520" y="37861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5"/>
          <p:cNvSpPr/>
          <p:nvPr/>
        </p:nvSpPr>
        <p:spPr>
          <a:xfrm>
            <a:off x="5614920" y="37861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16"/>
          <p:cNvSpPr/>
          <p:nvPr/>
        </p:nvSpPr>
        <p:spPr>
          <a:xfrm rot="18193200">
            <a:off x="4498920" y="474012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На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7"/>
          <p:cNvSpPr/>
          <p:nvPr/>
        </p:nvSpPr>
        <p:spPr>
          <a:xfrm rot="18238200">
            <a:off x="4766760" y="502128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ОО «Верш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18"/>
          <p:cNvSpPr/>
          <p:nvPr/>
        </p:nvSpPr>
        <p:spPr>
          <a:xfrm>
            <a:off x="2399400" y="37861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9"/>
          <p:cNvSpPr/>
          <p:nvPr/>
        </p:nvSpPr>
        <p:spPr>
          <a:xfrm rot="18333600">
            <a:off x="3375360" y="494856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ини-пекар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20"/>
          <p:cNvSpPr/>
          <p:nvPr/>
        </p:nvSpPr>
        <p:spPr>
          <a:xfrm rot="18423000">
            <a:off x="2219400" y="491112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П «П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Box 21"/>
          <p:cNvSpPr/>
          <p:nvPr/>
        </p:nvSpPr>
        <p:spPr>
          <a:xfrm>
            <a:off x="3757680" y="37861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22"/>
          <p:cNvSpPr/>
          <p:nvPr/>
        </p:nvSpPr>
        <p:spPr>
          <a:xfrm>
            <a:off x="4963320" y="3786120"/>
            <a:ext cx="4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500" spc="-1" strike="noStrike">
                <a:solidFill>
                  <a:srgbClr val="04617b"/>
                </a:solidFill>
                <a:latin typeface="Calibri"/>
              </a:rPr>
              <a:t>Диаграмма потребления хлеба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307" name="Picture 2" descr="C:\Documents and Settings\Posohova\Рабочий стол\Безымянный6.bmp"/>
          <p:cNvPicPr/>
          <p:nvPr/>
        </p:nvPicPr>
        <p:blipFill>
          <a:blip r:embed="rId1"/>
          <a:stretch/>
        </p:blipFill>
        <p:spPr>
          <a:xfrm>
            <a:off x="985680" y="1982880"/>
            <a:ext cx="7172640" cy="4295520"/>
          </a:xfrm>
          <a:prstGeom prst="rect">
            <a:avLst/>
          </a:prstGeom>
          <a:ln w="0">
            <a:noFill/>
          </a:ln>
        </p:spPr>
      </p:pic>
      <p:sp>
        <p:nvSpPr>
          <p:cNvPr id="308" name="TextBox 4"/>
          <p:cNvSpPr/>
          <p:nvPr/>
        </p:nvSpPr>
        <p:spPr>
          <a:xfrm>
            <a:off x="6194880" y="400068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ПК «Кол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5"/>
          <p:cNvSpPr/>
          <p:nvPr/>
        </p:nvSpPr>
        <p:spPr>
          <a:xfrm>
            <a:off x="6208920" y="285768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ОО «Верш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Box 6"/>
          <p:cNvSpPr/>
          <p:nvPr/>
        </p:nvSpPr>
        <p:spPr>
          <a:xfrm>
            <a:off x="6193080" y="3214800"/>
            <a:ext cx="102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7"/>
          <p:cNvSpPr/>
          <p:nvPr/>
        </p:nvSpPr>
        <p:spPr>
          <a:xfrm>
            <a:off x="6172560" y="435780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На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8"/>
          <p:cNvSpPr/>
          <p:nvPr/>
        </p:nvSpPr>
        <p:spPr>
          <a:xfrm>
            <a:off x="6135120" y="3571920"/>
            <a:ext cx="280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ПК «Сатник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9"/>
          <p:cNvSpPr/>
          <p:nvPr/>
        </p:nvSpPr>
        <p:spPr>
          <a:xfrm>
            <a:off x="6242040" y="46432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П «П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Box 10"/>
          <p:cNvSpPr/>
          <p:nvPr/>
        </p:nvSpPr>
        <p:spPr>
          <a:xfrm>
            <a:off x="6142680" y="5000760"/>
            <a:ext cx="213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ини-пекар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28760" y="499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Вывод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наиболее качественным по всем изученным показателям является хлеб, производимый  СПК «Колос», ООО «Вершина» ,  пекарней ЧП «Маяк», с.Сатниковское, органолептические и физико – химические  показатели свойств, которых  близки к норме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менее качественный  хлеб производит пекарня ООО «Надежд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хлеб низкого качества производят ЧП «Пекарь», «Мини-пекарня».  Физико – химические  показатели  свойств у этого хлеба  намного ниже, чем у других проб хлеба. По органолептическим свойствам они также уступают лидерам – сильно крошатся, не достаточно эластичны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8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onstantia"/>
              </a:rPr>
              <a:t>жители села Александровского при покупке хлеба отдают предпочтение хлебу производимому на пекарне  СППК «Колос», « ООО «Вершина»  «ЧП «Маяк»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Цель работы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0040" y="2857680"/>
            <a:ext cx="8229600" cy="170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равнить качество хлеба различных производителей,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реализуемого в магазинах микрорайона школы № 16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34360" indent="-23436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села Александровского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Наши рекомендаци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457200" y="1571760"/>
            <a:ext cx="8229600" cy="528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1. Сначала оцените продукт по внешнему виду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ровный (без трещин, подрывов)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авильного цвета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правильной формы, без деформаций;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2. Внимательно изучите этикетку, узнайте срок реализации и производителя. Отдавать предпочтение стоит уже давно и хорошо зарекомендовавшим себя на рынке хлебобулочных изделий предприятиям. Поскольку можно быть абсолютно уверенным, что на крупном хлебозаводе не только продукция, но и процесс производства, и персонал – все прошло тщательную проверку. Что же касается срока реализации, то у большинства хлебобулочных изделий - это 24 часа, в упаковке - 48 часов. Обратите внимание и на время изготовления.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3. Особое внимание обратите  на маркировку, на ней обязательно должно быть указано: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именование предприятия – изготовителя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наименование изделия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масса изделия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дата выработки и срок реализации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сведения об энергетической ценности, содержании белка, жира и углеводов в 100 г изделия; 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 </a:t>
            </a:r>
            <a:r>
              <a:rPr b="0" lang="ru-RU" sz="1600" spc="-1" strike="noStrike">
                <a:solidFill>
                  <a:srgbClr val="000000"/>
                </a:solidFill>
                <a:latin typeface="Constantia"/>
              </a:rPr>
              <a:t>информация сертификации (на сегодняшний день хлебобулочные изделия не подлежат обязательной сертификации, вполне достаточно декларации)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4617b"/>
                </a:solidFill>
                <a:latin typeface="Calibri"/>
              </a:rPr>
              <a:t>Задачи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ить научную литературу по избранной теме;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учиться применять исследовательские методики на практике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роанализировать качество хлеба, реализуемого в магазинах микрорайона школы № 16 села Александровского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Изучить потребительский  спрос  и предпочтения хлебу различных производителе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На основании полученных результатов сделать выводы и рекомендаци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newsflash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2876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лассификация хлеб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8" name="Picture 2" descr="C:\Documents and Settings\Posohova\Рабочий стол\хлеб\IMG_5724.jpg"/>
          <p:cNvPicPr/>
          <p:nvPr/>
        </p:nvPicPr>
        <p:blipFill>
          <a:blip r:embed="rId1"/>
          <a:stretch/>
        </p:blipFill>
        <p:spPr>
          <a:xfrm>
            <a:off x="500040" y="142884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C:\Documents and Settings\Posohova\Рабочий стол\хлеб\IMG_5726.jpg"/>
          <p:cNvPicPr/>
          <p:nvPr/>
        </p:nvPicPr>
        <p:blipFill>
          <a:blip r:embed="rId2"/>
          <a:stretch/>
        </p:blipFill>
        <p:spPr>
          <a:xfrm>
            <a:off x="5572080" y="1428840"/>
            <a:ext cx="3286080" cy="2286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" descr="C:\Documents and Settings\Posohova\Рабочий стол\хлеб\IMG_5728.jpg"/>
          <p:cNvPicPr/>
          <p:nvPr/>
        </p:nvPicPr>
        <p:blipFill>
          <a:blip r:embed="rId3"/>
          <a:stretch/>
        </p:blipFill>
        <p:spPr>
          <a:xfrm>
            <a:off x="3214800" y="3786120"/>
            <a:ext cx="2643120" cy="21430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501840" y="4000680"/>
            <a:ext cx="261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Бездрожж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3381840" y="6000840"/>
            <a:ext cx="210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Дрожжев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6122520" y="3786120"/>
            <a:ext cx="2367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На хмелев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nstantia"/>
              </a:rPr>
              <a:t>заква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Ассортимент хлеба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Posohova\Рабочий стол\Копия (2) S6003363.JPG"/>
          <p:cNvPicPr/>
          <p:nvPr/>
        </p:nvPicPr>
        <p:blipFill>
          <a:blip r:embed="rId1"/>
          <a:stretch/>
        </p:blipFill>
        <p:spPr>
          <a:xfrm>
            <a:off x="5643720" y="3857760"/>
            <a:ext cx="2786040" cy="241776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C:\Documents and Settings\Posohova\Рабочий стол\Копия S6003363.JPG"/>
          <p:cNvPicPr/>
          <p:nvPr/>
        </p:nvPicPr>
        <p:blipFill>
          <a:blip r:embed="rId2"/>
          <a:stretch/>
        </p:blipFill>
        <p:spPr>
          <a:xfrm>
            <a:off x="642960" y="3929040"/>
            <a:ext cx="2786040" cy="207180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C:\Documents and Settings\Posohova\Рабочий стол\хлеб\яна\S6003362.JPG"/>
          <p:cNvPicPr/>
          <p:nvPr/>
        </p:nvPicPr>
        <p:blipFill>
          <a:blip r:embed="rId3"/>
          <a:stretch/>
        </p:blipFill>
        <p:spPr>
          <a:xfrm>
            <a:off x="714240" y="1214280"/>
            <a:ext cx="2867040" cy="2151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C:\Documents and Settings\Posohova\Рабочий стол\S6003364.JPG"/>
          <p:cNvPicPr/>
          <p:nvPr/>
        </p:nvPicPr>
        <p:blipFill>
          <a:blip r:embed="rId4"/>
          <a:stretch/>
        </p:blipFill>
        <p:spPr>
          <a:xfrm>
            <a:off x="5643720" y="1214280"/>
            <a:ext cx="2643120" cy="22147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7"/>
          <p:cNvSpPr/>
          <p:nvPr/>
        </p:nvSpPr>
        <p:spPr>
          <a:xfrm>
            <a:off x="860400" y="3429000"/>
            <a:ext cx="256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шен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8"/>
          <p:cNvSpPr/>
          <p:nvPr/>
        </p:nvSpPr>
        <p:spPr>
          <a:xfrm>
            <a:off x="125640" y="607212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Пшенично-ржа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9"/>
          <p:cNvSpPr/>
          <p:nvPr/>
        </p:nvSpPr>
        <p:spPr>
          <a:xfrm>
            <a:off x="4832280" y="6334200"/>
            <a:ext cx="3861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жано-пшеничны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0"/>
          <p:cNvSpPr/>
          <p:nvPr/>
        </p:nvSpPr>
        <p:spPr>
          <a:xfrm>
            <a:off x="6111360" y="3357720"/>
            <a:ext cx="165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nstantia"/>
              </a:rPr>
              <a:t>Ржано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4" name="Picture 2" descr="C:\Documents and Settings\Posohova\Рабочий стол\хлеб\IMG_5714.jpg"/>
          <p:cNvPicPr/>
          <p:nvPr/>
        </p:nvPicPr>
        <p:blipFill>
          <a:blip r:embed="rId1"/>
          <a:stretch/>
        </p:blipFill>
        <p:spPr>
          <a:xfrm>
            <a:off x="428760" y="2214720"/>
            <a:ext cx="3416040" cy="2214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3" descr="C:\Documents and Settings\Posohova\Рабочий стол\хлеб\IMG_5721.jpg"/>
          <p:cNvPicPr/>
          <p:nvPr/>
        </p:nvPicPr>
        <p:blipFill>
          <a:blip r:embed="rId2"/>
          <a:stretch/>
        </p:blipFill>
        <p:spPr>
          <a:xfrm>
            <a:off x="5000760" y="357120"/>
            <a:ext cx="3784320" cy="2428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C:\Documents and Settings\Posohova\Рабочий стол\хлеб\IMG_5735.jpg"/>
          <p:cNvPicPr/>
          <p:nvPr/>
        </p:nvPicPr>
        <p:blipFill>
          <a:blip r:embed="rId3"/>
          <a:stretch/>
        </p:blipFill>
        <p:spPr>
          <a:xfrm>
            <a:off x="5000760" y="3429000"/>
            <a:ext cx="3852720" cy="2967120"/>
          </a:xfrm>
          <a:prstGeom prst="rect">
            <a:avLst/>
          </a:prstGeom>
          <a:ln w="0">
            <a:noFill/>
          </a:ln>
        </p:spPr>
      </p:pic>
      <p:sp>
        <p:nvSpPr>
          <p:cNvPr id="227" name="TextBox 7"/>
          <p:cNvSpPr/>
          <p:nvPr/>
        </p:nvSpPr>
        <p:spPr>
          <a:xfrm>
            <a:off x="1314720" y="4429080"/>
            <a:ext cx="148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«Доли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8"/>
          <p:cNvSpPr/>
          <p:nvPr/>
        </p:nvSpPr>
        <p:spPr>
          <a:xfrm>
            <a:off x="6186600" y="2857680"/>
            <a:ext cx="116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«Н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10"/>
          <p:cNvSpPr/>
          <p:nvPr/>
        </p:nvSpPr>
        <p:spPr>
          <a:xfrm>
            <a:off x="6170040" y="62866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«Корон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Picture 2" descr="C:\Documents and Settings\Posohova\Рабочий стол\хлеб\IMG_5724.jpg"/>
          <p:cNvPicPr/>
          <p:nvPr/>
        </p:nvPicPr>
        <p:blipFill>
          <a:blip r:embed="rId1"/>
          <a:stretch/>
        </p:blipFill>
        <p:spPr>
          <a:xfrm>
            <a:off x="428760" y="4287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C:\Documents and Settings\Posohova\Рабочий стол\хлеб\IMG_5726.jpg"/>
          <p:cNvPicPr/>
          <p:nvPr/>
        </p:nvPicPr>
        <p:blipFill>
          <a:blip r:embed="rId2"/>
          <a:stretch/>
        </p:blipFill>
        <p:spPr>
          <a:xfrm>
            <a:off x="5572080" y="428760"/>
            <a:ext cx="2857680" cy="21430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C:\Documents and Settings\Posohova\Рабочий стол\хлеб\IMG_5728.jpg"/>
          <p:cNvPicPr/>
          <p:nvPr/>
        </p:nvPicPr>
        <p:blipFill>
          <a:blip r:embed="rId3"/>
          <a:stretch/>
        </p:blipFill>
        <p:spPr>
          <a:xfrm>
            <a:off x="571680" y="364320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5" descr="C:\Documents and Settings\Posohova\Рабочий стол\хлеб\IMG_5741.jpg"/>
          <p:cNvPicPr/>
          <p:nvPr/>
        </p:nvPicPr>
        <p:blipFill>
          <a:blip r:embed="rId4"/>
          <a:stretch/>
        </p:blipFill>
        <p:spPr>
          <a:xfrm>
            <a:off x="5429160" y="3571920"/>
            <a:ext cx="2857680" cy="2143080"/>
          </a:xfrm>
          <a:prstGeom prst="rect">
            <a:avLst/>
          </a:prstGeom>
          <a:ln w="0">
            <a:noFill/>
          </a:ln>
        </p:spPr>
      </p:pic>
      <p:sp>
        <p:nvSpPr>
          <p:cNvPr id="235" name="TextBox 7"/>
          <p:cNvSpPr/>
          <p:nvPr/>
        </p:nvSpPr>
        <p:spPr>
          <a:xfrm>
            <a:off x="908640" y="2714760"/>
            <a:ext cx="180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СППК «Колос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8"/>
          <p:cNvSpPr/>
          <p:nvPr/>
        </p:nvSpPr>
        <p:spPr>
          <a:xfrm>
            <a:off x="5994720" y="5929200"/>
            <a:ext cx="20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ОО «Вершин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9"/>
          <p:cNvSpPr/>
          <p:nvPr/>
        </p:nvSpPr>
        <p:spPr>
          <a:xfrm>
            <a:off x="1263600" y="592920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ая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6053040" y="2714760"/>
            <a:ext cx="206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ООО «Надежда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2" descr="C:\Documents and Settings\Posohova\Рабочий стол\хлеб\IMG_5727.jpg"/>
          <p:cNvPicPr/>
          <p:nvPr/>
        </p:nvPicPr>
        <p:blipFill>
          <a:blip r:embed="rId1"/>
          <a:stretch/>
        </p:blipFill>
        <p:spPr>
          <a:xfrm>
            <a:off x="285840" y="214200"/>
            <a:ext cx="3429000" cy="25718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3" descr="C:\Documents and Settings\Posohova\Рабочий стол\хлеб\IMG_5725.jpg"/>
          <p:cNvPicPr/>
          <p:nvPr/>
        </p:nvPicPr>
        <p:blipFill>
          <a:blip r:embed="rId2"/>
          <a:stretch/>
        </p:blipFill>
        <p:spPr>
          <a:xfrm>
            <a:off x="5357880" y="285840"/>
            <a:ext cx="3333600" cy="250020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4" descr="C:\Documents and Settings\Posohova\Рабочий стол\хлеб\яна\S6003365.JPG"/>
          <p:cNvPicPr/>
          <p:nvPr/>
        </p:nvPicPr>
        <p:blipFill>
          <a:blip r:embed="rId3"/>
          <a:stretch/>
        </p:blipFill>
        <p:spPr>
          <a:xfrm>
            <a:off x="2286000" y="3375000"/>
            <a:ext cx="3857760" cy="2894040"/>
          </a:xfrm>
          <a:prstGeom prst="rect">
            <a:avLst/>
          </a:prstGeom>
          <a:ln w="0">
            <a:noFill/>
          </a:ln>
        </p:spPr>
      </p:pic>
      <p:sp>
        <p:nvSpPr>
          <p:cNvPr id="243" name="TextBox 6"/>
          <p:cNvSpPr/>
          <p:nvPr/>
        </p:nvSpPr>
        <p:spPr>
          <a:xfrm>
            <a:off x="3313080" y="6286680"/>
            <a:ext cx="1660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ЧП «Пекарь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7"/>
          <p:cNvSpPr/>
          <p:nvPr/>
        </p:nvSpPr>
        <p:spPr>
          <a:xfrm>
            <a:off x="6129360" y="2928960"/>
            <a:ext cx="215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Сатниковски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8"/>
          <p:cNvSpPr/>
          <p:nvPr/>
        </p:nvSpPr>
        <p:spPr>
          <a:xfrm>
            <a:off x="855720" y="2857680"/>
            <a:ext cx="219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«Мини-пекарня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newsflash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1680" y="-571680"/>
            <a:ext cx="8229600" cy="1143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Сведения о производителях и сортах хлеба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7" name="Таблица 3" descr=""/>
          <p:cNvPicPr/>
          <p:nvPr/>
        </p:nvPicPr>
        <p:blipFill>
          <a:blip r:embed="rId1"/>
          <a:stretch/>
        </p:blipFill>
        <p:spPr>
          <a:xfrm>
            <a:off x="1066680" y="639720"/>
            <a:ext cx="7077240" cy="623736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8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8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08:34:27Z</dcterms:created>
  <dc:creator>Posohova</dc:creator>
  <dc:description/>
  <dc:language>en-US</dc:language>
  <cp:lastModifiedBy>Posohova</cp:lastModifiedBy>
  <dcterms:modified xsi:type="dcterms:W3CDTF">2010-01-08T07:30:39Z</dcterms:modified>
  <cp:revision>19</cp:revision>
  <dc:subject/>
  <dc:title>Оценка качества хлеба</dc:title>
</cp:coreProperties>
</file>