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4BF8-A782-47C0-ADF7-42CB612E66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5D72-4892-4D83-BE8B-4349C20D2C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слай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391C-33C8-4DE8-AA0D-E21009C8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8E7-A4C9-4EAD-AA4A-45D71FEA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EA21-491D-4D02-9811-868D477B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8C2-BDE8-46A5-B861-F6499ED4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2B50-A95D-409D-9BCA-A7EBD0CD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8B59-DF0D-452B-875F-F2D8A2BC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4B2F-2BE2-47E6-8B8F-BE73BED8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5F10-63E4-4183-B5F6-9DD93D60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890F-F94F-43D2-8EB8-3E26290E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C437-E5A1-45A6-AE04-65021C89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1441-8504-48FC-9D87-C7D546E5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04DC-B953-492F-81C7-FBC009A3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6BD7-CCC1-4433-917B-7B3ECE59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EA6F-0FDF-45AC-AD60-87B4A548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B8C4-49A3-4266-97E7-CEBE1AAF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2C12-25B7-4406-B0DD-50B393F8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58B5-987A-4CAB-9860-81C643CC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4C10F-210F-49A8-9F27-8AEF77EB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147E4-3816-4544-A227-FE0535FF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21AB4-8495-49A4-8FED-1857C7F3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2F87A-5890-4DF5-A1B8-766E0D68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47037-6889-4C3D-B404-5B75C605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8390-2065-46C9-8766-820BD56F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9ED67-1000-4F28-8862-46E5E494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507DB-DBA7-4937-B8C9-EEC8E42C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FE0D7-7B6B-4243-B1EA-E0A94E01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61D95-D0BC-4329-93DE-F51FFAF6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BDE2A-2F06-4D5D-89FD-BE9C225A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ADAA7-0C04-4350-9D97-FF55548C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90393-C254-41A6-BAE1-481ABAA1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A4F13-5A0B-4538-8E13-0A2FBDBA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A325E-9124-4630-8EAB-BFDBDA5F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4238D-C27B-4A9D-B928-C71C11AC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E0F-C811-464E-81EA-0A64BECE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6537C-5E9A-4E29-884A-0E999A0B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F56AB-0109-4836-BAE7-1F4B9459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D96FE-E4F9-473A-9686-A7FF080C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5A7D3-5011-495D-9C51-76FCC223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C1FE0-6F8A-4A0A-A131-B549EBE0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9BF8F-22F7-48C9-803F-6C8AED2D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617AF-901F-4F43-9F69-4875383D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EEF0A-E31F-43C9-8724-BE89F246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A165D-DBAF-4EC2-82FA-497F0873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8CC9C-3D3B-450D-842F-F5E1B745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47B8-2A64-47CC-96F7-CF5CE56B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3C641-94F5-4975-A2B3-45EE90C4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85EF0-8CA9-42B5-9251-40D05DA0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254BE-88BE-40FC-B334-35CDEAE2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BACB8-06F4-4DC0-A0FE-A8B8E478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2FACA-85C2-4302-A336-20F5B5E6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B36DF-DA60-4B65-B2A9-5F06D699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E3CD3-477D-4D95-9794-E23C9379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96CE6-EEB8-4605-A7C0-0FD8868E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F9958-BB64-47FC-BFBA-B15D95CE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DEF2B-EB0A-4B27-892E-EB630CE7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E61D-96B9-4CC1-9546-BD8F9DF4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CF483-A316-4F82-BA89-082A2B14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654D8-F4E8-4A82-B45F-318A94EE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2CE24-0A15-43D1-9692-F914E052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6F06A-DB7C-4237-B211-84225E3A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8E717-B535-45BA-9D98-69E957DC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12F8A-0AE6-4871-A41F-98518A69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C9836-2DB9-4579-B1AE-2D5D149C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12A48-9212-4D8D-AD99-81B9302A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239F8-49D8-498F-96BA-0C983FBD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D3778-32BE-4BAA-AFA8-1F73E901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DB98-E793-451E-AA3B-246A3E07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7B59F-FF9E-4BFC-BF75-8DFA8968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6462F-B66C-44CE-B4AF-53319E77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18ABC-6B46-451A-AE6B-134F776E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7AFE3-820D-49FF-B3A7-BEFAB9C8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EF835-9E60-4F11-AB11-9B5D77F2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4617B-C7CC-4241-9F36-D9A9C413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75607-E3ED-41A0-A976-2ABA406A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8EF7A-314A-4B55-A868-0E40CF1D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319AD-384E-47B3-BBDA-E5321AEC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2EA26-FCD1-4CA2-8603-EDAFC102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3817-532F-4135-9A6C-07B4D812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B47BE-9D32-43D3-A95B-B922BC23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E38D6-2FF7-4027-848E-CD799A5E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63EEB-F249-49AE-AD46-CF7135F5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C8EB4-FE49-4A66-8973-2C34303B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79C43-83A2-4AB8-8706-518B603C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1D58-6113-4A29-8C15-ABECA0C5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F8C1-5868-426E-BC07-A484B472DFA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31A2-0D55-4BA6-A928-626AAF5E4FB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C626-C2E7-4097-8CA4-BD51D1B3268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AEAB-4144-4FFB-8F66-7AA49EBBCB0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8263-36FC-420A-BC25-1C2B76DEE78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54E5-2F8A-40ED-9E75-5EB22C0EBE9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83AB-EA7F-4173-A8EF-7AEF5BBE0D1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14"/>
          <p:cNvSpPr txBox="1"/>
          <p:nvPr/>
        </p:nvSpPr>
        <p:spPr>
          <a:xfrm>
            <a:off x="609480" y="1219320"/>
            <a:ext cx="7620120" cy="656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авне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4"/>
          <p:cNvSpPr/>
          <p:nvPr/>
        </p:nvSpPr>
        <p:spPr>
          <a:xfrm>
            <a:off x="457200" y="903240"/>
            <a:ext cx="8001000" cy="60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и изучении темы «линейные уравнения с двумя переменными» можно воспользоваться графическим способом решения уравнения. Данный метод основан на использовании графиков функций, входящих в уравнение. Суть метода найти абсциссы точек пересечения графиков функций, стоящих в левой  и правой частях уравнения. Основывается на выполнение следующих действ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1.Преобразовать исходное уравнение к виду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f (x) = g (x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построить графики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2.Построить графики функций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f (x)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g (x)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3.Определить точки пересечения построенных граф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4.Определить абсциссы найденных точек. Они и дадут множество решений исходного уравн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5.Записать отв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0520" y="20570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nstantia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ано уравнени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x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y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не равно 0,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не равно 0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эффициенты которого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а,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с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— целые числа. Если поставле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адача найти только такие его решения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де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целые числа, то это уравнение называют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линейным диофантовым уравнением.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ак его называют в честь греческого математика Диофанта (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в. до н. э.), который решал уравнения в целых числа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пример, уравнение 2х + 3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= 1 - это линейное диофантово уравнение, если поставлена задача найти только целые его решения. Одним из его решений является пара чисел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х=5, у =-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- 3, так как справедливо равенство 2*5 + 3(-3)=1. Любое решение диофантова уравнения называют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частным решением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этого уравнения. Как будет показано далее, формулы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х = 5 — -3п, у=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-3 + 2я, где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п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— любое целое число, задают все решения уравнения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2х+Зу=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. Говорят еще, что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общее решени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этого уравнения есть х = 5 —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Зп, у=—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+2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, где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п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— любое целое число. Общее решение этого уравнения записывают еще и так: (5-З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;  — 3 + 2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), где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п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— любое целое число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WordArt 6"/>
          <p:cNvSpPr txBox="1"/>
          <p:nvPr/>
        </p:nvSpPr>
        <p:spPr>
          <a:xfrm>
            <a:off x="838080" y="990720"/>
            <a:ext cx="7239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НЕЙНЫЕ ДИОФАНТОВЫ УРАВНЕ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609480" y="1066320"/>
            <a:ext cx="79250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алее на характерных примерах будет рассмотрено решение линейных диофантовых уравнений. Сначала рассмотрим диофантовы уравнения (1), в которых коэффициенты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а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оложительн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 с = 0 уравнение (1) имеет ви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x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y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однородным диофантовым уравнением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мер   1. Решим диофантово уравнени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+3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ерепишем уравнение в вид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= -3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 любых целых числах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х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у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авая часть уравнения (4) должна делиться на 2, и так как числа 2 и 3 взаимно просты, то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у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олжен делиться на 2, т. е.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у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— целое число, делящееся на 2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 = 2п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де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п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— целое число. Заметим, что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п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десь может быть любым целым числом. Действительно, подставив 2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вместо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у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уравнение (4), получим целое число х= —З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при любом целом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п.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ледовательно, уравнение (3) имеет общее решение ( — 3/г; 2л), где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п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— любое целое число, и других решений не имеет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4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4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4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4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4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7000"/>
                            </p:stCondLst>
                            <p:childTnLst>
                              <p:par>
                                <p:cTn id="35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4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4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4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400" fill="hold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400" fill="hold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400" fill="hold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400" fill="hold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5"/>
          <p:cNvSpPr/>
          <p:nvPr/>
        </p:nvSpPr>
        <p:spPr>
          <a:xfrm>
            <a:off x="380880" y="990720"/>
            <a:ext cx="792504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усть задано уравнение степени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n (n&gt;1)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с двумя неизвестными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+ 3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= 6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y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– 2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сли поставлена задача найти целые числа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и у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такие, что пара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(х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; у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является решением данного уравнения, то такое уравнение называют диофантовым уравнением и говорят, что уравнение требуется решить в целых числах. Так его называют в честь греческого математика Диофанта (III в. до н. э.), который решал уравнения в целых числах. Иногда по смыслу задачи диофантово уравнение решают в натуральных числ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ассмотрим несколько примеров решения диофантовых урав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мер 1.  Решим в целых числах 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x + 3y = 6,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ыразим у через х из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y = 2 – 2/3x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з равенства видно, что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будет целым только тогда, когда целое число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делится на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,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то есть когда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х = 3u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гд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-  некоторое целое число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5"/>
          <p:cNvSpPr/>
          <p:nvPr/>
        </p:nvSpPr>
        <p:spPr>
          <a:xfrm>
            <a:off x="22860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0" y="152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WordArt 7"/>
          <p:cNvSpPr txBox="1"/>
          <p:nvPr/>
        </p:nvSpPr>
        <p:spPr>
          <a:xfrm>
            <a:off x="609480" y="2286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рафическое решение уравнений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457200" y="1371600"/>
            <a:ext cx="7696080" cy="35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ешим уравнение 1-й степени с одним неизвестным графически, то есть при помощи графиков двух линейных фун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ля решения уравнения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0,5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x +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3 x - 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ребуется найти значение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, при котором обе линейные функции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0,5х+3 и 3х-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имеют одинаковые значения. На графике это означает, что нужно найти такое значение абсциссы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, при котором обе ординаты у равны (совпадают на чертеже), то есть найти абсциссу общей точки двух прямых – графиков функций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0,5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x +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3 x – 2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8"/>
          <p:cNvSpPr/>
          <p:nvPr/>
        </p:nvSpPr>
        <p:spPr>
          <a:xfrm>
            <a:off x="-79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380880" y="0"/>
          <a:ext cx="7467840" cy="2530440"/>
        </p:xfrm>
        <a:graphic>
          <a:graphicData uri="http://schemas.openxmlformats.org/drawingml/2006/table">
            <a:tbl>
              <a:tblPr/>
              <a:tblGrid>
                <a:gridCol w="1600200"/>
                <a:gridCol w="5867640"/>
              </a:tblGrid>
              <a:tr h="25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Линейное уравнение в системе уравнений имеет вид a*x + b*y = c. Выразим у из этого уравнения: у = (-a/b)*x - c/b. Обозначим:  k=a/b; q = -c/b. Тогда линейное уравнение примет вид y = k*x + q, где k - тангенс угла наклона прямой к оси абсцисс, q - ордината пересечения прямой с осью O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29"/>
          <p:cNvSpPr/>
          <p:nvPr/>
        </p:nvSpPr>
        <p:spPr>
          <a:xfrm>
            <a:off x="0" y="236124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Тогда исходная система линейных уравнений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0" y="2666880"/>
          <a:ext cx="4618080" cy="1190880"/>
        </p:xfrm>
        <a:graphic>
          <a:graphicData uri="http://schemas.openxmlformats.org/drawingml/2006/table">
            <a:tbl>
              <a:tblPr/>
              <a:tblGrid>
                <a:gridCol w="304920"/>
                <a:gridCol w="4313160"/>
              </a:tblGrid>
              <a:tr h="119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{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r>
                        <a:rPr b="1" lang="ru-RU" sz="2000" spc="-1" strike="noStrike" baseline="-25000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x + b</a:t>
                      </a:r>
                      <a:r>
                        <a:rPr b="1" lang="en-US" sz="2000" spc="-1" strike="noStrike" baseline="-25000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y </a:t>
                      </a: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1" lang="en-US" sz="2000" spc="-1" strike="noStrike" baseline="-25000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r>
                        <a:rPr b="1" lang="en-US" sz="2000" spc="-1" strike="noStrike" baseline="-25000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x + b</a:t>
                      </a:r>
                      <a:r>
                        <a:rPr b="1" lang="en-US" sz="2000" spc="-1" strike="noStrike" baseline="-25000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y = c</a:t>
                      </a:r>
                      <a:r>
                        <a:rPr b="1" lang="en-US" sz="2000" spc="-1" strike="noStrike" baseline="-25000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Rectangle 41"/>
          <p:cNvSpPr/>
          <p:nvPr/>
        </p:nvSpPr>
        <p:spPr>
          <a:xfrm>
            <a:off x="-257040" y="4037760"/>
            <a:ext cx="43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может иметь следующий вид: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0" y="4343400"/>
          <a:ext cx="3149640" cy="1236600"/>
        </p:xfrm>
        <a:graphic>
          <a:graphicData uri="http://schemas.openxmlformats.org/drawingml/2006/table">
            <a:tbl>
              <a:tblPr/>
              <a:tblGrid>
                <a:gridCol w="434880"/>
                <a:gridCol w="2714760"/>
              </a:tblGrid>
              <a:tr h="12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{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y = k</a:t>
                      </a:r>
                      <a:r>
                        <a:rPr b="1" lang="ru-RU" sz="2000" spc="-1" strike="noStrike" baseline="-25000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x + q</a:t>
                      </a:r>
                      <a:r>
                        <a:rPr b="1" lang="ru-RU" sz="2000" spc="-1" strike="noStrike" baseline="-25000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y = k</a:t>
                      </a:r>
                      <a:r>
                        <a:rPr b="1" lang="ru-RU" sz="2000" spc="-1" strike="noStrike" baseline="-25000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x + q</a:t>
                      </a:r>
                      <a:r>
                        <a:rPr b="1" lang="ru-RU" sz="2000" spc="-1" strike="noStrike" baseline="-25000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Rectangle 76"/>
          <p:cNvSpPr/>
          <p:nvPr/>
        </p:nvSpPr>
        <p:spPr>
          <a:xfrm>
            <a:off x="0" y="228600"/>
            <a:ext cx="1905120" cy="1905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80"/>
          <p:cNvSpPr/>
          <p:nvPr/>
        </p:nvSpPr>
        <p:spPr>
          <a:xfrm flipV="1">
            <a:off x="990720" y="304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82"/>
          <p:cNvSpPr/>
          <p:nvPr/>
        </p:nvSpPr>
        <p:spPr>
          <a:xfrm>
            <a:off x="0" y="1219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85"/>
          <p:cNvSpPr/>
          <p:nvPr/>
        </p:nvSpPr>
        <p:spPr>
          <a:xfrm flipV="1">
            <a:off x="228600" y="914040"/>
            <a:ext cx="1523880" cy="10666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6"/>
          <p:cNvSpPr/>
          <p:nvPr/>
        </p:nvSpPr>
        <p:spPr>
          <a:xfrm>
            <a:off x="1676520" y="1219320"/>
            <a:ext cx="228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7"/>
          <p:cNvSpPr/>
          <p:nvPr/>
        </p:nvSpPr>
        <p:spPr>
          <a:xfrm>
            <a:off x="838080" y="838080"/>
            <a:ext cx="45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89"/>
          <p:cNvSpPr/>
          <p:nvPr/>
        </p:nvSpPr>
        <p:spPr>
          <a:xfrm>
            <a:off x="1515960" y="1085760"/>
            <a:ext cx="87480" cy="130320"/>
          </a:xfrm>
          <a:prstGeom prst="pie">
            <a:avLst/>
          </a:pr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0"/>
          <p:cNvSpPr/>
          <p:nvPr/>
        </p:nvSpPr>
        <p:spPr>
          <a:xfrm>
            <a:off x="380880" y="1752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=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*x+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92"/>
          <p:cNvSpPr/>
          <p:nvPr/>
        </p:nvSpPr>
        <p:spPr>
          <a:xfrm>
            <a:off x="1600200" y="914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93"/>
          <p:cNvSpPr/>
          <p:nvPr/>
        </p:nvSpPr>
        <p:spPr>
          <a:xfrm>
            <a:off x="1600200" y="12193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94"/>
          <p:cNvSpPr/>
          <p:nvPr/>
        </p:nvSpPr>
        <p:spPr>
          <a:xfrm>
            <a:off x="990720" y="1371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95"/>
          <p:cNvSpPr/>
          <p:nvPr/>
        </p:nvSpPr>
        <p:spPr>
          <a:xfrm>
            <a:off x="685800" y="914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6"/>
          <p:cNvSpPr/>
          <p:nvPr/>
        </p:nvSpPr>
        <p:spPr>
          <a:xfrm>
            <a:off x="685800" y="3049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500"/>
                            </p:stCondLst>
                            <p:childTnLst>
                              <p:par>
                                <p:cTn id="4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500"/>
                            </p:stCondLst>
                            <p:childTnLst>
                              <p:par>
                                <p:cTn id="4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0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500"/>
                            </p:stCondLst>
                            <p:childTnLst>
                              <p:par>
                                <p:cTn id="4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8800"/>
                            </p:stCondLst>
                            <p:childTnLst>
                              <p:par>
                                <p:cTn id="4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9800"/>
                            </p:stCondLst>
                            <p:childTnLst>
                              <p:par>
                                <p:cTn id="4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1400"/>
                            </p:stCondLst>
                            <p:childTnLst>
                              <p:par>
                                <p:cTn id="48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9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Мы можем сделать следующие заключения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1.Прямые пересекаются, если k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не равно k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(система уравнений имеет единственное решение). Значения q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и q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могут принимать любые значения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2.Прямые параллельны или совпадают, если k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= k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ямые параллельны, если k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= k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и q1 не равно q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(система не имеет решений)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ямые совпадают, если k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= k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и q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= q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(система имеет бесконечное множество решений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0" y="3657600"/>
          <a:ext cx="8458200" cy="822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97180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прямые пересекаются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система имеет одно реш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прямые параллельны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Comic Sans MS"/>
                          <a:ea typeface="Times New Roman"/>
                        </a:rPr>
                        <a:t>решений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прямые совпадают,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имеет бесконечное множество решени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7" name="Rectangle 53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7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29"/>
          <p:cNvSpPr/>
          <p:nvPr/>
        </p:nvSpPr>
        <p:spPr>
          <a:xfrm>
            <a:off x="0" y="4144320"/>
            <a:ext cx="85345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Прямые пересекаются, если 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не равно a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. Значения -c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 и -c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 могут принимать любые значения (система уравнений имеет единственное решение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Прямые параллельны, если a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 = a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 и -c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 не равно -c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 (система не имеет решений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Прямые совпадают, если a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 = a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 и -c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 = -c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500" spc="-1" strike="noStrike">
                <a:solidFill>
                  <a:srgbClr val="000000"/>
                </a:solidFill>
                <a:latin typeface="Comic Sans MS"/>
              </a:rPr>
              <a:t>(система имеет бесконечное множество решений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37"/>
          <p:cNvSpPr/>
          <p:nvPr/>
        </p:nvSpPr>
        <p:spPr>
          <a:xfrm>
            <a:off x="609480" y="1905120"/>
            <a:ext cx="1676520" cy="1676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39"/>
          <p:cNvSpPr/>
          <p:nvPr/>
        </p:nvSpPr>
        <p:spPr>
          <a:xfrm>
            <a:off x="762120" y="2743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42"/>
          <p:cNvSpPr/>
          <p:nvPr/>
        </p:nvSpPr>
        <p:spPr>
          <a:xfrm flipV="1">
            <a:off x="1447920" y="1981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45"/>
          <p:cNvSpPr/>
          <p:nvPr/>
        </p:nvSpPr>
        <p:spPr>
          <a:xfrm flipH="1">
            <a:off x="761760" y="2133720"/>
            <a:ext cx="990360" cy="1066680"/>
          </a:xfrm>
          <a:prstGeom prst="line">
            <a:avLst/>
          </a:prstGeom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46"/>
          <p:cNvSpPr/>
          <p:nvPr/>
        </p:nvSpPr>
        <p:spPr>
          <a:xfrm>
            <a:off x="838080" y="2133720"/>
            <a:ext cx="228600" cy="1447560"/>
          </a:xfrm>
          <a:prstGeom prst="line">
            <a:avLst/>
          </a:prstGeom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147"/>
          <p:cNvSpPr/>
          <p:nvPr/>
        </p:nvSpPr>
        <p:spPr>
          <a:xfrm>
            <a:off x="914400" y="2575080"/>
            <a:ext cx="190440" cy="183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148"/>
          <p:cNvSpPr/>
          <p:nvPr/>
        </p:nvSpPr>
        <p:spPr>
          <a:xfrm>
            <a:off x="1295280" y="2620800"/>
            <a:ext cx="61920" cy="122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50"/>
          <p:cNvSpPr/>
          <p:nvPr/>
        </p:nvSpPr>
        <p:spPr>
          <a:xfrm>
            <a:off x="1219320" y="18288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51"/>
          <p:cNvSpPr/>
          <p:nvPr/>
        </p:nvSpPr>
        <p:spPr>
          <a:xfrm>
            <a:off x="1371600" y="1981080"/>
            <a:ext cx="9907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=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*x+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52"/>
          <p:cNvSpPr/>
          <p:nvPr/>
        </p:nvSpPr>
        <p:spPr>
          <a:xfrm>
            <a:off x="1295280" y="2438280"/>
            <a:ext cx="38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53"/>
          <p:cNvSpPr/>
          <p:nvPr/>
        </p:nvSpPr>
        <p:spPr>
          <a:xfrm>
            <a:off x="914400" y="23623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54"/>
          <p:cNvSpPr/>
          <p:nvPr/>
        </p:nvSpPr>
        <p:spPr>
          <a:xfrm>
            <a:off x="1981080" y="2666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55"/>
          <p:cNvSpPr/>
          <p:nvPr/>
        </p:nvSpPr>
        <p:spPr>
          <a:xfrm>
            <a:off x="1447920" y="2743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56"/>
          <p:cNvSpPr/>
          <p:nvPr/>
        </p:nvSpPr>
        <p:spPr>
          <a:xfrm>
            <a:off x="1066680" y="32004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=k*x+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57"/>
          <p:cNvSpPr/>
          <p:nvPr/>
        </p:nvSpPr>
        <p:spPr>
          <a:xfrm>
            <a:off x="838080" y="2438280"/>
            <a:ext cx="3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58"/>
          <p:cNvSpPr/>
          <p:nvPr/>
        </p:nvSpPr>
        <p:spPr>
          <a:xfrm>
            <a:off x="3200400" y="1905120"/>
            <a:ext cx="1676520" cy="167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63"/>
          <p:cNvSpPr/>
          <p:nvPr/>
        </p:nvSpPr>
        <p:spPr>
          <a:xfrm flipV="1">
            <a:off x="4038480" y="19047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64"/>
          <p:cNvSpPr/>
          <p:nvPr/>
        </p:nvSpPr>
        <p:spPr>
          <a:xfrm>
            <a:off x="3352680" y="2743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65"/>
          <p:cNvSpPr/>
          <p:nvPr/>
        </p:nvSpPr>
        <p:spPr>
          <a:xfrm flipV="1">
            <a:off x="3352680" y="2133720"/>
            <a:ext cx="1067040" cy="838080"/>
          </a:xfrm>
          <a:prstGeom prst="line">
            <a:avLst/>
          </a:prstGeom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66"/>
          <p:cNvSpPr/>
          <p:nvPr/>
        </p:nvSpPr>
        <p:spPr>
          <a:xfrm flipV="1">
            <a:off x="3657600" y="2437920"/>
            <a:ext cx="990720" cy="762120"/>
          </a:xfrm>
          <a:prstGeom prst="line">
            <a:avLst/>
          </a:prstGeom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72"/>
          <p:cNvSpPr/>
          <p:nvPr/>
        </p:nvSpPr>
        <p:spPr>
          <a:xfrm>
            <a:off x="3886200" y="2362320"/>
            <a:ext cx="22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174"/>
          <p:cNvSpPr/>
          <p:nvPr/>
        </p:nvSpPr>
        <p:spPr>
          <a:xfrm>
            <a:off x="3763800" y="2606760"/>
            <a:ext cx="122400" cy="120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6"/>
          <p:cNvSpPr/>
          <p:nvPr/>
        </p:nvSpPr>
        <p:spPr>
          <a:xfrm>
            <a:off x="4419720" y="23623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77"/>
          <p:cNvSpPr/>
          <p:nvPr/>
        </p:nvSpPr>
        <p:spPr>
          <a:xfrm>
            <a:off x="3886200" y="2362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78"/>
          <p:cNvSpPr/>
          <p:nvPr/>
        </p:nvSpPr>
        <p:spPr>
          <a:xfrm>
            <a:off x="4038480" y="28195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79"/>
          <p:cNvSpPr/>
          <p:nvPr/>
        </p:nvSpPr>
        <p:spPr>
          <a:xfrm>
            <a:off x="403848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80"/>
          <p:cNvSpPr/>
          <p:nvPr/>
        </p:nvSpPr>
        <p:spPr>
          <a:xfrm>
            <a:off x="4191120" y="2438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2"/>
          <p:cNvSpPr/>
          <p:nvPr/>
        </p:nvSpPr>
        <p:spPr>
          <a:xfrm>
            <a:off x="3657600" y="2057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83"/>
          <p:cNvSpPr/>
          <p:nvPr/>
        </p:nvSpPr>
        <p:spPr>
          <a:xfrm>
            <a:off x="4648320" y="2743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84"/>
          <p:cNvSpPr/>
          <p:nvPr/>
        </p:nvSpPr>
        <p:spPr>
          <a:xfrm>
            <a:off x="3809880" y="1905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=k*x+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85"/>
          <p:cNvSpPr/>
          <p:nvPr/>
        </p:nvSpPr>
        <p:spPr>
          <a:xfrm>
            <a:off x="3352680" y="3200400"/>
            <a:ext cx="12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=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x+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86"/>
          <p:cNvSpPr/>
          <p:nvPr/>
        </p:nvSpPr>
        <p:spPr>
          <a:xfrm>
            <a:off x="3886200" y="1905120"/>
            <a:ext cx="22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88"/>
          <p:cNvSpPr/>
          <p:nvPr/>
        </p:nvSpPr>
        <p:spPr>
          <a:xfrm>
            <a:off x="6019920" y="1905120"/>
            <a:ext cx="1676160" cy="1676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90"/>
          <p:cNvSpPr/>
          <p:nvPr/>
        </p:nvSpPr>
        <p:spPr>
          <a:xfrm flipV="1">
            <a:off x="6858000" y="1981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91"/>
          <p:cNvSpPr/>
          <p:nvPr/>
        </p:nvSpPr>
        <p:spPr>
          <a:xfrm>
            <a:off x="6172200" y="2743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93"/>
          <p:cNvSpPr/>
          <p:nvPr/>
        </p:nvSpPr>
        <p:spPr>
          <a:xfrm flipV="1">
            <a:off x="6324480" y="2286000"/>
            <a:ext cx="1219320" cy="990720"/>
          </a:xfrm>
          <a:prstGeom prst="line">
            <a:avLst/>
          </a:prstGeom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94"/>
          <p:cNvSpPr/>
          <p:nvPr/>
        </p:nvSpPr>
        <p:spPr>
          <a:xfrm>
            <a:off x="6400800" y="19051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95"/>
          <p:cNvSpPr/>
          <p:nvPr/>
        </p:nvSpPr>
        <p:spPr>
          <a:xfrm>
            <a:off x="6705720" y="2286000"/>
            <a:ext cx="22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96"/>
          <p:cNvSpPr/>
          <p:nvPr/>
        </p:nvSpPr>
        <p:spPr>
          <a:xfrm>
            <a:off x="662940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97"/>
          <p:cNvSpPr/>
          <p:nvPr/>
        </p:nvSpPr>
        <p:spPr>
          <a:xfrm>
            <a:off x="7391520" y="274320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98"/>
          <p:cNvSpPr/>
          <p:nvPr/>
        </p:nvSpPr>
        <p:spPr>
          <a:xfrm>
            <a:off x="7010280" y="23623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=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99"/>
          <p:cNvSpPr/>
          <p:nvPr/>
        </p:nvSpPr>
        <p:spPr>
          <a:xfrm>
            <a:off x="6858000" y="2743200"/>
            <a:ext cx="609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=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01"/>
          <p:cNvSpPr/>
          <p:nvPr/>
        </p:nvSpPr>
        <p:spPr>
          <a:xfrm>
            <a:off x="6248520" y="30481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y=k*x+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02"/>
          <p:cNvSpPr/>
          <p:nvPr/>
        </p:nvSpPr>
        <p:spPr>
          <a:xfrm>
            <a:off x="5943600" y="3276720"/>
            <a:ext cx="137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y=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*x+q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175"/>
          <p:cNvSpPr/>
          <p:nvPr/>
        </p:nvSpPr>
        <p:spPr>
          <a:xfrm>
            <a:off x="4389480" y="2630520"/>
            <a:ext cx="138240" cy="96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4000"/>
                            </p:stCondLst>
                            <p:childTnLst>
                              <p:par>
                                <p:cTn id="5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6000"/>
                            </p:stCondLst>
                            <p:childTnLst>
                              <p:par>
                                <p:cTn id="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6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65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650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6500"/>
                            </p:stCondLst>
                            <p:childTnLst>
                              <p:par>
                                <p:cTn id="5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000"/>
                            </p:stCondLst>
                            <p:childTnLst>
                              <p:par>
                                <p:cTn id="5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7500"/>
                            </p:stCondLst>
                            <p:childTnLst>
                              <p:par>
                                <p:cTn id="5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9500"/>
                            </p:stCondLst>
                            <p:childTnLst>
                              <p:par>
                                <p:cTn id="5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3000"/>
                            </p:stCondLst>
                            <p:childTnLst>
                              <p:par>
                                <p:cTn id="6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7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1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7000"/>
                            </p:stCondLst>
                            <p:childTnLst>
                              <p:par>
                                <p:cTn id="6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6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9000"/>
                            </p:stCondLst>
                            <p:childTnLst>
                              <p:par>
                                <p:cTn id="6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950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9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950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9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9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9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95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9500"/>
                            </p:stCondLst>
                            <p:childTnLst>
                              <p:par>
                                <p:cTn id="6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9500"/>
                            </p:stCondLst>
                            <p:childTnLst>
                              <p:par>
                                <p:cTn id="6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500"/>
                            </p:stCondLst>
                            <p:childTnLst>
                              <p:par>
                                <p:cTn id="7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4"/>
          <p:cNvSpPr/>
          <p:nvPr/>
        </p:nvSpPr>
        <p:spPr>
          <a:xfrm>
            <a:off x="152280" y="3732480"/>
            <a:ext cx="8471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МЕЧ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.Если прямые пересекаются, то система уравнений имеет единственное реш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.Если прямые параллельны, то система не имеет реш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.Если прямые совпадают, то система имеет бесконечное     множество реш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0" y="1080"/>
            <a:ext cx="7924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рафиком линейного уравнения с двумя переменными, в котором хотя бы один из коэффициентов при переменных не равен нулю, является прямая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 решении системы двух линейных уравнений с двумя переменными графическим способом поступают следующим образ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.Находят координаты двух каких-либо точек прямой, заданной первым уравнением системы и строят пряму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 Находят координаты двух каких-либо точек прямой, заданной вторым уравнением системы и строят пряму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.Находят точку пересечения прямых - координаты этой точки удовлетворяют как первому уравнению, так и второму уравнению, то есть являются решением системы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3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000"/>
                            </p:stCondLst>
                            <p:childTnLst>
                              <p:par>
                                <p:cTn id="7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7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0"/>
          <p:cNvSpPr/>
          <p:nvPr/>
        </p:nvSpPr>
        <p:spPr>
          <a:xfrm>
            <a:off x="0" y="1371600"/>
            <a:ext cx="91440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кажем, что уравнение 200 (х + 100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10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=300-(10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00 х) не имеет кор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простим обе части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00 х + 200- 100 = 300 - 100 + 200 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00 х + 100 = 200 + 200 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00 х - 200 х = 200–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0 х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уравнение не имеет корней, так как левая часть 0 х равна 0 при любом х, а значит не равна 1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WordArt 11"/>
          <p:cNvSpPr txBox="1"/>
          <p:nvPr/>
        </p:nvSpPr>
        <p:spPr>
          <a:xfrm>
            <a:off x="1219320" y="152280"/>
            <a:ext cx="617220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МЕРЫ УРАВНЕНИ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000"/>
                            </p:stCondLst>
                            <p:childTnLst>
                              <p:par>
                                <p:cTn id="7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3500"/>
                            </p:stCondLst>
                            <p:childTnLst>
                              <p:par>
                                <p:cTn id="7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4000"/>
                            </p:stCondLst>
                            <p:childTnLst>
                              <p:par>
                                <p:cTn id="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7"/>
          <p:cNvSpPr/>
          <p:nvPr/>
        </p:nvSpPr>
        <p:spPr>
          <a:xfrm>
            <a:off x="0" y="152280"/>
            <a:ext cx="7924680" cy="53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Рассмотрим решение задач на составление линейных уравнений. Это сложный процесс, где надо уметь думать, догадываться, хорошо знать фактически материа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В процессе решения каждой задачи надо чётко размечать 4 этапа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1.Изучение условия задач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2.Поиск плана решения и его составлени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3.Оформление найденного решени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4.Критический анализ результата решени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Теперь рассмотрим задачи, при решении которых применяются линейные уравнени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4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4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304920" y="609480"/>
            <a:ext cx="8076960" cy="49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99"/>
                </a:solidFill>
                <a:latin typeface="Comic Sans MS"/>
              </a:rPr>
              <a:t>Проект по математике на тему «Уравн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уководитель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обкова Галина Пет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став проектной групп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дратьева Екате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балян 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сковская область, г. Красноармейск,    МОУ гимназия №6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9 «В»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3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4"/>
          <p:cNvSpPr/>
          <p:nvPr/>
        </p:nvSpPr>
        <p:spPr>
          <a:xfrm>
            <a:off x="228600" y="1128600"/>
            <a:ext cx="807732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.Сплав меди и цинка содержит меди на 640 г больше, чем цинка. После того, как из сплава выделили 6/7 содержащегося в нём меди и 60% цинка, масса сплава оказалась равной 200г .Какова была масса сплава первоначальн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усть в сплаве было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 цинка, тогда меди (640 +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)г . После того, как выделили 6/7 содержащейся в нём меди и 60% цинка, то осталось 1/7 меди и 40% цинка, то есть 0,4 части. Зная , что масса сплава оказалась равной 200г , то составим уравнение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/7(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+640)+0,4x=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+640+2,8x=1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,8x=1400-640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=760:3,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=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начит, цинка было 200г , а меди 840 г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(200+ 640=840).1) 200+ 840 =1040(г)- масса спл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ервоначальная масса сплава 1040г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WordArt 4"/>
          <p:cNvSpPr txBox="1"/>
          <p:nvPr/>
        </p:nvSpPr>
        <p:spPr>
          <a:xfrm>
            <a:off x="1828800" y="380880"/>
            <a:ext cx="4991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вадратные уравне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837720" y="1447560"/>
            <a:ext cx="5257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равнение вида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x2+bx+c=0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, где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b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- действительные числа, причем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не равно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, называют квадратным уравнением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Если a = 1 , то    квадратное  уравнение    называют приведенным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 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если a ¹ 1,  то    неприведенным 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исла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a, b, c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носят следующие названия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-первый коэффициент,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- второй коэффициент,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- свободный член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рни уравнения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ax2+bx+c=0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ходят по формуле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ыражение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D = b2- 4ac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дискриминантом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квадратного уравнения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D &lt; 0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, то уравнение не имеет действительных корней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 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D = 0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, то уравнение имеет один действительный корень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 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D &gt; 0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, то уравнение имеет два действительных корня. 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случае, когда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D = 0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, иногда говорят, что квадратное уравнение  имеет два одинаковых корня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 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пользуя обозначение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D = b2- 4ac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, можно переписать формулу в виде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Если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b = 2k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, то формула  принимает вид: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так,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де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k = b / 2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следняя формула особенно удобна в тех случаях, когда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b / 2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- целое число, т.е. коэффициент,    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- четное число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6" name="Picture 6" descr="new_pa6"/>
          <p:cNvPicPr/>
          <p:nvPr/>
        </p:nvPicPr>
        <p:blipFill>
          <a:blip r:embed="rId1"/>
          <a:stretch/>
        </p:blipFill>
        <p:spPr>
          <a:xfrm>
            <a:off x="4876920" y="2133720"/>
            <a:ext cx="1466640" cy="5140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7" descr="new_pa7"/>
          <p:cNvPicPr/>
          <p:nvPr/>
        </p:nvPicPr>
        <p:blipFill>
          <a:blip r:embed="rId2"/>
          <a:stretch/>
        </p:blipFill>
        <p:spPr>
          <a:xfrm>
            <a:off x="2438280" y="3886200"/>
            <a:ext cx="1000080" cy="4762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8" descr="new_pa8"/>
          <p:cNvPicPr/>
          <p:nvPr/>
        </p:nvPicPr>
        <p:blipFill>
          <a:blip r:embed="rId3"/>
          <a:stretch/>
        </p:blipFill>
        <p:spPr>
          <a:xfrm>
            <a:off x="1523880" y="4800600"/>
            <a:ext cx="4419720" cy="5144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9" descr="new_pa9"/>
          <p:cNvPicPr/>
          <p:nvPr/>
        </p:nvPicPr>
        <p:blipFill>
          <a:blip r:embed="rId4"/>
          <a:stretch/>
        </p:blipFill>
        <p:spPr>
          <a:xfrm>
            <a:off x="4572000" y="4191120"/>
            <a:ext cx="1428840" cy="5140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0" descr="__55442"/>
          <p:cNvPicPr/>
          <p:nvPr/>
        </p:nvPicPr>
        <p:blipFill>
          <a:blip r:embed="rId5"/>
          <a:stretch/>
        </p:blipFill>
        <p:spPr>
          <a:xfrm>
            <a:off x="6324480" y="1219320"/>
            <a:ext cx="1873440" cy="16938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" descr="__55443"/>
          <p:cNvPicPr/>
          <p:nvPr/>
        </p:nvPicPr>
        <p:blipFill>
          <a:blip r:embed="rId6"/>
          <a:stretch/>
        </p:blipFill>
        <p:spPr>
          <a:xfrm>
            <a:off x="6400800" y="3962520"/>
            <a:ext cx="1863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ordArt 4"/>
          <p:cNvSpPr txBox="1"/>
          <p:nvPr/>
        </p:nvSpPr>
        <p:spPr>
          <a:xfrm>
            <a:off x="609480" y="304920"/>
            <a:ext cx="718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полные квадратные уравне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533520" y="1143000"/>
            <a:ext cx="647676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Если в квадратном уравнении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ax2+bx+c=0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второй коэффициент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или свободный член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равен нулю, то квадратное уравнение 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неполным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Неполные уравнения выделяют потому, что для отыскания их корней можно не пользоваться формулой корней квадратного уравнения - проще решить уравнение методом разложения его левой части на множ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Способы решения неполных квадратных уравнений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1) 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c = 0 , то уравнение примет вид  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x2+bx=0.                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 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x( ax + b ) = 0 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 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x = 0 или ax + b = 0 ,      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x = -b : a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)  b = 0, то урав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примет в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x2 + c = 0 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x2  = -c : a 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1  =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или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2 = -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3)</a:t>
            </a: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b = 0 и c = 0 , то уравнение примет вид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x2 = 0,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x =0.  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6" descr="w7"/>
          <p:cNvPicPr/>
          <p:nvPr/>
        </p:nvPicPr>
        <p:blipFill>
          <a:blip r:embed="rId1"/>
          <a:stretch/>
        </p:blipFill>
        <p:spPr>
          <a:xfrm>
            <a:off x="1143000" y="3581280"/>
            <a:ext cx="314280" cy="3715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7" descr="w7"/>
          <p:cNvPicPr/>
          <p:nvPr/>
        </p:nvPicPr>
        <p:blipFill>
          <a:blip r:embed="rId2"/>
          <a:stretch/>
        </p:blipFill>
        <p:spPr>
          <a:xfrm>
            <a:off x="2286000" y="3581280"/>
            <a:ext cx="3142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WordArt 4"/>
          <p:cNvSpPr txBox="1"/>
          <p:nvPr/>
        </p:nvSpPr>
        <p:spPr>
          <a:xfrm>
            <a:off x="762120" y="304920"/>
            <a:ext cx="7010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лное квадратное уравн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52280" y="1025640"/>
            <a:ext cx="529272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lnSpc>
                <a:spcPct val="4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Если в квадратном уравнении второй коэффициент и свободный член не равны нулю, то такое уравнение называют полным квадратным уравнение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4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68" name="Picture 6" descr="__55438"/>
          <p:cNvPicPr/>
          <p:nvPr/>
        </p:nvPicPr>
        <p:blipFill>
          <a:blip r:embed="rId1"/>
          <a:stretch/>
        </p:blipFill>
        <p:spPr>
          <a:xfrm>
            <a:off x="5867280" y="2057400"/>
            <a:ext cx="25909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лая этот сообщение, мы открыли  для себя много интересного и нового о  уравнениях , чего не могли прочитать в учебнике. Например, мы узнали о том, что ещё в древности люди пользовались ими не зная, что это – уравнения. В наше время невозможно представить себе решение как  простейших , так и сложных  задач не только в математике, но и в других  точных  науках , без применения решения  уравнен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WordArt 4"/>
          <p:cNvSpPr txBox="1"/>
          <p:nvPr/>
        </p:nvSpPr>
        <p:spPr>
          <a:xfrm>
            <a:off x="1981080" y="609480"/>
            <a:ext cx="55818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ключ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15" descr="DSC00838"/>
          <p:cNvPicPr/>
          <p:nvPr/>
        </p:nvPicPr>
        <p:blipFill>
          <a:blip r:embed="rId1"/>
          <a:stretch/>
        </p:blipFill>
        <p:spPr>
          <a:xfrm>
            <a:off x="-152280" y="-11448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WordArt 4"/>
          <p:cNvSpPr txBox="1"/>
          <p:nvPr/>
        </p:nvSpPr>
        <p:spPr>
          <a:xfrm>
            <a:off x="2590920" y="1752480"/>
            <a:ext cx="350496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250" autoRev="1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0" dur="250" autoRev="1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1" dur="250" autoRev="1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.00324 C 0.02865 -0.02081 0.04965 -0.05528 0.07465 -0.05528 C 0.11163 -0.05528 0.14167 -0.01943 0.14167 0.02591 C 0.14167 0.04049 0.13872 0.0539 0.13264 0.06593 C 0.13368 0.06593 0.01667 0.24567 0.01667 0.24706 C 0.01667 0.24567 -0.10035 0.06593 -0.09931 0.06593 C -0.10538 0.0539 -0.10833 0.04049 -0.10833 0.02591 C -0.10833 -0.01943 -0.0783 -0.05528 -0.04028 -0.05528 C -0.01632 -0.05528 0.00469 -0.02081 0.01667 0.00324 Z">
                                      <p:cBhvr>
                                        <p:cTn id="814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6699"/>
                </a:solidFill>
                <a:latin typeface="Comic Sans MS"/>
              </a:rPr>
              <a:t>Практическая цель проекта: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 подробнее изучить различные уравнения, и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поделиться этим с окружающими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2300" spc="-1" strike="noStrike">
                <a:solidFill>
                  <a:srgbClr val="ff6699"/>
                </a:solidFill>
                <a:latin typeface="Comic Sans MS"/>
              </a:rPr>
              <a:t>Проект рассчитан на возраст 15 лет</a:t>
            </a:r>
            <a:r>
              <a:rPr b="1" i="1" lang="ru-RU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Мы взяли именно это тему потому, что нас заинтересовало разнообразие уравнений и их решений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  Для того чтобы подробно изучить эту тему мы: прочитали учебные  книги, брали материал из Интернета и из математических журналов.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8"/>
          <p:cNvSpPr/>
          <p:nvPr/>
        </p:nvSpPr>
        <p:spPr>
          <a:xfrm>
            <a:off x="685800" y="2209680"/>
            <a:ext cx="7696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венство двух функций, рассматриваемых в общей области определения, называется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уравнением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еременные, входящие в уравнение, обозначаются латинскими буквами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, z, m…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равнения с одной переменной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в общем виде записывается так 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 (x) = g 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сякое значение переменной, при кото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 (x) =g (x)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нимают равные числовые значения называются корнем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WordArt 10"/>
          <p:cNvSpPr txBox="1"/>
          <p:nvPr/>
        </p:nvSpPr>
        <p:spPr>
          <a:xfrm>
            <a:off x="762120" y="533520"/>
            <a:ext cx="71625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ТАКОЕ УРАВНЕНИЕ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0880" y="10663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Решить уравнение – значит найти все его корни или доказать, что их нет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Например, уравнение 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100 + х =500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имеет единственный корень 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400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, так как только при этом значении переменной 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100 + х = 500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верное равенство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Уравнение 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(х – 1)(х - 2)=0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имеет два корня 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Для того, чтобы решить уравнение с одной переменной, нужно знать: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1.)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Правила, формулы или алгоритмы решения уравнений данного вида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2.)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Правила выполнения тождественных и равносильных преобразований, с помощью которых данное уравнение можно привести к простейшим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41"/>
          <p:cNvSpPr/>
          <p:nvPr/>
        </p:nvSpPr>
        <p:spPr>
          <a:xfrm>
            <a:off x="152280" y="1219320"/>
            <a:ext cx="8763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аким образом, решение каждого уравнения складывается из двух основных час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)Преобразования данного уравнения к простейш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)Решение простейших уравнений по известным правилам, формулам или алгоритм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ли вторая часть является алгоритмической , то первая часть – в значительной степени – эвристической. В процессе решения уравнений его стараются заменить более простым, поэтому важно знать с помощью каких преобразований это возмож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6"/>
          <p:cNvSpPr/>
          <p:nvPr/>
        </p:nvSpPr>
        <p:spPr>
          <a:xfrm>
            <a:off x="609480" y="2133720"/>
            <a:ext cx="815364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равнения, имеющие одни и те же корни, называются равносильными. Равносильными считаются и уравнения, каждое из которых не имеет кор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пример, уравнение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 + 900 = 1000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 +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+400 = 500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равносильны, так как каждое из них имеет единственный корень –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00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WordArt 18"/>
          <p:cNvSpPr txBox="1"/>
          <p:nvPr/>
        </p:nvSpPr>
        <p:spPr>
          <a:xfrm>
            <a:off x="685800" y="762120"/>
            <a:ext cx="7772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ВНОСИЛЬНЫЕ УРАВНЕ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762120" y="1066680"/>
            <a:ext cx="769608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 равносильным преобразованиям относя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) Если к обеим частям уравнения прибавить одно и тоже число или одно и тоже целое алгебраическое выражение, содержащее неизвестное, то новое уравнение будет равносильно данн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) Если обе части уравнения умножить и разделить на одно и тоже отличное от нуля число, то получится уравнение, равносильное данн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пример, уравнение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 – 10 = 6 х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равносильно уравнению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10 = - х + 6 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) Если в уравнении произвести раскрытие скобок и привести подобные слагаемые, то получится уравнение, равносильно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анн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8"/>
          <p:cNvSpPr/>
          <p:nvPr/>
        </p:nvSpPr>
        <p:spPr>
          <a:xfrm>
            <a:off x="685800" y="1447920"/>
            <a:ext cx="8458200" cy="57686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бучение решения уравнений начинается с простейших     линейных уравнений и уравнений сходящимся к ним. Даётся  определение линейного уравнения и рассматриваются   случаи, когда оно имеет одно решение; не имеет решений и имеет бесконечное множество реш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Линейным уравнением с одной переменной х называют уравнение вида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ах =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 где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а и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– действительные числа, а – называют коэффициентом при переменной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b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свободным член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Многие уравнения в результате преобразований сводятся к линейны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WordArt 15"/>
          <p:cNvSpPr txBox="1"/>
          <p:nvPr/>
        </p:nvSpPr>
        <p:spPr>
          <a:xfrm>
            <a:off x="762120" y="152280"/>
            <a:ext cx="708660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НЕЙНЫЕ УРАВНЕ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mam</cp:lastModifiedBy>
  <dcterms:modified xsi:type="dcterms:W3CDTF">2010-01-11T16:01:40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