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2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png" ContentType="image/png"/>
  <Override PartName="/ppt/media/image11.jpeg" ContentType="image/jpeg"/>
  <Override PartName="/ppt/media/image30.png" ContentType="image/png"/>
  <Override PartName="/ppt/media/image28.wmf" ContentType="image/x-wmf"/>
  <Override PartName="/ppt/media/image3.jpeg" ContentType="image/jpeg"/>
  <Override PartName="/ppt/media/image14.png" ContentType="image/pn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15.jpeg" ContentType="image/jpeg"/>
  <Override PartName="/ppt/media/image25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87D-DCA4-49E9-8E9D-98A78DB5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E49-47E1-4241-95BB-809012F2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21D-0A2D-433F-9746-3BA18757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802-589C-4F1C-9A88-9DA3BDDF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A43-F615-4CD0-B127-415E54AF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FA3-B071-4BD0-A6C5-D42C1626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CEB-D826-452B-B17D-0C237919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729-62E0-4BFE-A434-6353A32C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1FC-8D5C-4926-8BBF-D7B6FCEC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38D-A7DB-4126-9494-38D26865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D69-61C2-405F-814B-5B46A071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E39-FF13-4DF1-B427-8188DC76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3E22-612F-4E7A-9BDF-ADE362687F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Жвачка сама по себе"/>
          <p:cNvPicPr/>
          <p:nvPr/>
        </p:nvPicPr>
        <p:blipFill>
          <a:blip r:embed="rId1"/>
          <a:stretch/>
        </p:blipFill>
        <p:spPr>
          <a:xfrm>
            <a:off x="496800" y="682560"/>
            <a:ext cx="4799160" cy="430848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566640" y="988920"/>
            <a:ext cx="8051760" cy="37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евательная резинка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льза или вред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4905360" y="4998960"/>
            <a:ext cx="4238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 работы: Шарифова Айш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ца 9А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Большечерниговская  СОШ №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ный  руководитель: Муравлева О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хим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4890960" y="522360"/>
            <a:ext cx="384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шщзж"/>
          <p:cNvPicPr/>
          <p:nvPr/>
        </p:nvPicPr>
        <p:blipFill>
          <a:blip r:embed="rId1"/>
          <a:stretch/>
        </p:blipFill>
        <p:spPr>
          <a:xfrm>
            <a:off x="4908600" y="1193760"/>
            <a:ext cx="3722760" cy="458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хим"/>
          <p:cNvPicPr/>
          <p:nvPr/>
        </p:nvPicPr>
        <p:blipFill>
          <a:blip r:embed="rId2"/>
          <a:stretch/>
        </p:blipFill>
        <p:spPr>
          <a:xfrm>
            <a:off x="519120" y="1730520"/>
            <a:ext cx="3695760" cy="4284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3"/>
          <p:cNvSpPr/>
          <p:nvPr/>
        </p:nvSpPr>
        <p:spPr>
          <a:xfrm>
            <a:off x="444600" y="613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96600" y="6041880"/>
            <a:ext cx="3400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нтрированной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ёлтое окраш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4919760" y="6154560"/>
            <a:ext cx="354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4905360" y="6183360"/>
            <a:ext cx="36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5008680" y="5925960"/>
            <a:ext cx="3440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нтрированной – фиолетовое окраш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8"/>
          <p:cNvSpPr txBox="1"/>
          <p:nvPr/>
        </p:nvSpPr>
        <p:spPr>
          <a:xfrm>
            <a:off x="5105520" y="485640"/>
            <a:ext cx="3068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Свойства ментол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96" name="WordArt 19"/>
          <p:cNvSpPr txBox="1"/>
          <p:nvPr/>
        </p:nvSpPr>
        <p:spPr>
          <a:xfrm>
            <a:off x="803160" y="317520"/>
            <a:ext cx="31734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Обнаружение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фенилаланина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в аспартам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928800" y="316080"/>
            <a:ext cx="7638840" cy="12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474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Свойства красителей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474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474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входящих в состав жвачк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474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24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22440" y="2076480"/>
          <a:ext cx="7968960" cy="3801960"/>
        </p:xfrm>
        <a:graphic>
          <a:graphicData uri="http://schemas.openxmlformats.org/drawingml/2006/table">
            <a:tbl>
              <a:tblPr/>
              <a:tblGrid>
                <a:gridCol w="1565280"/>
                <a:gridCol w="1707840"/>
                <a:gridCol w="1413000"/>
                <a:gridCol w="1717560"/>
                <a:gridCol w="1565280"/>
              </a:tblGrid>
              <a:tr h="547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жва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опы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 водного экстракта жва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лени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агретый раств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ление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нагретый раств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 пробирки 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bba Bubba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десная черни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вор насыщенно-малинового ц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вор светло-красного ц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f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вор тёмно-розового ц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5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вор красно-коричневого ц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3d1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P1030201"/>
          <p:cNvPicPr/>
          <p:nvPr/>
        </p:nvPicPr>
        <p:blipFill>
          <a:blip r:embed="rId1"/>
          <a:stretch/>
        </p:blipFill>
        <p:spPr>
          <a:xfrm>
            <a:off x="874800" y="1290600"/>
            <a:ext cx="2674800" cy="20145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6"/>
          <p:cNvSpPr txBox="1"/>
          <p:nvPr/>
        </p:nvSpPr>
        <p:spPr>
          <a:xfrm>
            <a:off x="1774800" y="228600"/>
            <a:ext cx="549756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474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Мнение специалистов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474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102" name="Picture 8" descr="P1030214"/>
          <p:cNvPicPr/>
          <p:nvPr/>
        </p:nvPicPr>
        <p:blipFill>
          <a:blip r:embed="rId2"/>
          <a:stretch/>
        </p:blipFill>
        <p:spPr>
          <a:xfrm>
            <a:off x="5465880" y="1309680"/>
            <a:ext cx="2730240" cy="2000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P1030357"/>
          <p:cNvPicPr/>
          <p:nvPr/>
        </p:nvPicPr>
        <p:blipFill>
          <a:blip r:embed="rId3"/>
          <a:stretch/>
        </p:blipFill>
        <p:spPr>
          <a:xfrm>
            <a:off x="888840" y="4006800"/>
            <a:ext cx="2662560" cy="20494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0"/>
          <p:cNvSpPr/>
          <p:nvPr/>
        </p:nvSpPr>
        <p:spPr>
          <a:xfrm>
            <a:off x="554040" y="3294000"/>
            <a:ext cx="3427560" cy="608040"/>
          </a:xfrm>
          <a:prstGeom prst="roundRect">
            <a:avLst>
              <a:gd name="adj" fmla="val 16667"/>
            </a:avLst>
          </a:prstGeom>
          <a:solidFill>
            <a:srgbClr val="ff85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матолог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ткелбаева Айжан Зинитулло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5094360" y="3305160"/>
            <a:ext cx="3427200" cy="1042920"/>
          </a:xfrm>
          <a:prstGeom prst="roundRect">
            <a:avLst>
              <a:gd name="adj" fmla="val 16667"/>
            </a:avLst>
          </a:prstGeom>
          <a:solidFill>
            <a:srgbClr val="ff85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5235480" y="3403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5162400" y="3360600"/>
            <a:ext cx="331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диатр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хватилина Светлана Сергеев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ольцева Ольга Викторовн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6"/>
          <p:cNvSpPr/>
          <p:nvPr/>
        </p:nvSpPr>
        <p:spPr>
          <a:xfrm>
            <a:off x="525600" y="6060960"/>
            <a:ext cx="3427200" cy="608040"/>
          </a:xfrm>
          <a:prstGeom prst="roundRect">
            <a:avLst>
              <a:gd name="adj" fmla="val 16667"/>
            </a:avLst>
          </a:prstGeom>
          <a:solidFill>
            <a:srgbClr val="ff85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сихолог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лова Ирина Владимиро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5135400" y="5075280"/>
            <a:ext cx="3427560" cy="1116000"/>
          </a:xfrm>
          <a:prstGeom prst="roundRect">
            <a:avLst>
              <a:gd name="adj" fmla="val 16667"/>
            </a:avLst>
          </a:prstGeom>
          <a:solidFill>
            <a:srgbClr val="ff85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рапевт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бирова Роза Иван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485640" y="0"/>
            <a:ext cx="7777440" cy="22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Palatino Linotype"/>
              </a:rPr>
              <a:t>Польза жевательной резин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317520" y="2770200"/>
            <a:ext cx="2496960" cy="1306440"/>
          </a:xfrm>
          <a:prstGeom prst="ellipse">
            <a:avLst/>
          </a:prstGeom>
          <a:solidFill>
            <a:srgbClr val="fba3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679320" y="4665600"/>
            <a:ext cx="2729160" cy="1886040"/>
          </a:xfrm>
          <a:prstGeom prst="ellipse">
            <a:avLst/>
          </a:prstGeom>
          <a:solidFill>
            <a:srgbClr val="fba3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3305160" y="3349800"/>
            <a:ext cx="2814480" cy="1671480"/>
          </a:xfrm>
          <a:prstGeom prst="ellipse">
            <a:avLst/>
          </a:prstGeom>
          <a:solidFill>
            <a:srgbClr val="fba3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6002280" y="4768920"/>
            <a:ext cx="2540160" cy="1755720"/>
          </a:xfrm>
          <a:prstGeom prst="ellipse">
            <a:avLst/>
          </a:prstGeom>
          <a:solidFill>
            <a:srgbClr val="fba3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4"/>
          <p:cNvSpPr/>
          <p:nvPr/>
        </p:nvSpPr>
        <p:spPr>
          <a:xfrm>
            <a:off x="6392880" y="2330280"/>
            <a:ext cx="2482920" cy="1262160"/>
          </a:xfrm>
          <a:prstGeom prst="ellipse">
            <a:avLst/>
          </a:prstGeom>
          <a:solidFill>
            <a:srgbClr val="fba3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5979960" y="1930320"/>
            <a:ext cx="463680" cy="696960"/>
          </a:xfrm>
          <a:custGeom>
            <a:avLst/>
            <a:gdLst>
              <a:gd name="textAreaLeft" fmla="*/ 61920 w 463680"/>
              <a:gd name="textAreaRight" fmla="*/ 401760 w 463680"/>
              <a:gd name="textAreaTop" fmla="*/ 121680 h 696960"/>
              <a:gd name="textAreaBottom" fmla="*/ 505440 h 69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714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2481120" y="2178000"/>
            <a:ext cx="493920" cy="623880"/>
          </a:xfrm>
          <a:custGeom>
            <a:avLst/>
            <a:gdLst>
              <a:gd name="textAreaLeft" fmla="*/ 65880 w 493920"/>
              <a:gd name="textAreaRight" fmla="*/ 428040 w 493920"/>
              <a:gd name="textAreaTop" fmla="*/ 109080 h 623880"/>
              <a:gd name="textAreaBottom" fmla="*/ 45252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14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9"/>
          <p:cNvSpPr/>
          <p:nvPr/>
        </p:nvSpPr>
        <p:spPr>
          <a:xfrm>
            <a:off x="4481640" y="2119320"/>
            <a:ext cx="304560" cy="985680"/>
          </a:xfrm>
          <a:prstGeom prst="downArrow">
            <a:avLst>
              <a:gd name="adj1" fmla="val 50000"/>
              <a:gd name="adj2" fmla="val 80910"/>
            </a:avLst>
          </a:prstGeom>
          <a:solidFill>
            <a:srgbClr val="714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8283600" y="4324320"/>
            <a:ext cx="493560" cy="623880"/>
          </a:xfrm>
          <a:custGeom>
            <a:avLst/>
            <a:gdLst>
              <a:gd name="textAreaLeft" fmla="*/ 65880 w 493560"/>
              <a:gd name="textAreaRight" fmla="*/ 427680 w 493560"/>
              <a:gd name="textAreaTop" fmla="*/ 109080 h 623880"/>
              <a:gd name="textAreaBottom" fmla="*/ 45252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14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361800" y="4425840"/>
            <a:ext cx="463680" cy="696960"/>
          </a:xfrm>
          <a:custGeom>
            <a:avLst/>
            <a:gdLst>
              <a:gd name="textAreaLeft" fmla="*/ 61920 w 463680"/>
              <a:gd name="textAreaRight" fmla="*/ 401760 w 463680"/>
              <a:gd name="textAreaTop" fmla="*/ 121680 h 696960"/>
              <a:gd name="textAreaBottom" fmla="*/ 505440 h 69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714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378000" y="3048120"/>
            <a:ext cx="226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чищает и освежает полость 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3333600" y="3710160"/>
            <a:ext cx="271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ренирует жевательные мышц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 кровооб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дёс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6659640" y="2546280"/>
            <a:ext cx="201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осстанавливает кислотно-щелочной балан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4"/>
          <p:cNvSpPr/>
          <p:nvPr/>
        </p:nvSpPr>
        <p:spPr>
          <a:xfrm>
            <a:off x="968400" y="4943520"/>
            <a:ext cx="2135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тимулирует слюноотделение, увеличивает пищеварительну акти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5"/>
          <p:cNvSpPr/>
          <p:nvPr/>
        </p:nvSpPr>
        <p:spPr>
          <a:xfrm>
            <a:off x="6353280" y="5345280"/>
            <a:ext cx="201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пособствует снятию стр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рпае"/>
          <p:cNvPicPr/>
          <p:nvPr/>
        </p:nvPicPr>
        <p:blipFill>
          <a:blip r:embed="rId1"/>
          <a:stretch/>
        </p:blipFill>
        <p:spPr>
          <a:xfrm>
            <a:off x="2087640" y="3146400"/>
            <a:ext cx="5035320" cy="3435480"/>
          </a:xfrm>
          <a:prstGeom prst="rect">
            <a:avLst/>
          </a:prstGeom>
          <a:ln w="0">
            <a:noFill/>
          </a:ln>
        </p:spPr>
      </p:pic>
      <p:sp>
        <p:nvSpPr>
          <p:cNvPr id="127" name="WordArt 11"/>
          <p:cNvSpPr txBox="1"/>
          <p:nvPr/>
        </p:nvSpPr>
        <p:spPr>
          <a:xfrm>
            <a:off x="2368440" y="507960"/>
            <a:ext cx="4303800" cy="22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Вред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1"/>
          <p:cNvSpPr/>
          <p:nvPr/>
        </p:nvSpPr>
        <p:spPr>
          <a:xfrm>
            <a:off x="608040" y="2873520"/>
            <a:ext cx="413712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4424400" y="5556240"/>
            <a:ext cx="4383000" cy="94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4424400" y="4483080"/>
            <a:ext cx="4425840" cy="841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4992840" y="304920"/>
            <a:ext cx="3875040" cy="94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Улыбка похожа на вампирическую"/>
          <p:cNvPicPr/>
          <p:nvPr/>
        </p:nvPicPr>
        <p:blipFill>
          <a:blip r:embed="rId5"/>
          <a:stretch/>
        </p:blipFill>
        <p:spPr>
          <a:xfrm>
            <a:off x="519120" y="301680"/>
            <a:ext cx="4191120" cy="2263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78"/>
          <p:cNvPicPr/>
          <p:nvPr/>
        </p:nvPicPr>
        <p:blipFill>
          <a:blip r:embed="rId6"/>
          <a:stretch/>
        </p:blipFill>
        <p:spPr>
          <a:xfrm>
            <a:off x="5164200" y="1488960"/>
            <a:ext cx="3529080" cy="26082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4994280" y="35712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ают жевательную нагрузку, приводит к дефектам зубных ря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http://smena.ru/news/2003/11/13/1378/2.jpg"/>
          <p:cNvPicPr/>
          <p:nvPr/>
        </p:nvPicPr>
        <p:blipFill>
          <a:blip r:embed="rId7"/>
          <a:stretch/>
        </p:blipFill>
        <p:spPr>
          <a:xfrm>
            <a:off x="896760" y="4197240"/>
            <a:ext cx="3200400" cy="23623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4248000" y="559584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харосодержащие жевательные резинки способствует развит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и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47560" y="2952720"/>
            <a:ext cx="43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оматизаторы, подсластители и консерванты вредят печени и почкам, вызывают аллерг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383000" y="4583160"/>
            <a:ext cx="44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зывает стоматиты, нарушают прикус у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423720" y="5356080"/>
            <a:ext cx="4761000" cy="1087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3773520" y="839880"/>
            <a:ext cx="4803840" cy="108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енргол"/>
          <p:cNvPicPr/>
          <p:nvPr/>
        </p:nvPicPr>
        <p:blipFill>
          <a:blip r:embed="rId3"/>
          <a:stretch/>
        </p:blipFill>
        <p:spPr>
          <a:xfrm>
            <a:off x="5695920" y="2624040"/>
            <a:ext cx="2736720" cy="363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13766"/>
          <p:cNvPicPr/>
          <p:nvPr/>
        </p:nvPicPr>
        <p:blipFill>
          <a:blip r:embed="rId4"/>
          <a:stretch/>
        </p:blipFill>
        <p:spPr>
          <a:xfrm>
            <a:off x="919080" y="565200"/>
            <a:ext cx="2340000" cy="4357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3753000" y="936720"/>
            <a:ext cx="484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ает тонус жевательных мышц, что вызывает скрип зубами, и как результат плохо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428760" y="5421240"/>
            <a:ext cx="47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рилепленной под школьную парту жвачке несколько дней живут микробы больного школьника, жевавшего 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3"/>
          <p:cNvSpPr/>
          <p:nvPr/>
        </p:nvSpPr>
        <p:spPr>
          <a:xfrm>
            <a:off x="739800" y="5270400"/>
            <a:ext cx="4441680" cy="81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404640" y="3816360"/>
            <a:ext cx="5196240" cy="885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1"/>
          <p:cNvSpPr/>
          <p:nvPr/>
        </p:nvSpPr>
        <p:spPr>
          <a:xfrm>
            <a:off x="4122720" y="2178000"/>
            <a:ext cx="4716360" cy="94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4137120" y="582480"/>
            <a:ext cx="4687920" cy="1219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88880" y="412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Жвачка поможет увеличить размер груди"/>
          <p:cNvPicPr/>
          <p:nvPr/>
        </p:nvPicPr>
        <p:blipFill>
          <a:blip r:embed="rId5"/>
          <a:stretch/>
        </p:blipFill>
        <p:spPr>
          <a:xfrm>
            <a:off x="5853240" y="3844800"/>
            <a:ext cx="2882880" cy="24447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1198440" y="4913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87280" y="39574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вание на голодный желудок развивает и обостряет гастриты и яз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145040" y="644400"/>
            <a:ext cx="466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заглатывании жвачка  накапливается в толстом кишечни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может привести к его не проход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4011480" y="2200320"/>
            <a:ext cx="49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ствует снижению интеллекта, отвлекает внимание школьников, ослабляет процесс мышления и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314280" y="5116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692280" y="5361120"/>
            <a:ext cx="44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жвачке формируется привыкание как к кофе, сигаретам, алкого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5" descr="жев"/>
          <p:cNvPicPr/>
          <p:nvPr/>
        </p:nvPicPr>
        <p:blipFill>
          <a:blip r:embed="rId6"/>
          <a:stretch/>
        </p:blipFill>
        <p:spPr>
          <a:xfrm>
            <a:off x="622440" y="573120"/>
            <a:ext cx="3119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кро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9" descr="C:\Documents and Settings\User\Рабочий стол\Всякое разное, интересное\Личные фотки\Мой личный альбом\Школьные дни\100_05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4"/>
          <p:cNvSpPr txBox="1"/>
          <p:nvPr/>
        </p:nvSpPr>
        <p:spPr>
          <a:xfrm>
            <a:off x="771480" y="1913040"/>
            <a:ext cx="7718400" cy="23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Социологический опрос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школьников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нролбю"/>
          <p:cNvPicPr/>
          <p:nvPr/>
        </p:nvPicPr>
        <p:blipFill>
          <a:blip r:embed="rId1"/>
          <a:stretch/>
        </p:blipFill>
        <p:spPr>
          <a:xfrm>
            <a:off x="603360" y="1227240"/>
            <a:ext cx="3531960" cy="5292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P1030218"/>
          <p:cNvPicPr/>
          <p:nvPr/>
        </p:nvPicPr>
        <p:blipFill>
          <a:blip r:embed="rId2"/>
          <a:stretch/>
        </p:blipFill>
        <p:spPr>
          <a:xfrm>
            <a:off x="5059440" y="420840"/>
            <a:ext cx="366696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6"/>
          <p:cNvGraphicFramePr/>
          <p:nvPr/>
        </p:nvGraphicFramePr>
        <p:xfrm>
          <a:off x="0" y="71280"/>
          <a:ext cx="9144000" cy="703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280"/>
                    <a:ext cx="9144000" cy="70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378000" y="1864080"/>
            <a:ext cx="8431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вать надо только после еды в течение 10- 20 мину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вать резинку можно не чаще 3-4 раз в де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жевать на голодный желуд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очитать жвачку с сахарозаменител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использовать жевательную резинку с красител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допустимо заглатывание  жевательной резин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ользуемая жевательная резинка должна быть произведена известной    фирмой, положительно зарекомендовавшей себя на рынке и строго следящей за качеством своей продук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вать её следует аккуратно, без демонстрации «спецэффектов», особенно если вы находитесь в общественных мест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треблять жевательную резинку только в уместных ситуациях, чтобы не оказаться некультурным человек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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ользованная жвачка должна выбрасываться только в специально предназначенные для этих целей места в мусорные урны, и ни в коем случае – под но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5"/>
          <p:cNvSpPr txBox="1"/>
          <p:nvPr/>
        </p:nvSpPr>
        <p:spPr>
          <a:xfrm>
            <a:off x="1116000" y="349200"/>
            <a:ext cx="6821640" cy="11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Правила пользования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жевательной резинк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C:\Documents and Settings\User\Рабочий стол\Всё для школы\Научная работа по химии\гно.bmp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5"/>
          <p:cNvSpPr txBox="1"/>
          <p:nvPr/>
        </p:nvSpPr>
        <p:spPr>
          <a:xfrm>
            <a:off x="712800" y="538200"/>
            <a:ext cx="7518240" cy="542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d311b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Помните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d311b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d311b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Никакая жевательная резин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d311b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d311b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не сможет заменить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d311b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d311b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полноценную чистку зубов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d311b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d311b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зубной пастой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d311b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кенрго"/>
          <p:cNvPicPr/>
          <p:nvPr/>
        </p:nvPicPr>
        <p:blipFill>
          <a:blip r:embed="rId1"/>
          <a:stretch/>
        </p:blipFill>
        <p:spPr>
          <a:xfrm>
            <a:off x="326880" y="293760"/>
            <a:ext cx="3394080" cy="2476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http://www.e-motion.com.ua/img/newses/chewing_gum(200x200)%5b10159%5d.jpg"/>
          <p:cNvPicPr/>
          <p:nvPr/>
        </p:nvPicPr>
        <p:blipFill>
          <a:blip r:embed="rId2"/>
          <a:stretch/>
        </p:blipFill>
        <p:spPr>
          <a:xfrm>
            <a:off x="5308560" y="1328760"/>
            <a:ext cx="3414600" cy="34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укенгшрао"/>
          <p:cNvPicPr/>
          <p:nvPr/>
        </p:nvPicPr>
        <p:blipFill>
          <a:blip r:embed="rId3"/>
          <a:stretch/>
        </p:blipFill>
        <p:spPr>
          <a:xfrm>
            <a:off x="1409760" y="4386240"/>
            <a:ext cx="3029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460440" y="461880"/>
            <a:ext cx="260676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d311b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lbertus Medium"/>
              </a:rPr>
              <a:t>Цель работы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d311b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lbertus Medium"/>
              <a:ea typeface="Albertus Medium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484200" y="1552680"/>
            <a:ext cx="16714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933640" y="1608120"/>
            <a:ext cx="570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1. Ознакомиться с историей возникновения жевательной рез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2. Изучить свойства жевательной рез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3. Познакомиться с мнением специалистов-медиков и рез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4. Провести анкетирование учащихся, узнать что им известно о пользе и вреде жевательных резин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сихолога о пользе и вреде жева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403440" y="409680"/>
            <a:ext cx="495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Изучение свойств жевательной резинки в различных условиях и влияние её на организ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3"/>
          <p:cNvSpPr txBox="1"/>
          <p:nvPr/>
        </p:nvSpPr>
        <p:spPr>
          <a:xfrm>
            <a:off x="528480" y="4994280"/>
            <a:ext cx="172908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ъек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4313160" y="5011560"/>
            <a:ext cx="441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Жевательные резинки:  (Orbit «Спелая малина», Orbit «Сладкая мята»,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ubba Bubba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«Чудесная черника»,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irol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«Ягодный мик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5"/>
          <p:cNvSpPr txBox="1"/>
          <p:nvPr/>
        </p:nvSpPr>
        <p:spPr>
          <a:xfrm>
            <a:off x="519120" y="5759280"/>
            <a:ext cx="3152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следования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419120" y="384120"/>
            <a:ext cx="596916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d311b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История появлени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d311b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d311b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жевательной резинк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d311b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57" name="Picture 5" descr="16057"/>
          <p:cNvPicPr/>
          <p:nvPr/>
        </p:nvPicPr>
        <p:blipFill>
          <a:blip r:embed="rId1"/>
          <a:stretch/>
        </p:blipFill>
        <p:spPr>
          <a:xfrm>
            <a:off x="450720" y="1893960"/>
            <a:ext cx="2500560" cy="2014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16059"/>
          <p:cNvPicPr/>
          <p:nvPr/>
        </p:nvPicPr>
        <p:blipFill>
          <a:blip r:embed="rId2"/>
          <a:stretch/>
        </p:blipFill>
        <p:spPr>
          <a:xfrm>
            <a:off x="5613480" y="4255920"/>
            <a:ext cx="2965320" cy="1989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3373560" y="1903320"/>
            <a:ext cx="47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-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ячелетия до н.э. – первые сведения об употреблении человеком жевательной см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3400560" y="3014640"/>
            <a:ext cx="47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коммерческая жевательная резинка стала изготавливаться с 23 сентября 1848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644400" y="4303800"/>
            <a:ext cx="43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50 год - появление жевательных резинок без саха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46200" y="5273640"/>
            <a:ext cx="415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28 год - Уолтер Диемер придумал удачную форму жевательной резинки и окрасил в розовый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23"/>
          <p:cNvSpPr/>
          <p:nvPr/>
        </p:nvSpPr>
        <p:spPr>
          <a:xfrm>
            <a:off x="2540160" y="2017800"/>
            <a:ext cx="3960720" cy="29019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2602080" y="2260440"/>
            <a:ext cx="3895560" cy="22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Состав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жевательной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резинк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6705720" y="2813040"/>
            <a:ext cx="2190600" cy="1103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409680" y="2828880"/>
            <a:ext cx="168264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7"/>
          <p:cNvSpPr/>
          <p:nvPr/>
        </p:nvSpPr>
        <p:spPr>
          <a:xfrm>
            <a:off x="3510000" y="257040"/>
            <a:ext cx="2190600" cy="1103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6805440" y="866880"/>
            <a:ext cx="1695600" cy="110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9"/>
          <p:cNvSpPr/>
          <p:nvPr/>
        </p:nvSpPr>
        <p:spPr>
          <a:xfrm>
            <a:off x="676440" y="5176800"/>
            <a:ext cx="2509560" cy="12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320760" y="841320"/>
            <a:ext cx="2190600" cy="1103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523800" y="1017720"/>
            <a:ext cx="175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Стабилизатор Е 422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- это глицер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463680" y="2975040"/>
            <a:ext cx="159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Эмульгатор Е322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- это лецит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770040" y="5386320"/>
            <a:ext cx="240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Антиоксидант Е320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- это бутилгидрооксианизо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6"/>
          <p:cNvSpPr/>
          <p:nvPr/>
        </p:nvSpPr>
        <p:spPr>
          <a:xfrm>
            <a:off x="6029280" y="5187960"/>
            <a:ext cx="2524320" cy="12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3701880" y="390600"/>
            <a:ext cx="175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Кислота Е330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– это лимонная кисло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6875640" y="1003320"/>
            <a:ext cx="150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Загуститель Е414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– это гуммиараб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6921360" y="298944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Глазурь Е903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- это карнаубский вос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6399360" y="5357880"/>
            <a:ext cx="18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Ароматизаторы натуральные и искусственн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хим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0" name="WordArt 4"/>
          <p:cNvSpPr txBox="1"/>
          <p:nvPr/>
        </p:nvSpPr>
        <p:spPr>
          <a:xfrm>
            <a:off x="320760" y="1911240"/>
            <a:ext cx="8461440" cy="26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474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Химическое исследование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474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474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жевательной резинк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474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89040" y="1123920"/>
          <a:ext cx="7927920" cy="5670720"/>
        </p:xfrm>
        <a:graphic>
          <a:graphicData uri="http://schemas.openxmlformats.org/drawingml/2006/table">
            <a:tbl>
              <a:tblPr/>
              <a:tblGrid>
                <a:gridCol w="774720"/>
                <a:gridCol w="1963800"/>
                <a:gridCol w="2017440"/>
                <a:gridCol w="3171960"/>
              </a:tblGrid>
              <a:tr h="502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жва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зультаты опы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б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бавление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aOH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SO</a:t>
                      </a:r>
                      <a:r>
                        <a:rPr b="0" lang="ru-RU" sz="20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пелая малин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утный раст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Выпал ярко синий осад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11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ладкая мят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утный раст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Выпал ярко си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осад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11ff"/>
                    </a:solidFill>
                  </a:tcPr>
                </a:tc>
              </a:tr>
              <a:tr h="13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ubba Bub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Чудесная черн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твор окрасился в розовый ц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Выпал ярко синий осад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11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годный микс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елый мутный раст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Выпал ярко синий осад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11ff"/>
                    </a:solidFill>
                  </a:tcPr>
                </a:tc>
              </a:tr>
            </a:tbl>
          </a:graphicData>
        </a:graphic>
      </p:graphicFrame>
      <p:sp>
        <p:nvSpPr>
          <p:cNvPr id="82" name="WordArt 161"/>
          <p:cNvSpPr txBox="1"/>
          <p:nvPr/>
        </p:nvSpPr>
        <p:spPr>
          <a:xfrm>
            <a:off x="722160" y="316080"/>
            <a:ext cx="7583760" cy="54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474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Определение многоатомных спиртов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474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770120" y="566640"/>
            <a:ext cx="663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1076400"/>
          <a:ext cx="8450280" cy="5383080"/>
        </p:xfrm>
        <a:graphic>
          <a:graphicData uri="http://schemas.openxmlformats.org/drawingml/2006/table">
            <a:tbl>
              <a:tblPr/>
              <a:tblGrid>
                <a:gridCol w="1384200"/>
                <a:gridCol w="1689120"/>
                <a:gridCol w="1536840"/>
                <a:gridCol w="1888920"/>
                <a:gridCol w="1951200"/>
              </a:tblGrid>
              <a:tr h="334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ленные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жва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лая мали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ая мя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bba Bub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десная черник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годный мик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вор окрасился в слабо-рыжий цвет, а жвачка в ярко-рыж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вор и жвачка окрасились в ярко-рыжий 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вор окрасился в коричневый цвет, а жвачка в тёмно- коричне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вор и жвачка окрасились в рыжий 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й не произош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рхность жвачки стала порист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вачка окрасилась в оранжево- розовый 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вор окрасился в слабо-жёлтый цвет, а жвачка стала порист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вачка окрасилась в светло-жёлтый 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вачка частично разложила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вор окрасился в мутно-жёлтый цвет, а жвачка в коричне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вор окрасился в слабо-жёлтый цвет, а жвачка стала порист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й не произош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й не произош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й не произош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й не произош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ц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й не произош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й не произош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вачка побел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й не произош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вачка полностью разложила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вачка частично разложила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й не произош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вачка разложилась, выпал мутный осад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256"/>
          <p:cNvSpPr/>
          <p:nvPr/>
        </p:nvSpPr>
        <p:spPr>
          <a:xfrm>
            <a:off x="0" y="611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265"/>
          <p:cNvSpPr txBox="1"/>
          <p:nvPr/>
        </p:nvSpPr>
        <p:spPr>
          <a:xfrm>
            <a:off x="689040" y="333360"/>
            <a:ext cx="7667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474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Свойства резиновой основы жвачк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474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0:00:11Z</dcterms:created>
  <dc:creator>USER</dc:creator>
  <dc:description/>
  <dc:language>en-US</dc:language>
  <cp:lastModifiedBy>USER</cp:lastModifiedBy>
  <dcterms:modified xsi:type="dcterms:W3CDTF">2010-01-13T06:05:56Z</dcterms:modified>
  <cp:revision>10</cp:revision>
  <dc:subject/>
  <dc:title>Слайд 1</dc:title>
</cp:coreProperties>
</file>