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7B9-0E81-4D4D-A5D1-78EC7334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88C-E171-49B8-89CD-8505DFB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EC8-F94E-4F51-8DE0-BDF2C54E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C0F-081F-493E-9993-971365A6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2EFD9-E0B1-4DC6-9682-C7AC74A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663A4-D91A-4234-B1D0-FFA619C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87B4-0D90-48A8-902E-DF8464E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6ED6-BCAE-4F85-B69F-81B2ECC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6394F-6016-44A7-99FF-3864A33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FA158-A5C9-41E2-9AE3-35685DE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940D0-B162-459E-90A8-3FB9C2B9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11A-B58E-4374-9E9D-4A896D2B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A0467-5FD5-494B-8135-D8A2A43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B1363-A90F-477D-B654-64F2D66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94002-DA99-48AB-BA6B-262AB34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7A890-1F5E-413D-9DAC-438FE2DD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F433-DF74-4386-AE1C-AFEE2D39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D97-1B5A-4A4E-A358-87E7B595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76F-1749-4662-AD7E-5C3B5DB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D6B-31C9-4A65-83AE-F23D578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BA5-A390-42F2-B489-67E49FA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EF7-545A-4E12-AB18-BEC9B58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380-BF93-49F9-99B7-FA5E261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543-82D4-49B5-B353-52C7682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BF4-CE76-4D04-8F8F-DE2BE56B67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C71-C6C2-4236-8736-81A0E3E995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egodnya.ua/img/ui/_8b0dee81c41cab548424a62e44f128b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bse/fullsize/02103/85320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утешествие по трём морям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ощадь водосбора Бассейна Азовского моря составляет 586 000 км² (рис.2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рские берега в основном плоские и песчаные, только на южном берегу встречаются холмы вулканического происхождения, которые местами переходят в крутые передовые го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рские течения находятся в зависимости от дующих здесь очень сильных северо-восточных и юго-западных ветров и поэтому весьма часто меняют направление. Основным течением является круговое течение вдоль берегов Азовского моря против часовой стрел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а содержит очень мало соли в северной части Азовского моря. По этой причине море легко замерзает, и поэтому до появления ледоколов оно было несудоходно с декабря до середины апреля. Южная часть моря не замерзает и остается умеренной температ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течение XX века практически все более-менее крупные реки, впадающие в Азовское море, были перегорожены плотинами для создания водохранилищ. Это привело к значительному сокращению сброса пресной воды и ила в мо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ис.2 (кар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Картинка 11 из 115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933720"/>
            <a:ext cx="4751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стеме рыбного хозяйства Азовского моря в настоящее время включает 103 вида и подвида рыб, относящихся к 76 родам, и представлена проходными, полупроходными, морскими и пресноводными видами. Проходные виды рыб нагуливаются в море до наступления зрелости, а в реку заходят только на нерест. Период размножения в реках и или на займищах обычно не превышает 1-2 месяца. Среди азовских проходных рыб имеются ценнейшие промысловые виды, такие как белуга, осётр, севрюга, сельди, рыбец и шемая. Полупроходные виды для размножения заходят из моря в реки. Однако в реках они могут задерживаться на более продолжительное время, чем проходные (до года). Что касается молоди, то она скатывается из нерестилищ очень медленно и часто остается в реке на зимовку. К полупроходным рыбам относятся массовые виды, такие как судак, лещ, тарань, чехонь и некоторые другие. Морские виды размножаются и нагуливаются в солёных водах. Среди них выделяются виды, постоянно обитающие в Азовском море. Это - пиленгас, камбала-калкан, глосса, тюлька, перкарина, рыбы-иглы и все виды быч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е посчастливилось побывать на одном из самых красивых побережий Азовского моря станице Голубицкой (фото 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 райское место, где сама природа создала все условия для приятного отдыха. Теплое Азовское море, ласковое солнце и песчаные пляжи сделали уютную станицу популярнейшим курортным местечком на Тамани. Голубицкая – отличное место для ценителей лечебных свойств природы, ведь Таманский полуостров располагает щедрыми ресурсами целебных сероводородных и псевдовулканических гря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фото 5 Побережь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Картинка 147 из 401"/>
          <p:cNvPicPr/>
          <p:nvPr/>
        </p:nvPicPr>
        <p:blipFill>
          <a:blip r:embed="rId1"/>
          <a:stretch/>
        </p:blipFill>
        <p:spPr>
          <a:xfrm>
            <a:off x="900000" y="3213000"/>
            <a:ext cx="5077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ая достопримечательность Голубицкой – грязевое озеро Голубицкое (фото 6), расположенное на центральном пляже станицы. Эта небольшая лагуна длиной 600 метров и глубиной 1,5-2 метра, отделенная от моря песчано-ракушечной пересыпью, ценится содержанием брома и йода. Лечебная грязь эффективно помогает людям, страдающим костно-мышечными заболеваниями.  Я с таким удовольствием барахталась в этой грязи, что была похожа на свинюш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фото 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Картинка 194 из 401"/>
          <p:cNvPicPr/>
          <p:nvPr/>
        </p:nvPicPr>
        <p:blipFill>
          <a:blip r:embed="rId1"/>
          <a:stretch/>
        </p:blipFill>
        <p:spPr>
          <a:xfrm>
            <a:off x="971640" y="2492280"/>
            <a:ext cx="432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 и свой 10-й день варенья я отметила именно там (фото 7), после чего пора было собираться домой, где меня уже ждали билеты в очередное путешествие на Средиземное море Тур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фото 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1000828"/>
          <p:cNvPicPr/>
          <p:nvPr/>
        </p:nvPicPr>
        <p:blipFill>
          <a:blip r:embed="rId1"/>
          <a:stretch/>
        </p:blipFill>
        <p:spPr>
          <a:xfrm>
            <a:off x="826920" y="1484280"/>
            <a:ext cx="62280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  Средиземноморский курорт Турции (Ал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 и пришел черед поездки на самое солёное море из трёх мною исследованных мор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изе́мное мо́ре —  межматериковое море Атлантического океана, соединяющееся с ним на западе Гибралтарским пролив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иземное море вдаётся в сушу между Европой, Африкой и Азией. Моря бассейна Средиземного моря омывают берега 21 государ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иземное море одно из самых крупных по размеру морей. Его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ощадь 2 500 тысяч км². Объём воды 3 839 тысяч км³. Средняя глубина 1 541 м, максимальная — 5 121 м. (рис.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рис.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Картинка 12 из 21083"/>
          <p:cNvPicPr/>
          <p:nvPr/>
        </p:nvPicPr>
        <p:blipFill>
          <a:blip r:embed="rId1"/>
          <a:stretch/>
        </p:blipFill>
        <p:spPr>
          <a:xfrm>
            <a:off x="900000" y="4076640"/>
            <a:ext cx="388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н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редиземного мор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 многих местах слагается желтым карбонатным илом, ниже которого залегает синий ил. Вблизи устьев крупных рек синие илы перекрываются дельтовыми отложениями, занимающими большую площ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иземное море славится своим спокойствием и красотой, но, подобно другим морям, в определенные сезоны может быть бурным, и тогда большие волны обрушиваются на побережье (фото 8). Издавна Средиземноморье привлекает людей благоприятным клима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фото 8 «Побережье Алании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CIMG1673"/>
          <p:cNvPicPr/>
          <p:nvPr/>
        </p:nvPicPr>
        <p:blipFill>
          <a:blip r:embed="rId1"/>
          <a:stretch/>
        </p:blipFill>
        <p:spPr>
          <a:xfrm>
            <a:off x="971640" y="3141720"/>
            <a:ext cx="40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уна Средиземного моря характеризуется большим видовым разнообразием, однако число представителей отд. видов невелико. Рыб 550 видов (акулы, скумбриевые, сельдевые, анчоусовые, кефали, корифеновые, тунцы, пеламиды, ставриды и др.). Около 70 видов рыб-эндемики, в том числе скаты, виды хамсы, бычков, мор. собачек, губана и рыбы-иглы. Из съедобных моллюсков наибольшее значение имеют устрица, средиземноморско-черноморская мидия, морской финик. Из беспозвоночных распространены осьминоги, кальмары, сепии, крабы, лангуст; многочисленны виды медуз, сифонофор; в некоторых районах, особенно в Эгейском море, обитают губки и красный корал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асавица Алания раскинулась на скалистом мысе - это один из красивейших городов на южном побережье Турции, она была основана в IV в. до н.э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ания также знаменита своими пещерами (фото 8). Известковые воды, стекающие с потолка, образуют сталактиты и сталагмиты с необычайным разнообразием цветов, которые создают фантастические изображения, приводящие в изумление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фото 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CIMG1660"/>
          <p:cNvPicPr/>
          <p:nvPr/>
        </p:nvPicPr>
        <p:blipFill>
          <a:blip r:embed="rId1"/>
          <a:stretch/>
        </p:blipFill>
        <p:spPr>
          <a:xfrm>
            <a:off x="971640" y="4005360"/>
            <a:ext cx="3162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рег в Алании в разных местах разный, нам повезло, т.к. наше побережье в поселке Конаклы было из тёмного песка (фото 9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фото 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Турция"/>
          <p:cNvPicPr/>
          <p:nvPr/>
        </p:nvPicPr>
        <p:blipFill>
          <a:blip r:embed="rId1"/>
          <a:stretch/>
        </p:blipFill>
        <p:spPr>
          <a:xfrm>
            <a:off x="762120" y="1268280"/>
            <a:ext cx="58258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.   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всего вышесказанного я сделала вывод, что по солености на первом месте Средиземное море, т.к. в Средиземном море океаническая соленость воды 37%, в Азовском – 4%, в Черном - 1,8%, ; по размеру опять же Средиземное берёт высшую планку, т.к. площадь Средиземного мор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 500 тысяч км², Азовского моря составляет 586 000 км² , а Черного моря 422 000 км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смотря на сравнительный анализ мне понравилось везде, т.к. везде можно найти что-то особенное и не повторимое, где-то экзотические растения, где-то экзотические рыбы и живот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азывается, что познавать мир – это очень увлекательное занятие и я намеренна на этом не останавливать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 Вве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Черноморское побережье Болгарии (Албе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Азовское море России (Анап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Средиземноморский курорт Турции (Ал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e3e3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e3e3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e3e3ff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ники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I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  Список литерату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47240" indent="-1472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ная энциклопедия «Википед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ые наблю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мейные Фото-архивы прошедшего л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Стручкова Мария школа №438  4 «Б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 проекта: Васильева Екатерина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4000" y="31417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II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  Участники проек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. 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я работа – это исследование и сравнение структуры, свойства и необыкновенной сказочной жизни трёх морей на которых мне посчастливилось побывать этим летом. В своей работе я расскажу кто живёт и что растёт в этих на первый взгляд одинаковых, но на самом деле совсем разных водных просторах трёх морей: Чёрного, Азовского и Средизе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. Черноморское побережье                  Болгарии (Албена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чну свой рассказ с поездки на  Черное море Болгарии, потому что именно с него начались мои летние каникул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ь поездки моя была участие в Международном фестивале «Приятели на България», что в переводе на русский язык означает «Друзья Болгарии», со своим дружным коллективом – Шоу студией «Аллегро». И, конечно отдых и наслаждение Болгарским солнышком и «золотым» пес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ощадь Черного моря 422 000 км². Очертания Чёрного моря напоминают овал с наибольшей осью около 1150 км. (рис.1) Наибольшая протяжённость моря с севера на юг — 580 км. Наибольшая глубина — 2210 м, средняя — 1240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рис.1 (карта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Картинка 6 из 34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716280"/>
            <a:ext cx="53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ре омывает берега России, Украины, Румынии, Болгарии, Турции и Грузии и частично признанного государства Абхаз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ной особенностью Чёрного моря является полное отсутствие жизни на глубинах свыше 150—200 м за счёт насыщенности глубинных слоёв вод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ероводород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ёрное море — важный район транспортных перевозок, а также один из крупнейших курортных регионов Евраз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имо этого, Чёрное море сохраняет важное стратегическое и военное значение. В Севастополе и Новороссийске находятся основные военные базы российского Черноморского фл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женность болгарского побережья всего 378 км. Это реально восточная граница.  Огромное разнообразие пляжной полосы - Золотых песков и Албены или уютные заливы Святого Константина, шумные 100-метровой ширины пляжные зоны Солнечного берега, чередующиеся дюнами из блестящего белого мелкого пес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идские мореплаватели назвали море Ашаэна (темное море), древние греки - Понтос Евксинос (гостеприимное море), с целью смилостивить богов, в которых они верили. Позднее, славяне его назвали Черное море, из-за жестоких штормов, которые губили много кора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колько рек, такие как Дунай, Днепр, Дон и другие, вливаются в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ние морской соли - относительно низкое в сравнение с другими морями (почти в два раза ниже солености в Средиземном море). Максимальная высота волн не превышает 5 - 6 метра, а приливы и отливы почти не заметны - около 10 см. Вода чистая, летом - теплая и удобная для плавания (в Августе температура воды достигает 29-30oC. Большое преимущество Южного Болгарского Черномория - его восточное изложение, которое дает возможность туристам получать солнечные бани от ранней зо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оло 600 растительных и более 1500 животных вида встречается в водах Черного моря. Важным преимуществом является то, что здесь не встречаются животные опасные для человека. Близко до берега встречается часто кефаль и попчета, по - глубже - большие косяки хамсии, скатов, морские кошки, барбуни. От донных рыб встречаются калкан и камбала. В Черном море еще живут дельфины, а в близости до носа Калиакра встречается морской тюлень. Неотъемлемой частью морского пейзажа являются чайки и корморани. В Болгарии - в море отсутствуют опасные для человека рыбы. Есть акулы, но они боятся людей и по размеру уступают своим собратьям. Кстати! Панированное мясо черноморской акулы - прекрасная еда. Пляжи, покрытые мелким песком занимают почти 34 % прибрежной пол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 и конечно про Албену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бена - один из самых современных курортов северной части черноморского побережья Болгарии, расположен на территории национального заповедника «Балтата» -  редкое сочетание моря и лианового лес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м посчастливилось жить в самом сердце курорта отеле «Добруджа» (фото 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ре просто отличное. Несмотря на песок, море чистое. При отсутствии волн мы ловили крабиков и рачков-отшельников. Долгий мелкий вход в море позволяет спокойно плескаться на мелководье маленьким детям даже при сильном волнении - большие волны гораздо раньше обваливаются, и к берегу подкатываются лишь веселые пенные барашки. Пляж сам тоже чистый, с мелким сыпучим и приятным песочком из которого мы строили песочные замки (фото 2)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о1                                                         фото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P1000637"/>
          <p:cNvPicPr/>
          <p:nvPr/>
        </p:nvPicPr>
        <p:blipFill>
          <a:blip r:embed="rId1"/>
          <a:stretch/>
        </p:blipFill>
        <p:spPr>
          <a:xfrm>
            <a:off x="1042920" y="3933720"/>
            <a:ext cx="25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1000780"/>
          <p:cNvPicPr/>
          <p:nvPr/>
        </p:nvPicPr>
        <p:blipFill>
          <a:blip r:embed="rId2"/>
          <a:stretch/>
        </p:blipFill>
        <p:spPr>
          <a:xfrm>
            <a:off x="5292720" y="3933720"/>
            <a:ext cx="244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я сказочная поездка в Албену  закончилась. Наши выступления (фото 3) на фестивале не прошли даром, а наш коллектив стал Лауреатом в нескольких номинациях. (фото 4). И с прекрасным настроением я вернулась до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то 3 (выступление                                               фото 4 (я в первом ряд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я – самая маленькая с микрофоном)                вторая спра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P1000564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IMG1479"/>
          <p:cNvPicPr/>
          <p:nvPr/>
        </p:nvPicPr>
        <p:blipFill>
          <a:blip r:embed="rId2"/>
          <a:stretch/>
        </p:blipFill>
        <p:spPr>
          <a:xfrm>
            <a:off x="4500720" y="1628640"/>
            <a:ext cx="41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зовское море России (Анапа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успела я отойти от эмоций после поездки в Болгарию, как мы стали собираться в путешествие на Азовское море в станицу Голубицк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так от чего же произошло это название? Восточным славянам море стало известным в I в н. э. и нарекли они его Синее  море. После образования Тмутараканского княжества море стали называть Русским. С падением княжества море переименовывается многократно (Самакуш, Салакар, Майутис и т. п.). В начале XIII в. утверждается название Саксинское море. Татаро-монгольские завоеватели пополнили коллекцию имен Азова: Балык-денгиз (рыбное море) и Чабак-денгиз (чабачье, лещевое море). По некоторым данным Чабак-денгиз в результате трансформации: чабак — дзыбах — забак — азак — азов — произошло современное название моря (что сомнительно). По другим данным азак — тюркское прилагательное, означающее низкий, низменный, по другим данным, азак (тюркское устье реки), которое трансформировалось в Азау, а затем в русское Азов. В промежутке вышеуказанных названий море получало еще и следующие: Барэль-Азов (Темно-синяя река); Фракийское море (под фракийцами понимались генуэзцы и венецианцы); Сурожское море (Сурожем назывался современный г. Судак в Крыму); Каффское море (Каффа — итальянская колония на месте современного г. Феодосии в Крыму); Киммерийское море (от киммерийцев); Акденгиз (турецкое, означающее Белое море). Наиболее достоверно, что современное название моря происходит по городу 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46:26Z</dcterms:created>
  <dc:creator>E_Kotova</dc:creator>
  <dc:description/>
  <dc:language>en-US</dc:language>
  <cp:lastModifiedBy>ВасильеваЕ</cp:lastModifiedBy>
  <dcterms:modified xsi:type="dcterms:W3CDTF">2009-11-17T11:11:41Z</dcterms:modified>
  <cp:revision>27</cp:revision>
  <dc:subject/>
  <dc:title>Путешествие по трём морям</dc:title>
</cp:coreProperties>
</file>