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32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6.wmf" ContentType="image/x-wmf"/>
  <Override PartName="/ppt/media/image16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C4D2-F4F9-48C0-8DA4-202CB4C67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E338-3C0C-42DF-B902-D60606F6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0804-AE93-4625-9C65-80B966C74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0766-436B-485F-81E2-66E236FD4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9D00-5F5D-4C23-AFA6-D565569A6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8F985-3A82-4A2D-8E5C-7284D7A5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B15C-D00A-4726-BE4C-79B009AF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8F1D-5B64-4BBC-8751-0DEB7CDA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697A-97E8-47A4-AE61-E2C0DFB9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51032-18E5-4EF2-BD55-AC413A5B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AB13A-2DBE-4310-8CD8-DBC07634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6744-9D05-45F4-A1F3-209A62B0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D22C-27A0-41B4-BF53-FD9DB834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1149-05E5-4F26-93C0-B456DB33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4435-5C24-4B89-B594-9E0187A8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7853-CAC8-4338-9E4A-58B07AA0C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736C-0B76-4C54-AAA8-A2BC88A36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8C87-4FE9-4872-8959-87F0594C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6F77-4A52-47BB-B953-76E6EA78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DEA3-99A9-4CEE-A33A-2072652C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C2C5-23CD-47C6-A365-39A4FC3C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0167-2FDF-463A-BF8C-147C169C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0DFA-57E2-46F7-9FE9-48A63BB4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E4C8-C255-4C49-92A9-33B74F38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FEF9-2A46-4D25-9068-FD0DB32F66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9BF6-E561-4410-882C-2226CB1024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5.xml"/><Relationship Id="rId3" Type="http://schemas.openxmlformats.org/officeDocument/2006/relationships/slide" Target=""/><Relationship Id="rId4" Type="http://schemas.openxmlformats.org/officeDocument/2006/relationships/slide" Target="slide12.xml"/><Relationship Id="rId5" Type="http://schemas.openxmlformats.org/officeDocument/2006/relationships/slide" Target="slide19.xml"/><Relationship Id="rId6" Type="http://schemas.openxmlformats.org/officeDocument/2006/relationships/slide" Target=""/><Relationship Id="rId7" Type="http://schemas.openxmlformats.org/officeDocument/2006/relationships/slide" Target="slide3.xml"/><Relationship Id="rId8" Type="http://schemas.openxmlformats.org/officeDocument/2006/relationships/slide" Target="slide21.xml"/><Relationship Id="rId9" Type="http://schemas.openxmlformats.org/officeDocument/2006/relationships/slide" Target="slide25.xml"/><Relationship Id="rId10" Type="http://schemas.openxmlformats.org/officeDocument/2006/relationships/slide" Target="slide15.xml"/><Relationship Id="rId1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0" y="1557360"/>
            <a:ext cx="914400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Современное состояние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кружающей среды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в р.п.Елань-Коленовском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0" y="5300640"/>
            <a:ext cx="5364000" cy="15573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095480" y="3305160"/>
            <a:ext cx="326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4000" y="270828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Студёнов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за бетонным мост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1480" y="4245120"/>
            <a:ext cx="50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Результат исследования в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195640" y="5157720"/>
            <a:ext cx="341280" cy="503280"/>
          </a:xfrm>
          <a:prstGeom prst="downArrow">
            <a:avLst>
              <a:gd name="adj1" fmla="val 50000"/>
              <a:gd name="adj2" fmla="val 368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108000" y="2492280"/>
            <a:ext cx="574560" cy="17193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108000" y="4221000"/>
            <a:ext cx="576360" cy="17161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755640" y="3246480"/>
            <a:ext cx="25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Хвоя без поврежд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26920" y="514656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Класс усыхания хвои-втор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>
            <a:hlinkClick r:id="rId4" action="ppaction://hlinksldjump"/>
          </p:cNvPr>
          <p:cNvSpPr/>
          <p:nvPr/>
        </p:nvSpPr>
        <p:spPr>
          <a:xfrm>
            <a:off x="8640720" y="6435720"/>
            <a:ext cx="503280" cy="422280"/>
          </a:xfrm>
          <a:custGeom>
            <a:avLst/>
            <a:gdLst>
              <a:gd name="textAreaLeft" fmla="*/ 27360 w 503280"/>
              <a:gd name="textAreaRight" fmla="*/ 475920 w 50328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740" h="21600">
                <a:moveTo>
                  <a:pt x="0" y="0"/>
                </a:moveTo>
                <a:lnTo>
                  <a:pt x="25740" y="0"/>
                </a:lnTo>
                <a:lnTo>
                  <a:pt x="25740" y="21600"/>
                </a:lnTo>
                <a:lnTo>
                  <a:pt x="0" y="21600"/>
                </a:lnTo>
                <a:close/>
              </a:path>
              <a:path fill="lightenLess" w="25740" h="21600">
                <a:moveTo>
                  <a:pt x="0" y="0"/>
                </a:moveTo>
                <a:lnTo>
                  <a:pt x="25740" y="0"/>
                </a:lnTo>
                <a:lnTo>
                  <a:pt x="24340" y="1400"/>
                </a:lnTo>
                <a:lnTo>
                  <a:pt x="1400" y="1400"/>
                </a:lnTo>
                <a:close/>
              </a:path>
              <a:path fill="darken" w="25740" h="21600">
                <a:moveTo>
                  <a:pt x="25740" y="0"/>
                </a:moveTo>
                <a:lnTo>
                  <a:pt x="25740" y="21600"/>
                </a:lnTo>
                <a:lnTo>
                  <a:pt x="24340" y="20200"/>
                </a:lnTo>
                <a:lnTo>
                  <a:pt x="24340" y="1400"/>
                </a:lnTo>
                <a:close/>
              </a:path>
              <a:path fill="darkenLess" w="25740" h="21600">
                <a:moveTo>
                  <a:pt x="257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40" y="20200"/>
                </a:lnTo>
                <a:close/>
              </a:path>
              <a:path fill="lighten" w="257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40" h="21600">
                <a:moveTo>
                  <a:pt x="12870" y="3837"/>
                </a:moveTo>
                <a:lnTo>
                  <a:pt x="15446" y="6448"/>
                </a:lnTo>
                <a:lnTo>
                  <a:pt x="15446" y="4707"/>
                </a:lnTo>
                <a:lnTo>
                  <a:pt x="17222" y="4707"/>
                </a:lnTo>
                <a:lnTo>
                  <a:pt x="17222" y="8224"/>
                </a:lnTo>
                <a:lnTo>
                  <a:pt x="19833" y="10800"/>
                </a:lnTo>
                <a:lnTo>
                  <a:pt x="18179" y="10800"/>
                </a:lnTo>
                <a:lnTo>
                  <a:pt x="18179" y="17989"/>
                </a:lnTo>
                <a:lnTo>
                  <a:pt x="7561" y="17989"/>
                </a:lnTo>
                <a:lnTo>
                  <a:pt x="7561" y="10800"/>
                </a:lnTo>
                <a:lnTo>
                  <a:pt x="5907" y="10800"/>
                </a:lnTo>
                <a:close/>
              </a:path>
              <a:path fill="darkenLess" w="25740" h="21600">
                <a:moveTo>
                  <a:pt x="15446" y="6448"/>
                </a:moveTo>
                <a:lnTo>
                  <a:pt x="15446" y="4707"/>
                </a:lnTo>
                <a:lnTo>
                  <a:pt x="17222" y="4707"/>
                </a:lnTo>
                <a:lnTo>
                  <a:pt x="17222" y="8224"/>
                </a:lnTo>
                <a:close/>
              </a:path>
              <a:path fill="darkenLess" w="25740" h="21600">
                <a:moveTo>
                  <a:pt x="11947" y="14299"/>
                </a:moveTo>
                <a:lnTo>
                  <a:pt x="13792" y="14299"/>
                </a:lnTo>
                <a:lnTo>
                  <a:pt x="13792" y="17989"/>
                </a:lnTo>
                <a:lnTo>
                  <a:pt x="18179" y="17989"/>
                </a:lnTo>
                <a:lnTo>
                  <a:pt x="18179" y="10800"/>
                </a:lnTo>
                <a:lnTo>
                  <a:pt x="7561" y="10800"/>
                </a:lnTo>
                <a:lnTo>
                  <a:pt x="7561" y="17989"/>
                </a:lnTo>
                <a:lnTo>
                  <a:pt x="1194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20360" y="2085840"/>
            <a:ext cx="38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Исследование воздух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373040" y="4550760"/>
            <a:ext cx="6399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наличие карбонатов – бурная интенсивность «вскипани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проба на сульфаты - слабо-мутный раств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кислотность почвы – рН 6.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87680" y="1484280"/>
            <a:ext cx="4281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Анализ поч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Почвы супесчаны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на окраине переходящ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в чернозё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2900520" y="2841480"/>
            <a:ext cx="4038480" cy="158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Третий посёлок</a:t>
            </a:r>
            <a:endParaRPr b="1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</p:spTree>
  </p:cSld>
  <p:transition spd="med"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0" y="5373720"/>
            <a:ext cx="5292720" cy="148428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357120" y="4149720"/>
            <a:ext cx="50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Результат исследования в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76720" y="5084640"/>
            <a:ext cx="341280" cy="505080"/>
          </a:xfrm>
          <a:prstGeom prst="downArrow">
            <a:avLst>
              <a:gd name="adj1" fmla="val 50000"/>
              <a:gd name="adj2" fmla="val 36999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7308720" y="1052640"/>
            <a:ext cx="792360" cy="15843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7380360" y="3716280"/>
            <a:ext cx="792000" cy="15130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480000" y="278136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Хвоя без поврежд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372360" y="5300640"/>
            <a:ext cx="27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Класс усыхания хвои -перв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>
            <a:hlinkClick r:id="rId3" action="ppaction://hlinksldjump"/>
          </p:cNvPr>
          <p:cNvSpPr/>
          <p:nvPr/>
        </p:nvSpPr>
        <p:spPr>
          <a:xfrm>
            <a:off x="8640720" y="6435720"/>
            <a:ext cx="503280" cy="422280"/>
          </a:xfrm>
          <a:custGeom>
            <a:avLst/>
            <a:gdLst>
              <a:gd name="textAreaLeft" fmla="*/ 27360 w 503280"/>
              <a:gd name="textAreaRight" fmla="*/ 475920 w 50328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740" h="21600">
                <a:moveTo>
                  <a:pt x="0" y="0"/>
                </a:moveTo>
                <a:lnTo>
                  <a:pt x="25740" y="0"/>
                </a:lnTo>
                <a:lnTo>
                  <a:pt x="25740" y="21600"/>
                </a:lnTo>
                <a:lnTo>
                  <a:pt x="0" y="21600"/>
                </a:lnTo>
                <a:close/>
              </a:path>
              <a:path fill="lightenLess" w="25740" h="21600">
                <a:moveTo>
                  <a:pt x="0" y="0"/>
                </a:moveTo>
                <a:lnTo>
                  <a:pt x="25740" y="0"/>
                </a:lnTo>
                <a:lnTo>
                  <a:pt x="24340" y="1400"/>
                </a:lnTo>
                <a:lnTo>
                  <a:pt x="1400" y="1400"/>
                </a:lnTo>
                <a:close/>
              </a:path>
              <a:path fill="darken" w="25740" h="21600">
                <a:moveTo>
                  <a:pt x="25740" y="0"/>
                </a:moveTo>
                <a:lnTo>
                  <a:pt x="25740" y="21600"/>
                </a:lnTo>
                <a:lnTo>
                  <a:pt x="24340" y="20200"/>
                </a:lnTo>
                <a:lnTo>
                  <a:pt x="24340" y="1400"/>
                </a:lnTo>
                <a:close/>
              </a:path>
              <a:path fill="darkenLess" w="25740" h="21600">
                <a:moveTo>
                  <a:pt x="257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40" y="20200"/>
                </a:lnTo>
                <a:close/>
              </a:path>
              <a:path fill="lighten" w="257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40" h="21600">
                <a:moveTo>
                  <a:pt x="12870" y="3837"/>
                </a:moveTo>
                <a:lnTo>
                  <a:pt x="15446" y="6448"/>
                </a:lnTo>
                <a:lnTo>
                  <a:pt x="15446" y="4707"/>
                </a:lnTo>
                <a:lnTo>
                  <a:pt x="17222" y="4707"/>
                </a:lnTo>
                <a:lnTo>
                  <a:pt x="17222" y="8224"/>
                </a:lnTo>
                <a:lnTo>
                  <a:pt x="19833" y="10800"/>
                </a:lnTo>
                <a:lnTo>
                  <a:pt x="18179" y="10800"/>
                </a:lnTo>
                <a:lnTo>
                  <a:pt x="18179" y="17989"/>
                </a:lnTo>
                <a:lnTo>
                  <a:pt x="7561" y="17989"/>
                </a:lnTo>
                <a:lnTo>
                  <a:pt x="7561" y="10800"/>
                </a:lnTo>
                <a:lnTo>
                  <a:pt x="5907" y="10800"/>
                </a:lnTo>
                <a:close/>
              </a:path>
              <a:path fill="darkenLess" w="25740" h="21600">
                <a:moveTo>
                  <a:pt x="15446" y="6448"/>
                </a:moveTo>
                <a:lnTo>
                  <a:pt x="15446" y="4707"/>
                </a:lnTo>
                <a:lnTo>
                  <a:pt x="17222" y="4707"/>
                </a:lnTo>
                <a:lnTo>
                  <a:pt x="17222" y="8224"/>
                </a:lnTo>
                <a:close/>
              </a:path>
              <a:path fill="darkenLess" w="25740" h="21600">
                <a:moveTo>
                  <a:pt x="11947" y="14299"/>
                </a:moveTo>
                <a:lnTo>
                  <a:pt x="13792" y="14299"/>
                </a:lnTo>
                <a:lnTo>
                  <a:pt x="13792" y="17989"/>
                </a:lnTo>
                <a:lnTo>
                  <a:pt x="18179" y="17989"/>
                </a:lnTo>
                <a:lnTo>
                  <a:pt x="18179" y="10800"/>
                </a:lnTo>
                <a:lnTo>
                  <a:pt x="7561" y="10800"/>
                </a:lnTo>
                <a:lnTo>
                  <a:pt x="7561" y="17989"/>
                </a:lnTo>
                <a:lnTo>
                  <a:pt x="1194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62560" y="-1440"/>
            <a:ext cx="249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Исслед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воздух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4"/>
          <a:stretch/>
        </p:blipFill>
        <p:spPr>
          <a:xfrm>
            <a:off x="0" y="-3240"/>
            <a:ext cx="5076720" cy="68612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 txBox="1"/>
          <p:nvPr/>
        </p:nvSpPr>
        <p:spPr>
          <a:xfrm>
            <a:off x="611280" y="3068640"/>
            <a:ext cx="5391000" cy="14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ЧЕТВЁРТЫЙ ПОСЁЛОК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304" name=""/>
          <p:cNvSpPr/>
          <p:nvPr/>
        </p:nvSpPr>
        <p:spPr>
          <a:xfrm>
            <a:off x="1982880" y="2276640"/>
            <a:ext cx="307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Анализ поч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Почвы глинист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643280" y="3844800"/>
            <a:ext cx="450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наличие карбонатов - слабая интенсивность    «вскипани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проба на сульфаты – слабо-мутный раствор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кислотность почвы – рН 6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 rot="345600">
            <a:off x="2771640" y="2276640"/>
            <a:ext cx="3267360" cy="14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Отстойники сахарного завода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</p:spTree>
  </p:cSld>
  <p:transition spd="med" advTm="6000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0" y="5429160"/>
            <a:ext cx="6153120" cy="142884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1004760" y="4029120"/>
            <a:ext cx="50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Результат исследования в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763640" y="5013360"/>
            <a:ext cx="341280" cy="576360"/>
          </a:xfrm>
          <a:prstGeom prst="downArrow">
            <a:avLst>
              <a:gd name="adj1" fmla="val 50000"/>
              <a:gd name="adj2" fmla="val 4222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0" y="5300640"/>
            <a:ext cx="5364000" cy="15573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573120" y="3718080"/>
            <a:ext cx="50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Результат исследования в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835280" y="5013360"/>
            <a:ext cx="269640" cy="504720"/>
          </a:xfrm>
          <a:prstGeom prst="downArrow">
            <a:avLst>
              <a:gd name="adj1" fmla="val 50000"/>
              <a:gd name="adj2" fmla="val 4679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1619280" y="0"/>
            <a:ext cx="5619600" cy="14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микрорайон "Краснотал"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5734080" y="3645000"/>
            <a:ext cx="321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Анализ поч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Почвы супесча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4414320"/>
            <a:ext cx="536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наличие карбонатов - бурная интенсив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«вскипани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проба на сульфаты – слабо-мутный раств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кислотность почвы – рН 6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">
            <a:hlinkClick r:id="rId2" action="ppaction://hlinksldjump"/>
          </p:cNvPr>
          <p:cNvSpPr/>
          <p:nvPr/>
        </p:nvSpPr>
        <p:spPr>
          <a:xfrm>
            <a:off x="2050920" y="1052640"/>
            <a:ext cx="505080" cy="4316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>
            <a:hlinkClick r:id="rId3" action="ppaction://hlinksldjump"/>
          </p:cNvPr>
          <p:cNvSpPr/>
          <p:nvPr/>
        </p:nvSpPr>
        <p:spPr>
          <a:xfrm>
            <a:off x="4643280" y="836640"/>
            <a:ext cx="289080" cy="36036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>
            <a:hlinkClick r:id="rId4" action="ppaction://hlinksldjump"/>
          </p:cNvPr>
          <p:cNvSpPr/>
          <p:nvPr/>
        </p:nvSpPr>
        <p:spPr>
          <a:xfrm>
            <a:off x="4788000" y="5300640"/>
            <a:ext cx="360360" cy="36036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>
            <a:hlinkClick r:id="rId5" action="ppaction://hlinksldjump"/>
          </p:cNvPr>
          <p:cNvSpPr/>
          <p:nvPr/>
        </p:nvSpPr>
        <p:spPr>
          <a:xfrm>
            <a:off x="3492360" y="3284640"/>
            <a:ext cx="216000" cy="43164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>
            <a:hlinkClick r:id="rId6" action="ppaction://hlinksldjump"/>
          </p:cNvPr>
          <p:cNvSpPr/>
          <p:nvPr/>
        </p:nvSpPr>
        <p:spPr>
          <a:xfrm>
            <a:off x="4932360" y="5805360"/>
            <a:ext cx="431640" cy="36036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>
            <a:hlinkClick r:id="rId7" action="ppaction://hlinksldjump"/>
          </p:cNvPr>
          <p:cNvSpPr/>
          <p:nvPr/>
        </p:nvSpPr>
        <p:spPr>
          <a:xfrm>
            <a:off x="4067280" y="1989000"/>
            <a:ext cx="360360" cy="28764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>
            <a:hlinkClick r:id="rId8" action="ppaction://hlinksldjump"/>
          </p:cNvPr>
          <p:cNvSpPr/>
          <p:nvPr/>
        </p:nvSpPr>
        <p:spPr>
          <a:xfrm>
            <a:off x="6588000" y="3357720"/>
            <a:ext cx="289080" cy="28728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32000" y="5950080"/>
            <a:ext cx="358560" cy="193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332000" y="6237360"/>
            <a:ext cx="358560" cy="216000"/>
          </a:xfrm>
          <a:prstGeom prst="rect">
            <a:avLst/>
          </a:prstGeom>
          <a:solidFill>
            <a:srgbClr val="cc99ff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332000" y="6524640"/>
            <a:ext cx="358560" cy="216000"/>
          </a:xfrm>
          <a:prstGeom prst="rect">
            <a:avLst/>
          </a:prstGeom>
          <a:solidFill>
            <a:srgbClr val="cc99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>
            <a:hlinkClick r:id="rId9" action="ppaction://hlinksldjump"/>
          </p:cNvPr>
          <p:cNvSpPr/>
          <p:nvPr/>
        </p:nvSpPr>
        <p:spPr>
          <a:xfrm>
            <a:off x="4067280" y="3068640"/>
            <a:ext cx="360360" cy="2160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003640" y="620640"/>
            <a:ext cx="1435320" cy="330120"/>
          </a:xfrm>
          <a:prstGeom prst="borderCallout1">
            <a:avLst>
              <a:gd name="adj1" fmla="val 18750"/>
              <a:gd name="adj2" fmla="val -8333"/>
              <a:gd name="adj3" fmla="val 87018"/>
              <a:gd name="adj4" fmla="val -1006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3 посёло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00720" y="1773360"/>
            <a:ext cx="1008000" cy="358560"/>
          </a:xfrm>
          <a:prstGeom prst="borderCallout1">
            <a:avLst>
              <a:gd name="adj1" fmla="val 18750"/>
              <a:gd name="adj2" fmla="val -8333"/>
              <a:gd name="adj3" fmla="val 98231"/>
              <a:gd name="adj4" fmla="val -2519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Цент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>
            <a:hlinkClick r:id="rId10" action="ppaction://hlinksldjump"/>
          </p:cNvPr>
          <p:cNvSpPr/>
          <p:nvPr/>
        </p:nvSpPr>
        <p:spPr>
          <a:xfrm>
            <a:off x="608040" y="836640"/>
            <a:ext cx="1434960" cy="330120"/>
          </a:xfrm>
          <a:prstGeom prst="borderCallout1">
            <a:avLst>
              <a:gd name="adj1" fmla="val 18750"/>
              <a:gd name="adj2" fmla="val -8333"/>
              <a:gd name="adj3" fmla="val 113462"/>
              <a:gd name="adj4" fmla="val 12433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4 посёло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4360" y="0"/>
            <a:ext cx="1979640" cy="936720"/>
          </a:xfrm>
          <a:prstGeom prst="borderCallout1">
            <a:avLst>
              <a:gd name="adj1" fmla="val 18750"/>
              <a:gd name="adj2" fmla="val -8333"/>
              <a:gd name="adj3" fmla="val 336949"/>
              <a:gd name="adj4" fmla="val -145870"/>
            </a:avLst>
          </a:prstGeom>
          <a:solidFill>
            <a:srgbClr val="ecf0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Загрязнение воздуха автомобильным транспорто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77080" y="3068640"/>
            <a:ext cx="1655640" cy="287280"/>
          </a:xfrm>
          <a:prstGeom prst="borderCallout1">
            <a:avLst>
              <a:gd name="adj1" fmla="val 18750"/>
              <a:gd name="adj2" fmla="val -8333"/>
              <a:gd name="adj3" fmla="val 161879"/>
              <a:gd name="adj4" fmla="val -143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Улица Тито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35280" y="2924280"/>
            <a:ext cx="1515960" cy="576000"/>
          </a:xfrm>
          <a:prstGeom prst="borderCallout1">
            <a:avLst>
              <a:gd name="adj1" fmla="val 18750"/>
              <a:gd name="adj2" fmla="val -8333"/>
              <a:gd name="adj3" fmla="val 93111"/>
              <a:gd name="adj4" fmla="val 12387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Микрорайон Краснота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140360" y="4365720"/>
            <a:ext cx="1434960" cy="330120"/>
          </a:xfrm>
          <a:prstGeom prst="borderCallout1">
            <a:avLst>
              <a:gd name="adj1" fmla="val 18750"/>
              <a:gd name="adj2" fmla="val -8333"/>
              <a:gd name="adj3" fmla="val 289421"/>
              <a:gd name="adj4" fmla="val 10785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 посёло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64000" y="6093000"/>
            <a:ext cx="1435320" cy="330120"/>
          </a:xfrm>
          <a:prstGeom prst="borderCallout1">
            <a:avLst>
              <a:gd name="adj1" fmla="val 18750"/>
              <a:gd name="adj2" fmla="val -8333"/>
              <a:gd name="adj3" fmla="val -40865"/>
              <a:gd name="adj4" fmla="val -1703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Студёнов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4581360"/>
            <a:ext cx="1763640" cy="1152720"/>
          </a:xfrm>
          <a:prstGeom prst="flowChartProcess">
            <a:avLst/>
          </a:prstGeom>
          <a:solidFill>
            <a:srgbClr val="ecf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Исследов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дождевой вод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179280" y="3645000"/>
            <a:ext cx="550800" cy="133164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179280" y="5229360"/>
            <a:ext cx="536760" cy="140328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866880" y="5372640"/>
            <a:ext cx="7530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усохли кончики хвоинок – класс усыхания - 2</a:t>
            </a: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085400" y="3933720"/>
            <a:ext cx="639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хвоинки с небольшим числ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мелких пятен – класс повреждения -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>
            <a:hlinkClick r:id="rId4" action="ppaction://hlinksldjump"/>
          </p:cNvPr>
          <p:cNvSpPr/>
          <p:nvPr/>
        </p:nvSpPr>
        <p:spPr>
          <a:xfrm>
            <a:off x="8640720" y="6435720"/>
            <a:ext cx="503280" cy="422280"/>
          </a:xfrm>
          <a:custGeom>
            <a:avLst/>
            <a:gdLst>
              <a:gd name="textAreaLeft" fmla="*/ 27360 w 503280"/>
              <a:gd name="textAreaRight" fmla="*/ 475920 w 50328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740" h="21600">
                <a:moveTo>
                  <a:pt x="0" y="0"/>
                </a:moveTo>
                <a:lnTo>
                  <a:pt x="25740" y="0"/>
                </a:lnTo>
                <a:lnTo>
                  <a:pt x="25740" y="21600"/>
                </a:lnTo>
                <a:lnTo>
                  <a:pt x="0" y="21600"/>
                </a:lnTo>
                <a:close/>
              </a:path>
              <a:path fill="lightenLess" w="25740" h="21600">
                <a:moveTo>
                  <a:pt x="0" y="0"/>
                </a:moveTo>
                <a:lnTo>
                  <a:pt x="25740" y="0"/>
                </a:lnTo>
                <a:lnTo>
                  <a:pt x="24340" y="1400"/>
                </a:lnTo>
                <a:lnTo>
                  <a:pt x="1400" y="1400"/>
                </a:lnTo>
                <a:close/>
              </a:path>
              <a:path fill="darken" w="25740" h="21600">
                <a:moveTo>
                  <a:pt x="25740" y="0"/>
                </a:moveTo>
                <a:lnTo>
                  <a:pt x="25740" y="21600"/>
                </a:lnTo>
                <a:lnTo>
                  <a:pt x="24340" y="20200"/>
                </a:lnTo>
                <a:lnTo>
                  <a:pt x="24340" y="1400"/>
                </a:lnTo>
                <a:close/>
              </a:path>
              <a:path fill="darkenLess" w="25740" h="21600">
                <a:moveTo>
                  <a:pt x="257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40" y="20200"/>
                </a:lnTo>
                <a:close/>
              </a:path>
              <a:path fill="lighten" w="257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40" h="21600">
                <a:moveTo>
                  <a:pt x="12870" y="3837"/>
                </a:moveTo>
                <a:lnTo>
                  <a:pt x="15446" y="6448"/>
                </a:lnTo>
                <a:lnTo>
                  <a:pt x="15446" y="4707"/>
                </a:lnTo>
                <a:lnTo>
                  <a:pt x="17222" y="4707"/>
                </a:lnTo>
                <a:lnTo>
                  <a:pt x="17222" y="8224"/>
                </a:lnTo>
                <a:lnTo>
                  <a:pt x="19833" y="10800"/>
                </a:lnTo>
                <a:lnTo>
                  <a:pt x="18179" y="10800"/>
                </a:lnTo>
                <a:lnTo>
                  <a:pt x="18179" y="17989"/>
                </a:lnTo>
                <a:lnTo>
                  <a:pt x="7561" y="17989"/>
                </a:lnTo>
                <a:lnTo>
                  <a:pt x="7561" y="10800"/>
                </a:lnTo>
                <a:lnTo>
                  <a:pt x="5907" y="10800"/>
                </a:lnTo>
                <a:close/>
              </a:path>
              <a:path fill="darkenLess" w="25740" h="21600">
                <a:moveTo>
                  <a:pt x="15446" y="6448"/>
                </a:moveTo>
                <a:lnTo>
                  <a:pt x="15446" y="4707"/>
                </a:lnTo>
                <a:lnTo>
                  <a:pt x="17222" y="4707"/>
                </a:lnTo>
                <a:lnTo>
                  <a:pt x="17222" y="8224"/>
                </a:lnTo>
                <a:close/>
              </a:path>
              <a:path fill="darkenLess" w="25740" h="21600">
                <a:moveTo>
                  <a:pt x="11947" y="14299"/>
                </a:moveTo>
                <a:lnTo>
                  <a:pt x="13792" y="14299"/>
                </a:lnTo>
                <a:lnTo>
                  <a:pt x="13792" y="17989"/>
                </a:lnTo>
                <a:lnTo>
                  <a:pt x="18179" y="17989"/>
                </a:lnTo>
                <a:lnTo>
                  <a:pt x="18179" y="10800"/>
                </a:lnTo>
                <a:lnTo>
                  <a:pt x="7561" y="10800"/>
                </a:lnTo>
                <a:lnTo>
                  <a:pt x="7561" y="17989"/>
                </a:lnTo>
                <a:lnTo>
                  <a:pt x="1194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527120" y="2085840"/>
            <a:ext cx="383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Исследование воздух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826920" y="3429000"/>
            <a:ext cx="3105360" cy="14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Улица Титова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329" name=""/>
          <p:cNvSpPr/>
          <p:nvPr/>
        </p:nvSpPr>
        <p:spPr>
          <a:xfrm>
            <a:off x="3854880" y="1700280"/>
            <a:ext cx="388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Хвоя без поврежд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7740720" y="620640"/>
            <a:ext cx="792000" cy="1584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612000" y="2230560"/>
            <a:ext cx="38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Исследование воздух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625640" y="256536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Класс усыха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хвои - перв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7740720" y="2421000"/>
            <a:ext cx="792000" cy="1512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6227640" y="1917720"/>
            <a:ext cx="291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Наличие карбонат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в почве – слаб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интенсив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«вскипани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Проба на сульфаты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слабо-мутный раств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Кислотность почвы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рН = 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>
            <a:hlinkClick r:id="rId2" action="ppaction://hlinksldjump"/>
          </p:cNvPr>
          <p:cNvSpPr/>
          <p:nvPr/>
        </p:nvSpPr>
        <p:spPr>
          <a:xfrm>
            <a:off x="8640720" y="6435720"/>
            <a:ext cx="503280" cy="422280"/>
          </a:xfrm>
          <a:custGeom>
            <a:avLst/>
            <a:gdLst>
              <a:gd name="textAreaLeft" fmla="*/ 27360 w 503280"/>
              <a:gd name="textAreaRight" fmla="*/ 475920 w 50328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740" h="21600">
                <a:moveTo>
                  <a:pt x="0" y="0"/>
                </a:moveTo>
                <a:lnTo>
                  <a:pt x="25740" y="0"/>
                </a:lnTo>
                <a:lnTo>
                  <a:pt x="25740" y="21600"/>
                </a:lnTo>
                <a:lnTo>
                  <a:pt x="0" y="21600"/>
                </a:lnTo>
                <a:close/>
              </a:path>
              <a:path fill="lightenLess" w="25740" h="21600">
                <a:moveTo>
                  <a:pt x="0" y="0"/>
                </a:moveTo>
                <a:lnTo>
                  <a:pt x="25740" y="0"/>
                </a:lnTo>
                <a:lnTo>
                  <a:pt x="24340" y="1400"/>
                </a:lnTo>
                <a:lnTo>
                  <a:pt x="1400" y="1400"/>
                </a:lnTo>
                <a:close/>
              </a:path>
              <a:path fill="darken" w="25740" h="21600">
                <a:moveTo>
                  <a:pt x="25740" y="0"/>
                </a:moveTo>
                <a:lnTo>
                  <a:pt x="25740" y="21600"/>
                </a:lnTo>
                <a:lnTo>
                  <a:pt x="24340" y="20200"/>
                </a:lnTo>
                <a:lnTo>
                  <a:pt x="24340" y="1400"/>
                </a:lnTo>
                <a:close/>
              </a:path>
              <a:path fill="darkenLess" w="25740" h="21600">
                <a:moveTo>
                  <a:pt x="257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40" y="20200"/>
                </a:lnTo>
                <a:close/>
              </a:path>
              <a:path fill="lighten" w="257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40" h="21600">
                <a:moveTo>
                  <a:pt x="12870" y="3837"/>
                </a:moveTo>
                <a:lnTo>
                  <a:pt x="15446" y="6448"/>
                </a:lnTo>
                <a:lnTo>
                  <a:pt x="15446" y="4707"/>
                </a:lnTo>
                <a:lnTo>
                  <a:pt x="17222" y="4707"/>
                </a:lnTo>
                <a:lnTo>
                  <a:pt x="17222" y="8224"/>
                </a:lnTo>
                <a:lnTo>
                  <a:pt x="19833" y="10800"/>
                </a:lnTo>
                <a:lnTo>
                  <a:pt x="18179" y="10800"/>
                </a:lnTo>
                <a:lnTo>
                  <a:pt x="18179" y="17989"/>
                </a:lnTo>
                <a:lnTo>
                  <a:pt x="7561" y="17989"/>
                </a:lnTo>
                <a:lnTo>
                  <a:pt x="7561" y="10800"/>
                </a:lnTo>
                <a:lnTo>
                  <a:pt x="5907" y="10800"/>
                </a:lnTo>
                <a:close/>
              </a:path>
              <a:path fill="darkenLess" w="25740" h="21600">
                <a:moveTo>
                  <a:pt x="15446" y="6448"/>
                </a:moveTo>
                <a:lnTo>
                  <a:pt x="15446" y="4707"/>
                </a:lnTo>
                <a:lnTo>
                  <a:pt x="17222" y="4707"/>
                </a:lnTo>
                <a:lnTo>
                  <a:pt x="17222" y="8224"/>
                </a:lnTo>
                <a:close/>
              </a:path>
              <a:path fill="darkenLess" w="25740" h="21600">
                <a:moveTo>
                  <a:pt x="11947" y="14299"/>
                </a:moveTo>
                <a:lnTo>
                  <a:pt x="13792" y="14299"/>
                </a:lnTo>
                <a:lnTo>
                  <a:pt x="13792" y="17989"/>
                </a:lnTo>
                <a:lnTo>
                  <a:pt x="18179" y="17989"/>
                </a:lnTo>
                <a:lnTo>
                  <a:pt x="18179" y="10800"/>
                </a:lnTo>
                <a:lnTo>
                  <a:pt x="7561" y="10800"/>
                </a:lnTo>
                <a:lnTo>
                  <a:pt x="7561" y="17989"/>
                </a:lnTo>
                <a:lnTo>
                  <a:pt x="1194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280200" y="69840"/>
            <a:ext cx="268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Анализ поч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Почвы супесча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3276720" y="2997360"/>
            <a:ext cx="3024000" cy="27367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 rot="21011400">
            <a:off x="586080" y="975960"/>
            <a:ext cx="67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Исследование дождевой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в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6067080" y="0"/>
            <a:ext cx="3153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Даты взятия проб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27.05. 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28. 05. 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16. 06. 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20. 06. 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25. 06. 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23. 08. 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25. 08. 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10. 09. 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3492360" y="5300640"/>
            <a:ext cx="5364360" cy="1557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5796000" y="4869000"/>
            <a:ext cx="287280" cy="576000"/>
          </a:xfrm>
          <a:prstGeom prst="downArrow">
            <a:avLst>
              <a:gd name="adj1" fmla="val 50000"/>
              <a:gd name="adj2" fmla="val 50125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164320" y="4149720"/>
            <a:ext cx="44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Кислотность дождевой в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 rot="21098400">
            <a:off x="-344880" y="1844280"/>
            <a:ext cx="76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Script MT Bold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Загрязнение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воздух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Script MT Bold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автомобильным транспорто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5256360" y="1989000"/>
            <a:ext cx="3887640" cy="33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324000" y="189000"/>
            <a:ext cx="8208720" cy="64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За 15 мин на 100 м участке дороги у школы в среднем проезжает 22 автомобил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За 1 час – 88 автомобил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Путь, пройденный данными автомобилями – 8,8 к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Количество топлива, сжигаемое автомобилями: 0,25 л/км х 8,8 = 2,2 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Суммарное количество всех газообразных вредных выбросов при сжигании 2.2 л топлив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для 1 км –1,5 л СО (угарного газа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                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0,25 л С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Н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(углеводородов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                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0,1 л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О</a:t>
            </a:r>
            <a:r>
              <a:rPr b="0" lang="ru-RU" sz="1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(оксида азот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Следовательно, для 8,8 км участка пути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                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1,5 х 8,8 = 13,2 л угарного газ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                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0,25 х 8,8 = 2,2 л углеводородов;          16,28 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                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0,1 х 8,8 = 0,88 л оксида азо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Чёрный осадок сульфида свинца указывает на наличие в спиртовом экстракте придорожных растений ионов свинца (от этилированного бензин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Comic Sans MS"/>
              </a:rPr>
              <a:t>Вывод: за 1 час на 100 м участке дороги у школы автомобильным транспортом выделяется 16,28 л вредных выброс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324000" y="2421000"/>
            <a:ext cx="4103640" cy="14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Центр посёлка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235" name=""/>
          <p:cNvSpPr/>
          <p:nvPr/>
        </p:nvSpPr>
        <p:spPr>
          <a:xfrm>
            <a:off x="5922000" y="69840"/>
            <a:ext cx="24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Анализ поч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830200" y="646200"/>
            <a:ext cx="32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Супесчаные поч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724360" y="2205000"/>
            <a:ext cx="3419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наличие карбонатов - практически нет «вскипани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проба на сульфаты - слабо-мутный раств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кислотность почвы – рН 5.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7740720" y="260280"/>
            <a:ext cx="792000" cy="15843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1116000" y="260280"/>
            <a:ext cx="792000" cy="15130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588000" y="198900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Хвоя без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поврежд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9640" y="198900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Класс усыха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хвои - перв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648520" y="333360"/>
            <a:ext cx="38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Исследование воздух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640720" y="6435720"/>
            <a:ext cx="503280" cy="422280"/>
          </a:xfrm>
          <a:custGeom>
            <a:avLst/>
            <a:gdLst>
              <a:gd name="textAreaLeft" fmla="*/ 27360 w 503280"/>
              <a:gd name="textAreaRight" fmla="*/ 475920 w 50328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740" h="21600">
                <a:moveTo>
                  <a:pt x="0" y="0"/>
                </a:moveTo>
                <a:lnTo>
                  <a:pt x="25740" y="0"/>
                </a:lnTo>
                <a:lnTo>
                  <a:pt x="25740" y="21600"/>
                </a:lnTo>
                <a:lnTo>
                  <a:pt x="0" y="21600"/>
                </a:lnTo>
                <a:close/>
              </a:path>
              <a:path fill="lightenLess" w="25740" h="21600">
                <a:moveTo>
                  <a:pt x="0" y="0"/>
                </a:moveTo>
                <a:lnTo>
                  <a:pt x="25740" y="0"/>
                </a:lnTo>
                <a:lnTo>
                  <a:pt x="24340" y="1400"/>
                </a:lnTo>
                <a:lnTo>
                  <a:pt x="1400" y="1400"/>
                </a:lnTo>
                <a:close/>
              </a:path>
              <a:path fill="darken" w="25740" h="21600">
                <a:moveTo>
                  <a:pt x="25740" y="0"/>
                </a:moveTo>
                <a:lnTo>
                  <a:pt x="25740" y="21600"/>
                </a:lnTo>
                <a:lnTo>
                  <a:pt x="24340" y="20200"/>
                </a:lnTo>
                <a:lnTo>
                  <a:pt x="24340" y="1400"/>
                </a:lnTo>
                <a:close/>
              </a:path>
              <a:path fill="darkenLess" w="25740" h="21600">
                <a:moveTo>
                  <a:pt x="257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40" y="20200"/>
                </a:lnTo>
                <a:close/>
              </a:path>
              <a:path fill="lighten" w="257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40" h="21600">
                <a:moveTo>
                  <a:pt x="12870" y="3837"/>
                </a:moveTo>
                <a:lnTo>
                  <a:pt x="15446" y="6448"/>
                </a:lnTo>
                <a:lnTo>
                  <a:pt x="15446" y="4707"/>
                </a:lnTo>
                <a:lnTo>
                  <a:pt x="17222" y="4707"/>
                </a:lnTo>
                <a:lnTo>
                  <a:pt x="17222" y="8224"/>
                </a:lnTo>
                <a:lnTo>
                  <a:pt x="19833" y="10800"/>
                </a:lnTo>
                <a:lnTo>
                  <a:pt x="18179" y="10800"/>
                </a:lnTo>
                <a:lnTo>
                  <a:pt x="18179" y="17989"/>
                </a:lnTo>
                <a:lnTo>
                  <a:pt x="7561" y="17989"/>
                </a:lnTo>
                <a:lnTo>
                  <a:pt x="7561" y="10800"/>
                </a:lnTo>
                <a:lnTo>
                  <a:pt x="5907" y="10800"/>
                </a:lnTo>
                <a:close/>
              </a:path>
              <a:path fill="darkenLess" w="25740" h="21600">
                <a:moveTo>
                  <a:pt x="15446" y="6448"/>
                </a:moveTo>
                <a:lnTo>
                  <a:pt x="15446" y="4707"/>
                </a:lnTo>
                <a:lnTo>
                  <a:pt x="17222" y="4707"/>
                </a:lnTo>
                <a:lnTo>
                  <a:pt x="17222" y="8224"/>
                </a:lnTo>
                <a:close/>
              </a:path>
              <a:path fill="darkenLess" w="25740" h="21600">
                <a:moveTo>
                  <a:pt x="11947" y="14299"/>
                </a:moveTo>
                <a:lnTo>
                  <a:pt x="13792" y="14299"/>
                </a:lnTo>
                <a:lnTo>
                  <a:pt x="13792" y="17989"/>
                </a:lnTo>
                <a:lnTo>
                  <a:pt x="18179" y="17989"/>
                </a:lnTo>
                <a:lnTo>
                  <a:pt x="18179" y="10800"/>
                </a:lnTo>
                <a:lnTo>
                  <a:pt x="7561" y="10800"/>
                </a:lnTo>
                <a:lnTo>
                  <a:pt x="7561" y="17989"/>
                </a:lnTo>
                <a:lnTo>
                  <a:pt x="1194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2771640" y="549360"/>
            <a:ext cx="38102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Второй посёлок </a:t>
            </a:r>
            <a:endParaRPr b="1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247" name=""/>
          <p:cNvSpPr/>
          <p:nvPr/>
        </p:nvSpPr>
        <p:spPr>
          <a:xfrm>
            <a:off x="1365120" y="2060640"/>
            <a:ext cx="50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Результат исследования в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4360" y="278136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(Синявский лес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0" y="5300640"/>
            <a:ext cx="5364000" cy="15573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835280" y="5013360"/>
            <a:ext cx="414360" cy="503280"/>
          </a:xfrm>
          <a:prstGeom prst="downArrow">
            <a:avLst>
              <a:gd name="adj1" fmla="val 50000"/>
              <a:gd name="adj2" fmla="val 30365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5009040" y="3500280"/>
            <a:ext cx="35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Анализ поч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Серые лесные поч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356000" y="3997080"/>
            <a:ext cx="4788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наличие карбонатов – бурная интенсивность «вскипани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проба на сульфаты – слабый, почти прозрачный раств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кислотность почвы – рН 6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809240" y="0"/>
            <a:ext cx="38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Исследование воздух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780000" y="549360"/>
            <a:ext cx="576000" cy="17161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356000" y="549360"/>
            <a:ext cx="2232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Класс усыхания хвои-втор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6516720" y="620640"/>
            <a:ext cx="574560" cy="17272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093080" y="692280"/>
            <a:ext cx="244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Хвоя без поврежд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3132000" y="4650480"/>
            <a:ext cx="543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наличие карбонатов - практически нет «вскипани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проба на сульфаты - слабо-мутный раств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кислотность почвы – рН 5.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272200" y="933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50120" y="2852640"/>
            <a:ext cx="435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Анализ поч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Обыкновенный чернозё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640720" y="6435720"/>
            <a:ext cx="503280" cy="422280"/>
          </a:xfrm>
          <a:custGeom>
            <a:avLst/>
            <a:gdLst>
              <a:gd name="textAreaLeft" fmla="*/ 27360 w 503280"/>
              <a:gd name="textAreaRight" fmla="*/ 475920 w 50328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740" h="21600">
                <a:moveTo>
                  <a:pt x="0" y="0"/>
                </a:moveTo>
                <a:lnTo>
                  <a:pt x="25740" y="0"/>
                </a:lnTo>
                <a:lnTo>
                  <a:pt x="25740" y="21600"/>
                </a:lnTo>
                <a:lnTo>
                  <a:pt x="0" y="21600"/>
                </a:lnTo>
                <a:close/>
              </a:path>
              <a:path fill="lightenLess" w="25740" h="21600">
                <a:moveTo>
                  <a:pt x="0" y="0"/>
                </a:moveTo>
                <a:lnTo>
                  <a:pt x="25740" y="0"/>
                </a:lnTo>
                <a:lnTo>
                  <a:pt x="24340" y="1400"/>
                </a:lnTo>
                <a:lnTo>
                  <a:pt x="1400" y="1400"/>
                </a:lnTo>
                <a:close/>
              </a:path>
              <a:path fill="darken" w="25740" h="21600">
                <a:moveTo>
                  <a:pt x="25740" y="0"/>
                </a:moveTo>
                <a:lnTo>
                  <a:pt x="25740" y="21600"/>
                </a:lnTo>
                <a:lnTo>
                  <a:pt x="24340" y="20200"/>
                </a:lnTo>
                <a:lnTo>
                  <a:pt x="24340" y="1400"/>
                </a:lnTo>
                <a:close/>
              </a:path>
              <a:path fill="darkenLess" w="25740" h="21600">
                <a:moveTo>
                  <a:pt x="257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40" y="20200"/>
                </a:lnTo>
                <a:close/>
              </a:path>
              <a:path fill="lighten" w="257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40" h="21600">
                <a:moveTo>
                  <a:pt x="12870" y="3837"/>
                </a:moveTo>
                <a:lnTo>
                  <a:pt x="15446" y="6448"/>
                </a:lnTo>
                <a:lnTo>
                  <a:pt x="15446" y="4707"/>
                </a:lnTo>
                <a:lnTo>
                  <a:pt x="17222" y="4707"/>
                </a:lnTo>
                <a:lnTo>
                  <a:pt x="17222" y="8224"/>
                </a:lnTo>
                <a:lnTo>
                  <a:pt x="19833" y="10800"/>
                </a:lnTo>
                <a:lnTo>
                  <a:pt x="18179" y="10800"/>
                </a:lnTo>
                <a:lnTo>
                  <a:pt x="18179" y="17989"/>
                </a:lnTo>
                <a:lnTo>
                  <a:pt x="7561" y="17989"/>
                </a:lnTo>
                <a:lnTo>
                  <a:pt x="7561" y="10800"/>
                </a:lnTo>
                <a:lnTo>
                  <a:pt x="5907" y="10800"/>
                </a:lnTo>
                <a:close/>
              </a:path>
              <a:path fill="darkenLess" w="25740" h="21600">
                <a:moveTo>
                  <a:pt x="15446" y="6448"/>
                </a:moveTo>
                <a:lnTo>
                  <a:pt x="15446" y="4707"/>
                </a:lnTo>
                <a:lnTo>
                  <a:pt x="17222" y="4707"/>
                </a:lnTo>
                <a:lnTo>
                  <a:pt x="17222" y="8224"/>
                </a:lnTo>
                <a:close/>
              </a:path>
              <a:path fill="darkenLess" w="25740" h="21600">
                <a:moveTo>
                  <a:pt x="11947" y="14299"/>
                </a:moveTo>
                <a:lnTo>
                  <a:pt x="13792" y="14299"/>
                </a:lnTo>
                <a:lnTo>
                  <a:pt x="13792" y="17989"/>
                </a:lnTo>
                <a:lnTo>
                  <a:pt x="18179" y="17989"/>
                </a:lnTo>
                <a:lnTo>
                  <a:pt x="18179" y="10800"/>
                </a:lnTo>
                <a:lnTo>
                  <a:pt x="7561" y="10800"/>
                </a:lnTo>
                <a:lnTo>
                  <a:pt x="7561" y="17989"/>
                </a:lnTo>
                <a:lnTo>
                  <a:pt x="1194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842120" y="2852640"/>
            <a:ext cx="435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Анализ поч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Обыкновенный чернозё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50920" y="4206960"/>
            <a:ext cx="493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наличие карбонатов - слабая интенсивность    «вскипани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   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проба на сульфаты – слабо-мутный раств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кислотность почвы – рН 6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411280" y="692280"/>
            <a:ext cx="2772000" cy="15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Студёновка</a:t>
            </a:r>
            <a:endParaRPr b="1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</p:spTree>
  </p:cSld>
  <p:transition spd="med" advTm="5000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84360" y="4365720"/>
            <a:ext cx="54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79280" y="2133720"/>
            <a:ext cx="4680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Студёновка (возле деревянного мост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0" y="5013360"/>
            <a:ext cx="5364000" cy="18446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717480" y="3573360"/>
            <a:ext cx="50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Результат исследования в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419640" y="4941720"/>
            <a:ext cx="341280" cy="503280"/>
          </a:xfrm>
          <a:prstGeom prst="downArrow">
            <a:avLst>
              <a:gd name="adj1" fmla="val 50000"/>
              <a:gd name="adj2" fmla="val 368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3:25:52Z</dcterms:created>
  <dc:creator>user</dc:creator>
  <dc:description/>
  <dc:language>en-US</dc:language>
  <cp:lastModifiedBy>П</cp:lastModifiedBy>
  <dcterms:modified xsi:type="dcterms:W3CDTF">2010-01-11T17:22:42Z</dcterms:modified>
  <cp:revision>114</cp:revision>
  <dc:subject/>
  <dc:title>Слайд 1</dc:title>
</cp:coreProperties>
</file>