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wmf" ContentType="image/x-wmf"/>
  <Override PartName="/ppt/media/image14.png" ContentType="image/png"/>
  <Override PartName="/ppt/media/image1.jpeg" ContentType="image/jpe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94E-1584-46F4-BC8B-D2500A3B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12B-8239-4F3A-B5B3-A136FAD2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242-45D1-4894-9DB9-0328C1F5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133-BF5C-4B99-BB1E-20F45561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4174-B686-4FE4-8B18-00A6EB0D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233-9F08-46F0-ABEA-C183B1C4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F27D-2C2D-44A0-A299-9D05650D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B488-26AF-4F87-8B3C-D71EA3D5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495C-F0F6-4B04-A62F-8043781F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7922-91A7-4BC6-986B-5CA8EED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7DC3-AA32-4B42-8C0B-075ECA57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369-DB94-4DF2-A970-095991ED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7940-7A0C-490F-8832-222307E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0794-3069-45BB-BC9F-654A3547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0A1B-2652-4E79-B556-608FF9E4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A91F-CD82-4925-A4CB-3630B7C9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D718-5EDF-431E-A5C3-A5614EA1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26B-9B36-4FF9-BDFA-56D7AD27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EE9-B0EB-4BE2-BFF6-C606216B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381-5206-4F5A-A9CA-575F206B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DD5-32F5-43A0-B7B2-E285B8F5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110-91BD-4ECD-87E3-30EAC4CE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A70-2DF5-4724-BC69-DB022E54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8DE-3067-430E-9C07-14DAB49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0353-E3B8-4E14-8C35-715206B1AE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837C-FEBE-42A7-83AE-37D1A7A06CB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61960" y="761760"/>
            <a:ext cx="60195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Учебный проект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«Что за прелесть эти сказки! </a:t>
            </a:r>
            <a:br>
              <a:rPr sz="2800"/>
            </a:b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Каждая есть поэма!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792720" y="304920"/>
            <a:ext cx="794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Юбилею Александра Сергеевича Пушкина посвящается…</a:t>
            </a:r>
            <a:br>
              <a:rPr sz="2000"/>
            </a:b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2960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Цели и задачи групп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522440" y="1447920"/>
            <a:ext cx="57294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ль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: узнать значение старинных слов, оборотов речи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стречающихся в сказках А.С. Пушкина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 передать собранную информацию учащимся класса, школы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523880" y="2819520"/>
            <a:ext cx="4572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Задачи-этапы-способы решения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очитать пять сказок А.С. Пушкина, изучаемы в начальной школ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ыписать те слова и словосочетания, значения которых мы не знаем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истематизировать отобранный материал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Классифицировать слова по группам: первая – слова, ушедшие из употребления; вторая - слова, которые обрели новое звучание (заменены синонимами)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здать словарь старинных слов и словосочетаний, встречающихся в сказка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оиллюстрировать (по мере возможности) отобранный материа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6400800" y="3200400"/>
            <a:ext cx="2514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556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Старинные слов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295280" y="1142280"/>
            <a:ext cx="39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</a:rPr>
              <a:t>Бояре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-  богатые  люди, которые  служили царю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Рисунок 13" descr="pre_hh.jpg"/>
          <p:cNvPicPr/>
          <p:nvPr/>
        </p:nvPicPr>
        <p:blipFill>
          <a:blip r:embed="rId1"/>
          <a:stretch/>
        </p:blipFill>
        <p:spPr>
          <a:xfrm>
            <a:off x="7391520" y="380880"/>
            <a:ext cx="1371600" cy="879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1295280" y="1568520"/>
            <a:ext cx="594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Душегрейка</a:t>
            </a:r>
            <a:r>
              <a:rPr b="0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 - тёплая короткая  кофта  без рукавов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со сборками  сзади. Современный  синоним- жилет. Это  слово  исчезло  полностью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Рисунок 10" descr="p1_03.gif"/>
          <p:cNvPicPr/>
          <p:nvPr/>
        </p:nvPicPr>
        <p:blipFill>
          <a:blip r:embed="rId2"/>
          <a:stretch/>
        </p:blipFill>
        <p:spPr>
          <a:xfrm>
            <a:off x="7315200" y="1447920"/>
            <a:ext cx="1459080" cy="16430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-533520" y="438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371600" y="2360520"/>
            <a:ext cx="584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Пряник печатный</a:t>
            </a:r>
            <a:r>
              <a:rPr b="0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 -  пряник  с  оттиснутым  ( отпечатанным ) рисунком  или  буквами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Современный  синоним - Тульский  пряник. Это  слово  исчезло  полностью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Рисунок 0" descr="9T913CAWYGBYTCAXQASJWCA3BVBCUCAC7JSRBCA5QNJSBCAWUSW5ICAAQEMKUCAH3FJ9DCAYTVSH1CAZ84ABTCART1XJUCAZQW14JCA48W38XCAOF27GJCAOGNS1PCA0UJY7WCA50W26MCADDAAR6CAH2XO2A.jpg"/>
          <p:cNvPicPr/>
          <p:nvPr/>
        </p:nvPicPr>
        <p:blipFill>
          <a:blip r:embed="rId3"/>
          <a:stretch/>
        </p:blipFill>
        <p:spPr>
          <a:xfrm>
            <a:off x="1447920" y="3505320"/>
            <a:ext cx="809640" cy="1257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1"/>
          <p:cNvSpPr/>
          <p:nvPr/>
        </p:nvSpPr>
        <p:spPr>
          <a:xfrm>
            <a:off x="-1658880" y="43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2509920" y="3503880"/>
            <a:ext cx="398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</a:rPr>
              <a:t>Шелом- шлем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, остроконечная  железная  шапка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для  защиты  от  ударов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Рисунок 30" descr="A15.jpg"/>
          <p:cNvPicPr/>
          <p:nvPr/>
        </p:nvPicPr>
        <p:blipFill>
          <a:blip r:embed="rId4"/>
          <a:stretch/>
        </p:blipFill>
        <p:spPr>
          <a:xfrm>
            <a:off x="6705720" y="3276720"/>
            <a:ext cx="1495440" cy="16761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4"/>
          <p:cNvSpPr/>
          <p:nvPr/>
        </p:nvSpPr>
        <p:spPr>
          <a:xfrm>
            <a:off x="2514600" y="411372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</a:rPr>
              <a:t>Оброк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 - здесь: дань, деньг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Рисунок 30" descr="starinnye_monety.jpg"/>
          <p:cNvPicPr/>
          <p:nvPr/>
        </p:nvPicPr>
        <p:blipFill>
          <a:blip r:embed="rId5"/>
          <a:stretch/>
        </p:blipFill>
        <p:spPr>
          <a:xfrm>
            <a:off x="4267080" y="5133960"/>
            <a:ext cx="2286000" cy="1442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"/>
          <p:cNvSpPr/>
          <p:nvPr/>
        </p:nvSpPr>
        <p:spPr>
          <a:xfrm>
            <a:off x="2430720" y="4494600"/>
            <a:ext cx="384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Толоконный  лоб</a:t>
            </a:r>
            <a:r>
              <a:rPr b="0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 - грубый  человек, дурак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Толокно</a:t>
            </a:r>
            <a:r>
              <a:rPr b="0" lang="ru-RU" sz="1400" spc="-1" strike="noStrike">
                <a:solidFill>
                  <a:srgbClr val="006699"/>
                </a:solidFill>
                <a:latin typeface="Calibri"/>
                <a:ea typeface="Times New Roman"/>
              </a:rPr>
              <a:t> - толчёная ( немолотая)  овсяная  мук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Рисунок 18" descr="c5_1134573139.jpg"/>
          <p:cNvPicPr/>
          <p:nvPr/>
        </p:nvPicPr>
        <p:blipFill>
          <a:blip r:embed="rId6"/>
          <a:stretch/>
        </p:blipFill>
        <p:spPr>
          <a:xfrm>
            <a:off x="1219320" y="5105520"/>
            <a:ext cx="2286000" cy="152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8"/>
          <p:cNvSpPr/>
          <p:nvPr/>
        </p:nvSpPr>
        <p:spPr>
          <a:xfrm>
            <a:off x="0" y="45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Устойчивые выраже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466960" y="1065240"/>
            <a:ext cx="325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«Инда  очи  разболелись»-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(старинное  словосочетание),так,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что разболелись  глаз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2210040" cy="1795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1854720" y="11430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«Белены объелась»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 ума сошла, сдурел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2025360" cy="17352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8"/>
          <p:cNvSpPr/>
          <p:nvPr/>
        </p:nvSpPr>
        <p:spPr>
          <a:xfrm>
            <a:off x="5275440" y="37324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«Что не можно глаз отвесть»-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еописуемая красот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3"/>
          <a:stretch/>
        </p:blipFill>
        <p:spPr>
          <a:xfrm>
            <a:off x="6934320" y="4343400"/>
            <a:ext cx="1962000" cy="2514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0"/>
          <p:cNvSpPr/>
          <p:nvPr/>
        </p:nvSpPr>
        <p:spPr>
          <a:xfrm>
            <a:off x="1406160" y="3732480"/>
            <a:ext cx="370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«Выступает будто пава»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дет гордо, с высоко поднятой голово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631880" y="4343400"/>
            <a:ext cx="44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«Свет мой, зеркальце, скаж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Да всю правду доложи»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- так говорит девушк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Которая смотрится в зеркало и наводит красот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4"/>
          <a:stretch/>
        </p:blipFill>
        <p:spPr>
          <a:xfrm>
            <a:off x="1447920" y="5230800"/>
            <a:ext cx="2352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Словарь устаревших слов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Documents"/>
          <p:cNvSpPr/>
          <p:nvPr/>
        </p:nvSpPr>
        <p:spPr>
          <a:xfrm>
            <a:off x="7620120" y="9144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371600" y="988920"/>
            <a:ext cx="554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Боярщина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— в XVI-XVII вв. так назывались владения новгородских бояр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на русском Севере. В XVIII в. этот термин сохранилс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для обозначения административной единицы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47920" y="2208600"/>
            <a:ext cx="403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Изразцы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— керамическая (глиняная) обожженна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глазурованная с лица, служивша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для облицовки печей или украшения зданий.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7" descr="Изразцы"/>
          <p:cNvPicPr/>
          <p:nvPr/>
        </p:nvPicPr>
        <p:blipFill>
          <a:blip r:embed="rId1"/>
          <a:stretch/>
        </p:blipFill>
        <p:spPr>
          <a:xfrm>
            <a:off x="6172200" y="2209680"/>
            <a:ext cx="1203480" cy="1189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1447920" y="3427200"/>
            <a:ext cx="554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Прялка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— орудие для ручного прядения. Состояла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из вертикального стояка с лопаской, к которой привязывалась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кудель для прядения, и донца — горизонтального сиденья для пряхи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Picture 9" descr="Прялка"/>
          <p:cNvPicPr/>
          <p:nvPr/>
        </p:nvPicPr>
        <p:blipFill>
          <a:blip r:embed="rId2"/>
          <a:stretch/>
        </p:blipFill>
        <p:spPr>
          <a:xfrm>
            <a:off x="7924680" y="3200400"/>
            <a:ext cx="909720" cy="1800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1447920" y="50284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Чепрак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— суконная или ковровая подстилка под седло.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Picture 11" descr="Чепрак"/>
          <p:cNvPicPr/>
          <p:nvPr/>
        </p:nvPicPr>
        <p:blipFill>
          <a:blip r:embed="rId3"/>
          <a:stretch/>
        </p:blipFill>
        <p:spPr>
          <a:xfrm>
            <a:off x="5715000" y="4724280"/>
            <a:ext cx="20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58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47920" y="1828800"/>
            <a:ext cx="4724280" cy="36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ы приобрели первичный опыт участия в научно-исследовательской деятельност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Более тщательно прочитали сказки А.С. Пушкина, которые изучаются в начальной школ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богатили свой словарный запас, пополнили свои знания историческими сведениями, научились систематизировать и классифицировать отобранный материал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дготовили печатный материал, который имеет большое практическое значени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5" descr="j0195384"/>
          <p:cNvPicPr/>
          <p:nvPr/>
        </p:nvPicPr>
        <p:blipFill>
          <a:blip r:embed="rId1"/>
          <a:stretch/>
        </p:blipFill>
        <p:spPr>
          <a:xfrm>
            <a:off x="6556320" y="4292640"/>
            <a:ext cx="25876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штет</cp:lastModifiedBy>
  <dcterms:modified xsi:type="dcterms:W3CDTF">2010-01-18T11:47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