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EF9-7E74-4891-8CD6-480642EC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B09-322D-4ED9-8EE8-C1BA987B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A35-7B82-42EB-BA56-5F23C559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269-E3C6-48E1-A682-00161E50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1B9E-3F81-474B-82D9-3B33C17F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7407-DF9C-447E-9B8E-47E81191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1D5B-7F74-4035-96AD-0E8FA10C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C291-F2CA-4308-A34B-2CFDCA0A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ADEF-857D-4672-9A31-01050635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0812-480D-48CE-97BC-B2D68438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C1C-E2FD-4C14-AABF-CA1E326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5BA-7F06-4E69-8C52-506ED0B6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1710-1DF1-4327-AB32-308F1A91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C65A-7128-48F7-9809-59E0318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350B-4573-4475-B710-A42B419A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9385-46A3-42A1-8DF2-82142645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53FA-B4C1-4F8D-83B4-4B4CEB91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5EE-01A5-4DEA-A5D9-DD28B47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F71-EBFC-4CF6-B28D-F5B50480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7A1-012C-4EF6-8EF2-AE8209CB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838-B18A-4641-B871-A4C464F3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CB1-9B92-44B4-8C04-99836BD9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9F4-67C0-428B-96BB-D066B48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3A4-1363-4505-8C2F-66F0D649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B757-9160-45FE-859A-4F0899DF0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3558-9183-4A96-A952-B958CE147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3;&#1086;&#1082;&#1086;" TargetMode="External"/><Relationship Id="rId2" Type="http://schemas.openxmlformats.org/officeDocument/2006/relationships/hyperlink" Target="http://ru.wikipedia.org/wiki/&#1057;&#1090;&#1088;&#1077;&#1087;&#1090;&#1086;&#1082;&#1086;&#1082;&#1082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Его величество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кефир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исломолочный продукт кефир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его получение в домашних условиях и полезные свойства напитка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01352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Times New Roman"/>
              </a:rPr>
              <a:t>                                              </a:t>
            </a:r>
            <a:r>
              <a:rPr b="0" lang="ru-RU" sz="1600" spc="-1" strike="noStrike" u="sng">
                <a:solidFill>
                  <a:srgbClr val="afe1ff"/>
                </a:solidFill>
                <a:uFillTx/>
                <a:latin typeface="Times New Roman"/>
              </a:rPr>
              <a:t>Автор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Шутова Полина, 2 «А»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ласс,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ОУ СОШ № 4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.Мурманск  </a:t>
            </a:r>
            <a:r>
              <a:rPr b="0" lang="ru-RU" sz="1600" spc="-1" strike="noStrike">
                <a:solidFill>
                  <a:srgbClr val="ff9933"/>
                </a:solidFill>
                <a:latin typeface="Times New Roman"/>
              </a:rPr>
              <a:t>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fe1ff"/>
                </a:solidFill>
                <a:latin typeface="Times New Roman"/>
              </a:rPr>
              <a:t>                                      </a:t>
            </a:r>
            <a:r>
              <a:rPr b="0" lang="ru-RU" sz="1600" spc="-1" strike="noStrike" u="sng">
                <a:solidFill>
                  <a:srgbClr val="afe1ff"/>
                </a:solidFill>
                <a:uFillTx/>
                <a:latin typeface="Times New Roman"/>
              </a:rPr>
              <a:t>Руководитель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ухт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Л.М., учитель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чальных классов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ОУ СОШ №43,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.Мурман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908000" y="5300640"/>
            <a:ext cx="3221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след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135720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Польза кефирной диет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08240" y="1598400"/>
            <a:ext cx="3963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кажите нам человека, который хотел бы стать толстым 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сли вы заглянете в огромный список диет, предназначенных для избавления от лишнего веса, то найдете кефир чуть ли не в каждой из них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сли вы обнаружили нежелательную прибавку в весе, организуйте себе один разгрузочный день в неделю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диета на кефире, результаты кефирной диеты"/>
          <p:cNvPicPr/>
          <p:nvPr/>
        </p:nvPicPr>
        <p:blipFill>
          <a:blip r:embed="rId1"/>
          <a:stretch/>
        </p:blipFill>
        <p:spPr>
          <a:xfrm>
            <a:off x="179280" y="1844640"/>
            <a:ext cx="3891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льза кефирной диет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этот день не ешьте и не пейте ничего, кроме полутора литров хорошего и нежирного кефира. Только кефир по полстакана с промежутками в несколько часов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й диетой успешно пользуются моя мама и бабу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вестно, что во многих случаях полнота связана с неправильным питание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ефи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 имеет небольшую калорийность и содержит  малое количество углеводов, которые помогают накапливать ж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лезные свойства кефира 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ефир — один из основных продуктов питания детской кухни, он очень полезен и для взрослого человек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тоже ценят кефир и пьют с удовольств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сключения есть, к сожалению, у любых прав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т и в нашем случае приходится предупредить, что употребление кефира не рекомендуется при желудочных заболеваниях связанных с повышенной кислот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ует учитывать и то, что кефир обладает послабляющим действием, поэтому пить его людям, имеющим слабый кишечник, можно лишь в небольших количествах. </a:t>
            </a:r>
            <a:br>
              <a:rPr sz="1800"/>
            </a:br>
            <a:br>
              <a:rPr sz="18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0800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01924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Кефирный гриб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08240" y="1598400"/>
            <a:ext cx="3963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го зверя зовут гриб или грибок кефирный. И именно он превращает обычное молоко в полезный и вкусный домашний кефи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фирный гриб представляет собой тело белого цвета диаметром 5 мм в начале своего  роста и 50 мм в кон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кефирный гриб"/>
          <p:cNvPicPr/>
          <p:nvPr/>
        </p:nvPicPr>
        <p:blipFill>
          <a:blip r:embed="rId1"/>
          <a:stretch/>
        </p:blipFill>
        <p:spPr>
          <a:xfrm>
            <a:off x="179280" y="1557360"/>
            <a:ext cx="406260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Кефирный гриб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и получение кефира в домашних условиях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08240" y="1598400"/>
            <a:ext cx="3963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ого количества гриба достаточно для приготовления пол-литра домашнего кефира в течение суток при комнатной температуре. Вы можете класть и несколько ложек, тогда приготовиться быстрее и будет кисл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м банк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дем в нее гриб и заливаем молоком. Закрывать банку надо марле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бы гриб дыш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Порция кефирного гриба для закваски"/>
          <p:cNvPicPr/>
          <p:nvPr/>
        </p:nvPicPr>
        <p:blipFill>
          <a:blip r:embed="rId1"/>
          <a:stretch/>
        </p:blipFill>
        <p:spPr>
          <a:xfrm>
            <a:off x="539640" y="2060640"/>
            <a:ext cx="366408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Кефирный гриб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и получение кефира в домашних условия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3280" y="1628640"/>
            <a:ext cx="40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 выглядит баночка с готовым домашним кефир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гда видно, что снизу начинается расслоение на жидкую и более плотную массу - кефир го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Банка с готовым домашним кефиром"/>
          <p:cNvPicPr/>
          <p:nvPr/>
        </p:nvPicPr>
        <p:blipFill>
          <a:blip r:embed="rId1"/>
          <a:stretch/>
        </p:blipFill>
        <p:spPr>
          <a:xfrm>
            <a:off x="1212840" y="2260440"/>
            <a:ext cx="2521080" cy="32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Кефирный гриб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и получение кефира в домашних условиях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008240" y="1598400"/>
            <a:ext cx="3963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е сито не очень хорошо подходит для отделения гриба от готового кефир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.к. от соприкосновения с металлом гриб может погибнуть. Лучше и легче использовать пластиковый дуршла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ливаем содержимое банки в дуршлаг.  Кефир стекает быстрее и не становится таким жидким как после сит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Сито для отцеживания готового кефира"/>
          <p:cNvPicPr/>
          <p:nvPr/>
        </p:nvPicPr>
        <p:blipFill>
          <a:blip r:embed="rId1"/>
          <a:stretch/>
        </p:blipFill>
        <p:spPr>
          <a:xfrm>
            <a:off x="900000" y="2133720"/>
            <a:ext cx="2190960" cy="2028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Так отделяют кефирного гриба от кефира"/>
          <p:cNvPicPr/>
          <p:nvPr/>
        </p:nvPicPr>
        <p:blipFill>
          <a:blip r:embed="rId2"/>
          <a:stretch/>
        </p:blipFill>
        <p:spPr>
          <a:xfrm>
            <a:off x="900000" y="4581360"/>
            <a:ext cx="2381400" cy="18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Кефирный гриб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и получение кефира в домашних условиях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008240" y="1598400"/>
            <a:ext cx="3963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т что получилось. Кефир домашний. А лишний гриб можно выбросить. Оставлять старайтесь маленькие грибочки, они активнее. Кефирный грибок можно есть. Но лучше добавляйте сахар по вкусу и пейте приготовленный кефи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тавшийся гриб надо промыть водой комнатной температуры и снова залить моло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Кефирный грибок"/>
          <p:cNvPicPr/>
          <p:nvPr/>
        </p:nvPicPr>
        <p:blipFill>
          <a:blip r:embed="rId1"/>
          <a:stretch/>
        </p:blipFill>
        <p:spPr>
          <a:xfrm>
            <a:off x="611280" y="1628640"/>
            <a:ext cx="2749320" cy="2522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282888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Выводы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спорно кефир вкусный и полезный напиток для большинства людей люб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торым людям следует учитывать особенности своего организма и ограничивать употребление кеф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домашнего кефира более сильны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вашивание получается более свежим и без посторонних примес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55640" y="5157720"/>
            <a:ext cx="1832040" cy="13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346040" y="495360"/>
          <a:ext cx="6451560" cy="5867280"/>
        </p:xfrm>
        <a:graphic>
          <a:graphicData uri="http://schemas.openxmlformats.org/drawingml/2006/table">
            <a:tbl>
              <a:tblPr/>
              <a:tblGrid>
                <a:gridCol w="698400"/>
                <a:gridCol w="1473480"/>
                <a:gridCol w="444240"/>
                <a:gridCol w="1828800"/>
                <a:gridCol w="609840"/>
                <a:gridCol w="1396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.Нравится ли Вам кефир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.Кому помог кефир и при лечении каких заболеваний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 .Что хорошего или наоборот Вы заметили при его употреблени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.Пробовал ли кто-нибудь делать кефир или другие кисломолочные продукты дома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.Для приготовления  какого кисломолочного продукта в домашних условиях также необходим кефир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.Угадайте при приготовлении какого кисло-молочного продукта  дома  добавляют кефир, чтобы этот продукт был вкусне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1403280" y="-28440"/>
            <a:ext cx="6991560" cy="688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476280"/>
            <a:ext cx="3838680" cy="567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203640" y="260280"/>
            <a:ext cx="3295440" cy="600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09760" y="6848640"/>
            <a:ext cx="68673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403280" y="3068640"/>
            <a:ext cx="68677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imes New Roman"/>
              </a:rPr>
              <a:t>Цели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яснить природный состав кеф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ссмотреть получение его в домашни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8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знать какие его свойства могут быть поле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16128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346040" y="495360"/>
          <a:ext cx="6451920" cy="6411960"/>
        </p:xfrm>
        <a:graphic>
          <a:graphicData uri="http://schemas.openxmlformats.org/drawingml/2006/table">
            <a:tbl>
              <a:tblPr/>
              <a:tblGrid>
                <a:gridCol w="698760"/>
                <a:gridCol w="1473120"/>
                <a:gridCol w="444600"/>
                <a:gridCol w="1828800"/>
                <a:gridCol w="609480"/>
                <a:gridCol w="1397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.Нравится ли Вам кефир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Ответили «Д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6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6.Против лишнего веса 1 чел. От боли в желудке  5 чел. Простуде 2 ч.Кишечных забол. – 1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2 .Многие отметили приятный вкус. 1 чел.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 что от него не полнеют и 1 чел. что кефир укрепляет к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3.Пробовал ли кто-нибудь делать кефир или другие кисломолочные продукты дома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У 5 человек кефир делают до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5.Для приготовл.  какого кисломол. продукта в домашних условиях также необходим кефир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1 чел.-смет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Cyr"/>
                          <a:ea typeface="Arial"/>
                        </a:rPr>
                        <a:t>4.Угадайте при приготовл. какого кисло-молочного. продукта  дома  добавляют кефир чтобы   продукт был вкуснее? 3 ч. - твор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203640" y="476280"/>
            <a:ext cx="3838680" cy="567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203640" y="260280"/>
            <a:ext cx="3295440" cy="600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09760" y="6848640"/>
            <a:ext cx="68673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403280" y="3068640"/>
            <a:ext cx="68677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0"/>
            <a:ext cx="6991200" cy="688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пределение кефир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ефи́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 с осетинского - к'æпу) кисломолочный напиток, получаемый из цельного или обезжиренного коровьего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молок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путем заквашивания с применением кефирных «грибков» — соединения молочнокислых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стрептококков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и палочек, уксуснокислых бактерий и дрожж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4360" y="189000"/>
            <a:ext cx="10382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кефир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родине кефира –Северном Кавказе – местные жители называют этот целебный напиток даром небес. Долгое время его рецепт хранился в строгом секр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середине 19 столетия в Россию проникли сведения о таинственном напитке, который  очень полезен и излечивает многие заболевания. Было лишь известно, что он готовится из молока. Речь шла о кефи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кефир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ый кефир был произведен в России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начале 20 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йчас кефир стал вполне привычным для всех продуктом. Его можно купить в любом продовольственном магази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же вы не хотите покупать кефир в магазине или у вас имеется избыток молока и вы не знаете, что с ним делать, я  могу вам посоветовать приготовить кефир в домашних условиях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1241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лезные свойства кефира.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яют однодневный, двухдневный и трёхдневный кефир  по величине содержания кислотности, спир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набухания белков. Поэтому кефир, особенно трёхдневный, следует с осторожностью употреблять маленьким детям, а также при некоторых заболеваниях, например, эпилепсии. Это связано с токсичным действием  спирта на эт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 я предпочитаю двухдневный кефи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достаточно густой и не очень кисл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897200" cy="14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лезные свойства кефир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ме приятных вкусовых качеств я заметил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что кефир утоляет жажду и улучшает аппет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азывается бактерии и палочк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ефирных грибков борются с вредными желудочно-кишечными инфекциям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бивают их возбудителей и улучшают работу кишеч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32720" y="5516640"/>
            <a:ext cx="194292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лезные свойства кефир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долгом приеме антибиотиков может нарушится флора кишечника и кефир поможет нам ее восстанов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ефир укрепит нашу иммунную систем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может снять усталость и побороть бессонницу потом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что в нем содержится большое количество витаминов группы В и аминокисл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также кальция и фосфора, без которых все мы уже давно пали бы жертвой коварного кариеса и постоянно страдали бы от переломов костей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1616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лезные свойства кефир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 ценные элементы имеются и в других продуктах, но дело в том, что организм может усваивать их только в растворимом виде. А кислоты кефира отлично с этим справляются. Кислоты тоже есть в других продукта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содержащих однако кальций и фосфор. Только в кефире все это сочет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слая среда, образуемая кефиром в желудке, способствует хорошему усвоению желез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итамина D и всех питательных веще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щийся в кефире витамин А необходим нам для зрения и ко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ефирная маска (особенно из домашнего кефира) делает кожу нежной и чисто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425600" cy="130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3:52:48Z</dcterms:created>
  <dc:creator>8627DeynEG</dc:creator>
  <dc:description/>
  <dc:language>en-US</dc:language>
  <cp:lastModifiedBy>Михаил</cp:lastModifiedBy>
  <dcterms:modified xsi:type="dcterms:W3CDTF">2010-01-04T05:10:40Z</dcterms:modified>
  <cp:revision>53</cp:revision>
  <dc:subject/>
  <dc:title>Кефир</dc:title>
</cp:coreProperties>
</file>