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49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5.jpeg" ContentType="image/jpeg"/>
  <Override PartName="/ppt/media/image28.png" ContentType="image/png"/>
  <Override PartName="/ppt/media/image40.png" ContentType="image/png"/>
  <Override PartName="/ppt/media/image42.png" ContentType="image/png"/>
  <Override PartName="/ppt/media/image46.png" ContentType="image/png"/>
  <Override PartName="/ppt/media/image19.jpeg" ContentType="image/jpeg"/>
  <Override PartName="/ppt/media/image45.png" ContentType="image/png"/>
  <Override PartName="/ppt/media/image33.jpeg" ContentType="image/jpeg"/>
  <Override PartName="/ppt/media/image51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2.jpeg" ContentType="image/jpeg"/>
  <Override PartName="/ppt/media/image54.jpeg" ContentType="image/jpeg"/>
  <Override PartName="/ppt/media/image55.jpeg" ContentType="image/jpeg"/>
  <Override PartName="/ppt/media/image36.png" ContentType="image/png"/>
  <Override PartName="/ppt/media/image56.jpeg" ContentType="image/jpeg"/>
  <Override PartName="/ppt/media/image35.png" ContentType="image/png"/>
  <Override PartName="/ppt/media/image31.png" ContentType="image/png"/>
  <Override PartName="/ppt/media/image30.jpeg" ContentType="image/jpeg"/>
  <Override PartName="/ppt/media/image11.png" ContentType="image/png"/>
  <Override PartName="/ppt/media/image48.png" ContentType="image/png"/>
  <Override PartName="/ppt/media/image27.jpeg" ContentType="image/jpeg"/>
  <Override PartName="/ppt/media/image50.jpeg" ContentType="image/jpeg"/>
  <Override PartName="/ppt/media/image9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B57-F6C9-4303-859B-929884E7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142-F63F-4B74-88AE-9BB84204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86F-A194-4849-8520-2B06D977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1B8-DE3B-4D88-8C47-88EC2268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C759-70B2-467E-ACD6-6A271EDC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D4B8-36AA-4F72-81FD-565831CF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7A6A-E835-46F5-9A2C-9B06A684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D1E4-2B0C-414D-9298-47364F79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4F9D-AAA4-4B57-BA13-06867B0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C801-213E-49E9-B475-432F0DB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ADDE-9F10-4E97-97D8-929FE421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CCD-9B32-4408-97A9-2EF2F6E7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151-E44B-4D43-956D-7202BFF0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2E3B-DDDE-41F2-AD1A-3658D3E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AAA8-C4E8-4CE6-A87B-C453D69A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486F-0A00-4853-88DF-E8D474C2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8DB6-A357-478A-A407-A6082D33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96BE-92AF-4081-BE95-41B0105A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D6F7-118D-4090-812D-FE1B687F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082D-A794-4E82-9E79-523C8423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EB4F-C672-403D-AE86-3C6D4787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4D11-B65A-49F2-9CBC-A205B30E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2F5-1931-458E-8E15-37558BF2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E277-118D-4257-9693-4D79677E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0B38-53E6-4FE7-B2AB-A672C2BE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30F7-5497-417F-9E87-455CFA15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28B8-44D5-4E90-B6B1-8F3E9BAB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6C26-66B4-4BDC-9F55-142FE64C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EC5B-7799-4DEA-9AE8-886160DD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FE03-89BA-4962-B5CC-4CE3D56E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16AB-C28D-4BF7-92F6-ED2A38D8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2626-3874-4E11-B704-78AB9691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9EE0-4BD9-4C40-B43D-280D258E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97F-71E2-4593-87B8-7031E04E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E220-2539-4560-89DC-119BB36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0E6F-A0EA-47B4-A88A-014C8CC7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F690-70B1-4FC5-97A7-9CB3A64D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4134-1DA0-41C6-B563-9C2F6AF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EF93-E353-4EF4-9FBD-F9052EC4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ADB8-590F-4668-9B89-66A4C90B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B365-13B2-4F0F-A378-03E3FFD0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737A-ACE3-4FF4-A56D-8B99DF29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95E1-9C66-4861-8FE3-23AA4032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CED-B139-4DB0-9119-FD097271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FB7-68B5-45A9-931E-74E49AF4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65F-5D19-4128-902B-0F13F6F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A1B-F497-49BE-AE55-F9C9EBA9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800-6A68-4FA1-A27F-29F55F85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BCC7-E161-4393-A902-32AD4AA29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AE94-BD32-42BD-BE41-00DF8414B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818-3D50-4F92-8049-D4E5D720E3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4540-125C-4E5D-B3AE-2AB37002CE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ics.livejournal.com/anzee/pic/0008x4gt/g31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pics.livejournal.com/anzee/pic/0008wcpy/g31" TargetMode="External"/><Relationship Id="rId5" Type="http://schemas.openxmlformats.org/officeDocument/2006/relationships/image" Target="../media/image17.png"/><Relationship Id="rId6" Type="http://schemas.openxmlformats.org/officeDocument/2006/relationships/hyperlink" Target="http://pics.livejournal.com/anzee/pic/0008qk6t/g31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hyperlink" Target="http://pics.livejournal.com/anzee/pic/0008pwt8/g31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pics.livejournal.com/anzee/pic/0008brk3/g31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hyperlink" Target="http://pics.livejournal.com/anzee/pic/0008tyfp/g31" TargetMode="External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Monotype Corsiva"/>
              </a:rPr>
              <a:t>Утро</a:t>
            </a:r>
            <a:br>
              <a:rPr sz="7200"/>
            </a:br>
            <a:r>
              <a:rPr b="0" i="1" lang="en-US" sz="7200" spc="-1" strike="noStrike">
                <a:solidFill>
                  <a:srgbClr val="ffffff"/>
                </a:solidFill>
                <a:latin typeface="Monotype Corsiva"/>
              </a:rPr>
              <a:t>космической эры.</a:t>
            </a:r>
            <a:r>
              <a:rPr b="0" i="1" lang="en-US" sz="8800" spc="-1" strike="noStrike">
                <a:solidFill>
                  <a:srgbClr val="ff0066"/>
                </a:solidFill>
                <a:latin typeface="Calligraph421 BT"/>
              </a:rPr>
              <a:t> 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533520"/>
            <a:ext cx="7848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0066"/>
                </a:solidFill>
                <a:latin typeface="Calligraph421 BT"/>
              </a:rPr>
              <a:t>К ЗВЕЗДАМ 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696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  Панфилов В.О.,ученик 3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Средняя общеобразовательная школа №2 г. Михайловки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Бочарова С.Н., классный руководитель 3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МОУ «Средняя общеобразовательная школа №2 г. Михайловки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omic Sans MS"/>
              </a:rPr>
              <a:t>ПЕРВЫЕ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omic Sans MS"/>
              </a:rPr>
              <a:t>«КОСМОНАВТЫ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ервый отряд космонавт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08" name="t9678z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143000"/>
            <a:ext cx="3504960" cy="28018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209" name="t9678z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1143000"/>
            <a:ext cx="3429000" cy="27446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210" name="t9678z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3978360"/>
            <a:ext cx="3429000" cy="27334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6172200" y="45720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ес – не более 6 к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Рост – не более 35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3013200" cy="4267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t9678z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3623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528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ергей Павлович Корол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609480"/>
            <a:ext cx="38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ченые медики со своими любим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9678z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304920"/>
            <a:ext cx="3733920" cy="29876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915840" y="30492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омбинезон для пол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343400" cy="28335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685800" y="5334120"/>
            <a:ext cx="35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кафандры для собак-космонав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015" descr=""/>
          <p:cNvPicPr/>
          <p:nvPr/>
        </p:nvPicPr>
        <p:blipFill>
          <a:blip r:embed="rId5"/>
          <a:stretch/>
        </p:blipFill>
        <p:spPr>
          <a:xfrm>
            <a:off x="380880" y="1905120"/>
            <a:ext cx="4046760" cy="3035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733920" cy="3278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257800" y="380880"/>
            <a:ext cx="3657600" cy="3467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2590920" y="3429000"/>
            <a:ext cx="339876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6095880" y="52578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осмическая каб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атапультная каб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53960" y="-36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кафанд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471840" cy="5333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533520" y="129528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торой советский искусственный спутник с собакой на борту отправился в космо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 ноября 1957 года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с космодрома Байкону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3 ноября 1957 год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705040" cy="541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562720" y="1295280"/>
            <a:ext cx="2697120" cy="533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380880" y="58672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иокосмонавт Лайка перед полетом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304920"/>
            <a:ext cx="34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лой отсек космической соб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410080" y="1904760"/>
            <a:ext cx="343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Собака Лайка- первое живое существо, побывавшее в косм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013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518148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13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Память о Лайке осталась в почтовых марках, выпущенных в разных странах.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3657600" cy="275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3962520" cy="291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809880"/>
            <a:ext cx="8537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Белка и Стрелка стали первыми биокосмонавтами, благополучно вернувшимися на Землю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158240" cy="288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ак человек начал осваивать космическое пространств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то создал первый космический аппарат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гда  была запущена первая раке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первым полетел в космо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28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ня интересовали ответы на следующие вопрос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267080"/>
            <a:ext cx="85104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onotype Corsiva"/>
              </a:rPr>
              <a:t>Специалист по авиационной медицине, старший научный сотрудник Олег Газенко демонстрирует вернувшихся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Monotype Corsiva"/>
              </a:rPr>
              <a:t>из космоса соба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6319800" cy="374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Потомство Белки"/>
          <p:cNvPicPr/>
          <p:nvPr/>
        </p:nvPicPr>
        <p:blipFill>
          <a:blip r:embed="rId2"/>
          <a:stretch/>
        </p:blipFill>
        <p:spPr>
          <a:xfrm>
            <a:off x="533520" y="457200"/>
            <a:ext cx="3213000" cy="4419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838080"/>
            <a:ext cx="4267080" cy="34149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489480" y="3207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5257800"/>
            <a:ext cx="58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отомство Бел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Почтовые марки с изображением животных, побывавших в космос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429000" y="2438280"/>
            <a:ext cx="2668680" cy="3733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80880" y="1752480"/>
            <a:ext cx="3200400" cy="225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Участники полета в космос – собаки Ветерок и Уголек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5715000" cy="483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Звездочка"/>
          <p:cNvPicPr/>
          <p:nvPr/>
        </p:nvPicPr>
        <p:blipFill>
          <a:blip r:embed="rId2"/>
          <a:stretch/>
        </p:blipFill>
        <p:spPr>
          <a:xfrm>
            <a:off x="380880" y="304920"/>
            <a:ext cx="3289320" cy="4724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952880" y="457200"/>
            <a:ext cx="3124440" cy="2338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267080" y="2971800"/>
            <a:ext cx="4381560" cy="2906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89760" y="533412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Звездо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51200" y="6019920"/>
            <a:ext cx="53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амятник Звездочке в Ижев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762120"/>
            <a:ext cx="8461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До старта человека в космос оставалось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18 дней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388584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onotype Corsiva"/>
              </a:rPr>
              <a:t>Больше собакам в космос подняться было не суждено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ловек в космос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3709800" cy="4876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4800600" y="990720"/>
            <a:ext cx="411480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 апреля 1961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вый космический корабль «Восток» с первым космонавтом Юрием Алексеевичем Гагариным на борту совершил 1 виток вокруг нашей планеты и благополучно доставил космонавта на Зем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6400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Ю.А.Гага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 участие в космическом проекте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Юрию Алек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еевичу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было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присвоено звание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Героя Советского союз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2597040" cy="3505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019920" y="3049560"/>
            <a:ext cx="2597040" cy="3808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3200400" y="2743200"/>
            <a:ext cx="254484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аботая над проектом, я узнал, что   Россия  является первым государством, проникнувшим в космос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Для этого потребовались большие усилия ученых, испытателей, в числе которых  были и собаки. Они еще раз доказали свою пользу человек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Я очень горд, что первый человек в космосе – Россиянин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Monotype Corsiva"/>
              </a:rPr>
              <a:t>Изучить историю космонавтики(историю освоения космоса человеко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onotype Corsiva"/>
              </a:rPr>
              <a:t>Подумать самостояте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onotype Corsiva"/>
              </a:rPr>
              <a:t>Посмотреть книги о становлении космонавтики, о первых полетах в косм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onotype Corsiva"/>
              </a:rPr>
              <a:t>Спросить у  родителей, других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onotype Corsiva"/>
              </a:rPr>
              <a:t>Познакомиться с кино- и телефильмами по данной теме проек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onotype Corsiva"/>
              </a:rPr>
              <a:t>Обратиться к глобальной сети Интер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3504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осле того, как человек изобрел самолет и завоевал небо, людям захотелось подняться еще выше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онстантин Эдуардович Циолковски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89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оположник космонавтики и ракето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сновал возможность использования ракеты для полетов в космическое пространство, к другим планетам Солнечн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103720" y="1676520"/>
            <a:ext cx="3286080" cy="442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ридрих Артурович Цандер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(1887 – 1933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419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оветский ученый и изобретатель в области теории межпланетных полетов, реактивных двига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4592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Юрий Васильевич Кондратюк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1897 – 1942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ложил при полетах к другим планетам выводить корабль на орбиту его искусственного спут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посадки человека на другую планету и возвращения на корабль применить небольшой взлетно-посадочный кораб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ергей Павлович Короле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9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e00"/>
                </a:solidFill>
                <a:latin typeface="Arial"/>
              </a:rPr>
              <a:t>Конструктор ракетн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e00"/>
                </a:solidFill>
                <a:latin typeface="Arial"/>
              </a:rPr>
              <a:t>Генеральный Конструк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e00"/>
                </a:solidFill>
                <a:latin typeface="Arial"/>
              </a:rPr>
              <a:t>Воплотил  в жизнь  все заветные мечты  основоположников  космонав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989520" cy="51814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337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4 октября 1957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6216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ервый искусственный спутник Зем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3962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ес- 83,6 к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905120" y="3200040"/>
            <a:ext cx="28191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3200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2895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иаметр – 58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нфилова Е.В.</dc:creator>
  <dc:description/>
  <dc:language>en-US</dc:language>
  <cp:lastModifiedBy>Егорушин Валерий Александрович</cp:lastModifiedBy>
  <dcterms:modified xsi:type="dcterms:W3CDTF">2010-01-13T10:54:1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