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C2F5-1007-4932-AFC5-0E152CE31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E706-BDA3-4631-9661-F7435A1DD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433A-D3C2-44AA-926D-67EA68A37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7168-79B3-4B16-8BC9-759EFCB6C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A70E-DD74-4308-A982-53E694749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97C1-DC5C-49C2-AEF7-36AB4BA7A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C381-7513-4454-8064-603602EEF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257F-3920-4066-B845-75C2BF165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599F-7F33-4080-961A-06C1E7D68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6EF4-2F39-47D4-90CF-7F334D09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E5F1-9DDF-48ED-B483-FFA10B7D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5C81-D79D-44AB-AC43-C1D6E9E4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9141A-7AD2-4852-98B1-F00C147E9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4103640" cy="31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3T11:20:21Z</dcterms:created>
  <dc:creator>Панфилова Е.В.</dc:creator>
  <dc:description/>
  <dc:language>en-US</dc:language>
  <cp:lastModifiedBy>Егорушин Валерий Александрович</cp:lastModifiedBy>
  <dcterms:modified xsi:type="dcterms:W3CDTF">2010-01-13T11:20:22Z</dcterms:modified>
  <cp:revision>1</cp:revision>
  <dc:subject/>
  <dc:title>Слайд 1</dc:title>
</cp:coreProperties>
</file>