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8.wmf" ContentType="image/x-wmf"/>
  <Override PartName="/ppt/media/image27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8.jpeg" ContentType="image/jpeg"/>
  <Override PartName="/ppt/media/image29.jpeg" ContentType="image/jpeg"/>
  <Override PartName="/ppt/media/image30.jpeg" ContentType="image/jpeg"/>
  <Override PartName="/ppt/media/image13.png" ContentType="image/png"/>
  <Override PartName="/ppt/media/image36.wmf" ContentType="image/x-wmf"/>
  <Override PartName="/ppt/media/image39.wmf" ContentType="image/x-wmf"/>
  <Override PartName="/ppt/media/image43.wmf" ContentType="image/x-wmf"/>
  <Override PartName="/ppt/media/image34.jpeg" ContentType="image/jpeg"/>
  <Override PartName="/ppt/media/image40.wmf" ContentType="image/x-wmf"/>
  <Override PartName="/ppt/media/image37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1.png" ContentType="image/png"/>
  <Override PartName="/ppt/media/image6.png" ContentType="image/png"/>
  <Override PartName="/ppt/media/image1.png" ContentType="image/png"/>
  <Override PartName="/ppt/media/image31.png" ContentType="image/png"/>
  <Override PartName="/ppt/media/image5.jpeg" ContentType="image/jpeg"/>
  <Override PartName="/ppt/media/image26.jpeg" ContentType="image/jpeg"/>
  <Override PartName="/ppt/media/image42.png" ContentType="image/png"/>
  <Override PartName="/ppt/media/image41.gif" ContentType="image/gif"/>
  <Override PartName="/ppt/media/image4.png" ContentType="image/png"/>
  <Override PartName="/ppt/media/image3.png" ContentType="image/pn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7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41AC-48D2-4CD1-84E4-5AB3A6EEF4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0758-3069-46CF-B768-A60C3D36C923}" type="slidenum">
              <a:rPr b="0" i="1" lang="ru-RU" sz="1200" spc="-1" strike="noStrike">
                <a:solidFill>
                  <a:srgbClr val="ffffff"/>
                </a:solidFill>
                <a:latin typeface="Monotype Corsiva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0CD1-B1AA-4195-80A1-5EE065805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B747-7D81-4EAD-A119-9DD460B05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633114-D59A-4F2C-9BA2-60959C8E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CFD450-C9C9-4840-9029-F43BA6AD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955D5C-517F-42F5-B579-22B03AD13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C74233-F648-4689-9C20-5C67D731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89DB06-A947-4344-83BC-67F0F719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040930-DB43-4F67-A542-1FC6AD9B5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0F3201-8829-417C-A0A4-D1B76CDF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7E9E9A-1DD1-47C3-92A6-94ACEAB68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BEF81B-46F2-4781-9192-ED5861CB9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54EED4-EF7B-4B40-B921-C4504926A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BD31-F78D-4CC2-A2DF-3CA8E507B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22AA36-8EB4-49E9-8FE8-ED09DA2E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14EDE7-3A0C-405C-A619-B2EC1AFD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262DC4-D429-4B74-9DA4-19A41A81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644AE8-5389-4224-B8CE-4C11D200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55D25B-62A9-4B38-99BD-2AE922DF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CFCDD2-3E18-44CA-A310-E99CA82A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005E0C-86DF-4285-A7CB-43D56B14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852F00-FC94-4E25-953B-C5009CBC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80A178-F849-43C6-9854-75543BB81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A283D3-6524-482C-9226-E4AC8F662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09A2-8FB2-4B9B-8634-BDF0789A0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690557-8E9D-4597-B3D0-8F57AAA72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DCDD-6A04-4371-B8BB-8773C80C4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8630-3163-4FEF-B40D-931EB06E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77E5-7398-4362-90C0-41E715334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1BB5-AB3A-43D3-808A-B7493B48A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D822-61F0-46EF-83C5-FAA4F63C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0BE88-DE04-48C3-8BA0-2F2191B7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7D5A-A76B-4FCA-AB0F-FC0B4528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9465-13E8-4B17-869E-0F484EF3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76AF3-60A5-4B99-9C2F-75B944AA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2AE1-230C-449F-A82C-14A08F13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5C683-DC0C-48B3-951C-3FC73031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C6ED2-06D8-48F1-A0C2-2BC05F6DC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6AE22-34CC-40F9-8B3E-4C38EBF75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2313E-DD71-4859-B219-C06567B00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579DD-B5E0-442D-81CB-81641E86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66694-6A5F-4F46-970C-7AB1945B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3ABD7-31B6-4F52-A6FE-90B19BA8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468F79-26CC-4C13-87CC-EBE1042B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323A-ECC8-45E4-9B55-8D0438C8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BE82F-DA91-4393-BFDA-0A875812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5A3C3-52BA-4077-84F6-FEC29F43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98580-17C8-44A6-ABBF-87CFC328E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F7296-E599-4357-BB1F-0FEC68DB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572E5-9286-494F-90C1-E65FA645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A9649-F5AA-43A6-8834-0C6F1E0AE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95BCD-3E29-4BE8-8145-3FCDC7EE0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AAC41-0F4E-444C-AA8F-7BFA35F6D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C7643-3FED-40C4-A4CE-7F7345A8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DD060-2329-4066-9FB1-70F03134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2EAD-F748-4BA0-8804-671612EE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0B292-5F9E-4375-80FA-97D4D9AC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DB9C1-435F-49C6-A087-AF502EBD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CF4C3-2220-4B7C-93E6-632B2683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266A3-AFCF-4C2E-86F5-4A6C5635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B42C8-BA2E-423F-93E5-AA35B1F9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074CE-1F1E-4DA7-A773-3A30AEA8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BA208-1205-4E8B-986B-2C0C7C5A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3AEE8-069B-4930-A34E-D248C7223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4AFEB-55B1-4674-BFA0-9065F7E5D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CE8C1-FCDD-4B66-A5C3-F5EC7B9C3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8532-BB3E-4CDB-AF86-792FBBBD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6BB8E-4A25-4BF4-B18B-DF0D7D7F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F43DB-B985-42A3-8E22-292BDA2F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FCFEF-754B-4D93-949D-2F83D82E9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D35B4-08B7-4C59-91D3-1F7408968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1E39C-CAD4-49E9-9339-11D29C63E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55D7E-187D-4521-9A3F-F217FE64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06023-506B-4382-BFED-90E41D23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93069-B41B-4E05-80F7-12B553A1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2CFD3-089C-49D8-B241-E9A106D8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00B38-60D3-412D-9A02-9F64A4C6C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4A3B-B0DF-4B2F-8194-E3225911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4B5A8-5829-4468-B19C-5C3BDDB42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2848E-5BCD-4721-A760-C9B8AE868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9518B-ABFB-4F67-A72C-9CEB0C9D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455E4-1818-4CCA-91E6-60293B54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F40AE-8066-4E42-8CFC-66A94CFD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486198-3AB8-492C-B97E-BF02C3EA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3F920-6CFA-454E-A533-623AA54D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B68D8-7512-4EDC-9D7F-22DA7C49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D8692-FAB6-4346-86DC-9F39308C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5E443-A6E5-4BBB-8AF1-16AE28D3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1207-5DC8-4B0D-B47A-5B707B7B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0EC9C-EFF5-460D-BF47-C116FD71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3BA42-6850-4AEC-9D57-E1964CC8D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5F82E-9AF3-4D9B-A32A-B11353D85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08DD9-C811-470C-8DDF-0090E1477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F0EC6F-E4D1-4120-B049-416061DA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4EC46-9E0E-44E6-ABF8-4B69078C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71E26-52DF-4A66-AE0A-52238B89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EBC9D-3939-4232-8E5E-A3B8B762A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ABAEA2-C785-4075-B362-DB83A37E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AA431-81B5-421A-842D-E2D51976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EAA9-2F47-4F90-9D72-D23F0648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87B1B-B7BA-4F90-B865-99025D35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AFA4A-4534-43F4-ADB0-D0C6E009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CA49F-EC7F-456F-8033-0E0920F1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48836-EB3B-4458-B1E8-FF7467C92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0AA01-85B8-43AB-9B24-33666CC25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B30BB-1104-4F0C-A431-6697ADA05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01345-5AE5-4F75-BFBB-31C768E0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95DD0-F50E-4ED7-9318-76FB2795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7FD43-6C0C-4D79-B36B-03A20FBE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0CB2F-02C2-4773-8669-0BFD85AF4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2F68-2DDF-422A-BC0E-9CD9EAB0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4796DD-C383-46AD-8620-DB65BAE5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953E4-0B78-49FE-AA7D-B52E32A8D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EFA1F-A2AE-4FD6-9A92-F25DC458F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F5E4A-8856-4E0F-913B-8476DF98C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46DAD-A355-4316-BDA8-00771A7A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23E79-2262-461B-BAD7-11D5BBB6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33BA1-C26B-4F10-B958-31A98E9A0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18B385-C40D-4DAA-9BDE-8F926874C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0CB527-2A3A-4B6B-9F3D-2AF28295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AF220B-AA3F-4694-9C73-2A38D458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7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7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07F4-7FFB-4BFD-9DAD-9062A267E3D8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61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grpSp>
          <p:nvGrpSpPr>
            <p:cNvPr id="61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62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62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62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</p:grpSp>
        <p:grpSp>
          <p:nvGrpSpPr>
            <p:cNvPr id="62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62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62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28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7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29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7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5A33C-F6F5-4744-A297-F17BE30E817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7200" spc="-1" strike="noStrike">
              <a:solidFill>
                <a:srgbClr val="ffffff"/>
              </a:solidFill>
              <a:latin typeface="Monotype Corsiva"/>
            </a:endParaRPr>
          </a:p>
        </p:txBody>
      </p:sp>
      <p:grpSp>
        <p:nvGrpSpPr>
          <p:cNvPr id="55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56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grpSp>
          <p:nvGrpSpPr>
            <p:cNvPr id="57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58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59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60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61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62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68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</p:grpSp>
        <p:grpSp>
          <p:nvGrpSpPr>
            <p:cNvPr id="69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70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71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72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73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74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75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76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77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78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79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80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81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82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83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84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85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86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87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</p:grpSp>
        <p:grpSp>
          <p:nvGrpSpPr>
            <p:cNvPr id="88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89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90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91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92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93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94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95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96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97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98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99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0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1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2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3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4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5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</p:grpSp>
        <p:grpSp>
          <p:nvGrpSpPr>
            <p:cNvPr id="106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07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8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09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0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1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2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13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grpSp>
            <p:nvGrpSpPr>
              <p:cNvPr id="114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15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7200" spc="-1" strike="noStrike">
                    <a:solidFill>
                      <a:srgbClr val="ffffff"/>
                    </a:solidFill>
                    <a:latin typeface="Monotype Corsiva"/>
                  </a:endParaRPr>
                </a:p>
              </p:txBody>
            </p:sp>
            <p:sp>
              <p:nvSpPr>
                <p:cNvPr id="116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7200" spc="-1" strike="noStrike">
                    <a:solidFill>
                      <a:srgbClr val="ffffff"/>
                    </a:solidFill>
                    <a:latin typeface="Monotype Corsiva"/>
                  </a:endParaRPr>
                </a:p>
              </p:txBody>
            </p:sp>
            <p:sp>
              <p:nvSpPr>
                <p:cNvPr id="117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7200" spc="-1" strike="noStrike">
                    <a:solidFill>
                      <a:srgbClr val="ffffff"/>
                    </a:solidFill>
                    <a:latin typeface="Monotype Corsiva"/>
                  </a:endParaRPr>
                </a:p>
              </p:txBody>
            </p:sp>
            <p:sp>
              <p:nvSpPr>
                <p:cNvPr id="118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7200" spc="-1" strike="noStrike">
                    <a:solidFill>
                      <a:srgbClr val="ffffff"/>
                    </a:solidFill>
                    <a:latin typeface="Monotype Corsiva"/>
                  </a:endParaRPr>
                </a:p>
              </p:txBody>
            </p:sp>
          </p:grp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7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7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729E-2CCE-4B18-BDF4-2D4B489B71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6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6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6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6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6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6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6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6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7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7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7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7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7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7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7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7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7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7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8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8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8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8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8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8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8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8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8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8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9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9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9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9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9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9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19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grpSp>
          <p:nvGrpSpPr>
            <p:cNvPr id="19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9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19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7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7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0D77-E27C-4BF9-B1F4-18A38BCD1F5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242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243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7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7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55E7F-D656-415B-B4E7-3C2D78C0790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86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grpSp>
          <p:nvGrpSpPr>
            <p:cNvPr id="287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88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289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7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7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1F53-6993-44A1-B57C-A6092A98BD5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7200" spc="-1" strike="noStrike">
              <a:solidFill>
                <a:srgbClr val="ffffff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333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334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35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</p:grpSp>
        <p:sp>
          <p:nvSpPr>
            <p:cNvPr id="336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337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338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grpSp>
          <p:nvGrpSpPr>
            <p:cNvPr id="339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340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41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42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43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44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45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16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7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17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7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18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B447A-D051-41BA-BA27-DF88D515F5DD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388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grpSp>
          <p:nvGrpSpPr>
            <p:cNvPr id="389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390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91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92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93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94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95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96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97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98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399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400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</p:grpSp>
        <p:grpSp>
          <p:nvGrpSpPr>
            <p:cNvPr id="401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02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403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404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405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406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407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408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409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410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411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412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413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414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415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416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417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418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419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</p:grpSp>
        <p:grpSp>
          <p:nvGrpSpPr>
            <p:cNvPr id="420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21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422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423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424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425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426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427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428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429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430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431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432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433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434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435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436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437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</p:grpSp>
        <p:grpSp>
          <p:nvGrpSpPr>
            <p:cNvPr id="438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39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440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441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442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443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444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445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grpSp>
            <p:nvGrpSpPr>
              <p:cNvPr id="446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47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7200" spc="-1" strike="noStrike">
                    <a:solidFill>
                      <a:srgbClr val="ffffff"/>
                    </a:solidFill>
                    <a:latin typeface="Monotype Corsiva"/>
                  </a:endParaRPr>
                </a:p>
              </p:txBody>
            </p:sp>
            <p:sp>
              <p:nvSpPr>
                <p:cNvPr id="448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7200" spc="-1" strike="noStrike">
                    <a:solidFill>
                      <a:srgbClr val="ffffff"/>
                    </a:solidFill>
                    <a:latin typeface="Monotype Corsiva"/>
                  </a:endParaRPr>
                </a:p>
              </p:txBody>
            </p:sp>
            <p:sp>
              <p:nvSpPr>
                <p:cNvPr id="449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7200" spc="-1" strike="noStrike">
                    <a:solidFill>
                      <a:srgbClr val="ffffff"/>
                    </a:solidFill>
                    <a:latin typeface="Monotype Corsiva"/>
                  </a:endParaRPr>
                </a:p>
              </p:txBody>
            </p:sp>
            <p:sp>
              <p:nvSpPr>
                <p:cNvPr id="450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7200" spc="-1" strike="noStrike">
                    <a:solidFill>
                      <a:srgbClr val="ffffff"/>
                    </a:solidFill>
                    <a:latin typeface="Monotype Corsiva"/>
                  </a:endParaRPr>
                </a:p>
              </p:txBody>
            </p:sp>
          </p:grpSp>
        </p:grpSp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7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7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5166B-DDAB-4783-8F01-0DFA323A83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93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494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495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496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497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498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499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500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501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502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503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504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505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506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507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508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509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510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511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512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513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514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515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516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517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518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519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520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521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522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523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524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525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526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527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528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grpSp>
          <p:nvGrpSpPr>
            <p:cNvPr id="52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530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  <p:sp>
            <p:nvSpPr>
              <p:cNvPr id="53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7200" spc="-1" strike="noStrike">
                  <a:solidFill>
                    <a:srgbClr val="ffffff"/>
                  </a:solidFill>
                  <a:latin typeface="Monotype Corsiva"/>
                </a:endParaRPr>
              </a:p>
            </p:txBody>
          </p:sp>
        </p:grpSp>
      </p:grp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7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7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5C03-C180-46E2-B4D5-6AE040B672F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574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  <p:sp>
          <p:nvSpPr>
            <p:cNvPr id="575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7200" spc="-1" strike="noStrike">
                <a:solidFill>
                  <a:srgbClr val="ffffff"/>
                </a:solidFill>
                <a:latin typeface="Monotype Corsiva"/>
              </a:endParaRPr>
            </a:p>
          </p:txBody>
        </p:sp>
      </p:grp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7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72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42CB-AEDA-4426-841E-33F2323419A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wmf"/><Relationship Id="rId6" Type="http://schemas.openxmlformats.org/officeDocument/2006/relationships/image" Target="../media/image41.gif"/><Relationship Id="rId7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wmf"/><Relationship Id="rId3" Type="http://schemas.openxmlformats.org/officeDocument/2006/relationships/image" Target="../media/image43.wmf"/><Relationship Id="rId4" Type="http://schemas.openxmlformats.org/officeDocument/2006/relationships/image" Target="../media/image41.gif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71424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0000"/>
                </a:solidFill>
                <a:latin typeface="Arial"/>
              </a:rPr>
              <a:t>Исследовательский проект:</a:t>
            </a:r>
            <a:br>
              <a:rPr sz="4100"/>
            </a:br>
            <a:r>
              <a:rPr b="1" lang="ru-RU" sz="4100" spc="-1" strike="noStrike">
                <a:solidFill>
                  <a:srgbClr val="ffffff"/>
                </a:solidFill>
                <a:latin typeface="Arial"/>
              </a:rPr>
              <a:t>«Где найти невидимку?»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subTitle"/>
          </p:nvPr>
        </p:nvSpPr>
        <p:spPr>
          <a:xfrm>
            <a:off x="3929040" y="3285720"/>
            <a:ext cx="492912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Исполнитель:</a:t>
            </a:r>
            <a:r>
              <a:rPr b="0" lang="ru-RU" sz="2800" spc="-1" strike="noStrike">
                <a:solidFill>
                  <a:srgbClr val="86d1e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ица 4 «А» класса МОУ«СОШ №4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лочинская Дарь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6d1ec"/>
                </a:solidFill>
                <a:latin typeface="Arial"/>
              </a:rPr>
              <a:t>Научный руководитель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тербова Ю.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6" name="Picture 1" descr=""/>
          <p:cNvPicPr/>
          <p:nvPr/>
        </p:nvPicPr>
        <p:blipFill>
          <a:blip r:embed="rId1"/>
          <a:stretch/>
        </p:blipFill>
        <p:spPr>
          <a:xfrm>
            <a:off x="714240" y="4286160"/>
            <a:ext cx="2749680" cy="2071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066320" y="285480"/>
            <a:ext cx="70866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Опыт № 1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357120" y="4071960"/>
            <a:ext cx="514368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Вывод</a:t>
            </a: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здух умеет сжиматься и разжиматься в разные сторо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8" name="Picture 30" descr="Фото225"/>
          <p:cNvPicPr/>
          <p:nvPr/>
        </p:nvPicPr>
        <p:blipFill>
          <a:blip r:embed="rId1"/>
          <a:stretch/>
        </p:blipFill>
        <p:spPr>
          <a:xfrm>
            <a:off x="500040" y="511200"/>
            <a:ext cx="2357640" cy="291132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31" descr="Фото226"/>
          <p:cNvPicPr/>
          <p:nvPr/>
        </p:nvPicPr>
        <p:blipFill>
          <a:blip r:embed="rId2"/>
          <a:stretch/>
        </p:blipFill>
        <p:spPr>
          <a:xfrm>
            <a:off x="3143160" y="1571760"/>
            <a:ext cx="2382840" cy="300024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29" descr="Фото242"/>
          <p:cNvPicPr/>
          <p:nvPr/>
        </p:nvPicPr>
        <p:blipFill>
          <a:blip r:embed="rId3"/>
          <a:stretch/>
        </p:blipFill>
        <p:spPr>
          <a:xfrm>
            <a:off x="5857920" y="2357280"/>
            <a:ext cx="2928960" cy="390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1000" fill="hold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1000" fill="hold"/>
                                        <p:tgtEl>
                                          <p:spTgt spid="7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54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5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356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357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5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59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60" dur="300" fill="hold">
                                          <p:stCondLst>
                                            <p:cond delay="70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62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3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364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365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6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67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68" dur="300" fill="hold">
                                          <p:stCondLst>
                                            <p:cond delay="70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70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1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animClr clrSpc="rgb">
                                      <p:cBhvr>
                                        <p:cTn id="372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66ff"/>
                                      </p:to>
                                    </p:animClr>
                                    <p:set>
                                      <p:cBhvr>
                                        <p:cTn id="373" dur="9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7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75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76" dur="300" fill="hold">
                                          <p:stCondLst>
                                            <p:cond delay="70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066320" y="285480"/>
            <a:ext cx="7086600" cy="571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Опыт № 2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1066320" y="5072040"/>
            <a:ext cx="743436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Вывод: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здух наполнил мешоче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3" name="Picture 6" descr="Фото221"/>
          <p:cNvPicPr/>
          <p:nvPr/>
        </p:nvPicPr>
        <p:blipFill>
          <a:blip r:embed="rId1"/>
          <a:stretch/>
        </p:blipFill>
        <p:spPr>
          <a:xfrm>
            <a:off x="642960" y="857160"/>
            <a:ext cx="3143160" cy="4003920"/>
          </a:xfrm>
          <a:prstGeom prst="rect">
            <a:avLst/>
          </a:prstGeom>
          <a:ln w="0">
            <a:noFill/>
          </a:ln>
        </p:spPr>
      </p:pic>
      <p:pic>
        <p:nvPicPr>
          <p:cNvPr id="714" name="Picture 9" descr="Фото223"/>
          <p:cNvPicPr/>
          <p:nvPr/>
        </p:nvPicPr>
        <p:blipFill>
          <a:blip r:embed="rId2"/>
          <a:stretch/>
        </p:blipFill>
        <p:spPr>
          <a:xfrm>
            <a:off x="5000760" y="428760"/>
            <a:ext cx="3466800" cy="4422600"/>
          </a:xfrm>
          <a:prstGeom prst="rect">
            <a:avLst/>
          </a:prstGeom>
          <a:ln w="0">
            <a:noFill/>
          </a:ln>
        </p:spPr>
      </p:pic>
      <p:sp>
        <p:nvSpPr>
          <p:cNvPr id="715" name="PlaceHolder 3"/>
          <p:cNvSpPr>
            <a:spLocks noGrp="1"/>
          </p:cNvSpPr>
          <p:nvPr>
            <p:ph type="subTitle"/>
          </p:nvPr>
        </p:nvSpPr>
        <p:spPr>
          <a:xfrm>
            <a:off x="1066680" y="5071680"/>
            <a:ext cx="64008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75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75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750"/>
                            </p:stCondLst>
                            <p:childTnLst>
                              <p:par>
                                <p:cTn id="386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750"/>
                            </p:stCondLst>
                            <p:childTnLst>
                              <p:par>
                                <p:cTn id="391" nodeType="after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571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Опыт № 3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1371600" y="3929040"/>
            <a:ext cx="64008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узырьки воздуха поднимаются вверх. Давление воздуха в пузырьке меньше давления воды. Давление воды на дне стакана больше, чем у поверхности и она выталкивает пузырьки ввер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8" name="Picture 6" descr="Фото222"/>
          <p:cNvPicPr/>
          <p:nvPr/>
        </p:nvPicPr>
        <p:blipFill>
          <a:blip r:embed="rId1"/>
          <a:stretch/>
        </p:blipFill>
        <p:spPr>
          <a:xfrm>
            <a:off x="357120" y="214200"/>
            <a:ext cx="2786040" cy="3714840"/>
          </a:xfrm>
          <a:prstGeom prst="rect">
            <a:avLst/>
          </a:prstGeom>
          <a:ln w="0">
            <a:noFill/>
          </a:ln>
        </p:spPr>
      </p:pic>
      <p:pic>
        <p:nvPicPr>
          <p:cNvPr id="719" name="Picture 7" descr="Фото212"/>
          <p:cNvPicPr/>
          <p:nvPr/>
        </p:nvPicPr>
        <p:blipFill>
          <a:blip r:embed="rId2"/>
          <a:stretch/>
        </p:blipFill>
        <p:spPr>
          <a:xfrm>
            <a:off x="6072120" y="285840"/>
            <a:ext cx="2732040" cy="364320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1" descr=""/>
          <p:cNvPicPr/>
          <p:nvPr/>
        </p:nvPicPr>
        <p:blipFill>
          <a:blip r:embed="rId3"/>
          <a:stretch/>
        </p:blipFill>
        <p:spPr>
          <a:xfrm>
            <a:off x="3429000" y="1428840"/>
            <a:ext cx="2406600" cy="1857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6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0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7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8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21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2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Опыт № 4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4500720"/>
            <a:ext cx="64008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ода не заполнила « пустой» стакан потому, что он вовсе не пустой. Стакан наполнен воздухом, который и не впускает воду внутрь. Мы наглядно обнаружили воздух в стака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3" name="Picture 9" descr="Фото184"/>
          <p:cNvPicPr/>
          <p:nvPr/>
        </p:nvPicPr>
        <p:blipFill>
          <a:blip r:embed="rId1"/>
          <a:stretch/>
        </p:blipFill>
        <p:spPr>
          <a:xfrm>
            <a:off x="231840" y="1143000"/>
            <a:ext cx="1896840" cy="2525760"/>
          </a:xfrm>
          <a:prstGeom prst="rect">
            <a:avLst/>
          </a:prstGeom>
          <a:ln w="0">
            <a:noFill/>
          </a:ln>
        </p:spPr>
      </p:pic>
      <p:pic>
        <p:nvPicPr>
          <p:cNvPr id="724" name="Picture 13" descr="Фото202"/>
          <p:cNvPicPr/>
          <p:nvPr/>
        </p:nvPicPr>
        <p:blipFill>
          <a:blip r:embed="rId2"/>
          <a:stretch/>
        </p:blipFill>
        <p:spPr>
          <a:xfrm>
            <a:off x="2500200" y="1714680"/>
            <a:ext cx="1897200" cy="252540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12" descr="Фото201"/>
          <p:cNvPicPr/>
          <p:nvPr/>
        </p:nvPicPr>
        <p:blipFill>
          <a:blip r:embed="rId3"/>
          <a:stretch/>
        </p:blipFill>
        <p:spPr>
          <a:xfrm>
            <a:off x="4786200" y="1143000"/>
            <a:ext cx="1897200" cy="252576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16" descr="Фото218"/>
          <p:cNvPicPr/>
          <p:nvPr/>
        </p:nvPicPr>
        <p:blipFill>
          <a:blip r:embed="rId4"/>
          <a:stretch/>
        </p:blipFill>
        <p:spPr>
          <a:xfrm>
            <a:off x="7000920" y="1714680"/>
            <a:ext cx="1896840" cy="2525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4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8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2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6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8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1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470" dur="1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471" dur="1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7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7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78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9" dur="1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480" dur="1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481" dur="1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8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8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8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88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9" dur="1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490" dur="1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491" dur="1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9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9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9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98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9" dur="1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animClr clrSpc="rgb">
                                      <p:cBhvr>
                                        <p:cTn id="500" dur="1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88e4"/>
                                      </p:to>
                                    </p:animClr>
                                    <p:set>
                                      <p:cBhvr>
                                        <p:cTn id="501" dur="1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50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0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Общий вывод по работ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оздух вокруг нас. Воздух прозрачен, невидим. Но воздух обладает разными свойствами: упругостью, плотностью; он может создавать давление, равномерно сжиматься и разжиматься во все стороны; он движется, образуя ветер. Благодаря этим свойствам воздух всё - таки можно «увидеть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0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18" dur="20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French Script MT"/>
              </a:rPr>
              <a:t>Карточки для проверки домашнего задания: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0" name="AutoShape 15"/>
          <p:cNvSpPr/>
          <p:nvPr/>
        </p:nvSpPr>
        <p:spPr>
          <a:xfrm>
            <a:off x="214200" y="1500120"/>
            <a:ext cx="4429080" cy="2857680"/>
          </a:xfrm>
          <a:prstGeom prst="flowChartInputOutpu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Blackadder ITC"/>
              </a:rPr>
              <a:t>Какие свойства </a:t>
            </a:r>
            <a:endParaRPr b="0" i="1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Blackadder ITC"/>
              </a:rPr>
              <a:t>имеет воздух? </a:t>
            </a:r>
            <a:r>
              <a:rPr b="1" i="1" lang="ru-RU" sz="2400" spc="-1" strike="noStrike">
                <a:solidFill>
                  <a:srgbClr val="ffffff"/>
                </a:solidFill>
                <a:latin typeface="Arial Unicode MS"/>
              </a:rPr>
              <a:t>1)…</a:t>
            </a:r>
            <a:endParaRPr b="0" i="1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 Unicode MS"/>
              </a:rPr>
              <a:t>     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Arial Unicode MS"/>
              </a:rPr>
              <a:t>2)…</a:t>
            </a:r>
            <a:endParaRPr b="0" i="1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 Unicode MS"/>
              </a:rPr>
              <a:t>             </a:t>
            </a:r>
            <a:r>
              <a:rPr b="1" i="1" lang="ru-RU" sz="2400" spc="-1" strike="noStrike">
                <a:solidFill>
                  <a:srgbClr val="ffffff"/>
                </a:solidFill>
                <a:latin typeface="Arial Unicode MS"/>
              </a:rPr>
              <a:t>3)…</a:t>
            </a:r>
            <a:endParaRPr b="0" i="1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 Unicode MS"/>
              </a:rPr>
              <a:t>      </a:t>
            </a:r>
            <a:r>
              <a:rPr b="1" i="1" lang="ru-RU" sz="2400" spc="-1" strike="noStrike">
                <a:solidFill>
                  <a:srgbClr val="ffffff"/>
                </a:solidFill>
                <a:latin typeface="Arial Unicode MS"/>
              </a:rPr>
              <a:t>4)…</a:t>
            </a:r>
            <a:endParaRPr b="0" i="1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 Unicode MS"/>
              </a:rPr>
              <a:t>   </a:t>
            </a:r>
            <a:r>
              <a:rPr b="1" i="1" lang="ru-RU" sz="2400" spc="-1" strike="noStrike">
                <a:solidFill>
                  <a:srgbClr val="ffffff"/>
                </a:solidFill>
                <a:latin typeface="Arial Unicode MS"/>
              </a:rPr>
              <a:t>5)…</a:t>
            </a:r>
            <a:endParaRPr b="0" i="1" lang="en-US" sz="24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 Unicode MS"/>
              </a:rPr>
              <a:t>6)…</a:t>
            </a:r>
            <a:endParaRPr b="0" i="1" lang="en-US" sz="2400" spc="-1" strike="noStrike">
              <a:solidFill>
                <a:srgbClr val="ffffff"/>
              </a:solidFill>
              <a:latin typeface="Monotype Corsiva"/>
            </a:endParaRPr>
          </a:p>
        </p:txBody>
      </p:sp>
      <p:sp>
        <p:nvSpPr>
          <p:cNvPr id="731" name="AutoShape 16"/>
          <p:cNvSpPr/>
          <p:nvPr/>
        </p:nvSpPr>
        <p:spPr>
          <a:xfrm>
            <a:off x="857160" y="1214280"/>
            <a:ext cx="3714840" cy="214560"/>
          </a:xfrm>
          <a:custGeom>
            <a:avLst/>
            <a:gdLst>
              <a:gd name="textAreaLeft" fmla="*/ 928800 w 3714840"/>
              <a:gd name="textAreaRight" fmla="*/ 2786400 w 371484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0" stAng="16200000" swAng="-5400000"/>
                <a:lnTo>
                  <a:pt x="8100" y="0"/>
                </a:lnTo>
                <a:lnTo>
                  <a:pt x="13500" y="0"/>
                </a:lnTo>
                <a:lnTo>
                  <a:pt x="13500" y="0"/>
                </a:lnTo>
                <a:arcTo wR="675" hR="0" stAng="10800000" swAng="-5400000"/>
                <a:lnTo>
                  <a:pt x="21600" y="0"/>
                </a:lnTo>
                <a:lnTo>
                  <a:pt x="18900" y="10800"/>
                </a:lnTo>
                <a:lnTo>
                  <a:pt x="21600" y="21600"/>
                </a:lnTo>
                <a:lnTo>
                  <a:pt x="16200" y="21600"/>
                </a:lnTo>
                <a:lnTo>
                  <a:pt x="16200" y="21600"/>
                </a:lnTo>
                <a:arcTo wR="675" hR="0" stAng="0" swAng="-5400000"/>
                <a:lnTo>
                  <a:pt x="6075" y="21600"/>
                </a:lnTo>
                <a:arcTo wR="675" hR="0" stAng="16200000" swAng="-5400000"/>
                <a:lnTo>
                  <a:pt x="5400" y="21600"/>
                </a:lnTo>
                <a:lnTo>
                  <a:pt x="0" y="21600"/>
                </a:lnTo>
                <a:lnTo>
                  <a:pt x="2700" y="10800"/>
                </a:lnTo>
                <a:close/>
              </a:path>
              <a:path fill="none" w="21600" h="21600">
                <a:moveTo>
                  <a:pt x="8100" y="0"/>
                </a:moveTo>
                <a:arcTo wR="675" hR="0" stAng="0" swAng="-5400000"/>
                <a:lnTo>
                  <a:pt x="6075" y="0"/>
                </a:lnTo>
                <a:arcTo wR="675" hR="0" stAng="16200000" swAng="-5400000"/>
                <a:arcTo wR="675" hR="0" stAng="10800000" swAng="-5400000"/>
                <a:lnTo>
                  <a:pt x="8100" y="0"/>
                </a:lnTo>
              </a:path>
              <a:path fill="none" w="21600" h="21600">
                <a:moveTo>
                  <a:pt x="13500" y="0"/>
                </a:moveTo>
                <a:arcTo wR="675" hR="0" stAng="10800000" swAng="-5400000"/>
                <a:lnTo>
                  <a:pt x="15525" y="0"/>
                </a:lnTo>
                <a:arcTo wR="675" hR="0" stAng="16200000" swAng="-5400000"/>
                <a:arcTo wR="675" hR="0" stAng="0" swAng="-5400000"/>
                <a:lnTo>
                  <a:pt x="13500" y="0"/>
                </a:lnTo>
              </a:path>
              <a:path fill="none" w="21600" h="21600">
                <a:moveTo>
                  <a:pt x="5400" y="0"/>
                </a:moveTo>
                <a:lnTo>
                  <a:pt x="5400" y="21600"/>
                </a:lnTo>
              </a:path>
              <a:path fill="none" w="21600" h="21600">
                <a:moveTo>
                  <a:pt x="16200" y="0"/>
                </a:moveTo>
                <a:lnTo>
                  <a:pt x="16200" y="21600"/>
                </a:lnTo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3f670"/>
                </a:solidFill>
                <a:latin typeface="Monotype Corsiva"/>
              </a:rPr>
              <a:t>Карточка 1.</a:t>
            </a:r>
            <a:endParaRPr b="0" i="1" lang="en-US" sz="28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732" name="Picture 17" descr="NA00889_"/>
          <p:cNvPicPr/>
          <p:nvPr/>
        </p:nvPicPr>
        <p:blipFill>
          <a:blip r:embed="rId1"/>
          <a:stretch/>
        </p:blipFill>
        <p:spPr>
          <a:xfrm>
            <a:off x="1071720" y="2357280"/>
            <a:ext cx="1420560" cy="1500480"/>
          </a:xfrm>
          <a:prstGeom prst="rect">
            <a:avLst/>
          </a:prstGeom>
          <a:ln w="0">
            <a:noFill/>
          </a:ln>
        </p:spPr>
      </p:pic>
      <p:sp>
        <p:nvSpPr>
          <p:cNvPr id="733" name="Ribbon2Sharp"/>
          <p:cNvSpPr/>
          <p:nvPr/>
        </p:nvSpPr>
        <p:spPr>
          <a:xfrm>
            <a:off x="3213000" y="3286080"/>
            <a:ext cx="5645160" cy="338616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80"/>
                </a:solidFill>
                <a:latin typeface="Monotype Corsiva"/>
              </a:rPr>
              <a:t>Карточка 2.</a:t>
            </a:r>
            <a:endParaRPr b="0" i="1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100" spc="-1" strike="noStrike">
              <a:solidFill>
                <a:srgbClr val="ffffff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66"/>
                </a:solidFill>
                <a:latin typeface="Blackadder ITC"/>
              </a:rPr>
              <a:t>Почему травянистые растения, находящиеся зимой под снегом, не замерзают?</a:t>
            </a:r>
            <a:endParaRPr b="0" i="1" lang="en-US" sz="20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734" name="Picture 7" descr="NA00865_"/>
          <p:cNvPicPr/>
          <p:nvPr/>
        </p:nvPicPr>
        <p:blipFill>
          <a:blip r:embed="rId3"/>
          <a:stretch/>
        </p:blipFill>
        <p:spPr>
          <a:xfrm>
            <a:off x="3786120" y="3357720"/>
            <a:ext cx="1190520" cy="136188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8" descr="NA00908_"/>
          <p:cNvPicPr/>
          <p:nvPr/>
        </p:nvPicPr>
        <p:blipFill>
          <a:blip r:embed="rId4"/>
          <a:stretch/>
        </p:blipFill>
        <p:spPr>
          <a:xfrm>
            <a:off x="7643880" y="4214880"/>
            <a:ext cx="857160" cy="7826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9" descr="NA00910_"/>
          <p:cNvPicPr/>
          <p:nvPr/>
        </p:nvPicPr>
        <p:blipFill>
          <a:blip r:embed="rId5"/>
          <a:stretch/>
        </p:blipFill>
        <p:spPr>
          <a:xfrm>
            <a:off x="7572240" y="5786280"/>
            <a:ext cx="743040" cy="78588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7" descr="image021"/>
          <p:cNvPicPr/>
          <p:nvPr/>
        </p:nvPicPr>
        <p:blipFill>
          <a:blip r:embed="rId6"/>
          <a:stretch/>
        </p:blipFill>
        <p:spPr>
          <a:xfrm>
            <a:off x="6357960" y="1143000"/>
            <a:ext cx="1928880" cy="23144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0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5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4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6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898200" y="828720"/>
            <a:ext cx="3220560" cy="2594880"/>
          </a:xfrm>
          <a:prstGeom prst="rect">
            <a:avLst/>
          </a:prstGeom>
          <a:blipFill rotWithShape="0">
            <a:blip r:embed="rId1">
              <a:alphaModFix amt="15000"/>
            </a:blip>
            <a:stretch/>
          </a:blipFill>
          <a:ln w="9360">
            <a:solidFill>
              <a:srgbClr val="000000"/>
            </a:solidFill>
            <a:round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арточка 3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Blackadder ITC"/>
              </a:rPr>
              <a:t>Воздух плохо проводит тепло. Какое значение имеет это свойство для жизни животных и растений? Ответ напишит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AutoShape 5"/>
          <p:cNvSpPr/>
          <p:nvPr/>
        </p:nvSpPr>
        <p:spPr>
          <a:xfrm>
            <a:off x="3571920" y="3429000"/>
            <a:ext cx="5572080" cy="3214800"/>
          </a:xfrm>
          <a:prstGeom prst="flowChartDecision">
            <a:avLst/>
          </a:prstGeom>
          <a:gradFill rotWithShape="0">
            <a:gsLst>
              <a:gs pos="0">
                <a:srgbClr val="ffff00"/>
              </a:gs>
              <a:gs pos="100000">
                <a:srgbClr val="bcb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Monotype Corsiva"/>
              </a:rPr>
              <a:t>Карточка 4.</a:t>
            </a:r>
            <a:endParaRPr b="0" i="1" lang="en-US" sz="36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Blackadder ITC"/>
              </a:rPr>
              <a:t>Почему</a:t>
            </a:r>
            <a:r>
              <a:rPr b="1" i="1" lang="ru-RU" sz="2000" spc="-1" strike="noStrike">
                <a:solidFill>
                  <a:srgbClr val="008000"/>
                </a:solidFill>
                <a:latin typeface="Blackadder ITC"/>
              </a:rPr>
              <a:t> </a:t>
            </a:r>
            <a:r>
              <a:rPr b="1" i="1" lang="ru-RU" sz="2000" spc="-1" strike="noStrike">
                <a:solidFill>
                  <a:srgbClr val="0000ff"/>
                </a:solidFill>
                <a:latin typeface="Blackadder ITC"/>
              </a:rPr>
              <a:t>легче дышать в местах, где растёт много растений?</a:t>
            </a:r>
            <a:endParaRPr b="0" i="1" lang="en-US" sz="2000" spc="-1" strike="noStrike">
              <a:solidFill>
                <a:srgbClr val="ffffff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741" name="Picture 6" descr="NA00882_"/>
          <p:cNvPicPr/>
          <p:nvPr/>
        </p:nvPicPr>
        <p:blipFill>
          <a:blip r:embed="rId2"/>
          <a:stretch/>
        </p:blipFill>
        <p:spPr>
          <a:xfrm rot="2580600">
            <a:off x="4449240" y="4456080"/>
            <a:ext cx="749520" cy="107172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7" descr="NA00882_"/>
          <p:cNvPicPr/>
          <p:nvPr/>
        </p:nvPicPr>
        <p:blipFill>
          <a:blip r:embed="rId3"/>
          <a:stretch/>
        </p:blipFill>
        <p:spPr>
          <a:xfrm rot="13669800">
            <a:off x="7525800" y="4659120"/>
            <a:ext cx="650880" cy="93636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7" descr="image021"/>
          <p:cNvPicPr/>
          <p:nvPr/>
        </p:nvPicPr>
        <p:blipFill>
          <a:blip r:embed="rId4"/>
          <a:stretch/>
        </p:blipFill>
        <p:spPr>
          <a:xfrm>
            <a:off x="6215040" y="857160"/>
            <a:ext cx="1928880" cy="2314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0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5" dur="500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9" dur="500"/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икторина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1. Какие вещества входят в состав воздух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2. Какой газ воздуха необходим для дыхания?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3. Какими свойствами обладает воздух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4.В окнах для сохранения тепла устанавливают двойные рам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акое свойство воздуха используетс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5.Как нужно охранять воздух от загрязнени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6" name="Picture 7" descr="image021"/>
          <p:cNvPicPr/>
          <p:nvPr/>
        </p:nvPicPr>
        <p:blipFill>
          <a:blip r:embed="rId1"/>
          <a:stretch/>
        </p:blipFill>
        <p:spPr>
          <a:xfrm>
            <a:off x="7000920" y="4071960"/>
            <a:ext cx="1928880" cy="2314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nodeType="clickEffect" fill="hold">
                      <p:stCondLst>
                        <p:cond delay="0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3" dur="1000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9" dur="1000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5" dur="1000"/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7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7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1" dur="1000"/>
                                        <p:tgtEl>
                                          <p:spTgt spid="7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3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7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7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7" dur="1000"/>
                                        <p:tgtEl>
                                          <p:spTgt spid="7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3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7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7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3" dur="1000"/>
                                        <p:tgtEl>
                                          <p:spTgt spid="7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7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7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9" dur="1000"/>
                                        <p:tgtEl>
                                          <p:spTgt spid="7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68360" y="-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611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0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7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Цель исследования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571680" y="1213920"/>
            <a:ext cx="80388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Выяснить, можно ли увидеть воздух? Что нужно сделать, чтобы обнаружить воздух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79" name="Picture 2" descr=""/>
          <p:cNvPicPr/>
          <p:nvPr/>
        </p:nvPicPr>
        <p:blipFill>
          <a:blip r:embed="rId1"/>
          <a:stretch/>
        </p:blipFill>
        <p:spPr>
          <a:xfrm>
            <a:off x="5429160" y="3786120"/>
            <a:ext cx="2928960" cy="2343240"/>
          </a:xfrm>
          <a:prstGeom prst="rect">
            <a:avLst/>
          </a:prstGeom>
          <a:ln w="0">
            <a:noFill/>
          </a:ln>
        </p:spPr>
      </p:pic>
      <p:pic>
        <p:nvPicPr>
          <p:cNvPr id="680" name="Picture 3" descr=""/>
          <p:cNvPicPr/>
          <p:nvPr/>
        </p:nvPicPr>
        <p:blipFill>
          <a:blip r:embed="rId2"/>
          <a:stretch/>
        </p:blipFill>
        <p:spPr>
          <a:xfrm>
            <a:off x="1285920" y="4500720"/>
            <a:ext cx="2895480" cy="2006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Задачи 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учить литературу по данной теме, составить кроссворд, тест (викторину) и карточ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вести опыты и наблюдения, оценить результаты исследований и сделать выво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явить свойства воздух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готовить доклад и презентацию по проделанной работ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3" name="Picture 1" descr=""/>
          <p:cNvPicPr/>
          <p:nvPr/>
        </p:nvPicPr>
        <p:blipFill>
          <a:blip r:embed="rId1"/>
          <a:stretch/>
        </p:blipFill>
        <p:spPr>
          <a:xfrm>
            <a:off x="5286240" y="285840"/>
            <a:ext cx="2357640" cy="16430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Состав атмосферного воздуха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85" name="Picture 48" descr="Безымянный"/>
          <p:cNvPicPr/>
          <p:nvPr/>
        </p:nvPicPr>
        <p:blipFill>
          <a:blip r:embed="rId1"/>
          <a:stretch/>
        </p:blipFill>
        <p:spPr>
          <a:xfrm>
            <a:off x="1143000" y="1600200"/>
            <a:ext cx="7000920" cy="4832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Отчего дует ветер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87" name="Picture 8" descr="Безымянный"/>
          <p:cNvPicPr/>
          <p:nvPr/>
        </p:nvPicPr>
        <p:blipFill>
          <a:blip r:embed="rId1"/>
          <a:stretch/>
        </p:blipFill>
        <p:spPr>
          <a:xfrm>
            <a:off x="1071720" y="1204920"/>
            <a:ext cx="6929280" cy="5286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8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Picture 12" descr="Безымянный"/>
          <p:cNvPicPr/>
          <p:nvPr/>
        </p:nvPicPr>
        <p:blipFill>
          <a:blip r:embed="rId1"/>
          <a:stretch/>
        </p:blipFill>
        <p:spPr>
          <a:xfrm>
            <a:off x="-142920" y="-198360"/>
            <a:ext cx="9648720" cy="7056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1" dur="2000" fill="hold"/>
                                        <p:tgtEl>
                                          <p:spTgt spid="68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4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Охрана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cc"/>
                </a:solidFill>
                <a:latin typeface="Tahoma"/>
              </a:rPr>
              <a:t>воздуха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90" name="Picture 2" descr=""/>
          <p:cNvPicPr/>
          <p:nvPr/>
        </p:nvPicPr>
        <p:blipFill>
          <a:blip r:embed="rId1"/>
          <a:stretch/>
        </p:blipFill>
        <p:spPr>
          <a:xfrm>
            <a:off x="3929040" y="1214280"/>
            <a:ext cx="2214720" cy="214344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4" descr=""/>
          <p:cNvPicPr/>
          <p:nvPr/>
        </p:nvPicPr>
        <p:blipFill>
          <a:blip r:embed="rId2"/>
          <a:stretch/>
        </p:blipFill>
        <p:spPr>
          <a:xfrm>
            <a:off x="1071720" y="3786120"/>
            <a:ext cx="3570120" cy="266400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5" descr=""/>
          <p:cNvPicPr/>
          <p:nvPr/>
        </p:nvPicPr>
        <p:blipFill>
          <a:blip r:embed="rId3"/>
          <a:stretch/>
        </p:blipFill>
        <p:spPr>
          <a:xfrm>
            <a:off x="4929120" y="3714840"/>
            <a:ext cx="3214800" cy="2793960"/>
          </a:xfrm>
          <a:prstGeom prst="rect">
            <a:avLst/>
          </a:prstGeom>
          <a:ln w="0">
            <a:noFill/>
          </a:ln>
        </p:spPr>
      </p:pic>
      <p:pic>
        <p:nvPicPr>
          <p:cNvPr id="693" name="Picture 8" descr=""/>
          <p:cNvPicPr/>
          <p:nvPr/>
        </p:nvPicPr>
        <p:blipFill>
          <a:blip r:embed="rId4"/>
          <a:stretch/>
        </p:blipFill>
        <p:spPr>
          <a:xfrm>
            <a:off x="6429240" y="1214280"/>
            <a:ext cx="2214720" cy="2087640"/>
          </a:xfrm>
          <a:prstGeom prst="rect">
            <a:avLst/>
          </a:prstGeom>
          <a:ln w="0">
            <a:noFill/>
          </a:ln>
        </p:spPr>
      </p:pic>
      <p:pic>
        <p:nvPicPr>
          <p:cNvPr id="694" name="Picture 9" descr=""/>
          <p:cNvPicPr/>
          <p:nvPr/>
        </p:nvPicPr>
        <p:blipFill>
          <a:blip r:embed="rId5"/>
          <a:stretch/>
        </p:blipFill>
        <p:spPr>
          <a:xfrm>
            <a:off x="642960" y="428760"/>
            <a:ext cx="2857320" cy="3068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696" name="Picture 2" descr=""/>
          <p:cNvPicPr/>
          <p:nvPr/>
        </p:nvPicPr>
        <p:blipFill>
          <a:blip r:embed="rId1"/>
          <a:stretch/>
        </p:blipFill>
        <p:spPr>
          <a:xfrm>
            <a:off x="357120" y="357120"/>
            <a:ext cx="1643040" cy="228132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3" descr=""/>
          <p:cNvPicPr/>
          <p:nvPr/>
        </p:nvPicPr>
        <p:blipFill>
          <a:blip r:embed="rId2"/>
          <a:stretch/>
        </p:blipFill>
        <p:spPr>
          <a:xfrm>
            <a:off x="785880" y="2928960"/>
            <a:ext cx="5143320" cy="3429000"/>
          </a:xfrm>
          <a:prstGeom prst="rect">
            <a:avLst/>
          </a:prstGeom>
          <a:ln w="0">
            <a:noFill/>
          </a:ln>
        </p:spPr>
      </p:pic>
      <p:pic>
        <p:nvPicPr>
          <p:cNvPr id="698" name="Picture 4" descr=""/>
          <p:cNvPicPr/>
          <p:nvPr/>
        </p:nvPicPr>
        <p:blipFill>
          <a:blip r:embed="rId3"/>
          <a:stretch/>
        </p:blipFill>
        <p:spPr>
          <a:xfrm>
            <a:off x="6357960" y="3786120"/>
            <a:ext cx="2295360" cy="224640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5" descr=""/>
          <p:cNvPicPr/>
          <p:nvPr/>
        </p:nvPicPr>
        <p:blipFill>
          <a:blip r:embed="rId4"/>
          <a:stretch/>
        </p:blipFill>
        <p:spPr>
          <a:xfrm>
            <a:off x="6429240" y="500040"/>
            <a:ext cx="2214720" cy="2968560"/>
          </a:xfrm>
          <a:prstGeom prst="rect">
            <a:avLst/>
          </a:prstGeom>
          <a:ln w="0">
            <a:noFill/>
          </a:ln>
        </p:spPr>
      </p:pic>
      <p:pic>
        <p:nvPicPr>
          <p:cNvPr id="700" name="Picture 6" descr=""/>
          <p:cNvPicPr/>
          <p:nvPr/>
        </p:nvPicPr>
        <p:blipFill>
          <a:blip r:embed="rId5"/>
          <a:stretch/>
        </p:blipFill>
        <p:spPr>
          <a:xfrm>
            <a:off x="2395440" y="214200"/>
            <a:ext cx="3618000" cy="2357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34"/>
          <p:cNvSpPr/>
          <p:nvPr/>
        </p:nvSpPr>
        <p:spPr>
          <a:xfrm>
            <a:off x="4784760" y="475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7200" spc="-1" strike="noStrike">
              <a:solidFill>
                <a:srgbClr val="ffffff"/>
              </a:solidFill>
              <a:latin typeface="Monotype Corsiva"/>
            </a:endParaRPr>
          </a:p>
        </p:txBody>
      </p:sp>
      <p:pic>
        <p:nvPicPr>
          <p:cNvPr id="702" name="Picture 33" descr="E:\Dokuments\Юля\Ссылки с интернета\Урок географии по теме_ _Что такое воздух_ Его свойства_ (по… __ Фестиваль "/>
          <p:cNvPicPr/>
          <p:nvPr/>
        </p:nvPicPr>
        <p:blipFill>
          <a:blip r:embed="rId1"/>
          <a:stretch/>
        </p:blipFill>
        <p:spPr>
          <a:xfrm>
            <a:off x="1187280" y="1071720"/>
            <a:ext cx="4824720" cy="2644560"/>
          </a:xfrm>
          <a:prstGeom prst="rect">
            <a:avLst/>
          </a:prstGeom>
          <a:ln w="9360">
            <a:solidFill>
              <a:srgbClr val="f3f670"/>
            </a:solidFill>
            <a:miter/>
          </a:ln>
        </p:spPr>
      </p:pic>
      <p:pic>
        <p:nvPicPr>
          <p:cNvPr id="703" name="Picture 35" descr="Урок%20географии%20по%20теме_%20_Что%20такое%20воздух_%20Его%20свойства_%20(по…%20__%20Фестиваль%20«Открытый%20урок»"/>
          <p:cNvPicPr/>
          <p:nvPr/>
        </p:nvPicPr>
        <p:blipFill>
          <a:blip r:embed="rId2"/>
          <a:stretch/>
        </p:blipFill>
        <p:spPr>
          <a:xfrm>
            <a:off x="6372360" y="928800"/>
            <a:ext cx="2342880" cy="2787480"/>
          </a:xfrm>
          <a:prstGeom prst="rect">
            <a:avLst/>
          </a:prstGeom>
          <a:ln w="0">
            <a:noFill/>
          </a:ln>
        </p:spPr>
      </p:pic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Кроссворд по теме : «Воздух»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71320" y="3715920"/>
            <a:ext cx="81435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зическое тело ,вещество способное распространятся по всему доступному ему пространству, равномерно заполняя 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душная оболочка Зем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льчайшие частицы, носящиеся в воздух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езнетворные организмы, находящиеся в воздух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ловек, который ловит жемчу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тягивание и выпускание воздуха лёгк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000000"/>
              </a:buClr>
              <a:buSzPct val="9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ди, создавшие особую систему дых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80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800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00" fill="hold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00" fill="hold"/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800"/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800"/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800"/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800"/>
                                        <p:tgtEl>
                                          <p:spTgt spid="7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7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7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7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800"/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05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6" dur="1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animClr clrSpc="rgb">
                                      <p:cBhvr>
                                        <p:cTn id="307" dur="1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08" dur="1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0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17:19:10Z</dcterms:created>
  <dc:creator>1</dc:creator>
  <dc:description/>
  <dc:language>en-US</dc:language>
  <cp:lastModifiedBy>mag</cp:lastModifiedBy>
  <dcterms:modified xsi:type="dcterms:W3CDTF">2010-01-12T14:57:01Z</dcterms:modified>
  <cp:revision>50</cp:revision>
  <dc:subject/>
  <dc:title>Исследовательская работа. Тема работы: Где найти невидимку?</dc:title>
</cp:coreProperties>
</file>