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BAF-D99E-414A-A603-F9286BE8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C80-6762-4C63-AB46-33DA07C8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9B8-19AB-451F-B8F9-688CFAEB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7DC-9743-4491-9CB7-A0C2D68C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C7DC-C308-4911-AAE3-C380BBBB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0E26-7842-4C6B-9BE9-2CE36755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6088-D08D-4567-8EB5-C1A5B5DA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2E10-15DA-430B-AA8D-C78146B0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E225-0DA9-4522-89AB-155990C2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1E5B-A094-4A4C-AA57-2760C386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4901-3349-4479-839D-DFC79BB7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A9E-A780-47E6-9983-EC3D8228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C9E0-A643-4E7E-971A-37C877AE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BF82-D7FD-4A91-A6EA-5327DD9A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CEE5-2011-40BF-B1A1-C7DD6752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0FB2-042D-436C-8508-06E8CF66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EDCB-39E9-4CF7-8842-289BE2D7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84E-4EB8-495D-98B8-98CEEA8E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C73-B871-49F6-B732-07F235E9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B6B-C677-4AB7-871A-0609A911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ED5-DEBE-4A01-96CF-559F1CDA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982-C393-4D21-B655-5AF0A1A8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47C-3B7E-4006-9FFA-5F6355B3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454-E340-4F36-8837-F934F4F2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8CE0-3533-4344-86A1-C9022E4615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008B-84EB-4A1F-BE09-27FF87C443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692280"/>
            <a:ext cx="87138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ифагор- легенда, теорема- закон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Какая красота!- воскликнул Пифагор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3456789 х   9=1111111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3456789 х 18=2222222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3456789 х 27=333333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3456789 х 36=4444444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3456789 х 45=5555555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3456789 х 54=6666666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3456789 х 63=77777777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3456789 х 72=888888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3456789 х 81=999999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ФИГУРННЫЕ ЧИСЛ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исла-камеш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кладывались в в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иль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ометрических фигу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менно от фигур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исел пош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ражение: «Возве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исло в квадрат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уб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 rot="21445200">
            <a:off x="1331640" y="1915920"/>
            <a:ext cx="3152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ОВЕРШЕННЫЕ ЧИСЛ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числа, равные сумме всех его делителей ( без самого числ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    ( 6=1+2+3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8  ( 28=1+2+4+7+14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86, 8128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.н.э.), 33550336 ( 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983 г.- известно 27 совершенных чис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ДРУЖЕСТВЕННЫЕ ЧИСЛ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ра натуральных чисел, каждое из которых равно сумме всех собственных делителей другого, т. е. делителей, отличных от самого чис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84=1+2+4+5+10+11+20+22+44+55+1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20=1+2+4+71+1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ИФАГОРОВЫ ЧИСЛ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                   2                 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+    в     =    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,4,5.                    8,15,17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7,24,25.              33,56,65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1,60,61.            35,12,37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звучит т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 прямоугольном треугольнике сумма квадратов двух катетов равна квадрату гипотенуз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Так же действует обратная теорема, теореме Пифагор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Если сумма квадратов двух катетов равна квадрату гипотенузы, то этот треугольник прямоуголь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11280" y="476280"/>
            <a:ext cx="82087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фагорова теорема</a:t>
            </a:r>
            <a:endParaRPr b="0" i="1" lang="en-US" sz="4400" spc="1" strike="noStrike">
              <a:ln w="9360">
                <a:solidFill>
                  <a:srgbClr val="6666ff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Если дан нам тре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И при том с прямым угл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о квадрат гипотену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 всегда легко найд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атеты в квадрат возводи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умму степеней находим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И таким простым пут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 результату мы прид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920" y="404640"/>
            <a:ext cx="878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Onyx"/>
              </a:rPr>
              <a:t>Теорема Пифагора в стихах</a:t>
            </a:r>
            <a:endParaRPr b="1" i="1" lang="en-US" sz="4800" spc="1" strike="noStrike">
              <a:ln w="9360">
                <a:solidFill>
                  <a:srgbClr val="6666ff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Onyx"/>
              <a:ea typeface="Ony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ШАРЖ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 rot="1003800">
            <a:off x="3564000" y="1773000"/>
            <a:ext cx="2062080" cy="28382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ор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невесты»                                     теор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убогих»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1663560" cy="2449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435640" y="3284640"/>
            <a:ext cx="18525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3610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КАРИКАТУР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 rot="21306000">
            <a:off x="2249280" y="1890360"/>
            <a:ext cx="460836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Доказательств известно более полутора сотен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599840"/>
            <a:ext cx="34671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«СМОТРИ»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(древние индусы не записывали рассуждения, а сопровождали чертеж лишь одним словом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по учебнику                                                       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А                                А . С. Атанасяна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«Геометрия, 7-9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4797000"/>
            <a:ext cx="4038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казательство Гарфил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4437000"/>
            <a:ext cx="40384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азательство Бхаскара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Х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в.) и предложено китайцами (1000 лет до н. э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2148120" cy="2092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2381040" cy="2628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042920" y="5229360"/>
            <a:ext cx="2286000" cy="1504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940360" y="5084640"/>
            <a:ext cx="1368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-5307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ПРЕБУДЕТ ВЕЧНОЙ ИСТИНА, КАК СКО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ЕЕ ПОЗНАЕТ СЛАБЫЙ ЧЕЛОВЕК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И НЫНЕ ТЕОРЕМА ПИФАГОРА ВЕРН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КАК И В ЕЕ ДАЛЕКИЙ 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                                              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А. ШАМИСС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ИМЕНЕНИЕ ТЕОРЕМ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щё в древности возникла необходимость вычислять стороны прямоугольных треугольников по двум известным сторон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роение прямых углов египтян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хождение высот объекта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ение расстояния до недоступного предм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обные задачи решаются и в нашей повседневной жизн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строительстве и машиностро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проектировании любых строительных объек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000" y="3141720"/>
            <a:ext cx="742788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ифагор древнегреческий философ, прославившийся своим учением о космической гармонии и переселении душ, религиозный и политический деятель, первый олимпийский чемпион по кулачному бою, математ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ание приписывает Пифагору доказательство теоремы, носящей его им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260280"/>
            <a:ext cx="424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6666ff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фагор Самосский</a:t>
            </a:r>
            <a:endParaRPr b="1" lang="en-US" sz="4400" spc="1" strike="noStrike">
              <a:ln w="19080">
                <a:solidFill>
                  <a:srgbClr val="6666ff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003400" cy="26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Делай лишь то, что впоследствии не омрачит тебя и не заставит раскаива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Не делай никогда того, чего не знаешь, но научись всему, что нужно зн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Не пренебрегай здоровьем своего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) Научись жить просто и без роскош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) Либо молчи, либо говори то, что ценнее молч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) Не закрывай глаза, когда хочешь спать, не разобравши всех своих поступков за д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) В общении держаться так, чтобы не друзей делать врагами, а врагов- друзь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333360"/>
            <a:ext cx="79246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6666ff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исок табу для пифагорейцев</a:t>
            </a:r>
            <a:endParaRPr b="1" lang="en-US" sz="4400" spc="1" strike="noStrike">
              <a:ln w="19080">
                <a:solidFill>
                  <a:srgbClr val="6666ff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99640" y="1268280"/>
            <a:ext cx="7272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правильный невыпуклый пятиугольник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на же правильный звёздчатый пятиугольник, или правильная пятиугольная звез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орму пятиконечной звезды имеют многие цветы, морские звезды и ежи, вирусы и т.д. Человеческое тело можно рассматривать как пятилучевую фигуру, где лучами служат голова, руки и но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26920" y="549360"/>
            <a:ext cx="26197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Ravie"/>
              </a:rPr>
              <a:t>Пентаграмма-</a:t>
            </a:r>
            <a:endParaRPr b="1" i="1" lang="en-US" sz="1800" spc="1" strike="noStrike">
              <a:ln w="9360">
                <a:solidFill>
                  <a:srgbClr val="6666ff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Ravie"/>
              <a:ea typeface="Ravi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3933720"/>
            <a:ext cx="309564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Интересный факт!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огда Пифагор впервые увидел египетские пирамиды в Гизе, он, как всегда, совершал арифметические вычисл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 пирамиды явились в «философском формате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от некоторые из них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-5307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ирамида Хефрена              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9+2=1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x9+3=1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3x9+4=11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34x9+5=11111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345x9+6=11111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3456x9+7=1111111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234567x9+8=111111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5380560"/>
            <a:ext cx="1443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85946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Пирамида Хуфу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9+7=88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98x9+6=888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987x9+5=8888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9876x9+4=88888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98765x9+3=88888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684360" y="-3000240"/>
            <a:ext cx="684360" cy="61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92170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ирамида Хеопса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x8+1=9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x8+2=98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3x8+3=987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34x8+4=9876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345x8+5=98765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3456x8+6=987654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34567x8+7=9876543                        12345678x8+8=9876543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3456789x8+9=9876543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4:41:41Z</dcterms:created>
  <dc:creator>User</dc:creator>
  <dc:description/>
  <dc:language>en-US</dc:language>
  <cp:lastModifiedBy>Zverev</cp:lastModifiedBy>
  <dcterms:modified xsi:type="dcterms:W3CDTF">2010-01-29T13:15:19Z</dcterms:modified>
  <cp:revision>89</cp:revision>
  <dc:subject/>
  <dc:title>Слайд 1</dc:title>
</cp:coreProperties>
</file>